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B02-F113-49D9-87FC-B1C05DD3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0A3-9B76-43B5-B561-78101C59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EE8D-3EBA-4AEF-AD75-46E055F1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9F30-862C-4E78-B8ED-552C7B90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ED0-0804-4FB6-8A2A-4848774E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DD32-2D5A-473E-84D4-2F23CE44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D41B-2322-43E6-90D7-CB95A952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1A7-B0C2-47E9-9E54-0E0A6690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88C-E9C4-4C47-9226-218C9864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00F-F1E2-4A93-A12E-C054A7AF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7B5D-9918-4FCE-A0E4-8793D169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029A-763E-4C02-9E9C-24522C4C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3465-6F08-4DE4-9570-6D86998F92F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8360" y="981000"/>
            <a:ext cx="777240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niversidad de Chile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cultad de Derecho</a:t>
            </a:r>
            <a:br>
              <a:rPr sz="24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ntroducción al Derecho II: Teoría de la Argumentación Jurí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3429000"/>
            <a:ext cx="6400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Times New Roman"/>
              </a:rPr>
              <a:t>Notas introductorias a la teoría de la argumentación jurí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cc"/>
                </a:solidFill>
                <a:latin typeface="Times New Roman"/>
              </a:rPr>
              <a:t>Profesor Álvaro Fuentealba Hernán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cc"/>
                </a:solidFill>
                <a:latin typeface="Times New Roman"/>
              </a:rPr>
              <a:t>Mag. Der. (U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Tipos de argumentos (Kalinow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Razonamientos normativo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: al menos una de las premisas y su conclusión son nor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Razonamientos no normativo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: sólo son jurídicos por accidente, cuando están insertos en un contexto de razonamiento juríd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l contexto del sistema juríd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rgu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Bur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Filósofos, artesanos y guerrero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(La República, Plató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sos Fác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Se entiende que la decisión judicial está fundada si está internamente justificad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sos Difíc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Aquí es donde cobra relevancia la teoría de la argumentación jurídica, especialmente la justificación externa de la decisión jud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La Teoría de la Argumentación 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relevancia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interpretación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prueba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lificación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relevancia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cuál sea la norma aplicable al caso (¿normas domésticas, normas internacionales?; ¿normas legales, normas constitucionale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interpretación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cómo ha de entenderse la norma o normas aplicables al caso (¿cuál es el alcance de la garantía constitucional del artículo 19 N° 3°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prueba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si un determinado hecho ha tenido lug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¿Cuándo estamos frente a un caso difícil?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(Mc Cormic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s de</a:t>
            </a:r>
            <a:r>
              <a:rPr b="0" lang="es-MX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calificación</a:t>
            </a: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, cuando existen dudas sobre si determinado hecho que no se discute cae o no bajo el campo de aplicación de un determinado concepto contenido en el supuesto de hecho de la nor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Bibliograf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LEXY, Robert.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Teoría de la Argumentación Jurídica. 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EC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TIENZA, Manuel.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Tras la Justicia. 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riel, 2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TIENZA, Manuel.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Las Razones del Derecho. Teorías de la Argumentación Jurídica.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 CEC, 199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Times New Roman"/>
              </a:rPr>
              <a:t>ATIENZA, Manuel; RUIZ MANERO, Juan. </a:t>
            </a:r>
            <a:r>
              <a:rPr b="0" i="1" lang="es-ES_tradnl" sz="3200" spc="-1" strike="noStrike">
                <a:solidFill>
                  <a:srgbClr val="0033cc"/>
                </a:solidFill>
                <a:latin typeface="Times New Roman"/>
              </a:rPr>
              <a:t>Tres Enfoques de los Principios Jurídic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nvención conceptu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Texto autorit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Disposición o enunciado norm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Norma juríd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eg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Princip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Argumentación</a:t>
            </a: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 Jurí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ntexto de Descubr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xpl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ntexto de Jus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Argumentación</a:t>
            </a: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 Juríd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Caracterización del razonamiento juríd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s una especificación del razonamiento práctico gene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Es un razonamiento práctico limi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Sus limitaciones son las reglas y principios del derecho vi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¿Por qué justificar las decisiones judicia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Posición institucional del adjudicador en el estado democrático de derech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Posición institucional del órgano adjudicad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Times New Roman"/>
              </a:rPr>
              <a:t>en el estado democrático de derech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esolver el asunto controvertido (inexcusabilida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Fundar la decisión judic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Vinculación al derecho vi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3300"/>
                </a:solidFill>
                <a:latin typeface="Times New Roman"/>
              </a:rPr>
              <a:t>Obligación de fundar las decisiones judi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Fuentes de la obli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Problema del fund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cc"/>
                </a:solidFill>
                <a:latin typeface="Times New Roman"/>
              </a:rPr>
              <a:t>Valoraciones de base y apertura hacia la m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decisiones judiciales.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Dimensiones de la jus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inte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exte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¿Qué debemos justific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premisas norm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premisas fácticas (teoría de la prueb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Argumentación tópica y retó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-578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de las decisiones judicia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3300"/>
                </a:solidFill>
                <a:latin typeface="Times New Roman"/>
              </a:rPr>
              <a:t>Dimensiones de la just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 </a:t>
            </a:r>
            <a:r>
              <a:rPr b="0" i="1" lang="es-CL" sz="3200" spc="-1" strike="noStrike">
                <a:solidFill>
                  <a:srgbClr val="ff3300"/>
                </a:solidFill>
                <a:latin typeface="Times New Roman"/>
              </a:rPr>
              <a:t>interna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Validez o corrección lógica de una inferencia, a partir de las premisas da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Justificación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s-CL" sz="3200" spc="-1" strike="noStrike">
                <a:solidFill>
                  <a:srgbClr val="ff3300"/>
                </a:solidFill>
                <a:latin typeface="Times New Roman"/>
              </a:rPr>
              <a:t>externa</a:t>
            </a:r>
            <a:r>
              <a:rPr b="0" lang="es-CL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Corrección de la fundamentación de las premisas seleccionadas en la justificación inte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3300"/>
                </a:solidFill>
                <a:latin typeface="Times New Roman"/>
              </a:rPr>
              <a:t>La Teoría de la Argumentación </a:t>
            </a:r>
            <a:r>
              <a:rPr b="0" lang="es-CL" sz="3600" spc="-1" strike="noStrike">
                <a:solidFill>
                  <a:srgbClr val="ff3300"/>
                </a:solidFill>
                <a:latin typeface="Times New Roman"/>
              </a:rPr>
              <a:t>Juríd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Tipos de argumentos (Kalinowsk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azonamientos de coacción intelectual (lóg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azonamientos de persuasión (retóric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Razonamientos propiamente jurídicos: </a:t>
            </a:r>
            <a:r>
              <a:rPr b="0" i="1" lang="es-CL" sz="3200" spc="-1" strike="noStrike">
                <a:solidFill>
                  <a:srgbClr val="0033cc"/>
                </a:solidFill>
                <a:latin typeface="Times New Roman"/>
              </a:rPr>
              <a:t>presunciones, prescripciones, ficciones</a:t>
            </a:r>
            <a:r>
              <a:rPr b="0" lang="es-CL" sz="3200" spc="-1" strike="noStrike">
                <a:solidFill>
                  <a:srgbClr val="0033cc"/>
                </a:solidFill>
                <a:latin typeface="Times New Roman"/>
              </a:rPr>
              <a:t>, establecidos en las ley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2:50:22Z</dcterms:created>
  <dc:creator>Del Canto &amp; Fuentealba Limitada</dc:creator>
  <dc:description>Cajas, INP, AFP, visión histórica, proyecciones, Rol del Estado, Normas Constitucionales e Internacionales, Beneficios.</dc:description>
  <dc:language>en-US</dc:language>
  <cp:lastModifiedBy>ALVARO FUENTEALBA</cp:lastModifiedBy>
  <dcterms:modified xsi:type="dcterms:W3CDTF">2010-08-18T04:02:53Z</dcterms:modified>
  <cp:revision>164</cp:revision>
  <dc:subject/>
  <dc:title>El Sistema Previsional de Administración Pública</dc:title>
</cp:coreProperties>
</file>