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F59E-B303-4664-9232-A25D1CC6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C82-48E9-43FC-B979-757AE335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690-C2F8-4695-B7DF-D4F9872B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68C-F8A9-4CFF-BD4F-AD44E112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192-601F-4989-A504-CDFA8C77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449-EB5F-4695-BFB9-981EC0B3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213-80F7-43B3-A309-43016770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ECA-092F-4157-A2DF-FCE4470F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B22-9F78-46A9-BC21-B28308B1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526-C3D2-4E41-9E19-93FC1B83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FB6-5AF5-4989-8239-97FB4B04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179-A427-4502-800D-02C5F5DD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B416-8B50-41D3-B0EB-00A87FD6318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981000"/>
            <a:ext cx="77724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niversidad de Chile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cultad de Derecho</a:t>
            </a:r>
            <a:br>
              <a:rPr sz="24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troducción al Derecho II: Teoría de la Argumentación Jurí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429000"/>
            <a:ext cx="6400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imes New Roman"/>
              </a:rPr>
              <a:t>Notas introductorias a la teoría de la argumentación jurí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Profesor Álvaro Fuentealba Hernán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Mag. Der. (U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Tipos de argumentos (Kalinow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Razonamientos normativos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: al menos una de las premisas y su conclusión son nor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Razonamientos no normativos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: sólo son jurídicos por accidente, cuando están insertos en un contexto de razonamiento juríd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El contexto del sistema juríd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rgu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Buroc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Filósofos, artesanos y guerreros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(La República, Plat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Casos Fác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Se entiende que la decisión judicial está fundada si está internamente justificad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Casos Difíc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Aquí es donde cobra relevancia la teoría de la argumentación jurídica, especialmente la justificación externa de la decisión judi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La Teoría de la Argumentación 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relevancia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interpretación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prueba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calificación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relevancia</a:t>
            </a: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, cuando existen dudas sobre cuál sea la norma aplicable al caso (¿normas domésticas, normas internacionales?; ¿normas legales, normas constitucionale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interpretación</a:t>
            </a: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, cuando existen dudas sobre cómo ha de entenderse la norma o normas aplicables al caso (¿cuál es el alcance de la garantía constitucional del artículo 19 N° 3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prueba</a:t>
            </a: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, cuando existen dudas sobre si un determinado hecho ha tenido lug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calificación</a:t>
            </a: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, cuando existen dudas sobre si determinado hecho que no se discute cae o no bajo el campo de aplicación de un determinado concepto contenido en el supuesto de hecho de la nor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LEXY, Robert. 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Teoría de la Argumentación Jurídica. 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EC,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TIENZA, Manuel. 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Tras la Justicia. 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riel,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TIENZA, Manuel. 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Las Razones del Derecho. Teorías de la Argumentación Jurídica.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 CEC, 199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imes New Roman"/>
              </a:rPr>
              <a:t>ATIENZA, Manuel; RUIZ MANERO, Juan. </a:t>
            </a:r>
            <a:r>
              <a:rPr b="0" i="1" lang="es-ES_tradnl" sz="3200" spc="-1" strike="noStrike">
                <a:solidFill>
                  <a:srgbClr val="0033cc"/>
                </a:solidFill>
                <a:latin typeface="Times New Roman"/>
              </a:rPr>
              <a:t>Tres Enfoques de los Principios Juríd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nvención conceptu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Texto autorita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Disposición o enunciado norma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Norma juríd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eg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Princip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Argumentación</a:t>
            </a: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 Juríd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ntexto de Descubr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Expl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ntexto de Jus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Argumentación</a:t>
            </a: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 Juríd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Caracterización del razonamiento juríd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Es una especificación del razonamiento práctico gen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Es un razonamiento práctico limi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Sus limitaciones son las reglas y principios del derecho vig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¿Por qué justificar las decisiones judicia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Posición institucional del adjudicador en el estado democrático de derech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Posición institucional del órgano adjudicad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en el estado democrático de dere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esolver el asunto controvertido (inexcusabilid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Fundar la decisión judi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Vinculación al derecho vig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Obligación de fundar las decisiones judi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Fuentes de la obli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 del fund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Valoraciones de base y apertura hacia la m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de las decisiones judiciales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Dimensiones de la jus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inter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exter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¿Qué debemos justific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de las premisas norm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de las premisas fácticas (teoría de la prueb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rgumentación tópica y retó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de las decisiones judicia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Dimensiones de la jus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</a:t>
            </a:r>
            <a:r>
              <a:rPr b="0" i="1" lang="es-CL" sz="3200" spc="-1" strike="noStrike">
                <a:solidFill>
                  <a:srgbClr val="ff3300"/>
                </a:solidFill>
                <a:latin typeface="Times New Roman"/>
              </a:rPr>
              <a:t>interna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Validez o corrección lógica de una inferencia, a partir de las premisas d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3300"/>
                </a:solidFill>
                <a:latin typeface="Times New Roman"/>
              </a:rPr>
              <a:t>externa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rrección de la fundamentación de las premisas seleccionadas en la justificación inter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Tipos de argumentos (Kalinow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azonamientos de coacción intelectual (lóg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azonamientos de persuasión (retór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azonamientos propiamente jurídicos: 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presunciones, prescripciones, ficciones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, establecidos en las ley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02:50:22Z</dcterms:created>
  <dc:creator>Del Canto &amp; Fuentealba Limitada</dc:creator>
  <dc:description>Cajas, INP, AFP, visión histórica, proyecciones, Rol del Estado, Normas Constitucionales e Internacionales, Beneficios.</dc:description>
  <dc:language>en-US</dc:language>
  <cp:lastModifiedBy>ALVARO FUENTEALBA</cp:lastModifiedBy>
  <dcterms:modified xsi:type="dcterms:W3CDTF">2010-08-18T04:02:53Z</dcterms:modified>
  <cp:revision>164</cp:revision>
  <dc:subject/>
  <dc:title>El Sistema Previsional de Administración Pública</dc:title>
</cp:coreProperties>
</file>