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17E-B014-4752-BF2F-9D8FA66F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306-E9F7-44E1-B9F0-43A22EEE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2AC-8B85-480B-804B-E1D3EB20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305-AC79-4629-A737-66AF5722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A152-A178-494F-97B3-C001B770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7531-12FC-46F2-B729-71720FA6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7E1-3F12-4B8C-9676-BCFCACCB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97D-597E-4A91-A223-274E99284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D11A-DF22-4CE9-A678-BE8F4E55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3CD7-B1FF-42EA-8F6A-F410DB02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B4A-0474-443A-B74B-593690ED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784-8CA1-4CEB-8B54-25F0EC3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6BC1-CA5E-4B74-94D3-A084336C577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981000"/>
            <a:ext cx="77724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niversidad de Chile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cultad de Derecho</a:t>
            </a:r>
            <a:br>
              <a:rPr sz="24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troducción al Derecho II: Teoría de la Argumentación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429000"/>
            <a:ext cx="6400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Notas introductorias a la teoría de la argumentación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Mag. Der. (U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ipos de argumentos (Kalinow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Razonamientos normativ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: al menos una de las premisas y su conclusión son nor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Razonamientos no normativ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: sólo son jurídicos por accidente, cuando están insertos en un contexto de razonamiento juríd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l contexto del sistema juríd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rgu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Bur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Filósofos, artesanos y guerrer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(La República, Plat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sos Fác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Se entiende que la decisión judicial está fundada si está internamente justifica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sos Difíc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Aquí es donde cobra relevancia la teoría de la argumentación jurídica, especialmente la justificación externa de la decisión jud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La Teoría de la Argumentación 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relevancia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interpretación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prueba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lificación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relevancia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cuál sea la norma aplicable al caso (¿normas domésticas, normas internacionales?; ¿normas legales, normas constitucionale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interpretación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cómo ha de entenderse la norma o normas aplicables al caso (¿cuál es el alcance de la garantía constitucional del artículo 19 N° 3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prueba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si un determinado hecho ha tenido lug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lificación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si determinado hecho que no se discute cae o no bajo el campo de aplicación de un determinado concepto contenido en el supuesto de hecho de la nor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LEXY, Robert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Teoría de la Argumentación Jurídica. 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EC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TIENZA, Manuel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Tras la Justicia. 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riel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TIENZA, Manuel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Las Razones del Derecho. Teorías de la Argumentación Jurídica.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 CEC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imes New Roman"/>
              </a:rPr>
              <a:t>ATIENZA, Manuel; RUIZ MANERO, Juan. </a:t>
            </a:r>
            <a:r>
              <a:rPr b="0" i="1" lang="es-ES_tradnl" sz="3200" spc="-1" strike="noStrike">
                <a:solidFill>
                  <a:srgbClr val="0033cc"/>
                </a:solidFill>
                <a:latin typeface="Times New Roman"/>
              </a:rPr>
              <a:t>Tres Enfoques de los Principios Juríd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vención conceptu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exto autorit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Disposición o enunciado norm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Norma juríd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eg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Princip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Argumentación</a:t>
            </a: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 Jurí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texto de Descubr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xpl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texto de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Argumentación</a:t>
            </a: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 Jurí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Caracterización del razonamiento juríd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s una especificación del razonamiento práctico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s un razonamiento práctico limi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Sus limitaciones son las reglas y principios del derecho v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¿Por qué justificar las decisiones judicia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Posición institucional del adjudicador en el estado democrático de derec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Posición institucional del órgano adjudicad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en el estado democrático de der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esolver el asunto controvertido (inexcusabi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Fundar la decisión jud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Vinculación al derecho v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Obligación de fundar las decisiones jud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Fuentes de la obl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 del fund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Valoraciones de base y apertura hacia la m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decisiones judiciales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Dimensiones de la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in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ex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¿Qué debemos justific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premisas norm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premisas fácticas (teoría de la prueb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rgumentación tópica y retó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decisiones judici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Dimensiones de la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</a:t>
            </a:r>
            <a:r>
              <a:rPr b="0" i="1" lang="es-CL" sz="3200" spc="-1" strike="noStrike">
                <a:solidFill>
                  <a:srgbClr val="ff3300"/>
                </a:solidFill>
                <a:latin typeface="Times New Roman"/>
              </a:rPr>
              <a:t>interna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Validez o corrección lógica de una inferencia, a partir de las premisas d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3300"/>
                </a:solidFill>
                <a:latin typeface="Times New Roman"/>
              </a:rPr>
              <a:t>externa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rrección de la fundamentación de las premisas seleccionadas en la justificación in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ipos de argumentos (Kalinow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de coacción intelectual (lóg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de persuasión (retór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propiamente jurídicos: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presunciones, prescripciones, ficcione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, establecidos en las le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2:50:22Z</dcterms:created>
  <dc:creator>Del Canto &amp; Fuentealba Limitada</dc:creator>
  <dc:description>Cajas, INP, AFP, visión histórica, proyecciones, Rol del Estado, Normas Constitucionales e Internacionales, Beneficios.</dc:description>
  <dc:language>en-US</dc:language>
  <cp:lastModifiedBy>ALVARO FUENTEALBA</cp:lastModifiedBy>
  <dcterms:modified xsi:type="dcterms:W3CDTF">2010-08-18T04:02:53Z</dcterms:modified>
  <cp:revision>164</cp:revision>
  <dc:subject/>
  <dc:title>El Sistema Previsional de Administración Pública</dc:title>
</cp:coreProperties>
</file>