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9B9D6-1B76-496E-BA18-3B70E67B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C455-68DA-4D32-8E1A-68539AFC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AA95E-32F5-4E33-8554-8661D407D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27D9B-91E0-4622-8142-B7D536A69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607FB-3FD7-48EE-9810-3B4AD504B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43A13-4AE8-471C-B83D-50E7AD6F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1E702-C096-4DCB-97EB-4F20CA698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3393B-C775-4362-A48F-AF40D04CF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8F9A0-33A7-4A0A-BCF1-3B6C572C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E3F58-5D93-42D3-8B67-1CC648F3D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26743-C130-46FB-990F-53AC1404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5056-263A-47F9-8310-89DBDC1A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3315-5802-4A99-B37D-78C175DA6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FCF6-9E13-4DE9-81C6-1A578BC7B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B619D-330B-499A-9B03-594C9A063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8958B-D78B-47D7-9556-66E4CD2E3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410EC-1C0E-4EEF-ACA3-067FE8E0D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23AE92-FE84-40DE-AECD-3AABD4783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4106E-9775-45BB-91F1-14FF55E02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9C547-5D0B-4E69-B623-6E16D3BC7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96382-2776-4909-AB9A-AB2BD00BF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9CC93-3DCD-4287-9D3A-3FC9BA20F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BDD7-D8B2-40B3-9B31-9EA61A215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6216B-DDB6-4F21-AC60-EFF6AE381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E056F-CC76-4F60-8B59-CF0306EC4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3AC3C-ABD5-4DF7-A3EB-407282ED6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ACD9D-92EC-48C0-9D7A-67765B836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A146E-D708-4147-AD83-7A468AF9A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33740-EF1F-4AAE-AB26-2A9DCB550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85985-64CE-4926-8729-AA837324C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57AC0-2521-498C-BFF2-7823435B4D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EDA43-818E-4A8B-9C49-3250095AB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0FD48-058D-4D2C-9C59-FCF885A29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27537-305B-4724-8555-DBE5409C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AF6BB-B6DD-4628-AB57-A669B5646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1480C-03E4-420A-9EF3-520F49099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BD0AB-622B-4D04-A126-E52EA93D2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2E1EC-E588-483F-A01F-51775CF7E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A4CD1-15B1-471D-BDD3-13DEF990C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2B093-37A2-416E-AC0A-DF629710D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3CAC7-0F96-4096-82F9-3272A9324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6B4A96-F64B-4D6A-B0B9-347F5AF12C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32D44-C1DB-4F51-AD30-AFF7098989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A60E42-2146-4B62-931E-DE82BA3D9A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3B050-1F8E-4B42-9B02-7B72A523A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AA1F8-C845-4B5C-96D7-A4EE8B62D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F2E187-F5D4-4098-AD7B-2C058156A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87F01-71ED-45FA-825E-977741AE0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36611-EFA9-46BE-BE74-45708CE6A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97D73-AB89-4E00-97F9-8175A4481C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09DD3-71CD-413C-A865-351AF7D10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7C765-1948-408A-B0B4-418EEBD54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3D5FA-323F-4786-AF2C-17992FE29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DFD07-0974-4F03-9B23-90F9BD346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675974-64D0-4DBB-B1FA-7C6C12D60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01892-7C06-4BC6-AC30-1BF1AE7D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9C2F3F-6B23-497B-A1F5-740C1D3F4D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E7ACF3-A290-4176-9D8B-4CB20E2644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8C73E-1B65-4245-BB15-AF241F0C2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FFE3B-ED27-4328-AE15-F8CE09D42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B1F7F-A66F-4736-94CF-F2E0AD511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0CA43-4F7D-49CB-8B48-CEB668FDD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8BFD5-1EEE-4394-BD3E-5F6811B2C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557D5-6E01-45A5-AF0B-2281E1DD2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126E7-8775-4F98-ACD6-F24CEBF25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A258D-01C7-4556-9C56-8BFADF405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BA4C-8466-4E7B-96C1-2C06A4E7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55456-C9F3-4DF7-A0DE-145631A15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9DF94-8DC7-473F-88B5-F04E329C39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E1CA53-1C1D-4D35-8EFC-643D6C43A2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20F432-A5DB-4580-9F60-8FA5CCB103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E5015-0E61-454A-9829-42068B59E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63A3B-FB3A-4F45-8377-266C415BF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D1EBA-522F-4668-946D-F19215524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1E129-724B-472B-89C3-B8EB3AD9B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90914-BC82-4410-9366-65FBF2C82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54EE2-FE57-4ECF-BD57-33FED398A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A0EC0-6E01-413B-A916-6D0F7309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084FC-EFBC-4577-82AB-64CDF29AC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6A7F2-C2D6-451A-B480-03AAAB018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F8C76-ED1D-4CD7-B716-A4108E107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FCF163-1DD6-4A77-A8AB-D386DE2562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D2D58D-779C-4DB1-93AE-15E296BC3A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265346-AEF6-409C-B661-661EB6D7E3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7D5E3-FD23-4CA9-97ED-E6DA4B0697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80FEF4-8491-437D-8BAC-3C59C927F6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6B9F6B-11D5-4496-801E-8D8984301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FE29D-CF15-4A7F-BD82-A531F4AF89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2746-597D-474F-8FAF-A04DB298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5AA6EE-3592-42BF-A5C7-899A5BD18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9C2F7-DD8C-4520-9137-4889C60F5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F6714-4FB3-4C42-A4B1-4CE304F0C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7E883-285D-448E-B6F1-43D9C481F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9F256-06B6-42E2-8F36-229F16F2D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94C11-664B-45AB-BF64-9BA85BA50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50FB80-2809-4987-801F-62B2EAD184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ADA0-1E0C-409A-9CBC-3FD073823C5E}"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9205-4CFE-49CE-AF80-72DC50FDAA5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8C6F-87A1-4C04-887A-255D79E65966}"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Times New Roman"/>
              </a:rPr>
              <a:t>PROF. CLAUDIO PALAVECINO</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E92D-1830-49CC-80D1-72D68DD05DF0}"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5461-761B-4A11-ACD5-570C450F913F}"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F99B-D692-4E49-AD97-C7BF539A7C5E}"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898D-B7A9-4E1F-B1FE-6D3EF9850B43}"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7DAA-F63A-4C74-9568-BE6BB25A8F6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7FC-27B9-4B83-A168-A744DFAF3AED}"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9436-9EE6-435C-A397-E01765F6F02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EA74-AA32-4547-AEB0-B752F4FA9C93}"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9817-6785-4412-9885-ED30C15C0527}"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47AB-DD3E-4302-8C12-6853CC588EC8}"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08E4-D87D-41C9-B9B5-29A784412FAF}"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14F8-4F1C-4047-8DC2-183E4A2B1AA6}"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PROF. CLAUDIO PALAVECINO</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2775-BC5B-4908-8305-EEE3B9C8F8C8}"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1384200"/>
            <a:ext cx="80172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Prof. Claudio Palavecino</a:t>
            </a:r>
            <a:endParaRPr b="0" lang="en-US" sz="2700" spc="-1" strike="noStrike">
              <a:solidFill>
                <a:srgbClr val="000000"/>
              </a:solidFill>
              <a:latin typeface="Lucida Sans Unicode"/>
            </a:endParaRPr>
          </a:p>
        </p:txBody>
      </p:sp>
      <p:sp>
        <p:nvSpPr>
          <p:cNvPr id="37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1 Título" descr=""/>
          <p:cNvPicPr/>
          <p:nvPr/>
        </p:nvPicPr>
        <p:blipFill>
          <a:blip r:embed="rId1"/>
          <a:stretch/>
        </p:blipFill>
        <p:spPr>
          <a:xfrm>
            <a:off x="450720" y="122400"/>
            <a:ext cx="8242560" cy="1341360"/>
          </a:xfrm>
          <a:prstGeom prst="rect">
            <a:avLst/>
          </a:prstGeom>
          <a:ln w="0">
            <a:noFill/>
          </a:ln>
        </p:spPr>
      </p:pic>
      <p:sp>
        <p:nvSpPr>
          <p:cNvPr id="416" name=""/>
          <p:cNvSpPr txBox="1"/>
          <p:nvPr/>
        </p:nvSpPr>
        <p:spPr>
          <a:xfrm>
            <a:off x="843120" y="1480680"/>
            <a:ext cx="8229600" cy="4876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4.- Fijación de fecha para la AP. Citación a las parte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El tribunal debe fijar el día y la hora para la celebración de la AP “</a:t>
            </a:r>
            <a:r>
              <a:rPr b="0" i="1" lang="es-CL" sz="1600" spc="-1" strike="noStrike">
                <a:solidFill>
                  <a:srgbClr val="000000"/>
                </a:solidFill>
                <a:latin typeface="Lucida Sans Unicode"/>
              </a:rPr>
              <a:t>…dentro de los </a:t>
            </a:r>
            <a:r>
              <a:rPr b="1" i="1" lang="es-CL" sz="1600" spc="-1" strike="noStrike" u="sng">
                <a:solidFill>
                  <a:srgbClr val="000000"/>
                </a:solidFill>
                <a:uFillTx/>
                <a:latin typeface="Lucida Sans Unicode"/>
              </a:rPr>
              <a:t>treinta y cinco</a:t>
            </a:r>
            <a:r>
              <a:rPr b="0" i="1" lang="es-CL" sz="1600" spc="-1" strike="noStrike">
                <a:solidFill>
                  <a:srgbClr val="000000"/>
                </a:solidFill>
                <a:latin typeface="Lucida Sans Unicode"/>
              </a:rPr>
              <a:t> días siguientes a la fecha de la resolu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 demanda y la citación a la AP deben ser notificadas al demandado, como mínimo, con 15 días de anticipación a la AP (art. 451 inc. 1° C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n la citación deberá advertírsele a las partes que</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 La AP se celebrará con las partes que asista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2) Al ausente le afectarán todas las resoluciones que se dicten, sin necesidad de notific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3) Deberán señalar </a:t>
            </a:r>
            <a:r>
              <a:rPr b="0" lang="es-CL" sz="1600" spc="-1" strike="noStrike" u="sng">
                <a:solidFill>
                  <a:srgbClr val="000000"/>
                </a:solidFill>
                <a:uFillTx/>
                <a:latin typeface="Lucida Sans Unicode"/>
              </a:rPr>
              <a:t>todos los medios de prueba </a:t>
            </a:r>
            <a:r>
              <a:rPr b="0" lang="es-CL" sz="1600" spc="-1" strike="noStrike">
                <a:solidFill>
                  <a:srgbClr val="000000"/>
                </a:solidFill>
                <a:latin typeface="Lucida Sans Unicode"/>
              </a:rPr>
              <a:t>que pretendan hacer valer en la audiencia oral de juicio, como así también </a:t>
            </a:r>
            <a:r>
              <a:rPr b="0" lang="es-CL" sz="1600" spc="-1" strike="noStrike" u="sng">
                <a:solidFill>
                  <a:srgbClr val="000000"/>
                </a:solidFill>
                <a:uFillTx/>
                <a:latin typeface="Lucida Sans Unicode"/>
              </a:rPr>
              <a:t>requerir las diligencias de prueba </a:t>
            </a:r>
            <a:r>
              <a:rPr b="0" lang="es-CL" sz="1600" spc="-1" strike="noStrike">
                <a:solidFill>
                  <a:srgbClr val="000000"/>
                </a:solidFill>
                <a:latin typeface="Lucida Sans Unicode"/>
              </a:rPr>
              <a:t>atinentes a sus alegaciones para que el tribunal examine su admisibilida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5376960"/>
          </a:xfrm>
          <a:prstGeom prst="rect">
            <a:avLst/>
          </a:prstGeom>
          <a:noFill/>
          <a:ln w="0">
            <a:noFill/>
          </a:ln>
        </p:spPr>
        <p:txBody>
          <a:bodyPr lIns="90000" rIns="90000" tIns="46800" bIns="46800"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5.- Contestación de la demanda y reconvención</a:t>
            </a:r>
            <a:r>
              <a:rPr b="1"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or escrito, con a lo menos 5 días de antelación a la fecha de celebración de la AP.</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Contenido: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Exposición clara y circunstanciada de los hechos;</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Fundamentos de derecho en los que se sustenta, las excepciones y/o demanda reconvencional que se deduzca;</a:t>
            </a:r>
            <a:r>
              <a:rPr b="0" i="1" lang="es-C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Pronunciamiento sobre los hechos contenidos en la demanda, aceptándolos o negándose en forma expresa y concret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sólo será procedente cuando el tribunal sea competente para conocer de ella como demanda y siempre que esté íntimamente ligada a ell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deberá contener las menciones a que se refiere el artículo 446 y se tramitará conjuntamente con la demanda” </a:t>
            </a:r>
            <a:r>
              <a:rPr b="0" lang="es-CL" sz="1600" spc="-1" strike="noStrike">
                <a:solidFill>
                  <a:srgbClr val="000000"/>
                </a:solidFill>
                <a:latin typeface="Lucida Sans Unicode"/>
              </a:rPr>
              <a:t>(art. 452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450720" y="122400"/>
            <a:ext cx="8242560" cy="1341360"/>
          </a:xfrm>
          <a:prstGeom prst="rect">
            <a:avLst/>
          </a:prstGeom>
          <a:ln w="0">
            <a:noFill/>
          </a:ln>
        </p:spPr>
      </p:pic>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AP)</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Relación somera de los contenidos de los escritos de las partes.</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Traslado para la contestación de la demanda reconvencional y de las 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Tramitación de las excepciones: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 Resolverá de inmedia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competencia,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falta de capacidad o de personería del demandante</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eptitud del libel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caducidad y prescripción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quélla en que se reclame del procedimien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b) Las demás: “</a:t>
            </a:r>
            <a:r>
              <a:rPr b="0" i="1" lang="es-ES_tradnl" sz="1500" spc="-1" strike="noStrike">
                <a:solidFill>
                  <a:srgbClr val="000000"/>
                </a:solidFill>
                <a:latin typeface="Lucida Sans Unicode"/>
              </a:rPr>
              <a:t>se tramitarán conjuntamente y se fallarán en la sentencia definitiv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2" name="2 Título" descr=""/>
          <p:cNvPicPr/>
          <p:nvPr/>
        </p:nvPicPr>
        <p:blipFill>
          <a:blip r:embed="rId1"/>
          <a:stretch/>
        </p:blipFill>
        <p:spPr>
          <a:xfrm>
            <a:off x="450720" y="122400"/>
            <a:ext cx="8242560" cy="1341360"/>
          </a:xfrm>
          <a:prstGeom prst="rect">
            <a:avLst/>
          </a:prstGeom>
          <a:ln w="0">
            <a:noFill/>
          </a:ln>
        </p:spPr>
      </p:pic>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silencio del demandado</a:t>
            </a:r>
            <a:r>
              <a:rPr b="0" lang="es-CL" sz="1600" spc="-1" strike="noStrike">
                <a:solidFill>
                  <a:srgbClr val="000000"/>
                </a:solidFill>
                <a:latin typeface="Lucida Sans Unicode"/>
              </a:rPr>
              <a:t>: Cuando  no contestare la demanda, o de hacerlo no negare en ella algunos de los hechos contenidos en la demanda, el juez, en la sentencia definitiva, </a:t>
            </a:r>
            <a:r>
              <a:rPr b="0" i="1" lang="es-CL" sz="1600" spc="-1" strike="noStrike" u="sng">
                <a:solidFill>
                  <a:srgbClr val="000000"/>
                </a:solidFill>
                <a:uFillTx/>
                <a:latin typeface="Lucida Sans Unicode"/>
              </a:rPr>
              <a:t>podrá</a:t>
            </a:r>
            <a:r>
              <a:rPr b="0" i="1" lang="es-CL" sz="1600" spc="-1" strike="noStrike">
                <a:solidFill>
                  <a:srgbClr val="000000"/>
                </a:solidFill>
                <a:latin typeface="Lucida Sans Unicode"/>
              </a:rPr>
              <a:t> </a:t>
            </a:r>
            <a:r>
              <a:rPr b="0" lang="es-CL" sz="1600" spc="-1" strike="noStrike">
                <a:solidFill>
                  <a:srgbClr val="000000"/>
                </a:solidFill>
                <a:latin typeface="Lucida Sans Unicode"/>
              </a:rPr>
              <a:t>estimarlos como tácitamente admitidos. Contestación ficta es reemplazada por la </a:t>
            </a:r>
            <a:r>
              <a:rPr b="0" i="1" lang="es-CL" sz="1600" spc="-1" strike="noStrike">
                <a:solidFill>
                  <a:srgbClr val="000000"/>
                </a:solidFill>
                <a:latin typeface="Lucida Sans Unicode"/>
              </a:rPr>
              <a:t>ficta confessio </a:t>
            </a:r>
            <a:r>
              <a:rPr b="0" lang="es-CL" sz="1600" spc="-1" strike="noStrike">
                <a:solidFill>
                  <a:srgbClr val="000000"/>
                </a:solidFill>
                <a:latin typeface="Lucida Sans Unicode"/>
              </a:rPr>
              <a:t>¿autoincrimin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allanamiento del demandado</a:t>
            </a:r>
            <a:r>
              <a:rPr b="0" lang="es-CL" sz="1600" spc="-1" strike="noStrike">
                <a:solidFill>
                  <a:srgbClr val="000000"/>
                </a:solidFill>
                <a:latin typeface="Lucida Sans Unicode"/>
              </a:rPr>
              <a:t>:</a:t>
            </a:r>
            <a:r>
              <a:rPr b="0" i="1" lang="es-ES_tradnl" sz="1600" spc="-1" strike="noStrike">
                <a:solidFill>
                  <a:srgbClr val="000000"/>
                </a:solidFill>
                <a:latin typeface="Lucida Sans Unicode"/>
              </a:rPr>
              <a:t> </a:t>
            </a:r>
            <a:r>
              <a:rPr b="0" lang="es-ES_tradnl" sz="1600" spc="-1" strike="noStrike">
                <a:solidFill>
                  <a:srgbClr val="000000"/>
                </a:solidFill>
                <a:latin typeface="Lucida Sans Unicode"/>
              </a:rPr>
              <a:t>Si se allanare a una parte de la demanda y se opusiera a otras, se continuará con el curso de la demanda sólo en la parte en que hubo oposición. Para estos efectos, </a:t>
            </a:r>
            <a:r>
              <a:rPr b="0" lang="es-ES_tradnl" sz="1600" spc="-1" strike="noStrike" u="sng">
                <a:solidFill>
                  <a:srgbClr val="000000"/>
                </a:solidFill>
                <a:uFillTx/>
                <a:latin typeface="Lucida Sans Unicode"/>
              </a:rPr>
              <a:t>el tribunal deberá establecer los hechos sobre los cuales hubo conformidad</a:t>
            </a:r>
            <a:r>
              <a:rPr b="0" lang="es-ES_tradnl" sz="1600" spc="-1" strike="noStrike">
                <a:solidFill>
                  <a:srgbClr val="000000"/>
                </a:solidFill>
                <a:latin typeface="Lucida Sans Unicode"/>
              </a:rPr>
              <a:t>, estimándose esta resolución como </a:t>
            </a:r>
            <a:r>
              <a:rPr b="0" lang="es-ES_tradnl" sz="1600" spc="-1" strike="noStrike" u="sng">
                <a:solidFill>
                  <a:srgbClr val="000000"/>
                </a:solidFill>
                <a:uFillTx/>
                <a:latin typeface="Lucida Sans Unicode"/>
              </a:rPr>
              <a:t>sentencia ejecutoriada</a:t>
            </a:r>
            <a:r>
              <a:rPr b="0" lang="es-ES_tradnl" sz="1600" spc="-1" strike="noStrike">
                <a:solidFill>
                  <a:srgbClr val="000000"/>
                </a:solidFill>
                <a:latin typeface="Lucida Sans Unicode"/>
              </a:rPr>
              <a:t>, iniciándose oficiosamente la ejecució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5" name="2 Título" descr=""/>
          <p:cNvPicPr/>
          <p:nvPr/>
        </p:nvPicPr>
        <p:blipFill>
          <a:blip r:embed="rId1"/>
          <a:stretch/>
        </p:blipFill>
        <p:spPr>
          <a:xfrm>
            <a:off x="450720" y="122400"/>
            <a:ext cx="8242560" cy="1341360"/>
          </a:xfrm>
          <a:prstGeom prst="rect">
            <a:avLst/>
          </a:prstGeom>
          <a:ln w="0">
            <a:noFill/>
          </a:ln>
        </p:spPr>
      </p:pic>
      <p:sp>
        <p:nvSpPr>
          <p:cNvPr id="42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rminada la etapa de discusión y en la misma audiencia, el juez llamará a las partes a conciliación.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juez debe proponer a las partes las bases para un posible acuerdo. </a:t>
            </a:r>
            <a:r>
              <a:rPr b="0" i="1" lang="es-CL" sz="1500" spc="-1" strike="noStrike">
                <a:solidFill>
                  <a:srgbClr val="000000"/>
                </a:solidFill>
                <a:latin typeface="Lucida Sans Unicode"/>
              </a:rPr>
              <a:t>Cfr.</a:t>
            </a:r>
            <a:r>
              <a:rPr b="0" lang="es-CL" sz="1500" spc="-1" strike="noStrike">
                <a:solidFill>
                  <a:srgbClr val="000000"/>
                </a:solidFill>
                <a:latin typeface="Lucida Sans Unicode"/>
              </a:rPr>
              <a:t> art. 84 LPL española </a:t>
            </a:r>
            <a:r>
              <a:rPr b="0" i="1" lang="es-CL" sz="1500" spc="-1" strike="noStrike">
                <a:solidFill>
                  <a:srgbClr val="000000"/>
                </a:solidFill>
                <a:latin typeface="Lucida Sans Unicode"/>
              </a:rPr>
              <a:t>“…advirtiendo a las partes de los derechos y obligaciones que pudieran corresponderles, </a:t>
            </a:r>
            <a:r>
              <a:rPr b="0" i="1" lang="es-CL" sz="1500" spc="-1" strike="noStrike" u="sng">
                <a:solidFill>
                  <a:srgbClr val="000000"/>
                </a:solidFill>
                <a:uFillTx/>
                <a:latin typeface="Lucida Sans Unicode"/>
              </a:rPr>
              <a:t>sin prejuzgar el contenido de la eventual sentencia”</a:t>
            </a:r>
            <a:r>
              <a:rPr b="0" lang="es-CL" sz="1500" spc="-1" strike="noStrike" u="sng">
                <a:solidFill>
                  <a:srgbClr val="000000"/>
                </a:solidFill>
                <a:uFillTx/>
                <a:latin typeface="Lucida Sans Unicode"/>
              </a:rPr>
              <a:t>. </a:t>
            </a:r>
            <a:r>
              <a:rPr b="0" lang="es-CL" sz="1500" spc="-1" strike="noStrike">
                <a:solidFill>
                  <a:srgbClr val="000000"/>
                </a:solidFill>
                <a:latin typeface="Lucida Sans Unicode"/>
              </a:rPr>
              <a:t>En Chile, en cambio,</a:t>
            </a:r>
            <a:r>
              <a:rPr b="0" i="1" lang="es-CL" sz="1500" spc="-1" strike="noStrike">
                <a:solidFill>
                  <a:srgbClr val="000000"/>
                </a:solidFill>
                <a:latin typeface="Lucida Sans Unicode"/>
              </a:rPr>
              <a:t>“las opiniones que emita al efecto no serán causal de inhabilitación”  </a:t>
            </a:r>
            <a:r>
              <a:rPr b="0" lang="es-CL" sz="1500" spc="-1" strike="noStrike">
                <a:solidFill>
                  <a:srgbClr val="000000"/>
                </a:solidFill>
                <a:latin typeface="Lucida Sans Unicode"/>
              </a:rPr>
              <a:t>(art. 453 N° 2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Si hay conciliación, total o parcial, deberá dejarse constancia en el acta respectiva, la que suscribirán el juez y las partes, estimándose lo conciliado como sentencia ejecutoriada para todos los efectos legales.</a:t>
            </a:r>
            <a:r>
              <a:rPr b="0" i="1"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obro de las sumas resultantes de la conciliación parcial se tramitará separadamente, si no se pagare  voluntariamente.</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8" name="2 Título" descr=""/>
          <p:cNvPicPr/>
          <p:nvPr/>
        </p:nvPicPr>
        <p:blipFill>
          <a:blip r:embed="rId1"/>
          <a:stretch/>
        </p:blipFill>
        <p:spPr>
          <a:xfrm>
            <a:off x="450720" y="122400"/>
            <a:ext cx="8242560" cy="1341360"/>
          </a:xfrm>
          <a:prstGeom prst="rect">
            <a:avLst/>
          </a:prstGeom>
          <a:ln w="0">
            <a:noFill/>
          </a:ln>
        </p:spPr>
      </p:pic>
      <p:sp>
        <p:nvSpPr>
          <p:cNvPr id="42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0680"/>
            <a:ext cx="8229600" cy="516276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cepción de la causa a prueba si hay hechos sustanciales, pertinentes y controvertid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i no hay hechos sustanciales, pertinentes y controvertidos, se dará por concluida la AP y procederá a dictar sentencia en el acto o dentro de 15 dí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Admisibilidad de la prueba: </a:t>
            </a:r>
            <a:r>
              <a:rPr b="0" lang="es-CL" sz="1600" spc="-1" strike="noStrike">
                <a:solidFill>
                  <a:srgbClr val="000000"/>
                </a:solidFill>
                <a:latin typeface="Lucida Sans Unicode"/>
              </a:rPr>
              <a:t>Regla general: derecho de las partes  a valerse de cualquier medio probatorio regulado por la ley y  de cualquier otro elemento de convicción, siempre que:</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tengan relación directa con el asunto sometido al conocimiento del tribunal y que sean necesarios para su resolución  (PERTINENCIA); y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no se hubieren obtenido por medios ilícitos o a través de actos que impliquen violación de derechos fundamentales (LICITUD). </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31" name="2 Título" descr=""/>
          <p:cNvPicPr/>
          <p:nvPr/>
        </p:nvPicPr>
        <p:blipFill>
          <a:blip r:embed="rId1"/>
          <a:stretch/>
        </p:blipFill>
        <p:spPr>
          <a:xfrm>
            <a:off x="450720" y="122400"/>
            <a:ext cx="8242560" cy="1341360"/>
          </a:xfrm>
          <a:prstGeom prst="rect">
            <a:avLst/>
          </a:prstGeom>
          <a:ln w="0">
            <a:noFill/>
          </a:ln>
        </p:spPr>
      </p:pic>
      <p:sp>
        <p:nvSpPr>
          <p:cNvPr id="43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700200" y="1337760"/>
            <a:ext cx="8229600" cy="5234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Regla general </a:t>
            </a:r>
            <a:r>
              <a:rPr b="0" lang="es-CL" sz="1500" spc="-1" strike="noStrike">
                <a:solidFill>
                  <a:srgbClr val="000000"/>
                </a:solidFill>
                <a:latin typeface="Lucida Sans Unicode"/>
              </a:rPr>
              <a:t>: la prueba se rinde en la audiencia de juicio.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documental sólo se podrá presentar en la AP.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berá presentarse conjuntamente con la demanda: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prueba sobre actuaciones administrativas que se refieran a los hechos invocad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resolución final” emitida por el ente previsional o fiscalizador en materias de Seguridad Social.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s partes deben pedir al tribunal que realice las citaciones y requerimientos para que la prueba esté disponible el día del juicio: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xhibición de instrument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bsolución de posicione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stig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informe de peritos;</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oficios</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tribunal despachará todas las citaciones y oficios que correspondan cuando se haya ordenado la práctica de la prueba que, debiendo verificarse en la audiencia de juicio, requieran citación o requerimiento”</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4" name="2 Título" descr=""/>
          <p:cNvPicPr/>
          <p:nvPr/>
        </p:nvPicPr>
        <p:blipFill>
          <a:blip r:embed="rId1"/>
          <a:stretch/>
        </p:blipFill>
        <p:spPr>
          <a:xfrm>
            <a:off x="450720" y="-152280"/>
            <a:ext cx="8242560" cy="1341360"/>
          </a:xfrm>
          <a:prstGeom prst="rect">
            <a:avLst/>
          </a:prstGeom>
          <a:ln w="0">
            <a:noFill/>
          </a:ln>
        </p:spPr>
      </p:pic>
      <p:sp>
        <p:nvSpPr>
          <p:cNvPr id="43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6.- Audiencia Preparatoria (ofici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tribunal sólo dará lugar a la petición de oficios cuando se trate de requerir información objetiva, pertinente y específica sobre los hechos materia del juicio.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la información se solicite respecto de entidades públicas, el oficio deberá dirigirse a la oficina o repartición en cuya jurisdicción hubieren ocurrido los hechos o deban constar los antecedentes sobre los cuales se pide informe.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ersonas o entidades públicas o privadas a quienes se dirija el oficio estarán obligadas a evacuarlo dentro del plazo que fije el tribunal, el que en todo caso no podrá exceder a los tres días anteriores al fijado para la audiencia, y en la forma que éste lo determine, pudiendo disponer al efecto cualquier medio idóneo de comunicación o de transmisión de datos”</a:t>
            </a:r>
            <a:r>
              <a:rPr b="0" lang="es-CL" sz="1500" spc="-1" strike="noStrike">
                <a:solidFill>
                  <a:srgbClr val="000000"/>
                </a:solidFill>
                <a:latin typeface="Lucida Sans Unicode"/>
              </a:rPr>
              <a:t> (art. 453 N.° 8 CT)</a:t>
            </a:r>
            <a:r>
              <a:rPr b="0" i="1" lang="es-CL" sz="1500" spc="-1" strike="noStrike">
                <a:solidFill>
                  <a:srgbClr val="000000"/>
                </a:solidFill>
                <a:latin typeface="Lucida Sans Unicode"/>
              </a:rPr>
              <a:t>.</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7" name="2 Título" descr=""/>
          <p:cNvPicPr/>
          <p:nvPr/>
        </p:nvPicPr>
        <p:blipFill>
          <a:blip r:embed="rId1"/>
          <a:stretch/>
        </p:blipFill>
        <p:spPr>
          <a:xfrm>
            <a:off x="450720" y="122400"/>
            <a:ext cx="8242560" cy="1341360"/>
          </a:xfrm>
          <a:prstGeom prst="rect">
            <a:avLst/>
          </a:prstGeom>
          <a:ln w="0">
            <a:noFill/>
          </a:ln>
        </p:spPr>
      </p:pic>
      <p:sp>
        <p:nvSpPr>
          <p:cNvPr id="43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fijará la fecha para la AJ, en un plazo no superior a 30 dí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s partes se entenderán citadas a la AJ por el solo ministerio de la ley”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puede decretar medidas cautelares. Respecto de las decretadas con anterioridad, se resolverá si se mantiene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ueba de oficio.</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0" name="2 Título" descr=""/>
          <p:cNvPicPr/>
          <p:nvPr/>
        </p:nvPicPr>
        <p:blipFill>
          <a:blip r:embed="rId1"/>
          <a:stretch/>
        </p:blipFill>
        <p:spPr>
          <a:xfrm>
            <a:off x="450720" y="122400"/>
            <a:ext cx="8242560" cy="1341360"/>
          </a:xfrm>
          <a:prstGeom prst="rect">
            <a:avLst/>
          </a:prstGeom>
          <a:ln w="0">
            <a:noFill/>
          </a:ln>
        </p:spPr>
      </p:pic>
      <p:sp>
        <p:nvSpPr>
          <p:cNvPr id="44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cta de la AP.  Conteni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cación del lugar, fecha y tribunal,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comparecientes que concurren a ell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hora de inicio y término de la audienci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resolución que recae sobre las excepciones opuest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hechos que deberán acreditarse</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vidualización de los testigos que depondrá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ciliación total o parci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lanamiento de demandado.</a:t>
            </a:r>
            <a:endParaRPr b="0" lang="en-US" sz="16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2 Título" descr=""/>
          <p:cNvPicPr/>
          <p:nvPr/>
        </p:nvPicPr>
        <p:blipFill>
          <a:blip r:embed="rId1"/>
          <a:stretch/>
        </p:blipFill>
        <p:spPr>
          <a:xfrm>
            <a:off x="450720" y="122400"/>
            <a:ext cx="8242560" cy="1341360"/>
          </a:xfrm>
          <a:prstGeom prst="rect">
            <a:avLst/>
          </a:prstGeom>
          <a:ln w="0">
            <a:noFill/>
          </a:ln>
        </p:spPr>
      </p:pic>
      <p:sp>
        <p:nvSpPr>
          <p:cNvPr id="44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1.- Formas de iniciar el procedimiento</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Demanda (requisitos: art. 446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Medida prejudicial (arts. 444  CT y 290 CPC)</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utelar  (asegurar el resultado de la acción; la protección de un derecho; la identificación de los obligados o la singularización de su patrimonio)</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obatoria (procurarse aquella prueba que el actor requiere para hacerla valer en juicio).</a:t>
            </a:r>
            <a:endParaRPr b="0" lang="en-US" sz="1600" spc="-1" strike="noStrike">
              <a:solidFill>
                <a:srgbClr val="000000"/>
              </a:solidFill>
              <a:latin typeface="Lucida Sans Unicode"/>
            </a:endParaRPr>
          </a:p>
        </p:txBody>
      </p:sp>
      <p:pic>
        <p:nvPicPr>
          <p:cNvPr id="374" name="2 Título" descr=""/>
          <p:cNvPicPr/>
          <p:nvPr/>
        </p:nvPicPr>
        <p:blipFill>
          <a:blip r:embed="rId1"/>
          <a:stretch/>
        </p:blipFill>
        <p:spPr>
          <a:xfrm>
            <a:off x="450720" y="122400"/>
            <a:ext cx="8242560" cy="1341360"/>
          </a:xfrm>
          <a:prstGeom prst="rect">
            <a:avLst/>
          </a:prstGeom>
          <a:ln w="0">
            <a:noFill/>
          </a:ln>
        </p:spPr>
      </p:pic>
      <p:sp>
        <p:nvSpPr>
          <p:cNvPr id="37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1409400"/>
            <a:ext cx="8643960" cy="5234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7.- Audiencia de juicio (AJ).</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Amplia intervención del juez:  Podrá: formular a los absolventes y a los testigos las preguntas que estime pertinentes; ordenarles que precisen o aclaren sus respuestas; rechazar preguntas de los abogados; ampliar o reducir el número de testigos de cada parte; e incluso prescindir de la prueba testimonial y de la confesional (art. 454 N° 4, 5 y 6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Necesidad de que las pruebas se practiquen en el acto del juicio, con predominio absoluto de la oralidad. V. gr.: inadmisibilidad de pliego de posiciones  (art. 454 N° 4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Lucida Sans Unicode"/>
              </a:rPr>
              <a:t>Amplitud en el uso de los medios probatorios (todas las pruebas útiles deben llevarse a efecto):</a:t>
            </a:r>
            <a:r>
              <a:rPr b="0" lang="es-CL" sz="1400" spc="-1" strike="noStrike">
                <a:solidFill>
                  <a:srgbClr val="000000"/>
                </a:solidFill>
                <a:latin typeface="Lucida Sans Unicode"/>
              </a:rPr>
              <a:t> Además de las pruebas reguladas en la ley, admite </a:t>
            </a:r>
            <a:r>
              <a:rPr b="0" i="1" lang="es-CL" sz="1400" spc="-1" strike="noStrike">
                <a:solidFill>
                  <a:srgbClr val="000000"/>
                </a:solidFill>
                <a:latin typeface="Lucida Sans Unicode"/>
              </a:rPr>
              <a:t>“cualquier otro medio de convicción que, a juicio del tribunal, fuese pertinente” </a:t>
            </a:r>
            <a:r>
              <a:rPr b="0" lang="es-CL" sz="1400" spc="-1" strike="noStrike">
                <a:solidFill>
                  <a:srgbClr val="000000"/>
                </a:solidFill>
                <a:latin typeface="Lucida Sans Unicode"/>
              </a:rPr>
              <a:t>(art. 453 N° 4 CT); exclusión de la tacha de testigos (art. 454 N° 5 CT); posibilidades que el CT da al órgano judicial para dar por probados unos hechos ante ciertas conductas obstaculizadoras de la prueba realizadas por alguna de las partes: negativa a confesar (art. 454 N° 3 CT) y negativa a exhibir documentos (art. 453 N° 5 C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46" name="2 Título" descr=""/>
          <p:cNvPicPr/>
          <p:nvPr/>
        </p:nvPicPr>
        <p:blipFill>
          <a:blip r:embed="rId1"/>
          <a:stretch/>
        </p:blipFill>
        <p:spPr>
          <a:xfrm>
            <a:off x="450720" y="122400"/>
            <a:ext cx="8242560" cy="1341360"/>
          </a:xfrm>
          <a:prstGeom prst="rect">
            <a:avLst/>
          </a:prstGeom>
          <a:ln w="0">
            <a:noFill/>
          </a:ln>
        </p:spPr>
      </p:pic>
      <p:sp>
        <p:nvSpPr>
          <p:cNvPr id="44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continuación).</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AJ se iniciará con la rendición de las pruebas decretadas por el tribunal, comenzando con la ofrecida por el demandante y luego con la del demandado.  Excepción: los juicios sobre despido rinde en primer lugar el demandad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orden de recepción de las pruebas será el siguiente: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1°) document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2°) confesion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3°) testimonial y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4°) los otros medios ofrecidos,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tribunal pueda modificar el orden por causa justificada.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se rinda prueba que no esté expresamente regulada en la ley, el tribunal determinará la forma de su incorporación al juicio, adecuándola, en lo posible, al medio de prueba análogo.” </a:t>
            </a:r>
            <a:r>
              <a:rPr b="0" lang="es-CL" sz="1500" spc="-1" strike="noStrike">
                <a:solidFill>
                  <a:srgbClr val="000000"/>
                </a:solidFill>
                <a:latin typeface="Lucida Sans Unicode"/>
              </a:rPr>
              <a:t>(art. 454 N° 8 CT).</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49" name="2 Título" descr=""/>
          <p:cNvPicPr/>
          <p:nvPr/>
        </p:nvPicPr>
        <p:blipFill>
          <a:blip r:embed="rId1"/>
          <a:stretch/>
        </p:blipFill>
        <p:spPr>
          <a:xfrm>
            <a:off x="450720" y="122400"/>
            <a:ext cx="8242560" cy="1341360"/>
          </a:xfrm>
          <a:prstGeom prst="rect">
            <a:avLst/>
          </a:prstGeom>
          <a:ln w="0">
            <a:noFill/>
          </a:ln>
        </p:spPr>
      </p:pic>
      <p:sp>
        <p:nvSpPr>
          <p:cNvPr id="45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document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La prueba documental sólo se podrá presentar en la audiencia preparatori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El art. 453 N° </a:t>
            </a:r>
            <a:r>
              <a:rPr b="1" i="1" lang="es-CL" sz="1600" spc="-1" strike="noStrike">
                <a:solidFill>
                  <a:srgbClr val="000000"/>
                </a:solidFill>
                <a:latin typeface="Lucida Sans Unicode"/>
              </a:rPr>
              <a:t>5</a:t>
            </a:r>
            <a:r>
              <a:rPr b="0" i="1" lang="es-CL" sz="1600" spc="-1" strike="noStrike">
                <a:solidFill>
                  <a:srgbClr val="000000"/>
                </a:solidFill>
                <a:latin typeface="Lucida Sans Unicode"/>
              </a:rPr>
              <a:t> CT dispone que:</a:t>
            </a:r>
            <a:endParaRPr b="0" lang="en-US" sz="16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exhibición de instrumentos que hubiere sido ordenada por el tribunal se verificará en la audiencia de juicio y en el plazo señalado en el numeral anterior. Cuando sin causa justificada, se omita la presentación de aquellos que legalmente deban obrar en poder de una de las partes, podrán estimarse probadas las alegaciones hechas por la parte contraria en relación con la prueba decretad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De acuerdo al art. 454 N° 2 CT, “La impugnación de la prueba instrumental acompañada deberá formularse en forma oral en la audiencia preparatoria o en la de juicio”.</a:t>
            </a:r>
            <a:r>
              <a:rPr b="0" lang="es-CL" sz="1600" spc="-1" strike="noStrike">
                <a:solidFill>
                  <a:srgbClr val="000000"/>
                </a:solidFill>
                <a:latin typeface="Lucida Sans Unicode"/>
              </a:rPr>
              <a:t> </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52" name="2 Título" descr=""/>
          <p:cNvPicPr/>
          <p:nvPr/>
        </p:nvPicPr>
        <p:blipFill>
          <a:blip r:embed="rId1"/>
          <a:stretch/>
        </p:blipFill>
        <p:spPr>
          <a:xfrm>
            <a:off x="450720" y="122400"/>
            <a:ext cx="8242560" cy="1341360"/>
          </a:xfrm>
          <a:prstGeom prst="rect">
            <a:avLst/>
          </a:prstGeom>
          <a:ln w="0">
            <a:noFill/>
          </a:ln>
        </p:spPr>
      </p:pic>
      <p:sp>
        <p:nvSpPr>
          <p:cNvPr id="45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42560" y="1356840"/>
            <a:ext cx="8929800" cy="4876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persona citada a absolver posiciones estará obligada a concurrir personalmente a la audiencia, a menos que designe especialmente un mandatario para tal objeto”.</a:t>
            </a:r>
            <a:r>
              <a:rPr b="0" lang="es-CL" sz="1500" spc="-1" strike="noStrike">
                <a:solidFill>
                  <a:srgbClr val="000000"/>
                </a:solidFill>
                <a:latin typeface="Lucida Sans Unicode"/>
              </a:rPr>
              <a:t> Si quien designa mandatario es el empleador, su representante deberá ser alguna de las personas a que se refiere el artículo 4° CT, a saber: </a:t>
            </a:r>
            <a:r>
              <a:rPr b="0" i="1" lang="es-CL" sz="1500" spc="-1" strike="noStrike">
                <a:solidFill>
                  <a:srgbClr val="000000"/>
                </a:solidFill>
                <a:latin typeface="Lucida Sans Unicode"/>
              </a:rPr>
              <a:t>“el gerente, el administrador, el capitán de barco y, en general, la persona que ejerce habitualmente funciones de dirección o administración por cuenta o representación de una persona natural o jurídic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designación del mandatario deberá constar por escrito y entregarse al inicio de la audiencia, considerándose sus declaraciones para todos los efectos legales como si hubieren sido hechas personalmente por aquél cuya comparecencia se solicitó”.</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los demandantes fueren varios y se solicitare la citación a confesar en juicio de muchos o de todos ellos, el juez podrá reducir el número de quienes habrán de comparecer, en especial </a:t>
            </a:r>
            <a:r>
              <a:rPr b="0" i="1" lang="es-CL" sz="1500" spc="-1" strike="noStrike" u="sng">
                <a:solidFill>
                  <a:srgbClr val="000000"/>
                </a:solidFill>
                <a:uFillTx/>
                <a:latin typeface="Lucida Sans Unicode"/>
              </a:rPr>
              <a:t>cuando estime que sus declaraciones puedan resultar una reiteración inútil sobre los mismos hechos</a:t>
            </a:r>
            <a:r>
              <a:rPr b="0" i="1" lang="es-CL" sz="1500" spc="-1" strike="noStrike">
                <a:solidFill>
                  <a:srgbClr val="000000"/>
                </a:solidFill>
                <a:latin typeface="Lucida Sans Unicode"/>
              </a:rPr>
              <a:t>”. </a:t>
            </a:r>
            <a:r>
              <a:rPr b="0" lang="es-CL" sz="1500" spc="-1" strike="noStrike">
                <a:solidFill>
                  <a:srgbClr val="000000"/>
                </a:solidFill>
                <a:latin typeface="Lucida Sans Unicode"/>
              </a:rPr>
              <a:t>¿Cómo puede saberlo sin haber oído lo que van a decir?</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5" name="2 Título" descr=""/>
          <p:cNvPicPr/>
          <p:nvPr/>
        </p:nvPicPr>
        <p:blipFill>
          <a:blip r:embed="rId1"/>
          <a:stretch/>
        </p:blipFill>
        <p:spPr>
          <a:xfrm>
            <a:off x="450720" y="122400"/>
            <a:ext cx="8242560" cy="1341360"/>
          </a:xfrm>
          <a:prstGeom prst="rect">
            <a:avLst/>
          </a:prstGeom>
          <a:ln w="0">
            <a:noFill/>
          </a:ln>
        </p:spPr>
      </p:pic>
      <p:sp>
        <p:nvSpPr>
          <p:cNvPr id="45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1338120"/>
            <a:ext cx="8686800" cy="537696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prueba de confesión se realiza contestando a las preguntas (o posiciones) que la otra parte (a través de su abogado) y el Juez realicen: </a:t>
            </a:r>
            <a:r>
              <a:rPr b="0" i="1" lang="es-CL" sz="1500" spc="-1" strike="noStrike">
                <a:solidFill>
                  <a:srgbClr val="000000"/>
                </a:solidFill>
                <a:latin typeface="Lucida Sans Unicode"/>
              </a:rPr>
              <a:t>“Las posiciones para la prueba confesional se formularán verbalmente, sin admisión de pliegos, y deberán ser pertinentes a los hechos sobre los cuales debe versar la prueba y expresarse en términos claros y precisos, de manera que puedan ser entendidas sin dificultad. El tribunal, de oficio o a petición de parte, podrá rechazar las preguntas que no cumplan con dichas exigenci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formular a los absolventes las preguntas que estime pertinentes, así como ordenarles que precisen o aclaren sus respuest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ambién se le puede pedir al absolvente que reconozca como ciertos documentos aportados al proces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T ratifica la aplicación en el proceso laboral de la “ficta confessio”: </a:t>
            </a:r>
            <a:r>
              <a:rPr b="0" i="1" lang="es-CL" sz="1500" spc="-1" strike="noStrike">
                <a:solidFill>
                  <a:srgbClr val="000000"/>
                </a:solidFill>
                <a:latin typeface="Lucida Sans Unicode"/>
              </a:rPr>
              <a:t>“Si el llamado a confesar no compareciese a la audiencia sin causa justificada, o compareciendo se negase a declarar o diere respuestas evasivas, podrán presumirse efectivas, en relación a los hechos objeto de prueba, las alegaciones de la parte contraria en la demanda o contestación, según correspond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8" name="2 Título" descr=""/>
          <p:cNvPicPr/>
          <p:nvPr/>
        </p:nvPicPr>
        <p:blipFill>
          <a:blip r:embed="rId1"/>
          <a:stretch/>
        </p:blipFill>
        <p:spPr>
          <a:xfrm>
            <a:off x="450720" y="122400"/>
            <a:ext cx="8242560" cy="1341360"/>
          </a:xfrm>
          <a:prstGeom prst="rect">
            <a:avLst/>
          </a:prstGeom>
          <a:ln w="0">
            <a:noFill/>
          </a:ln>
        </p:spPr>
      </p:pic>
      <p:sp>
        <p:nvSpPr>
          <p:cNvPr id="45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confesion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a:t>
            </a:r>
            <a:r>
              <a:rPr b="0" i="1" lang="es-ES_tradnl" sz="1600" spc="-1" strike="noStrike">
                <a:solidFill>
                  <a:srgbClr val="000000"/>
                </a:solidFill>
                <a:latin typeface="Lucida Sans Unicode"/>
              </a:rPr>
              <a:t>Si una de las partes alegare entorpecimiento en el caso de la imposibilidad de comparecencia de quien fuere citado a la diligencia de confesión, deberá acreditarlo al invocarla, debiendo resolverse el incidente en la misma audienci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Sólo podrá aceptarse cuando se invocaren hechos sobrevinientes y de carácter grave, en cuyo caso, deberá el juez adoptar las medidas inmediatas que fueren necesarias para su realización a la mayor brevedad, notificándose a las partes en el acto</a:t>
            </a:r>
            <a:r>
              <a:rPr b="0" lang="es-ES_tradnl" sz="1600" spc="-1" strike="noStrike">
                <a:solidFill>
                  <a:srgbClr val="000000"/>
                </a:solidFill>
                <a:latin typeface="Lucida Sans Unicode"/>
              </a:rPr>
              <a:t>.”(ART. 454 N° 10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1" name="2 Título" descr=""/>
          <p:cNvPicPr/>
          <p:nvPr/>
        </p:nvPicPr>
        <p:blipFill>
          <a:blip r:embed="rId1"/>
          <a:stretch/>
        </p:blipFill>
        <p:spPr>
          <a:xfrm>
            <a:off x="450720" y="122400"/>
            <a:ext cx="8242560" cy="1341360"/>
          </a:xfrm>
          <a:prstGeom prst="rect">
            <a:avLst/>
          </a:prstGeom>
          <a:ln w="0">
            <a:noFill/>
          </a:ln>
        </p:spPr>
      </p:pic>
      <p:sp>
        <p:nvSpPr>
          <p:cNvPr id="46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erán admitidos a declarar sólo hasta cuatro testigos por cada parte. En caso de que se haya ordenado la acumulación de autos, el número de testigos admitidos a declarar será determinado por el tribunal, no pudiendo en ningún caso ser superior a cuatro por cada causa acumulada.</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xcepcionalmente, y por resolución fundada, el tribunal podrá ampliar el número de testigos cuando, de acuerdo a la naturaleza de los hechos a ser probados, ello se considere indispensable para una adecuada resolución del juicio.</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reducir el número de testigos de cada parte, e incluso prescindir de la prueba testimonial cuando sus manifestaciones pudieren constituir inútil reiteración sobre hechos suficientemente esclarecidos” </a:t>
            </a:r>
            <a:r>
              <a:rPr b="0" lang="es-CL" sz="1500" spc="-1" strike="noStrike">
                <a:solidFill>
                  <a:srgbClr val="000000"/>
                </a:solidFill>
                <a:latin typeface="Lucida Sans Unicode"/>
              </a:rPr>
              <a:t>(art. 454 N° 5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t>
            </a:r>
            <a:r>
              <a:rPr b="0" lang="es-CL" sz="1500" spc="-1" strike="noStrike">
                <a:solidFill>
                  <a:srgbClr val="000000"/>
                </a:solidFill>
                <a:latin typeface="Lucida Sans Unicode"/>
              </a:rPr>
              <a:t>Según el art. 454 N° 5 CT, en el proceso laboral </a:t>
            </a:r>
            <a:r>
              <a:rPr b="0" i="1" lang="es-CL" sz="1500" spc="-1" strike="noStrike">
                <a:solidFill>
                  <a:srgbClr val="000000"/>
                </a:solidFill>
                <a:latin typeface="Lucida Sans Unicode"/>
              </a:rPr>
              <a:t>“no se podrá formula tachas a los testigos”.</a:t>
            </a:r>
            <a:r>
              <a:rPr b="0" lang="en-US"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64" name="2 Título" descr=""/>
          <p:cNvPicPr/>
          <p:nvPr/>
        </p:nvPicPr>
        <p:blipFill>
          <a:blip r:embed="rId1"/>
          <a:stretch/>
        </p:blipFill>
        <p:spPr>
          <a:xfrm>
            <a:off x="450720" y="122400"/>
            <a:ext cx="8242560" cy="1341360"/>
          </a:xfrm>
          <a:prstGeom prst="rect">
            <a:avLst/>
          </a:prstGeom>
          <a:ln w="0">
            <a:noFill/>
          </a:ln>
        </p:spPr>
      </p:pic>
      <p:sp>
        <p:nvSpPr>
          <p:cNvPr id="46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14200" y="1481040"/>
            <a:ext cx="8686800" cy="5376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Los testigos están obligados a comparecer cuando sean citados como tales. </a:t>
            </a:r>
            <a:r>
              <a:rPr b="0" i="1" lang="es-CL" sz="1400" spc="-1" strike="noStrike">
                <a:solidFill>
                  <a:srgbClr val="000000"/>
                </a:solidFill>
                <a:latin typeface="Lucida Sans Unicode"/>
              </a:rPr>
              <a:t>“La citación de los testigos deberá practicarse por carta certificada, la que deberá despacharse con al menos ocho días de anticipación a la audiencia, al domicilio señalado por cada una de la partes que presenta la testimonial” </a:t>
            </a:r>
            <a:r>
              <a:rPr b="0" lang="es-CL" sz="1400" spc="-1" strike="noStrike">
                <a:solidFill>
                  <a:srgbClr val="000000"/>
                </a:solidFill>
                <a:latin typeface="Lucida Sans Unicode"/>
              </a:rPr>
              <a:t>(art. 453 N° 8 CT). </a:t>
            </a:r>
            <a:r>
              <a:rPr b="0" i="1" lang="es-CL" sz="1400" spc="-1" strike="noStrike">
                <a:solidFill>
                  <a:srgbClr val="000000"/>
                </a:solidFill>
                <a:latin typeface="Lucida Sans Unicode"/>
              </a:rPr>
              <a:t>“Los testigos podrán declarar únicamente ante el tribunal que conozca de la causa”</a:t>
            </a:r>
            <a:r>
              <a:rPr b="0" lang="es-CL" sz="1400" spc="-1" strike="noStrike">
                <a:solidFill>
                  <a:srgbClr val="000000"/>
                </a:solidFill>
                <a:latin typeface="Lucida Sans Unicode"/>
              </a:rPr>
              <a:t> (art. 454 N° 5 CT).  </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a comparecencia del testigo a la audiencia de juicio, constituirá siempre suficiente justificación cuando su presencia fuere requerida simultáneamente para dar cumplimiento a obligaciones laborales, educativas o de otra naturaleza, y no le ocasionará consecuencias jurídicas adversas bajo circunstancia alguna”.</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os testigos declararán bajo juramento o promesa de decir verdad en juicio. El juez, en forma expresa y previa a su declaración, deberá poner en conocimiento del testigo las sanciones contempladas en el artículo 209 del Código Penal, por incurrir en falso testimonio”</a:t>
            </a:r>
            <a:r>
              <a:rPr b="0" lang="es-CL" sz="1400" spc="-1" strike="noStrike">
                <a:solidFill>
                  <a:srgbClr val="000000"/>
                </a:solidFill>
                <a:latin typeface="Lucida Sans Unicode"/>
              </a:rPr>
              <a:t> (art. 454 N°5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l tribunal y las partes podrán formular a los testigos las preguntas que estimen necesarias para el esclarecimiento de los hechos sobre los que versa el juicio. Podrán, asimismo, exigir que los testigos aclaren o precisen sus dicho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stas preguntas no podrán formularse en forma asertiva, ni contener elementos de juicio que determinen la respuesta, ni referirse a hechos o circunstancias ajenas al objeto de la prueba, lo que calificará el tribunal sin más trámite” </a:t>
            </a:r>
            <a:r>
              <a:rPr b="0" lang="es-CL" sz="1400" spc="-1" strike="noStrike">
                <a:solidFill>
                  <a:srgbClr val="000000"/>
                </a:solidFill>
                <a:latin typeface="Lucida Sans Unicode"/>
              </a:rPr>
              <a:t>(art. 454 N° 6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7" name="2 Título" descr=""/>
          <p:cNvPicPr/>
          <p:nvPr/>
        </p:nvPicPr>
        <p:blipFill>
          <a:blip r:embed="rId1"/>
          <a:stretch/>
        </p:blipFill>
        <p:spPr>
          <a:xfrm>
            <a:off x="450720" y="122400"/>
            <a:ext cx="8242560" cy="1341360"/>
          </a:xfrm>
          <a:prstGeom prst="rect">
            <a:avLst/>
          </a:prstGeom>
          <a:ln w="0">
            <a:noFill/>
          </a:ln>
        </p:spPr>
      </p:pic>
      <p:sp>
        <p:nvSpPr>
          <p:cNvPr id="46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perici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puede recurrir a cualquier medio idóneo de comunicación o de transmisión de datos para comunicar al perito su designación </a:t>
            </a:r>
            <a:r>
              <a:rPr b="0" i="1" lang="es-CL" sz="1600" spc="-1" strike="noStrike">
                <a:solidFill>
                  <a:srgbClr val="000000"/>
                </a:solidFill>
                <a:latin typeface="Lucida Sans Unicode"/>
              </a:rPr>
              <a:t>“debiendo adoptar las medidas necesarias para asegurar su debida recepción por el requerido, dejándose constancia de ell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uando el perito acepta el cargo, sus obligaciones son similares a las de los testigos y la forma en que se practica la prueba pericial es, en general, verbal, contestando a las preguntas y aclaraciones que les efectúen las partes y el Juez, aunque la complejidad de la prueba hace que el CT prevea que el perito aporte un informe escrito </a:t>
            </a:r>
            <a:r>
              <a:rPr b="0" i="1" lang="es-CL" sz="1600" spc="-1" strike="noStrike">
                <a:solidFill>
                  <a:srgbClr val="000000"/>
                </a:solidFill>
                <a:latin typeface="Lucida Sans Unicode"/>
              </a:rPr>
              <a:t>“el cual deberá ser puesto a disposición de las partes en el tribunal al menos tres días antes de la celebración de la audiencia de juici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0" name="2 Título" descr=""/>
          <p:cNvPicPr/>
          <p:nvPr/>
        </p:nvPicPr>
        <p:blipFill>
          <a:blip r:embed="rId1"/>
          <a:stretch/>
        </p:blipFill>
        <p:spPr>
          <a:xfrm>
            <a:off x="450720" y="122400"/>
            <a:ext cx="8242560" cy="1341360"/>
          </a:xfrm>
          <a:prstGeom prst="rect">
            <a:avLst/>
          </a:prstGeom>
          <a:ln w="0">
            <a:noFill/>
          </a:ln>
        </p:spPr>
      </p:pic>
      <p:sp>
        <p:nvSpPr>
          <p:cNvPr id="47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peric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perito deberá ratificar su informe en la audiencia de juicio, lo que permite garantizar la exactitud y perfecto conocimiento de sus afirmaciones. Sin embargo, </a:t>
            </a:r>
            <a:r>
              <a:rPr b="0" i="1" lang="es-CL" sz="1500" spc="-1" strike="noStrike">
                <a:solidFill>
                  <a:srgbClr val="000000"/>
                </a:solidFill>
                <a:latin typeface="Lucida Sans Unicode"/>
              </a:rPr>
              <a:t>“el juez podrá, con el acuerdo de las partes, eximir al perito de la obligación de concurrir a prestar declaración, admitiendo en dicho caso el informe pericial como prueba” </a:t>
            </a:r>
            <a:r>
              <a:rPr b="0" lang="es-CL" sz="1500" spc="-1" strike="noStrike">
                <a:solidFill>
                  <a:srgbClr val="000000"/>
                </a:solidFill>
                <a:latin typeface="Lucida Sans Unicode"/>
              </a:rPr>
              <a:t>(art. 453 N.° 8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Lucida Sans Unicode"/>
              </a:rPr>
              <a:t>“</a:t>
            </a:r>
            <a:r>
              <a:rPr b="0" i="1" lang="es-ES_tradnl" sz="1500" spc="-1" strike="noStrike">
                <a:solidFill>
                  <a:srgbClr val="000000"/>
                </a:solidFill>
                <a:latin typeface="Lucida Sans Unicode"/>
              </a:rPr>
              <a:t>Si el oficio o informe de perito no fuere evacuado antes de la audiencia y su contenido fuere relevante para la resolución del asunto, el juez deberá dentro de la misma audiencia, tomar las medidas inmediatas que fueren necesarias para su aportación en ella. Si al término de esta audiencia dichas diligencias no se hubieren cumplido, el Tribunal fijará para ese solo efecto una nueva audiencia, que deberá llevarse a cabo dentro de tercero dí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3" name="2 Título" descr=""/>
          <p:cNvPicPr/>
          <p:nvPr/>
        </p:nvPicPr>
        <p:blipFill>
          <a:blip r:embed="rId1"/>
          <a:stretch/>
        </p:blipFill>
        <p:spPr>
          <a:xfrm>
            <a:off x="450720" y="122400"/>
            <a:ext cx="8242560" cy="1341360"/>
          </a:xfrm>
          <a:prstGeom prst="rect">
            <a:avLst/>
          </a:prstGeom>
          <a:ln w="0">
            <a:noFill/>
          </a:ln>
        </p:spPr>
      </p:pic>
      <p:sp>
        <p:nvSpPr>
          <p:cNvPr id="47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 Presentación (art. 423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nte el </a:t>
            </a:r>
            <a:r>
              <a:rPr b="0" i="1" lang="es-CL" sz="1600" spc="-1" strike="noStrike">
                <a:solidFill>
                  <a:srgbClr val="000000"/>
                </a:solidFill>
                <a:latin typeface="Lucida Sans Unicode"/>
              </a:rPr>
              <a:t>“juez competente”  </a:t>
            </a:r>
            <a:r>
              <a:rPr b="0" lang="es-CL" sz="1600" spc="-1" strike="noStrike">
                <a:solidFill>
                  <a:srgbClr val="000000"/>
                </a:solidFill>
                <a:latin typeface="Lucida Sans Unicode"/>
              </a:rPr>
              <a:t>(territorialmente). El demandante puede escoger:</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domicilio del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lugar donde se presten o se hayan prestado los servici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 su propio domicilio ,</a:t>
            </a:r>
            <a:r>
              <a:rPr b="0" i="1" lang="es-CL" sz="1600" spc="-1" strike="noStrike">
                <a:solidFill>
                  <a:srgbClr val="000000"/>
                </a:solidFill>
                <a:latin typeface="Lucida Sans Unicode"/>
              </a:rPr>
              <a:t>“cuando el trabajador haya debido trasladar su residencia con motivo del contrato de trabajo y conste dicha circunstancia en el respectivo instrument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competencia territorial no podrá ser prorrogada expresamente por las part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
        <p:nvSpPr>
          <p:cNvPr id="37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alegatos de clausur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rt. 454 N.° 9 CT, </a:t>
            </a:r>
            <a:r>
              <a:rPr b="0" i="1" lang="es-CL" sz="1600" spc="-1" strike="noStrike">
                <a:solidFill>
                  <a:srgbClr val="000000"/>
                </a:solidFill>
                <a:latin typeface="Lucida Sans Unicode"/>
              </a:rPr>
              <a:t>“practicada la prueba, las partes formularán, oralmente, en forma breve y precisa, las observaciones que les merezcan las pruebas rendidas y sus conclusiones”.</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Unicode"/>
              </a:rPr>
              <a:t>“</a:t>
            </a:r>
            <a:r>
              <a:rPr b="0" i="1" lang="en-US" sz="1600" spc="-1" strike="noStrike">
                <a:solidFill>
                  <a:srgbClr val="000000"/>
                </a:solidFill>
                <a:latin typeface="Lucida Sans Unicode"/>
              </a:rPr>
              <a:t>Con todo, si a juicio del juez hubiere puntos no suficientemente esclarecidos, podrá ordenar a las partes que los aclare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6" name="2 Título" descr=""/>
          <p:cNvPicPr/>
          <p:nvPr/>
        </p:nvPicPr>
        <p:blipFill>
          <a:blip r:embed="rId1"/>
          <a:stretch/>
        </p:blipFill>
        <p:spPr>
          <a:xfrm>
            <a:off x="450720" y="122400"/>
            <a:ext cx="8242560" cy="1341360"/>
          </a:xfrm>
          <a:prstGeom prst="rect">
            <a:avLst/>
          </a:prstGeom>
          <a:ln w="0">
            <a:noFill/>
          </a:ln>
        </p:spPr>
      </p:pic>
      <p:sp>
        <p:nvSpPr>
          <p:cNvPr id="47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142640"/>
            <a:ext cx="8229600" cy="523404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8.- Acta de la AJ.</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art. 455 CT, señala que </a:t>
            </a:r>
            <a:r>
              <a:rPr b="0" i="1" lang="es-CL" sz="1500" spc="-1" strike="noStrike">
                <a:solidFill>
                  <a:srgbClr val="000000"/>
                </a:solidFill>
                <a:latin typeface="Lucida Sans Unicode"/>
              </a:rPr>
              <a:t>“al finalizar la audiencia se extenderá el acta correspondiente, en la que constará el lugar, fecha e individualización del tribunal, de las partes comparecientes, de sus apoderados y abogados, y de toda otra circunstancia que el tribunal estime necesario incorporar”.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sta disposición debe concordarse con  el art. 425 inc. 3° CT, el cual prescribe que </a:t>
            </a:r>
            <a:r>
              <a:rPr b="0" i="1" lang="es-CL" sz="1500" spc="-1" strike="noStrike">
                <a:solidFill>
                  <a:srgbClr val="000000"/>
                </a:solidFill>
                <a:latin typeface="Lucida Sans Unicode"/>
              </a:rPr>
              <a:t>“la audiencia deberá ser registrada íntegramente”</a:t>
            </a:r>
            <a:r>
              <a:rPr b="0" lang="es-CL" sz="1500" spc="-1" strike="noStrike">
                <a:solidFill>
                  <a:srgbClr val="000000"/>
                </a:solidFill>
                <a:latin typeface="Lucida Sans Unicode"/>
              </a:rPr>
              <a:t>(como garantía y a efectos de que se conozca lo sucedido en el juicio en los posibles recursos).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 manera que no al final, sino mientras se desarrolla el juicio oral, el funcionario del tribunal designado al efecto irá extendiendo el acta del mismo. También es posible que la audiencia se documente </a:t>
            </a:r>
            <a:r>
              <a:rPr b="0" i="1" lang="es-CL" sz="1500" spc="-1" strike="noStrike">
                <a:solidFill>
                  <a:srgbClr val="000000"/>
                </a:solidFill>
                <a:latin typeface="Lucida Sans Unicode"/>
              </a:rPr>
              <a:t>“por cualquier medio apto para producir fe y que permita garantizar la fidelidad, conservación y reproducción de su contenido. Se considerarán válidos, para estos efectos, la grabación de medios de reproducción fonográfica, audiovisual o electrónica”</a:t>
            </a:r>
            <a:r>
              <a:rPr b="0" lang="es-CL" sz="1500" spc="-1" strike="noStrike">
                <a:solidFill>
                  <a:srgbClr val="000000"/>
                </a:solidFill>
                <a:latin typeface="Lucida Sans Unicode"/>
              </a:rPr>
              <a:t> (art. 425 inc. 3° CT)</a:t>
            </a:r>
            <a:r>
              <a:rPr b="0" i="1" lang="es-CL" sz="1500" spc="-1" strike="noStrike">
                <a:solidFill>
                  <a:srgbClr val="000000"/>
                </a:solidFill>
                <a:latin typeface="Lucida Sans Unicode"/>
              </a:rPr>
              <a: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9" name="2 Título" descr=""/>
          <p:cNvPicPr/>
          <p:nvPr/>
        </p:nvPicPr>
        <p:blipFill>
          <a:blip r:embed="rId1"/>
          <a:stretch/>
        </p:blipFill>
        <p:spPr>
          <a:xfrm>
            <a:off x="450720" y="122400"/>
            <a:ext cx="8242560" cy="1341360"/>
          </a:xfrm>
          <a:prstGeom prst="rect">
            <a:avLst/>
          </a:prstGeom>
          <a:ln w="0">
            <a:noFill/>
          </a:ln>
        </p:spPr>
      </p:pic>
      <p:sp>
        <p:nvSpPr>
          <p:cNvPr id="48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juez podrá pronunciar el fallo al término de la audiencia de juicio o, en todo caso, dictarlo dentro del plazo de décimo quinto día, contado desde la realización de ésta, en cuyo caso citará a las partes para notificarlas del fallo, fijando día y hora al efecto, dentro del mismo plazo. </a:t>
            </a:r>
            <a:r>
              <a:rPr b="1" i="1" lang="es-CL" sz="1500" spc="-1" strike="noStrike" u="sng">
                <a:solidFill>
                  <a:srgbClr val="000000"/>
                </a:solidFill>
                <a:uFillTx/>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artes se entenderán notificadas de la sentencia, sea en la audiencia de juicio o en la actuación prevista al efecto, hayan o no asistido a ellas” </a:t>
            </a:r>
            <a:r>
              <a:rPr b="0" lang="es-CL" sz="1500" spc="-1" strike="noStrike">
                <a:solidFill>
                  <a:srgbClr val="000000"/>
                </a:solidFill>
                <a:latin typeface="Lucida Sans Unicode"/>
              </a:rPr>
              <a:t>(art. 457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sentencia definitiva se pronunciará sobre las acciones y excepciones deducidas que no se hubieren resuelto con anterioridad y sobre los incidentes, en su caso, o sólo sobre éstos cuando sean previos e incompatibles con aquéllas”.</a:t>
            </a:r>
            <a:r>
              <a:rPr b="0" lang="es-CL" sz="1500" spc="-1" strike="noStrike">
                <a:solidFill>
                  <a:srgbClr val="000000"/>
                </a:solidFill>
                <a:latin typeface="Lucida Sans Unicode"/>
              </a:rPr>
              <a:t> (art. 458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2" name="2 Título" descr=""/>
          <p:cNvPicPr/>
          <p:nvPr/>
        </p:nvPicPr>
        <p:blipFill>
          <a:blip r:embed="rId1"/>
          <a:stretch/>
        </p:blipFill>
        <p:spPr>
          <a:xfrm>
            <a:off x="450720" y="122400"/>
            <a:ext cx="8242560" cy="1341360"/>
          </a:xfrm>
          <a:prstGeom prst="rect">
            <a:avLst/>
          </a:prstGeom>
          <a:ln w="0">
            <a:noFill/>
          </a:ln>
        </p:spPr>
      </p:pic>
      <p:sp>
        <p:nvSpPr>
          <p:cNvPr id="48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43080" y="1071720"/>
            <a:ext cx="8658000" cy="5572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1" i="1" lang="es-CL" sz="1500" spc="-1" strike="noStrike" u="sng">
                <a:solidFill>
                  <a:srgbClr val="000000"/>
                </a:solidFill>
                <a:uFillTx/>
                <a:latin typeface="Lucida Sans Unicode"/>
              </a:rPr>
              <a:t>La sentencia definitiva deberá contene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1.- El lugar y fecha en que se expi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2.- La individualización completa de las partes litigan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3.- Una síntesis de los hechos y de las alegaciones de las par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4.- </a:t>
            </a:r>
            <a:r>
              <a:rPr b="1" i="1" lang="es-CL" sz="1500" spc="-1" strike="noStrike">
                <a:solidFill>
                  <a:srgbClr val="000000"/>
                </a:solidFill>
                <a:latin typeface="Lucida Sans Unicode"/>
              </a:rPr>
              <a:t> “</a:t>
            </a:r>
            <a:r>
              <a:rPr b="0" i="1" lang="es-CL" sz="1500" spc="-1" strike="noStrike" u="sng">
                <a:solidFill>
                  <a:srgbClr val="000000"/>
                </a:solidFill>
                <a:uFillTx/>
                <a:latin typeface="Lucida Sans Unicode"/>
              </a:rPr>
              <a:t>El análisis de la prueba aportada que le lleva a estimar como probados los hechos en que funda su decisión.” </a:t>
            </a:r>
            <a:r>
              <a:rPr b="0" lang="es-CL" sz="1500" spc="-1" strike="noStrike">
                <a:solidFill>
                  <a:srgbClr val="000000"/>
                </a:solidFill>
                <a:latin typeface="Lucida Sans Unicode"/>
              </a:rPr>
              <a:t>El art. 456 CT señala que: </a:t>
            </a:r>
            <a:r>
              <a:rPr b="0" i="1" lang="es-CL" sz="1500" spc="-1" strike="noStrike">
                <a:solidFill>
                  <a:srgbClr val="000000"/>
                </a:solidFill>
                <a:latin typeface="Lucida Sans Unicode"/>
              </a:rPr>
              <a:t>“El tribunal apreciará la prueba conforme a las reglas de la sana crític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Al hacerlo, el tribunal deberá expresar las razones jurídicas y las simplemente lógicas, científicas, técnicas o de experiencia, en cuya virtud les asigne valor o las desestime. En general, tomará en especial consideración la multiplicidad, gravedad, precisión, concordancia y conexión de las pruebas o antecedentes del proceso que utilice, de manera que el examen conduzca lógicamente a la conclusión que convence al sentenciado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5.- Los preceptos constitucionales, legales o los contenidos en tratados internacionales ratificados por Chile y que se encuentren vigentes, las consideraciones jurídicas y los principios de derecho o de equidad en que el fallo se fun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6.- La resolución de las cuestiones sometidas a la decisión del tribunal, con expresa determinación de las sumas que ordene pagar o las bases necesarias para su liquidación, si ello fuere procedente, y</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7.- El pronunciamiento sobre el pago de costas y, en su caso, los motivos que tuviere el tribunal para absolver de su pago a la parte vencid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5" name="2 Título" descr=""/>
          <p:cNvPicPr/>
          <p:nvPr/>
        </p:nvPicPr>
        <p:blipFill>
          <a:blip r:embed="rId1"/>
          <a:stretch/>
        </p:blipFill>
        <p:spPr>
          <a:xfrm>
            <a:off x="450720" y="-79200"/>
            <a:ext cx="8242560" cy="1341360"/>
          </a:xfrm>
          <a:prstGeom prst="rect">
            <a:avLst/>
          </a:prstGeom>
          <a:ln w="0">
            <a:noFill/>
          </a:ln>
        </p:spPr>
      </p:pic>
      <p:sp>
        <p:nvSpPr>
          <p:cNvPr id="4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28760" y="14288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sentencia que se dicte en la audiencia preparatoria, sólo deberá cumplir con los requisitos de los números 1, 2, 5, 6 y 7”. </a:t>
            </a:r>
            <a:r>
              <a:rPr b="0" lang="es-CL" sz="1500" spc="-1" strike="noStrike">
                <a:solidFill>
                  <a:srgbClr val="000000"/>
                </a:solidFill>
                <a:latin typeface="Lucida Sans Unicode"/>
              </a:rPr>
              <a:t>(art. 459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el juez que presidió la audiencia de juicio no pudiere dictar sentencia, aquélla deberá celebrarse nuevamente” </a:t>
            </a:r>
            <a:r>
              <a:rPr b="0" lang="es-CL" sz="1500" spc="-1" strike="noStrike">
                <a:solidFill>
                  <a:srgbClr val="000000"/>
                </a:solidFill>
                <a:latin typeface="Lucida Sans Unicode"/>
              </a:rPr>
              <a:t>(art. 460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n caso de ser procedente, la sentencia de término será notificada a los entes administradores de los respectivos sistemas de seguridad social, con el objeto de que éstos hagan efectivas las acciones contempladas en la ley N°17.332 o en el decreto ley N° 3.500, de 1980, según corresponda”.</a:t>
            </a:r>
            <a:r>
              <a:rPr b="0" lang="es-CL" sz="1500" spc="-1" strike="noStrike">
                <a:solidFill>
                  <a:srgbClr val="000000"/>
                </a:solidFill>
                <a:latin typeface="Lucida Sans Unicode"/>
              </a:rPr>
              <a:t> (art. 461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Una vez firme la sentencia, lo que deberá certificar  de oficio el tribunal, y siempre que no se acredite su cumplimiento dentro del término de cinco días, se dará inicio a su ejecución de oficio por el tribunal…” </a:t>
            </a:r>
            <a:r>
              <a:rPr b="0" lang="es-CL" sz="1500" spc="-1" strike="noStrike">
                <a:solidFill>
                  <a:srgbClr val="000000"/>
                </a:solidFill>
                <a:latin typeface="Lucida Sans Unicode"/>
              </a:rPr>
              <a:t> (art. 462 C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8" name="2 Título" descr=""/>
          <p:cNvPicPr/>
          <p:nvPr/>
        </p:nvPicPr>
        <p:blipFill>
          <a:blip r:embed="rId1"/>
          <a:stretch/>
        </p:blipFill>
        <p:spPr>
          <a:xfrm>
            <a:off x="450720" y="122400"/>
            <a:ext cx="8242560" cy="1341360"/>
          </a:xfrm>
          <a:prstGeom prst="rect">
            <a:avLst/>
          </a:prstGeom>
          <a:ln w="0">
            <a:noFill/>
          </a:ln>
        </p:spPr>
      </p:pic>
      <p:sp>
        <p:nvSpPr>
          <p:cNvPr id="48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 Examen de admisibilidad (art. 447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mpetenci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ducidad de la acción</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materias de Seguridad Social: la agregación de la resolución final de la respectiva entidad previsional o fiscalizadora (art. 446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rrección formal de la demanda según los requisitos del art. 446 inc. 1° CT (art. 256 CPC)</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2 Título" descr=""/>
          <p:cNvPicPr/>
          <p:nvPr/>
        </p:nvPicPr>
        <p:blipFill>
          <a:blip r:embed="rId1"/>
          <a:stretch/>
        </p:blipFill>
        <p:spPr>
          <a:xfrm>
            <a:off x="450720" y="122400"/>
            <a:ext cx="8242560" cy="1341360"/>
          </a:xfrm>
          <a:prstGeom prst="rect">
            <a:avLst/>
          </a:prstGeom>
          <a:ln w="0">
            <a:noFill/>
          </a:ln>
        </p:spPr>
      </p:pic>
      <p:sp>
        <p:nvSpPr>
          <p:cNvPr id="38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 Subsanación de la demand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a:t>
            </a:r>
            <a:r>
              <a:rPr b="0" i="1" lang="es-CL" sz="1600" spc="-1" strike="noStrike">
                <a:solidFill>
                  <a:srgbClr val="000000"/>
                </a:solidFill>
                <a:latin typeface="Lucida Sans Unicode"/>
              </a:rPr>
              <a:t>“…corregirá de oficio los errores que observe en la tramitación del juicio y adoptará las medidas que tiendan a evitar la nulidad del procedimiento”</a:t>
            </a:r>
            <a:r>
              <a:rPr b="0" lang="es-CL" sz="1600" spc="-1" strike="noStrike">
                <a:solidFill>
                  <a:srgbClr val="000000"/>
                </a:solidFill>
                <a:latin typeface="Lucida Sans Unicode"/>
              </a:rPr>
              <a:t> (art. 429, inc. 3°, CT).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ólo puede ordenar subsanar los defectos formales de la demanda.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los demás casos la ley prevé expresamente la inadmisibilidad.</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3" name="2 Título" descr=""/>
          <p:cNvPicPr/>
          <p:nvPr/>
        </p:nvPicPr>
        <p:blipFill>
          <a:blip r:embed="rId1"/>
          <a:stretch/>
        </p:blipFill>
        <p:spPr>
          <a:xfrm>
            <a:off x="493560" y="208080"/>
            <a:ext cx="8242560" cy="1339560"/>
          </a:xfrm>
          <a:prstGeom prst="rect">
            <a:avLst/>
          </a:prstGeom>
          <a:ln w="0">
            <a:noFill/>
          </a:ln>
        </p:spPr>
      </p:pic>
      <p:sp>
        <p:nvSpPr>
          <p:cNvPr id="38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3.- Acumulación de acciones y acumulación de aut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cciones </a:t>
            </a:r>
            <a:r>
              <a:rPr b="0" lang="es-CL" sz="1700" spc="-1" strike="noStrike">
                <a:solidFill>
                  <a:srgbClr val="000000"/>
                </a:solidFill>
                <a:latin typeface="Lucida Sans Unicode"/>
              </a:rPr>
              <a:t>= posibilidad de que en una misma demanda puedan formularse  todas las pretensiones que se deseen contra un mismo demandado o demandados, lo que conducirá a que las mismas se resuelvan en un mismo proceso. </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utos </a:t>
            </a:r>
            <a:r>
              <a:rPr b="0" lang="es-CL" sz="1700" spc="-1" strike="noStrike">
                <a:solidFill>
                  <a:srgbClr val="000000"/>
                </a:solidFill>
                <a:latin typeface="Lucida Sans Unicode"/>
              </a:rPr>
              <a:t>=posibilidad de que se unan, para tramitarlas conjuntamente, las diferentes demandas que un grupo de personas formulen contra el mismo o mismos demandados, siempre que las pretensiones que todos aquellos formulen sean las mismas.</a:t>
            </a:r>
            <a:endParaRPr b="0" lang="en-US" sz="1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6" name="2 Título" descr=""/>
          <p:cNvPicPr/>
          <p:nvPr/>
        </p:nvPicPr>
        <p:blipFill>
          <a:blip r:embed="rId1"/>
          <a:stretch/>
        </p:blipFill>
        <p:spPr>
          <a:xfrm>
            <a:off x="450720" y="122400"/>
            <a:ext cx="8242560" cy="1341360"/>
          </a:xfrm>
          <a:prstGeom prst="rect">
            <a:avLst/>
          </a:prstGeom>
          <a:ln w="0">
            <a:noFill/>
          </a:ln>
        </p:spPr>
      </p:pic>
      <p:sp>
        <p:nvSpPr>
          <p:cNvPr id="3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gla</a:t>
            </a:r>
            <a:r>
              <a:rPr b="0" i="1" lang="es-CL" sz="1600" spc="-1" strike="noStrike" u="sng">
                <a:solidFill>
                  <a:srgbClr val="000000"/>
                </a:solidFill>
                <a:uFillTx/>
                <a:latin typeface="Lucida Sans Unicode"/>
              </a:rPr>
              <a:t> </a:t>
            </a:r>
            <a:r>
              <a:rPr b="0" lang="es-CL" sz="1600" spc="-1" strike="noStrike" u="sng">
                <a:solidFill>
                  <a:srgbClr val="000000"/>
                </a:solidFill>
                <a:uFillTx/>
                <a:latin typeface="Lucida Sans Unicode"/>
              </a:rPr>
              <a:t>general</a:t>
            </a:r>
            <a:r>
              <a:rPr b="0" lang="es-CL" sz="1600" spc="-1" strike="noStrike">
                <a:solidFill>
                  <a:srgbClr val="000000"/>
                </a:solidFill>
                <a:latin typeface="Lucida Sans Unicode"/>
              </a:rPr>
              <a:t>: </a:t>
            </a:r>
            <a:r>
              <a:rPr b="0" i="1" lang="es-CL" sz="1600" spc="-1" strike="noStrike">
                <a:solidFill>
                  <a:srgbClr val="000000"/>
                </a:solidFill>
                <a:latin typeface="Lucida Sans Unicode"/>
              </a:rPr>
              <a:t>“El actor podrá acumular en su demanda todas las acciones que le competan en contra de un mismo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xcepción:</a:t>
            </a:r>
            <a:r>
              <a:rPr b="0" i="1" lang="es-CL" sz="1600" spc="-1" strike="noStrike">
                <a:solidFill>
                  <a:srgbClr val="000000"/>
                </a:solidFill>
                <a:latin typeface="Lucida Sans Unicode"/>
              </a:rPr>
              <a:t>“…acciones que corresponda tramitar de acuerdo a procedimientos distintos…”. </a:t>
            </a:r>
            <a:r>
              <a:rPr b="0" lang="es-CL" sz="1600" spc="-1" strike="noStrike">
                <a:solidFill>
                  <a:srgbClr val="000000"/>
                </a:solidFill>
                <a:latin typeface="Lucida Sans Unicode"/>
              </a:rPr>
              <a:t>Se debe deducirlas separadamente, pero </a:t>
            </a:r>
            <a:r>
              <a:rPr b="0" i="1" lang="es-CL" sz="1600" spc="-1" strike="noStrike">
                <a:solidFill>
                  <a:srgbClr val="000000"/>
                </a:solidFill>
                <a:latin typeface="Lucida Sans Unicode"/>
              </a:rPr>
              <a:t>“si una dependiere de la otra, no correrá el plazo para ejercer aquéllas hasta ejecutoriado que sea el fallo de ésta.” </a:t>
            </a:r>
            <a:r>
              <a:rPr b="0" lang="es-CL" sz="1600" spc="-1" strike="noStrike">
                <a:solidFill>
                  <a:srgbClr val="000000"/>
                </a:solidFill>
                <a:latin typeface="Lucida Sans Unicode"/>
              </a:rPr>
              <a:t>(art. 448 CT)</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2 Título" descr=""/>
          <p:cNvPicPr/>
          <p:nvPr/>
        </p:nvPicPr>
        <p:blipFill>
          <a:blip r:embed="rId1"/>
          <a:stretch/>
        </p:blipFill>
        <p:spPr>
          <a:xfrm>
            <a:off x="450720" y="122400"/>
            <a:ext cx="8242560" cy="1341360"/>
          </a:xfrm>
          <a:prstGeom prst="rect">
            <a:avLst/>
          </a:prstGeom>
          <a:ln w="0">
            <a:noFill/>
          </a:ln>
        </p:spPr>
      </p:pic>
      <p:sp>
        <p:nvSpPr>
          <p:cNvPr id="39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i ante el mismo tribunal se tramitan varias demandas contra un mismo demandado y las acciones son idénticas aunque los actores sean distintos, el juez de oficio o a petición de parte podrá decretar la acumulación de las causas, siempre que se encuentren en un mismo estado de tramitación y no implique retardo para una o más de ell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olicitada la acumulación, se concederá un plazo de tres días a la parte no peticionaria para que exponga lo conveniente sobre ella. Transcurrido este plazo, haya o no respuesta, el tribunal resolverá”</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Facultad del juez para desacumular (art. 449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2 Título" descr=""/>
          <p:cNvPicPr/>
          <p:nvPr/>
        </p:nvPicPr>
        <p:blipFill>
          <a:blip r:embed="rId1"/>
          <a:stretch/>
        </p:blipFill>
        <p:spPr>
          <a:xfrm>
            <a:off x="450720" y="122400"/>
            <a:ext cx="8242560" cy="1341360"/>
          </a:xfrm>
          <a:prstGeom prst="rect">
            <a:avLst/>
          </a:prstGeom>
          <a:ln w="0">
            <a:noFill/>
          </a:ln>
        </p:spPr>
      </p:pic>
      <p:sp>
        <p:nvSpPr>
          <p:cNvPr id="39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
        <p:nvSpPr>
          <p:cNvPr id="395"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96" name="AutoShape 50"/>
          <p:cNvSpPr/>
          <p:nvPr/>
        </p:nvSpPr>
        <p:spPr>
          <a:xfrm>
            <a:off x="1849320" y="29289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ea typeface="Arial"/>
              </a:rPr>
              <a:t>Demanda</a:t>
            </a:r>
            <a:endParaRPr b="0" lang="en-US" sz="1800" spc="-1" strike="noStrike">
              <a:solidFill>
                <a:srgbClr val="000000"/>
              </a:solidFill>
              <a:latin typeface="Lucida Sans Unicode"/>
            </a:endParaRPr>
          </a:p>
        </p:txBody>
      </p:sp>
      <p:sp>
        <p:nvSpPr>
          <p:cNvPr id="398" name="Text Box 52"/>
          <p:cNvSpPr/>
          <p:nvPr/>
        </p:nvSpPr>
        <p:spPr>
          <a:xfrm>
            <a:off x="1849320" y="298296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1) preparatoria</a:t>
            </a:r>
            <a:endParaRPr b="0" lang="en-US" sz="1400" spc="-1" strike="noStrike">
              <a:solidFill>
                <a:srgbClr val="000000"/>
              </a:solidFill>
              <a:latin typeface="Lucida Sans Unicode"/>
            </a:endParaRPr>
          </a:p>
        </p:txBody>
      </p:sp>
      <p:sp>
        <p:nvSpPr>
          <p:cNvPr id="399" name="AutoShape 53"/>
          <p:cNvSpPr/>
          <p:nvPr/>
        </p:nvSpPr>
        <p:spPr>
          <a:xfrm>
            <a:off x="2362320" y="765000"/>
            <a:ext cx="533160" cy="38124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AutoShape 54"/>
          <p:cNvSpPr/>
          <p:nvPr/>
        </p:nvSpPr>
        <p:spPr>
          <a:xfrm>
            <a:off x="2340000" y="3643200"/>
            <a:ext cx="533520" cy="720720"/>
          </a:xfrm>
          <a:prstGeom prst="downArrow">
            <a:avLst>
              <a:gd name="adj1" fmla="val 50000"/>
              <a:gd name="adj2" fmla="val 33772"/>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1" name="Text Box 55"/>
          <p:cNvSpPr/>
          <p:nvPr/>
        </p:nvSpPr>
        <p:spPr>
          <a:xfrm>
            <a:off x="1857240" y="450072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2) de juicio</a:t>
            </a:r>
            <a:endParaRPr b="0" lang="en-US" sz="1400" spc="-1" strike="noStrike">
              <a:solidFill>
                <a:srgbClr val="000000"/>
              </a:solidFill>
              <a:latin typeface="Lucida Sans Unicode"/>
            </a:endParaRPr>
          </a:p>
        </p:txBody>
      </p:sp>
      <p:sp>
        <p:nvSpPr>
          <p:cNvPr id="402" name="AutoShape 56"/>
          <p:cNvSpPr/>
          <p:nvPr/>
        </p:nvSpPr>
        <p:spPr>
          <a:xfrm>
            <a:off x="1849320" y="44290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3" name="AutoShape 57"/>
          <p:cNvSpPr/>
          <p:nvPr/>
        </p:nvSpPr>
        <p:spPr>
          <a:xfrm>
            <a:off x="1849320" y="571500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Text Box 58"/>
          <p:cNvSpPr/>
          <p:nvPr/>
        </p:nvSpPr>
        <p:spPr>
          <a:xfrm>
            <a:off x="1805040" y="5783400"/>
            <a:ext cx="1981080" cy="74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Sentencia  (3) Audiencia:15 días</a:t>
            </a:r>
            <a:endParaRPr b="0" lang="en-US" sz="1400" spc="-1" strike="noStrike">
              <a:solidFill>
                <a:srgbClr val="000000"/>
              </a:solidFill>
              <a:latin typeface="Lucida Sans Unicode"/>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05" name="AutoShape 59"/>
          <p:cNvSpPr/>
          <p:nvPr/>
        </p:nvSpPr>
        <p:spPr>
          <a:xfrm>
            <a:off x="2362320" y="5143680"/>
            <a:ext cx="533160" cy="50472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6" name="Text Box 66"/>
          <p:cNvSpPr/>
          <p:nvPr/>
        </p:nvSpPr>
        <p:spPr>
          <a:xfrm>
            <a:off x="4457880" y="457200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Rendición de la prueba</a:t>
            </a:r>
            <a:endParaRPr b="0" lang="en-US" sz="1800" spc="-1" strike="noStrike">
              <a:solidFill>
                <a:srgbClr val="000000"/>
              </a:solidFill>
              <a:latin typeface="Lucida Sans Unicode"/>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Sentencia</a:t>
            </a:r>
            <a:endParaRPr b="0" lang="en-US" sz="1800" spc="-1" strike="noStrike">
              <a:solidFill>
                <a:srgbClr val="000000"/>
              </a:solidFill>
              <a:latin typeface="Lucida Sans Unicode"/>
            </a:endParaRPr>
          </a:p>
        </p:txBody>
      </p:sp>
      <p:sp>
        <p:nvSpPr>
          <p:cNvPr id="407"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8" name="AutoShape 72"/>
          <p:cNvSpPr/>
          <p:nvPr/>
        </p:nvSpPr>
        <p:spPr>
          <a:xfrm>
            <a:off x="2340000" y="2000160"/>
            <a:ext cx="533520" cy="863640"/>
          </a:xfrm>
          <a:prstGeom prst="downArrow">
            <a:avLst>
              <a:gd name="adj1" fmla="val 50000"/>
              <a:gd name="adj2" fmla="val 40469"/>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9"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ea typeface="Arial"/>
              </a:rPr>
              <a:t>Contest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5 días antes  de</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AP (Notif. 15 días)</a:t>
            </a:r>
            <a:endParaRPr b="0" lang="en-US" sz="1200" spc="-1" strike="noStrike">
              <a:solidFill>
                <a:srgbClr val="000000"/>
              </a:solidFill>
              <a:latin typeface="Lucida Sans Unicode"/>
            </a:endParaRPr>
          </a:p>
        </p:txBody>
      </p:sp>
      <p:sp>
        <p:nvSpPr>
          <p:cNvPr id="410"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Citación a AP</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dentro de </a:t>
            </a:r>
            <a:r>
              <a:rPr b="1" lang="es-ES" sz="1600" spc="-1" strike="noStrike">
                <a:solidFill>
                  <a:srgbClr val="000000"/>
                </a:solidFill>
                <a:latin typeface="Century Gothic"/>
                <a:ea typeface="Arial"/>
              </a:rPr>
              <a:t>35 días</a:t>
            </a:r>
            <a:endParaRPr b="0" lang="en-US" sz="16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11" name="Line 87"/>
          <p:cNvSpPr/>
          <p:nvPr/>
        </p:nvSpPr>
        <p:spPr>
          <a:xfrm>
            <a:off x="2771640" y="765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Text Box 92"/>
          <p:cNvSpPr/>
          <p:nvPr/>
        </p:nvSpPr>
        <p:spPr>
          <a:xfrm>
            <a:off x="4427640" y="2349360"/>
            <a:ext cx="324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Relación sumaria / Traslados excepciones y/o reconven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oncilia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ausa a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Oferta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dmisión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tación a AJ – </a:t>
            </a:r>
            <a:r>
              <a:rPr b="1" lang="es-ES" sz="1800" spc="-1" strike="noStrike">
                <a:solidFill>
                  <a:srgbClr val="000000"/>
                </a:solidFill>
                <a:latin typeface="Century Gothic"/>
              </a:rPr>
              <a:t>30 día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14" name="AutoShape 94"/>
          <p:cNvSpPr/>
          <p:nvPr/>
        </p:nvSpPr>
        <p:spPr>
          <a:xfrm>
            <a:off x="3851280" y="45864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33:37Z</dcterms:created>
  <dc:creator>sony</dc:creator>
  <dc:description/>
  <dc:language>en-US</dc:language>
  <cp:lastModifiedBy>sony</cp:lastModifiedBy>
  <dcterms:modified xsi:type="dcterms:W3CDTF">2010-04-13T12:07:54Z</dcterms:modified>
  <cp:revision>44</cp:revision>
  <dc:subject/>
  <dc:title>DERECHO PROCESAL DEL TRABAJ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