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0A75-D083-47CF-8E70-A55D99A3A9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AED8-2B7B-4147-A619-2EE8A0D792C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336680" y="803160"/>
            <a:ext cx="4255920" cy="3192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79B5-5856-4558-B688-560A1824C3E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68120" y="1582560"/>
            <a:ext cx="6446880" cy="4835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EA35-67F5-4967-B44F-5B2CEBFABFA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641520" y="2152800"/>
            <a:ext cx="5497200" cy="41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DE5B-F2E5-439C-A1AD-E8AE8DC7AF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214200" y="2581200"/>
            <a:ext cx="6353280" cy="4765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1628-23AD-43F9-B164-E2FDC1C0B20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450720" y="2152800"/>
            <a:ext cx="5878800" cy="4408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4479-1A6C-467B-BBEC-21F0110293B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490680" y="2295360"/>
            <a:ext cx="5878440" cy="440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9289-0116-44CF-9AB1-CDB4C3901FE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6FC0-7BD8-490A-ACA9-8DDFB7C71E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623880" y="2581200"/>
            <a:ext cx="5688000" cy="4265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790E-E592-4625-8678-AB5AB62684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450720" y="2367000"/>
            <a:ext cx="5878800" cy="440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FDA8-1460-412F-BEFB-F1DAD2600C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538200" y="2295360"/>
            <a:ext cx="5781600" cy="4337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7237-DD3E-43DA-B714-61AF1D85F82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719280" y="2295360"/>
            <a:ext cx="5497200" cy="4123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6F6D-CB6E-42B8-9439-33480FEE88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500040" y="2367000"/>
            <a:ext cx="5781600" cy="43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31B6-CFBA-48FD-BC2B-2E2F6973EA0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439F-EBB0-4779-98C0-9DC57CC1BD0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07800" y="2295360"/>
            <a:ext cx="6164280" cy="4623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5FD6-77DF-4BD3-89B2-91193D8D054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641520" y="2438280"/>
            <a:ext cx="5497200" cy="41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E598-1D27-4435-B325-CAF1F15F80E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66680" y="2152800"/>
            <a:ext cx="6450120" cy="4836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2E20-4D10-44A8-BF6A-7849BB1E7B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66680" y="1938240"/>
            <a:ext cx="6448320" cy="4837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E35E-A34F-462A-B028-1089791BBE9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444600" y="2225520"/>
            <a:ext cx="5970600" cy="4478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4F3A-8252-40C4-ABCC-F5DC8A5DEDB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306360" y="2392200"/>
            <a:ext cx="6226200" cy="467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41FC-53EF-4EA2-8F14-777FEF0017E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306360" y="2392200"/>
            <a:ext cx="6226200" cy="467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C776-C1BD-4C00-AE58-E2B9449EF9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DE49-8377-494F-B70B-C6CFF5DED20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3002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92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046D-D290-4728-9E96-A12932277F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B831-7C92-41FE-AAC0-85B183E1F2E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263520" y="2476440"/>
            <a:ext cx="6310440" cy="4732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0928-032B-484B-B1E4-7A4A616A896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50840" y="2220840"/>
            <a:ext cx="6437160" cy="4827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7F43-B370-4EB3-9FD6-13DE90331E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50840" y="2220840"/>
            <a:ext cx="6437160" cy="4827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29B5-D613-4D96-BEBB-1A86464E5E9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06360" y="2392200"/>
            <a:ext cx="6226200" cy="467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9D22-3587-4D82-ABF5-0DEBF3D8239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6FF-531D-45BB-9FB4-7AF93453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C44-31F6-4561-A73B-C6658CB2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E63-32D4-42ED-8569-AC7825FD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E2A-FC41-4F3B-B9D4-659E415C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F08F-47E8-48E2-BE69-31F426F8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BFD9-6663-4827-A5F0-AE24F645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2554-ACB6-4A74-A53A-D15F4901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52B3-A2D4-4C9D-81C1-D50B4FB8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BD5A-D91D-4FAB-8A68-53D4A21D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A803-0561-4FA5-BA6C-24654C00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071E-C486-4A53-8931-B4EC2D9E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40C-24FD-4F06-8AC4-DDCD99E1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6361-7893-4B17-B391-084D4CA5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010B-C299-45A8-998F-605F3061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10B6-FEDE-41C8-A37E-DA3690F3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4FCA-AEB9-4879-A0E4-3A50A1B9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989A-B99F-4B3F-AC32-10F44E29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65E-9295-4F84-B661-1DF3D990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2094-A837-440E-AC89-403A3054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250-94E2-40DB-BA83-4CC3A1A3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763-EFF6-4567-9862-B10ED5CA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DE3-8A51-4CFF-B8E9-63C81187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F71-E757-4111-8352-3D7D5C64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A93-D305-4A01-BB75-AC98EF82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5336-C2CA-45EF-87DA-B8BB91CBF0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F1FC-C343-429D-BFD7-B072FB40AB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ISTEMA DE AFP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éctor Humeres Nogu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rofes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880"/>
            <a:ext cx="80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BE8-81A0-4601-ABDA-E4EC0AE04976}" type="slidenum">
              <a:t>1</a:t>
            </a:fld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1657440"/>
          <a:ext cx="8818560" cy="451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57440"/>
                    <a:ext cx="881856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724280" y="579132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uente: División de Población, Naciones Unidas, 1999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415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</a:rPr>
              <a:t>ño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28600"/>
            <a:ext cx="9601200" cy="6969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umento en índices  de expectativas de vi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2FA0-8848-4322-9B72-C24BDC502656}" type="slidenum">
              <a:t>10</a:t>
            </a:fld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14280" y="2401920"/>
          <a:ext cx="8247240" cy="42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280" y="2401920"/>
                    <a:ext cx="824724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2280" y="304920"/>
            <a:ext cx="868680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tuación n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6600" y="1766880"/>
            <a:ext cx="751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NÚMERO DE TRABAJADORES ACTIVOS POR CADA PENSIONAD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2604960"/>
            <a:ext cx="62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12,2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71760" y="2565360"/>
            <a:ext cx="726840" cy="406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38960" y="2743200"/>
            <a:ext cx="515880" cy="406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46880" y="274320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384680" y="3200400"/>
            <a:ext cx="211320" cy="190512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22F-EC33-4E8B-9000-81AABD2C7051}" type="slidenum">
              <a:t>11</a:t>
            </a:fld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Garamond"/>
              </a:rPr>
              <a:t>BASES    DEL    SISTEMA NUE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(Decreto Ley Nº 3500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apitalización o Ahorro Individual   (art. 1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Administración Privada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rts. 23º y s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Libertad Individual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Elección y Cambio de AFP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rt. 2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uánto Cotizar  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et. 14º y s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uándo y Cómo Jubilar 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rts. 3º y 61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Primer Pilar solidario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Ley 20.255-2008  (Reforma)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80880"/>
            <a:ext cx="80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STEMA DE AFP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026E-0A2E-4C03-B5D4-414DD2C41A03}" type="slidenum">
              <a:t>12</a:t>
            </a:fld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Garamond"/>
              </a:rPr>
              <a:t>BASES    DEL    SISTEMA NUE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Igualdad: Reglas Comunes para todos (art. 61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Separación Patrimonial: AFP y Fondo de Pensiones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  (art. 27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Rol del Estado:Marco Regulatorio y Control / Subsidiario; Solidario&gt;PBS y PMAC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( arts. 73 y ss. y 93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Beneficios: Pensiones de Vejez, Invalidez y Sobrevivencia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(arts. 3º a 13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8088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STEMA DE AF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78A-0FC5-4512-A76E-ED5BF396BAE5}" type="slidenum">
              <a:t>13</a:t>
            </a:fld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320" y="76320"/>
            <a:ext cx="883908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r>
              <a:rPr b="0" lang="en-US" sz="3600" spc="-1" strike="noStrike">
                <a:solidFill>
                  <a:srgbClr val="ffff99"/>
                </a:solidFill>
                <a:latin typeface="Garamond"/>
              </a:rPr>
              <a:t>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840" y="1447920"/>
            <a:ext cx="90471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Garamond"/>
              </a:rPr>
              <a:t>FINANCIAMIENTO RÉGIMEN CAPITALIZACIÓ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11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CAPITAL ACUMULADO EN LA CTA. INDIV.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otizaciones Obligatorias, Voluntarias, Rentabilidad de las Inversiones , </a:t>
            </a:r>
            <a:r>
              <a:rPr b="1" lang="es-ES_tradnl" sz="2400" spc="-1" strike="noStrike">
                <a:solidFill>
                  <a:srgbClr val="ff0000"/>
                </a:solidFill>
                <a:latin typeface="Garamond"/>
              </a:rPr>
              <a:t>- Comisiones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(arts. 14º a 22-bi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BONO DE RECONOCIMIENTO  (arts. 1º a 12º transit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99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TRASPASO DESDE  AHORRO VOLUNT. (arts. 20º a 22 bis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6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APORTES ADICIONAL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Garamond"/>
              </a:rPr>
              <a:t>( Seguro de Invalidez y Sobrevivencia ) (arts. 52 y ss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APORTE ESTATAL</a:t>
            </a:r>
            <a:r>
              <a:rPr b="1" lang="es-ES_tradnl" sz="2600" spc="-1" strike="noStrike">
                <a:solidFill>
                  <a:srgbClr val="dddddd"/>
                </a:solidFill>
                <a:latin typeface="Garamond"/>
              </a:rPr>
              <a:t> </a:t>
            </a: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(Pensión Mínima) (arts. 73 y ss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6680" y="6324480"/>
            <a:ext cx="8624880" cy="0"/>
          </a:xfrm>
          <a:prstGeom prst="line">
            <a:avLst/>
          </a:prstGeom>
          <a:ln w="127080">
            <a:solidFill>
              <a:srgbClr val="fe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E14-4E4F-4D30-877C-E917FFA8CCDE}" type="slidenum">
              <a:t>14</a:t>
            </a:fld>
          </a:p>
        </p:txBody>
      </p:sp>
    </p:spTree>
  </p:cSld>
  <p:transition spd="slow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52280"/>
            <a:ext cx="913752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4400" spc="-1" strike="noStrike">
                <a:solidFill>
                  <a:srgbClr val="ffff00"/>
                </a:solidFill>
                <a:latin typeface="Garamond"/>
              </a:rPr>
              <a:t>sistema de afp y sistema antigu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Comic Sans MS"/>
              </a:rPr>
              <a:t>&gt; </a:t>
            </a: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LIBERTAD INDIVIDUAL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  </a:t>
            </a:r>
            <a:r>
              <a:rPr b="1" lang="es-ES_tradnl" sz="2600" spc="-1" strike="noStrike">
                <a:solidFill>
                  <a:srgbClr val="ff0000"/>
                </a:solidFill>
                <a:latin typeface="Garamond"/>
              </a:rPr>
              <a:t>( &gt;Rigidez en la Afiliación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e1c1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&gt; ELECCIÓN Y CAMBIO DE AFP  (arts. 2º/14º y ss/ 3º y 61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&gt; CUÁNTO COTIZAR (SOBRE EL MÍNIMO)    (arts.14º y s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66ff"/>
              </a:buClr>
              <a:buSzPct val="60000"/>
              <a:buFont typeface="Monotype Sorts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 CUÁNDO Y CÓMO JUBILAR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(art. 3º y 61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e1c1c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&gt; IGUALDAD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:  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ff0000"/>
                </a:solidFill>
                <a:latin typeface="Garamond"/>
              </a:rPr>
              <a:t>(&gt;Discriminación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 REGLAS COMUNES PARA TODOS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(art. 61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&gt; SEPARACIÓN PATRIMONIAL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:   </a:t>
            </a:r>
            <a:r>
              <a:rPr b="1" lang="es-ES_tradnl" sz="2600" spc="-1" strike="noStrike">
                <a:solidFill>
                  <a:srgbClr val="ff0000"/>
                </a:solidFill>
                <a:latin typeface="Garamond"/>
              </a:rPr>
              <a:t>(&gt; Sin Separación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e1c1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 AFP Y FONDO DE PENSIONES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(art. 27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824-F021-4BD3-B6FB-2F9FDAB42A20}" type="slidenum">
              <a:t>15</a:t>
            </a:fld>
          </a:p>
        </p:txBody>
      </p:sp>
    </p:spTree>
  </p:cSld>
  <p:transition spd="slow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143000"/>
            <a:ext cx="807732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ROL DEL ESTADO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  (arts. 93º y s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Marco Regulatorio y Contro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Dictar leyes y normas complementaria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buClr>
                <a:srgbClr val="cc99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Supervisa, controla y sanciona a través de 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la 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S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uperintendencia de Pensio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buClr>
                <a:srgbClr val="cc99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Garamond"/>
              </a:rPr>
              <a:t>Aporta solidaridad al primer pila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B46-8472-4802-9F2D-E95276EE1384}" type="slidenum">
              <a:t>16</a:t>
            </a:fld>
          </a:p>
        </p:txBody>
      </p:sp>
    </p:spTree>
  </p:cSld>
  <p:transition spd="slow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15058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676520"/>
            <a:ext cx="78487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&gt; </a:t>
            </a:r>
            <a:r>
              <a:rPr b="1" lang="es-ES" sz="2800" spc="-1" strike="noStrike">
                <a:solidFill>
                  <a:srgbClr val="ddddd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Es subsidiari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n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ú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ltim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nstancia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Quiebra de Compañía de Seguro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>
              <a:lnSpc>
                <a:spcPct val="50000"/>
              </a:lnSpc>
              <a:spcBef>
                <a:spcPts val="1749"/>
              </a:spcBef>
              <a:buClr>
                <a:srgbClr val="cc99ff"/>
              </a:buClr>
              <a:buSzPct val="75000"/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Rentabilidad Mínima de los Fondos d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Pensiones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327160" y="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tistik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C33-41BF-4E3E-909F-1A1EBA940CD4}" type="slidenum">
              <a:t>17</a:t>
            </a:fld>
          </a:p>
        </p:txBody>
      </p: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760" y="1517760"/>
            <a:ext cx="912024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eneficios: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Pensiones 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EJEZ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: 65 AÑOS HOMBRES Y 60 LAS MUJERES  (art. 3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gt; VEJEZ ANTICIPADA: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(art. 68º y 68º bi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150% PENSIÓN MINI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70% RENTAS REAJUSTADAS ÚLTIMOS 10 AÑOS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8B4-A35D-44DC-88BB-824E9A12AD63}" type="slidenum">
              <a:t>18</a:t>
            </a:fld>
          </a:p>
        </p:txBody>
      </p:sp>
    </p:spTree>
  </p:cSld>
  <p:transition spd="slow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762120"/>
            <a:ext cx="9120240" cy="58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&gt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VALIDEZ: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(art. 4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total: 70% del ingreso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(pérdida capacidad de trabajo &gt; 2/3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parcial: 50% del ingreso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(pérdida capacidad de trabajo &gt; 50% y &lt; 2/3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Garamond"/>
              </a:rPr>
              <a:t>&gt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OBREVIVENCIA: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(Viudez y Orfandad)(art. 5º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- Cónyuges; hijos; padres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320-34CF-4E64-8362-E8D4AD08061A}" type="slidenum">
              <a:t>19</a:t>
            </a:fld>
          </a:p>
        </p:txBody>
      </p:sp>
    </p:spTree>
  </p:cSld>
  <p:transition spd="slow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0"/>
            <a:ext cx="8381880" cy="69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GEND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2001"/>
              </a:spcBef>
              <a:buClr>
                <a:srgbClr val="99c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Evolución del Sistema Previsional  Chileno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Antiguo Sistema de Pensiones Chilen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risis Financier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2001"/>
              </a:spcBef>
              <a:buClr>
                <a:srgbClr val="99c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ctual Sistema de AFP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Principales Características y Refor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Resultados alcanzado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32880" y="646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458-F68A-4C44-AC6F-D663FB2F4332}" type="slidenum">
              <a:t>2</a:t>
            </a:fld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2000" y="177840"/>
            <a:ext cx="8607240" cy="1015920"/>
          </a:xfrm>
          <a:prstGeom prst="rect">
            <a:avLst/>
          </a:prstGeom>
          <a:gradFill rotWithShape="0">
            <a:gsLst>
              <a:gs pos="0">
                <a:srgbClr val="799797"/>
              </a:gs>
              <a:gs pos="50000">
                <a:srgbClr val="ccffff"/>
              </a:gs>
              <a:gs pos="100000">
                <a:srgbClr val="799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SISTEMA DE PENSIONES CHILENO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62760" y="6248520"/>
            <a:ext cx="2111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Afiliado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104240" y="5105520"/>
            <a:ext cx="1577880" cy="1181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6640" y="4807080"/>
            <a:ext cx="1467000" cy="1511280"/>
          </a:xfrm>
          <a:custGeom>
            <a:avLst/>
            <a:gdLst/>
            <a:ahLst/>
            <a:rect l="l" t="t" r="r" b="b"/>
            <a:pathLst>
              <a:path w="1001" h="952">
                <a:moveTo>
                  <a:pt x="121" y="10"/>
                </a:moveTo>
                <a:lnTo>
                  <a:pt x="284" y="43"/>
                </a:lnTo>
                <a:lnTo>
                  <a:pt x="281" y="0"/>
                </a:lnTo>
                <a:lnTo>
                  <a:pt x="475" y="50"/>
                </a:lnTo>
                <a:lnTo>
                  <a:pt x="475" y="0"/>
                </a:lnTo>
                <a:lnTo>
                  <a:pt x="683" y="0"/>
                </a:lnTo>
                <a:lnTo>
                  <a:pt x="679" y="46"/>
                </a:lnTo>
                <a:lnTo>
                  <a:pt x="931" y="0"/>
                </a:lnTo>
                <a:lnTo>
                  <a:pt x="627" y="267"/>
                </a:lnTo>
                <a:lnTo>
                  <a:pt x="656" y="269"/>
                </a:lnTo>
                <a:lnTo>
                  <a:pt x="690" y="277"/>
                </a:lnTo>
                <a:lnTo>
                  <a:pt x="728" y="287"/>
                </a:lnTo>
                <a:lnTo>
                  <a:pt x="764" y="300"/>
                </a:lnTo>
                <a:lnTo>
                  <a:pt x="802" y="318"/>
                </a:lnTo>
                <a:lnTo>
                  <a:pt x="835" y="335"/>
                </a:lnTo>
                <a:lnTo>
                  <a:pt x="868" y="359"/>
                </a:lnTo>
                <a:lnTo>
                  <a:pt x="898" y="384"/>
                </a:lnTo>
                <a:lnTo>
                  <a:pt x="921" y="407"/>
                </a:lnTo>
                <a:lnTo>
                  <a:pt x="944" y="434"/>
                </a:lnTo>
                <a:lnTo>
                  <a:pt x="963" y="466"/>
                </a:lnTo>
                <a:lnTo>
                  <a:pt x="980" y="500"/>
                </a:lnTo>
                <a:lnTo>
                  <a:pt x="991" y="533"/>
                </a:lnTo>
                <a:lnTo>
                  <a:pt x="998" y="564"/>
                </a:lnTo>
                <a:lnTo>
                  <a:pt x="1000" y="604"/>
                </a:lnTo>
                <a:lnTo>
                  <a:pt x="998" y="647"/>
                </a:lnTo>
                <a:lnTo>
                  <a:pt x="990" y="681"/>
                </a:lnTo>
                <a:lnTo>
                  <a:pt x="980" y="710"/>
                </a:lnTo>
                <a:lnTo>
                  <a:pt x="968" y="737"/>
                </a:lnTo>
                <a:lnTo>
                  <a:pt x="949" y="767"/>
                </a:lnTo>
                <a:lnTo>
                  <a:pt x="924" y="801"/>
                </a:lnTo>
                <a:lnTo>
                  <a:pt x="892" y="835"/>
                </a:lnTo>
                <a:lnTo>
                  <a:pt x="854" y="864"/>
                </a:lnTo>
                <a:lnTo>
                  <a:pt x="816" y="887"/>
                </a:lnTo>
                <a:lnTo>
                  <a:pt x="782" y="904"/>
                </a:lnTo>
                <a:lnTo>
                  <a:pt x="751" y="918"/>
                </a:lnTo>
                <a:lnTo>
                  <a:pt x="719" y="928"/>
                </a:lnTo>
                <a:lnTo>
                  <a:pt x="684" y="938"/>
                </a:lnTo>
                <a:lnTo>
                  <a:pt x="655" y="944"/>
                </a:lnTo>
                <a:lnTo>
                  <a:pt x="612" y="949"/>
                </a:lnTo>
                <a:lnTo>
                  <a:pt x="578" y="951"/>
                </a:lnTo>
                <a:lnTo>
                  <a:pt x="405" y="951"/>
                </a:lnTo>
                <a:lnTo>
                  <a:pt x="370" y="949"/>
                </a:lnTo>
                <a:lnTo>
                  <a:pt x="328" y="941"/>
                </a:lnTo>
                <a:lnTo>
                  <a:pt x="275" y="927"/>
                </a:lnTo>
                <a:lnTo>
                  <a:pt x="221" y="908"/>
                </a:lnTo>
                <a:lnTo>
                  <a:pt x="169" y="881"/>
                </a:lnTo>
                <a:lnTo>
                  <a:pt x="123" y="848"/>
                </a:lnTo>
                <a:lnTo>
                  <a:pt x="90" y="818"/>
                </a:lnTo>
                <a:lnTo>
                  <a:pt x="63" y="788"/>
                </a:lnTo>
                <a:lnTo>
                  <a:pt x="38" y="751"/>
                </a:lnTo>
                <a:lnTo>
                  <a:pt x="19" y="710"/>
                </a:lnTo>
                <a:lnTo>
                  <a:pt x="11" y="680"/>
                </a:lnTo>
                <a:lnTo>
                  <a:pt x="3" y="650"/>
                </a:lnTo>
                <a:lnTo>
                  <a:pt x="0" y="619"/>
                </a:lnTo>
                <a:lnTo>
                  <a:pt x="1" y="591"/>
                </a:lnTo>
                <a:lnTo>
                  <a:pt x="8" y="547"/>
                </a:lnTo>
                <a:lnTo>
                  <a:pt x="21" y="502"/>
                </a:lnTo>
                <a:lnTo>
                  <a:pt x="42" y="457"/>
                </a:lnTo>
                <a:lnTo>
                  <a:pt x="73" y="415"/>
                </a:lnTo>
                <a:lnTo>
                  <a:pt x="106" y="380"/>
                </a:lnTo>
                <a:lnTo>
                  <a:pt x="148" y="345"/>
                </a:lnTo>
                <a:lnTo>
                  <a:pt x="192" y="319"/>
                </a:lnTo>
                <a:lnTo>
                  <a:pt x="249" y="293"/>
                </a:lnTo>
                <a:lnTo>
                  <a:pt x="310" y="275"/>
                </a:lnTo>
                <a:lnTo>
                  <a:pt x="349" y="267"/>
                </a:lnTo>
                <a:lnTo>
                  <a:pt x="121" y="10"/>
                </a:lnTo>
              </a:path>
            </a:pathLst>
          </a:custGeom>
          <a:solidFill>
            <a:srgbClr val="99ccff"/>
          </a:solidFill>
          <a:ln cap="rnd" w="507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09520" y="5218200"/>
            <a:ext cx="362160" cy="888840"/>
          </a:xfrm>
          <a:custGeom>
            <a:avLst/>
            <a:gdLst/>
            <a:ahLst/>
            <a:rect l="l" t="t" r="r" b="b"/>
            <a:pathLst>
              <a:path w="247" h="560">
                <a:moveTo>
                  <a:pt x="95" y="54"/>
                </a:moveTo>
                <a:lnTo>
                  <a:pt x="152" y="54"/>
                </a:lnTo>
                <a:lnTo>
                  <a:pt x="152" y="0"/>
                </a:lnTo>
                <a:lnTo>
                  <a:pt x="182" y="0"/>
                </a:lnTo>
                <a:lnTo>
                  <a:pt x="182" y="54"/>
                </a:lnTo>
                <a:lnTo>
                  <a:pt x="246" y="125"/>
                </a:lnTo>
                <a:lnTo>
                  <a:pt x="246" y="203"/>
                </a:lnTo>
                <a:lnTo>
                  <a:pt x="166" y="203"/>
                </a:lnTo>
                <a:lnTo>
                  <a:pt x="166" y="140"/>
                </a:lnTo>
                <a:lnTo>
                  <a:pt x="87" y="140"/>
                </a:lnTo>
                <a:lnTo>
                  <a:pt x="87" y="241"/>
                </a:lnTo>
                <a:lnTo>
                  <a:pt x="188" y="241"/>
                </a:lnTo>
                <a:lnTo>
                  <a:pt x="246" y="304"/>
                </a:lnTo>
                <a:lnTo>
                  <a:pt x="246" y="435"/>
                </a:lnTo>
                <a:lnTo>
                  <a:pt x="182" y="505"/>
                </a:lnTo>
                <a:lnTo>
                  <a:pt x="182" y="559"/>
                </a:lnTo>
                <a:lnTo>
                  <a:pt x="152" y="559"/>
                </a:lnTo>
                <a:lnTo>
                  <a:pt x="152" y="505"/>
                </a:lnTo>
                <a:lnTo>
                  <a:pt x="95" y="505"/>
                </a:lnTo>
                <a:lnTo>
                  <a:pt x="95" y="559"/>
                </a:lnTo>
                <a:lnTo>
                  <a:pt x="65" y="559"/>
                </a:lnTo>
                <a:lnTo>
                  <a:pt x="65" y="505"/>
                </a:lnTo>
                <a:lnTo>
                  <a:pt x="0" y="435"/>
                </a:lnTo>
                <a:lnTo>
                  <a:pt x="0" y="373"/>
                </a:lnTo>
                <a:lnTo>
                  <a:pt x="87" y="373"/>
                </a:lnTo>
                <a:lnTo>
                  <a:pt x="87" y="427"/>
                </a:lnTo>
                <a:lnTo>
                  <a:pt x="166" y="427"/>
                </a:lnTo>
                <a:lnTo>
                  <a:pt x="166" y="326"/>
                </a:lnTo>
                <a:lnTo>
                  <a:pt x="65" y="326"/>
                </a:lnTo>
                <a:lnTo>
                  <a:pt x="0" y="257"/>
                </a:lnTo>
                <a:lnTo>
                  <a:pt x="0" y="125"/>
                </a:lnTo>
                <a:lnTo>
                  <a:pt x="65" y="54"/>
                </a:lnTo>
                <a:lnTo>
                  <a:pt x="65" y="0"/>
                </a:lnTo>
                <a:lnTo>
                  <a:pt x="95" y="0"/>
                </a:lnTo>
                <a:lnTo>
                  <a:pt x="95" y="54"/>
                </a:lnTo>
              </a:path>
            </a:pathLst>
          </a:custGeom>
          <a:solidFill>
            <a:srgbClr val="ffff00"/>
          </a:solidFill>
          <a:ln cap="rnd"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1080" y="6308640"/>
            <a:ext cx="316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ndo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752480"/>
            <a:ext cx="112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F.P</a:t>
            </a:r>
            <a:r>
              <a:rPr b="1" lang="en-US" sz="2800" spc="-1" strike="noStrike">
                <a:solidFill>
                  <a:srgbClr val="e4010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831960" y="1863720"/>
            <a:ext cx="823680" cy="122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cc"/>
            </a:outerShdw>
          </a:effectLst>
        </p:spPr>
      </p:pic>
      <p:grpSp>
        <p:nvGrpSpPr>
          <p:cNvPr id="167" name=""/>
          <p:cNvGrpSpPr/>
          <p:nvPr/>
        </p:nvGrpSpPr>
        <p:grpSpPr>
          <a:xfrm>
            <a:off x="7526160" y="2138400"/>
            <a:ext cx="985680" cy="1062000"/>
            <a:chOff x="7526160" y="2138400"/>
            <a:chExt cx="985680" cy="1062000"/>
          </a:xfrm>
        </p:grpSpPr>
        <p:grpSp>
          <p:nvGrpSpPr>
            <p:cNvPr id="168" name=""/>
            <p:cNvGrpSpPr/>
            <p:nvPr/>
          </p:nvGrpSpPr>
          <p:grpSpPr>
            <a:xfrm>
              <a:off x="7584840" y="2138400"/>
              <a:ext cx="873360" cy="1054080"/>
              <a:chOff x="7584840" y="2138400"/>
              <a:chExt cx="873360" cy="10540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7968240" y="2138400"/>
                <a:ext cx="489960" cy="1054080"/>
                <a:chOff x="7968240" y="2138400"/>
                <a:chExt cx="489960" cy="105408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7968240" y="2138400"/>
                  <a:ext cx="489960" cy="1054080"/>
                  <a:chOff x="7968240" y="2138400"/>
                  <a:chExt cx="489960" cy="105408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8105760" y="2138400"/>
                    <a:ext cx="191160" cy="58680"/>
                    <a:chOff x="8105760" y="2138400"/>
                    <a:chExt cx="191160" cy="5868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8155440" y="2138400"/>
                      <a:ext cx="1414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34">
                          <a:moveTo>
                            <a:pt x="0" y="0"/>
                          </a:moveTo>
                          <a:lnTo>
                            <a:pt x="96" y="11"/>
                          </a:lnTo>
                          <a:lnTo>
                            <a:pt x="96" y="33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105760" y="2139840"/>
                      <a:ext cx="4788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36">
                          <a:moveTo>
                            <a:pt x="32" y="0"/>
                          </a:moveTo>
                          <a:lnTo>
                            <a:pt x="32" y="20"/>
                          </a:lnTo>
                          <a:lnTo>
                            <a:pt x="0" y="35"/>
                          </a:lnTo>
                          <a:lnTo>
                            <a:pt x="0" y="15"/>
                          </a:lnTo>
                          <a:lnTo>
                            <a:pt x="3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8114040" y="2146320"/>
                      <a:ext cx="32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6">
                          <a:moveTo>
                            <a:pt x="0" y="25"/>
                          </a:moveTo>
                          <a:lnTo>
                            <a:pt x="0" y="11"/>
                          </a:lnTo>
                          <a:lnTo>
                            <a:pt x="21" y="0"/>
                          </a:lnTo>
                          <a:lnTo>
                            <a:pt x="21" y="14"/>
                          </a:lnTo>
                          <a:lnTo>
                            <a:pt x="0" y="25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7968240" y="2158920"/>
                    <a:ext cx="489960" cy="1033560"/>
                    <a:chOff x="7968240" y="2158920"/>
                    <a:chExt cx="489960" cy="103356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68240" y="2160720"/>
                      <a:ext cx="185760" cy="10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648">
                          <a:moveTo>
                            <a:pt x="0" y="65"/>
                          </a:moveTo>
                          <a:lnTo>
                            <a:pt x="126" y="0"/>
                          </a:lnTo>
                          <a:lnTo>
                            <a:pt x="125" y="647"/>
                          </a:lnTo>
                          <a:lnTo>
                            <a:pt x="0" y="644"/>
                          </a:lnTo>
                          <a:lnTo>
                            <a:pt x="0" y="65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8158320" y="2158920"/>
                      <a:ext cx="295560" cy="10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647">
                          <a:moveTo>
                            <a:pt x="0" y="0"/>
                          </a:moveTo>
                          <a:lnTo>
                            <a:pt x="164" y="22"/>
                          </a:lnTo>
                          <a:lnTo>
                            <a:pt x="164" y="617"/>
                          </a:lnTo>
                          <a:lnTo>
                            <a:pt x="178" y="622"/>
                          </a:lnTo>
                          <a:lnTo>
                            <a:pt x="184" y="635"/>
                          </a:lnTo>
                          <a:lnTo>
                            <a:pt x="201" y="646"/>
                          </a:lnTo>
                          <a:lnTo>
                            <a:pt x="0" y="64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8158320" y="2162160"/>
                      <a:ext cx="299880" cy="103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649">
                          <a:moveTo>
                            <a:pt x="0" y="0"/>
                          </a:moveTo>
                          <a:lnTo>
                            <a:pt x="166" y="22"/>
                          </a:lnTo>
                          <a:lnTo>
                            <a:pt x="166" y="619"/>
                          </a:lnTo>
                          <a:lnTo>
                            <a:pt x="181" y="624"/>
                          </a:lnTo>
                          <a:lnTo>
                            <a:pt x="187" y="637"/>
                          </a:lnTo>
                          <a:lnTo>
                            <a:pt x="204" y="648"/>
                          </a:lnTo>
                          <a:lnTo>
                            <a:pt x="0" y="64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7969320" y="2163960"/>
                  <a:ext cx="431280" cy="1011240"/>
                  <a:chOff x="7969320" y="2163960"/>
                  <a:chExt cx="431280" cy="1011240"/>
                </a:xfrm>
              </p:grpSpPr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8156520" y="2163960"/>
                    <a:ext cx="244080" cy="988920"/>
                    <a:chOff x="8156520" y="2163960"/>
                    <a:chExt cx="244080" cy="98892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8157600" y="2935440"/>
                      <a:ext cx="2426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9">
                          <a:moveTo>
                            <a:pt x="0" y="0"/>
                          </a:moveTo>
                          <a:lnTo>
                            <a:pt x="165" y="2"/>
                          </a:lnTo>
                          <a:lnTo>
                            <a:pt x="165" y="28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8156520" y="3114720"/>
                      <a:ext cx="24264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4">
                          <a:moveTo>
                            <a:pt x="0" y="0"/>
                          </a:moveTo>
                          <a:lnTo>
                            <a:pt x="165" y="0"/>
                          </a:lnTo>
                          <a:lnTo>
                            <a:pt x="165" y="23"/>
                          </a:lnTo>
                          <a:lnTo>
                            <a:pt x="0" y="2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156520" y="3054240"/>
                      <a:ext cx="24264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5">
                          <a:moveTo>
                            <a:pt x="0" y="0"/>
                          </a:moveTo>
                          <a:lnTo>
                            <a:pt x="165" y="0"/>
                          </a:lnTo>
                          <a:lnTo>
                            <a:pt x="165" y="24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157600" y="2995560"/>
                      <a:ext cx="24264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5">
                          <a:moveTo>
                            <a:pt x="0" y="0"/>
                          </a:moveTo>
                          <a:lnTo>
                            <a:pt x="165" y="0"/>
                          </a:lnTo>
                          <a:lnTo>
                            <a:pt x="165" y="24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8157600" y="2874960"/>
                      <a:ext cx="24120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8">
                          <a:moveTo>
                            <a:pt x="0" y="0"/>
                          </a:moveTo>
                          <a:lnTo>
                            <a:pt x="164" y="4"/>
                          </a:lnTo>
                          <a:lnTo>
                            <a:pt x="164" y="27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156520" y="2814840"/>
                      <a:ext cx="2426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32">
                          <a:moveTo>
                            <a:pt x="0" y="0"/>
                          </a:moveTo>
                          <a:lnTo>
                            <a:pt x="165" y="8"/>
                          </a:lnTo>
                          <a:lnTo>
                            <a:pt x="165" y="31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8156520" y="2754360"/>
                      <a:ext cx="2440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34">
                          <a:moveTo>
                            <a:pt x="0" y="0"/>
                          </a:moveTo>
                          <a:lnTo>
                            <a:pt x="166" y="10"/>
                          </a:lnTo>
                          <a:lnTo>
                            <a:pt x="166" y="33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8156520" y="2693880"/>
                      <a:ext cx="24264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39">
                          <a:moveTo>
                            <a:pt x="0" y="0"/>
                          </a:moveTo>
                          <a:lnTo>
                            <a:pt x="165" y="15"/>
                          </a:lnTo>
                          <a:lnTo>
                            <a:pt x="165" y="38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8156520" y="2633760"/>
                      <a:ext cx="24264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0">
                          <a:moveTo>
                            <a:pt x="0" y="0"/>
                          </a:moveTo>
                          <a:lnTo>
                            <a:pt x="165" y="16"/>
                          </a:lnTo>
                          <a:lnTo>
                            <a:pt x="165" y="39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8156520" y="2573280"/>
                      <a:ext cx="24264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4">
                          <a:moveTo>
                            <a:pt x="0" y="0"/>
                          </a:moveTo>
                          <a:lnTo>
                            <a:pt x="165" y="19"/>
                          </a:lnTo>
                          <a:lnTo>
                            <a:pt x="165" y="43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8156520" y="2513160"/>
                      <a:ext cx="24408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46">
                          <a:moveTo>
                            <a:pt x="0" y="0"/>
                          </a:moveTo>
                          <a:lnTo>
                            <a:pt x="166" y="19"/>
                          </a:lnTo>
                          <a:lnTo>
                            <a:pt x="166" y="45"/>
                          </a:lnTo>
                          <a:lnTo>
                            <a:pt x="0" y="2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8159400" y="2452680"/>
                      <a:ext cx="2397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45">
                          <a:moveTo>
                            <a:pt x="0" y="0"/>
                          </a:moveTo>
                          <a:lnTo>
                            <a:pt x="163" y="20"/>
                          </a:lnTo>
                          <a:lnTo>
                            <a:pt x="163" y="44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8156520" y="2390760"/>
                      <a:ext cx="24264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50">
                          <a:moveTo>
                            <a:pt x="0" y="0"/>
                          </a:moveTo>
                          <a:lnTo>
                            <a:pt x="165" y="23"/>
                          </a:lnTo>
                          <a:lnTo>
                            <a:pt x="165" y="49"/>
                          </a:lnTo>
                          <a:lnTo>
                            <a:pt x="0" y="2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8156520" y="2324160"/>
                      <a:ext cx="24264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54">
                          <a:moveTo>
                            <a:pt x="0" y="0"/>
                          </a:moveTo>
                          <a:lnTo>
                            <a:pt x="165" y="25"/>
                          </a:lnTo>
                          <a:lnTo>
                            <a:pt x="165" y="53"/>
                          </a:lnTo>
                          <a:lnTo>
                            <a:pt x="0" y="2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8156520" y="2271600"/>
                      <a:ext cx="2426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5">
                          <a:moveTo>
                            <a:pt x="0" y="0"/>
                          </a:moveTo>
                          <a:lnTo>
                            <a:pt x="165" y="22"/>
                          </a:lnTo>
                          <a:lnTo>
                            <a:pt x="165" y="44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8156520" y="2212920"/>
                      <a:ext cx="24264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8">
                          <a:moveTo>
                            <a:pt x="0" y="0"/>
                          </a:moveTo>
                          <a:lnTo>
                            <a:pt x="165" y="21"/>
                          </a:lnTo>
                          <a:lnTo>
                            <a:pt x="165" y="47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8156520" y="2163960"/>
                      <a:ext cx="24264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4">
                          <a:moveTo>
                            <a:pt x="0" y="0"/>
                          </a:moveTo>
                          <a:lnTo>
                            <a:pt x="165" y="20"/>
                          </a:lnTo>
                          <a:lnTo>
                            <a:pt x="165" y="43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8184600" y="2165400"/>
                    <a:ext cx="191160" cy="1009800"/>
                    <a:chOff x="8184600" y="2165400"/>
                    <a:chExt cx="191160" cy="100980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8375760" y="2190960"/>
                      <a:ext cx="0" cy="97128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8346600" y="2189160"/>
                      <a:ext cx="0" cy="97812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8318520" y="2184480"/>
                      <a:ext cx="0" cy="98424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8291160" y="2179800"/>
                      <a:ext cx="0" cy="9936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8263440" y="2174760"/>
                      <a:ext cx="0" cy="99864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8238600" y="2171880"/>
                      <a:ext cx="0" cy="98712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8210520" y="2171880"/>
                      <a:ext cx="0" cy="99036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8184600" y="2165400"/>
                      <a:ext cx="0" cy="10098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7969320" y="2212920"/>
                    <a:ext cx="186840" cy="901800"/>
                    <a:chOff x="7969320" y="2212920"/>
                    <a:chExt cx="186840" cy="9018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>
                      <a:off x="7970400" y="2212920"/>
                      <a:ext cx="183960" cy="96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>
                      <a:off x="7972200" y="2273400"/>
                      <a:ext cx="182880" cy="87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7970760" y="2324160"/>
                      <a:ext cx="18540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57">
                          <a:moveTo>
                            <a:pt x="126" y="0"/>
                          </a:moveTo>
                          <a:lnTo>
                            <a:pt x="0" y="56"/>
                          </a:lnTo>
                          <a:lnTo>
                            <a:pt x="0" y="5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 flipH="1">
                      <a:off x="7970400" y="2390760"/>
                      <a:ext cx="183960" cy="81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>
                      <a:off x="7970400" y="2452680"/>
                      <a:ext cx="183960" cy="71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H="1">
                      <a:off x="7970400" y="2513160"/>
                      <a:ext cx="183960" cy="64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flipH="1">
                      <a:off x="7970400" y="2575080"/>
                      <a:ext cx="183960" cy="56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>
                      <a:off x="7970400" y="2635200"/>
                      <a:ext cx="183960" cy="54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H="1">
                      <a:off x="7970400" y="2693880"/>
                      <a:ext cx="183960" cy="44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H="1">
                      <a:off x="7969320" y="2754360"/>
                      <a:ext cx="185760" cy="44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>
                      <a:off x="7969320" y="2816280"/>
                      <a:ext cx="185760" cy="33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H="1">
                      <a:off x="7970400" y="2874960"/>
                      <a:ext cx="183960" cy="3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flipH="1">
                      <a:off x="7969320" y="2935440"/>
                      <a:ext cx="185760" cy="2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>
                      <a:off x="7977600" y="2995560"/>
                      <a:ext cx="176760" cy="14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H="1">
                      <a:off x="7976520" y="3056040"/>
                      <a:ext cx="178200" cy="7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H="1">
                      <a:off x="7974720" y="3114720"/>
                      <a:ext cx="179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24" name=""/>
              <p:cNvGrpSpPr/>
              <p:nvPr/>
            </p:nvGrpSpPr>
            <p:grpSpPr>
              <a:xfrm>
                <a:off x="7584840" y="2370240"/>
                <a:ext cx="337680" cy="815760"/>
                <a:chOff x="7584840" y="2370240"/>
                <a:chExt cx="337680" cy="8157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707600" y="2373480"/>
                  <a:ext cx="210600" cy="811080"/>
                </a:xfrm>
                <a:custGeom>
                  <a:avLst/>
                  <a:gdLst/>
                  <a:ahLst/>
                  <a:rect l="l" t="t" r="r" b="b"/>
                  <a:pathLst>
                    <a:path w="144" h="511">
                      <a:moveTo>
                        <a:pt x="0" y="0"/>
                      </a:moveTo>
                      <a:lnTo>
                        <a:pt x="143" y="16"/>
                      </a:lnTo>
                      <a:lnTo>
                        <a:pt x="143" y="510"/>
                      </a:lnTo>
                      <a:lnTo>
                        <a:pt x="0" y="5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07600" y="2370240"/>
                  <a:ext cx="214920" cy="815760"/>
                </a:xfrm>
                <a:custGeom>
                  <a:avLst/>
                  <a:gdLst/>
                  <a:ahLst/>
                  <a:rect l="l" t="t" r="r" b="b"/>
                  <a:pathLst>
                    <a:path w="147" h="514">
                      <a:moveTo>
                        <a:pt x="0" y="0"/>
                      </a:moveTo>
                      <a:lnTo>
                        <a:pt x="146" y="16"/>
                      </a:lnTo>
                      <a:lnTo>
                        <a:pt x="146" y="513"/>
                      </a:lnTo>
                      <a:lnTo>
                        <a:pt x="0" y="5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7584840" y="2370240"/>
                  <a:ext cx="325800" cy="815760"/>
                  <a:chOff x="7584840" y="2370240"/>
                  <a:chExt cx="325800" cy="81576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7584840" y="2370240"/>
                    <a:ext cx="119520" cy="815760"/>
                    <a:chOff x="7584840" y="2370240"/>
                    <a:chExt cx="119520" cy="8157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7584840" y="2370240"/>
                      <a:ext cx="119520" cy="81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514">
                          <a:moveTo>
                            <a:pt x="0" y="40"/>
                          </a:moveTo>
                          <a:lnTo>
                            <a:pt x="81" y="0"/>
                          </a:lnTo>
                          <a:lnTo>
                            <a:pt x="81" y="513"/>
                          </a:lnTo>
                          <a:lnTo>
                            <a:pt x="0" y="513"/>
                          </a:lnTo>
                          <a:lnTo>
                            <a:pt x="0" y="4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>
                      <a:off x="7667640" y="2389320"/>
                      <a:ext cx="2880" cy="780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7629840" y="2411280"/>
                      <a:ext cx="0" cy="762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7660440" y="3135240"/>
                      <a:ext cx="16200" cy="42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7619760" y="3135240"/>
                      <a:ext cx="15840" cy="42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7716240" y="2423880"/>
                    <a:ext cx="194400" cy="754200"/>
                    <a:chOff x="7716240" y="2423880"/>
                    <a:chExt cx="194400" cy="754200"/>
                  </a:xfrm>
                </p:grpSpPr>
                <p:grpSp>
                  <p:nvGrpSpPr>
                    <p:cNvPr id="235" name=""/>
                    <p:cNvGrpSpPr/>
                    <p:nvPr/>
                  </p:nvGrpSpPr>
                  <p:grpSpPr>
                    <a:xfrm>
                      <a:off x="7741080" y="3125880"/>
                      <a:ext cx="145800" cy="52200"/>
                      <a:chOff x="7741080" y="3125880"/>
                      <a:chExt cx="145800" cy="52200"/>
                    </a:xfrm>
                  </p:grpSpPr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7832880" y="3127320"/>
                        <a:ext cx="19080" cy="507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60" bIns="3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7867800" y="3127320"/>
                        <a:ext cx="19080" cy="507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60" bIns="3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7741080" y="3125880"/>
                        <a:ext cx="15840" cy="522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5400" bIns="5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7775640" y="3125880"/>
                        <a:ext cx="17280" cy="522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5400" bIns="5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0" name=""/>
                    <p:cNvGrpSpPr/>
                    <p:nvPr/>
                  </p:nvGrpSpPr>
                  <p:grpSpPr>
                    <a:xfrm>
                      <a:off x="7716240" y="2433600"/>
                      <a:ext cx="194400" cy="658800"/>
                      <a:chOff x="7716240" y="2433600"/>
                      <a:chExt cx="194400" cy="658800"/>
                    </a:xfrm>
                  </p:grpSpPr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7718760" y="2433600"/>
                        <a:ext cx="19152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8">
                            <a:moveTo>
                              <a:pt x="0" y="0"/>
                            </a:moveTo>
                            <a:lnTo>
                              <a:pt x="130" y="14"/>
                            </a:lnTo>
                            <a:lnTo>
                              <a:pt x="130" y="27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7718760" y="2471760"/>
                        <a:ext cx="19152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8">
                            <a:moveTo>
                              <a:pt x="0" y="0"/>
                            </a:moveTo>
                            <a:lnTo>
                              <a:pt x="130" y="14"/>
                            </a:lnTo>
                            <a:lnTo>
                              <a:pt x="130" y="27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7720200" y="2511360"/>
                        <a:ext cx="19008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27">
                            <a:moveTo>
                              <a:pt x="0" y="0"/>
                            </a:moveTo>
                            <a:lnTo>
                              <a:pt x="129" y="13"/>
                            </a:lnTo>
                            <a:lnTo>
                              <a:pt x="129" y="26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7718760" y="2549520"/>
                        <a:ext cx="191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7">
                            <a:moveTo>
                              <a:pt x="0" y="0"/>
                            </a:moveTo>
                            <a:lnTo>
                              <a:pt x="130" y="13"/>
                            </a:lnTo>
                            <a:lnTo>
                              <a:pt x="130" y="26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7718760" y="2586240"/>
                        <a:ext cx="191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7">
                            <a:moveTo>
                              <a:pt x="0" y="0"/>
                            </a:moveTo>
                            <a:lnTo>
                              <a:pt x="130" y="12"/>
                            </a:lnTo>
                            <a:lnTo>
                              <a:pt x="130" y="26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7718760" y="2621160"/>
                        <a:ext cx="191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7">
                            <a:moveTo>
                              <a:pt x="0" y="0"/>
                            </a:moveTo>
                            <a:lnTo>
                              <a:pt x="130" y="12"/>
                            </a:lnTo>
                            <a:lnTo>
                              <a:pt x="130" y="26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7720200" y="2660760"/>
                        <a:ext cx="19008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25">
                            <a:moveTo>
                              <a:pt x="0" y="0"/>
                            </a:moveTo>
                            <a:lnTo>
                              <a:pt x="129" y="11"/>
                            </a:lnTo>
                            <a:lnTo>
                              <a:pt x="129" y="24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7718760" y="2698920"/>
                        <a:ext cx="191520" cy="3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4">
                            <a:moveTo>
                              <a:pt x="0" y="0"/>
                            </a:moveTo>
                            <a:lnTo>
                              <a:pt x="130" y="10"/>
                            </a:lnTo>
                            <a:lnTo>
                              <a:pt x="130" y="23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7718760" y="2736720"/>
                        <a:ext cx="1915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10"/>
                            </a:lnTo>
                            <a:lnTo>
                              <a:pt x="130" y="22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7718760" y="2773440"/>
                        <a:ext cx="19152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9"/>
                            </a:lnTo>
                            <a:lnTo>
                              <a:pt x="130" y="22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718760" y="2813040"/>
                        <a:ext cx="1915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9"/>
                            </a:lnTo>
                            <a:lnTo>
                              <a:pt x="130" y="22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7718760" y="2854440"/>
                        <a:ext cx="19152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9"/>
                            </a:lnTo>
                            <a:lnTo>
                              <a:pt x="130" y="22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7718760" y="2897280"/>
                        <a:ext cx="19152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1">
                            <a:moveTo>
                              <a:pt x="0" y="0"/>
                            </a:moveTo>
                            <a:lnTo>
                              <a:pt x="130" y="7"/>
                            </a:lnTo>
                            <a:lnTo>
                              <a:pt x="130" y="20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7718760" y="2936880"/>
                        <a:ext cx="19044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22">
                            <a:moveTo>
                              <a:pt x="0" y="0"/>
                            </a:moveTo>
                            <a:lnTo>
                              <a:pt x="129" y="8"/>
                            </a:lnTo>
                            <a:lnTo>
                              <a:pt x="129" y="21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7716240" y="2979720"/>
                        <a:ext cx="19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20">
                            <a:moveTo>
                              <a:pt x="0" y="0"/>
                            </a:moveTo>
                            <a:lnTo>
                              <a:pt x="132" y="6"/>
                            </a:lnTo>
                            <a:lnTo>
                              <a:pt x="132" y="19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7716240" y="3022560"/>
                        <a:ext cx="1944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19">
                            <a:moveTo>
                              <a:pt x="0" y="0"/>
                            </a:moveTo>
                            <a:lnTo>
                              <a:pt x="132" y="5"/>
                            </a:lnTo>
                            <a:lnTo>
                              <a:pt x="132" y="18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7716240" y="3065400"/>
                        <a:ext cx="194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17">
                            <a:moveTo>
                              <a:pt x="0" y="0"/>
                            </a:moveTo>
                            <a:lnTo>
                              <a:pt x="132" y="3"/>
                            </a:lnTo>
                            <a:lnTo>
                              <a:pt x="132" y="16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7761240" y="2423880"/>
                      <a:ext cx="106560" cy="703440"/>
                      <a:chOff x="7761240" y="2423880"/>
                      <a:chExt cx="106560" cy="703440"/>
                    </a:xfrm>
                  </p:grpSpPr>
                  <p:grpSp>
                    <p:nvGrpSpPr>
                      <p:cNvPr id="259" name=""/>
                      <p:cNvGrpSpPr/>
                      <p:nvPr/>
                    </p:nvGrpSpPr>
                    <p:grpSpPr>
                      <a:xfrm>
                        <a:off x="7761240" y="2423880"/>
                        <a:ext cx="21600" cy="703080"/>
                        <a:chOff x="7761240" y="2423880"/>
                        <a:chExt cx="21600" cy="703080"/>
                      </a:xfrm>
                    </p:grpSpPr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7761240" y="2423880"/>
                          <a:ext cx="0" cy="703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7782840" y="2425320"/>
                          <a:ext cx="0" cy="7016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62" name=""/>
                      <p:cNvGrpSpPr/>
                      <p:nvPr/>
                    </p:nvGrpSpPr>
                    <p:grpSpPr>
                      <a:xfrm>
                        <a:off x="7847280" y="2433240"/>
                        <a:ext cx="20520" cy="694080"/>
                        <a:chOff x="7847280" y="2433240"/>
                        <a:chExt cx="20520" cy="694080"/>
                      </a:xfrm>
                    </p:grpSpPr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flipV="1">
                          <a:off x="7847280" y="2433240"/>
                          <a:ext cx="0" cy="693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 flipV="1">
                          <a:off x="7867800" y="2435400"/>
                          <a:ext cx="0" cy="69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265" name=""/>
            <p:cNvGrpSpPr/>
            <p:nvPr/>
          </p:nvGrpSpPr>
          <p:grpSpPr>
            <a:xfrm>
              <a:off x="7526160" y="2976480"/>
              <a:ext cx="985680" cy="223920"/>
              <a:chOff x="7526160" y="2976480"/>
              <a:chExt cx="985680" cy="223920"/>
            </a:xfrm>
          </p:grpSpPr>
          <p:sp>
            <p:nvSpPr>
              <p:cNvPr id="266" name=""/>
              <p:cNvSpPr/>
              <p:nvPr/>
            </p:nvSpPr>
            <p:spPr>
              <a:xfrm>
                <a:off x="8151480" y="3127320"/>
                <a:ext cx="153720" cy="73080"/>
              </a:xfrm>
              <a:custGeom>
                <a:avLst/>
                <a:gdLst/>
                <a:ahLst/>
                <a:rect l="l" t="t" r="r" b="b"/>
                <a:pathLst>
                  <a:path w="105" h="46">
                    <a:moveTo>
                      <a:pt x="0" y="24"/>
                    </a:moveTo>
                    <a:lnTo>
                      <a:pt x="1" y="21"/>
                    </a:lnTo>
                    <a:lnTo>
                      <a:pt x="3" y="18"/>
                    </a:lnTo>
                    <a:lnTo>
                      <a:pt x="6" y="16"/>
                    </a:lnTo>
                    <a:lnTo>
                      <a:pt x="8" y="13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4" y="5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6" y="1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6" y="2"/>
                    </a:lnTo>
                    <a:lnTo>
                      <a:pt x="59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2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6" y="3"/>
                    </a:lnTo>
                    <a:lnTo>
                      <a:pt x="79" y="2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89" y="2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89" y="9"/>
                    </a:lnTo>
                    <a:lnTo>
                      <a:pt x="91" y="9"/>
                    </a:lnTo>
                    <a:lnTo>
                      <a:pt x="96" y="11"/>
                    </a:lnTo>
                    <a:lnTo>
                      <a:pt x="98" y="12"/>
                    </a:lnTo>
                    <a:lnTo>
                      <a:pt x="102" y="12"/>
                    </a:lnTo>
                    <a:lnTo>
                      <a:pt x="104" y="14"/>
                    </a:lnTo>
                    <a:lnTo>
                      <a:pt x="104" y="16"/>
                    </a:lnTo>
                    <a:lnTo>
                      <a:pt x="102" y="17"/>
                    </a:lnTo>
                    <a:lnTo>
                      <a:pt x="99" y="18"/>
                    </a:lnTo>
                    <a:lnTo>
                      <a:pt x="95" y="20"/>
                    </a:lnTo>
                    <a:lnTo>
                      <a:pt x="96" y="22"/>
                    </a:lnTo>
                    <a:lnTo>
                      <a:pt x="98" y="23"/>
                    </a:lnTo>
                    <a:lnTo>
                      <a:pt x="98" y="26"/>
                    </a:lnTo>
                    <a:lnTo>
                      <a:pt x="95" y="27"/>
                    </a:lnTo>
                    <a:lnTo>
                      <a:pt x="92" y="28"/>
                    </a:lnTo>
                    <a:lnTo>
                      <a:pt x="90" y="30"/>
                    </a:lnTo>
                    <a:lnTo>
                      <a:pt x="90" y="31"/>
                    </a:lnTo>
                    <a:lnTo>
                      <a:pt x="92" y="33"/>
                    </a:lnTo>
                    <a:lnTo>
                      <a:pt x="97" y="33"/>
                    </a:lnTo>
                    <a:lnTo>
                      <a:pt x="101" y="34"/>
                    </a:lnTo>
                    <a:lnTo>
                      <a:pt x="102" y="36"/>
                    </a:lnTo>
                    <a:lnTo>
                      <a:pt x="100" y="38"/>
                    </a:lnTo>
                    <a:lnTo>
                      <a:pt x="97" y="39"/>
                    </a:lnTo>
                    <a:lnTo>
                      <a:pt x="93" y="40"/>
                    </a:lnTo>
                    <a:lnTo>
                      <a:pt x="90" y="42"/>
                    </a:lnTo>
                    <a:lnTo>
                      <a:pt x="80" y="43"/>
                    </a:lnTo>
                    <a:lnTo>
                      <a:pt x="66" y="44"/>
                    </a:lnTo>
                    <a:lnTo>
                      <a:pt x="55" y="45"/>
                    </a:lnTo>
                    <a:lnTo>
                      <a:pt x="51" y="45"/>
                    </a:lnTo>
                    <a:lnTo>
                      <a:pt x="47" y="43"/>
                    </a:lnTo>
                    <a:lnTo>
                      <a:pt x="42" y="41"/>
                    </a:lnTo>
                    <a:lnTo>
                      <a:pt x="35" y="41"/>
                    </a:lnTo>
                    <a:lnTo>
                      <a:pt x="29" y="43"/>
                    </a:lnTo>
                    <a:lnTo>
                      <a:pt x="24" y="44"/>
                    </a:lnTo>
                    <a:lnTo>
                      <a:pt x="10" y="43"/>
                    </a:lnTo>
                    <a:lnTo>
                      <a:pt x="7" y="43"/>
                    </a:lnTo>
                    <a:lnTo>
                      <a:pt x="3" y="40"/>
                    </a:lnTo>
                    <a:lnTo>
                      <a:pt x="3" y="38"/>
                    </a:lnTo>
                    <a:lnTo>
                      <a:pt x="4" y="37"/>
                    </a:lnTo>
                    <a:lnTo>
                      <a:pt x="9" y="34"/>
                    </a:lnTo>
                    <a:lnTo>
                      <a:pt x="11" y="31"/>
                    </a:lnTo>
                    <a:lnTo>
                      <a:pt x="10" y="29"/>
                    </a:lnTo>
                    <a:lnTo>
                      <a:pt x="6" y="27"/>
                    </a:lnTo>
                    <a:lnTo>
                      <a:pt x="1" y="26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418240" y="3124080"/>
                <a:ext cx="93600" cy="7308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0" y="24"/>
                    </a:moveTo>
                    <a:lnTo>
                      <a:pt x="0" y="21"/>
                    </a:lnTo>
                    <a:lnTo>
                      <a:pt x="1" y="18"/>
                    </a:lnTo>
                    <a:lnTo>
                      <a:pt x="3" y="16"/>
                    </a:lnTo>
                    <a:lnTo>
                      <a:pt x="5" y="13"/>
                    </a:lnTo>
                    <a:lnTo>
                      <a:pt x="7" y="10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2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4" y="2"/>
                    </a:lnTo>
                    <a:lnTo>
                      <a:pt x="54" y="4"/>
                    </a:lnTo>
                    <a:lnTo>
                      <a:pt x="55" y="6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8" y="10"/>
                    </a:lnTo>
                    <a:lnTo>
                      <a:pt x="60" y="12"/>
                    </a:lnTo>
                    <a:lnTo>
                      <a:pt x="62" y="12"/>
                    </a:lnTo>
                    <a:lnTo>
                      <a:pt x="63" y="14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0" y="18"/>
                    </a:lnTo>
                    <a:lnTo>
                      <a:pt x="58" y="19"/>
                    </a:lnTo>
                    <a:lnTo>
                      <a:pt x="58" y="22"/>
                    </a:lnTo>
                    <a:lnTo>
                      <a:pt x="59" y="23"/>
                    </a:lnTo>
                    <a:lnTo>
                      <a:pt x="59" y="26"/>
                    </a:lnTo>
                    <a:lnTo>
                      <a:pt x="58" y="27"/>
                    </a:lnTo>
                    <a:lnTo>
                      <a:pt x="56" y="28"/>
                    </a:lnTo>
                    <a:lnTo>
                      <a:pt x="55" y="30"/>
                    </a:lnTo>
                    <a:lnTo>
                      <a:pt x="55" y="31"/>
                    </a:lnTo>
                    <a:lnTo>
                      <a:pt x="56" y="33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2" y="36"/>
                    </a:lnTo>
                    <a:lnTo>
                      <a:pt x="61" y="38"/>
                    </a:lnTo>
                    <a:lnTo>
                      <a:pt x="59" y="40"/>
                    </a:lnTo>
                    <a:lnTo>
                      <a:pt x="57" y="40"/>
                    </a:lnTo>
                    <a:lnTo>
                      <a:pt x="54" y="42"/>
                    </a:lnTo>
                    <a:lnTo>
                      <a:pt x="49" y="43"/>
                    </a:lnTo>
                    <a:lnTo>
                      <a:pt x="40" y="44"/>
                    </a:lnTo>
                    <a:lnTo>
                      <a:pt x="33" y="45"/>
                    </a:lnTo>
                    <a:lnTo>
                      <a:pt x="31" y="45"/>
                    </a:lnTo>
                    <a:lnTo>
                      <a:pt x="28" y="43"/>
                    </a:lnTo>
                    <a:lnTo>
                      <a:pt x="25" y="41"/>
                    </a:lnTo>
                    <a:lnTo>
                      <a:pt x="21" y="41"/>
                    </a:lnTo>
                    <a:lnTo>
                      <a:pt x="18" y="43"/>
                    </a:lnTo>
                    <a:lnTo>
                      <a:pt x="14" y="44"/>
                    </a:lnTo>
                    <a:lnTo>
                      <a:pt x="6" y="43"/>
                    </a:lnTo>
                    <a:lnTo>
                      <a:pt x="4" y="43"/>
                    </a:lnTo>
                    <a:lnTo>
                      <a:pt x="2" y="40"/>
                    </a:lnTo>
                    <a:lnTo>
                      <a:pt x="1" y="39"/>
                    </a:lnTo>
                    <a:lnTo>
                      <a:pt x="2" y="36"/>
                    </a:lnTo>
                    <a:lnTo>
                      <a:pt x="5" y="34"/>
                    </a:lnTo>
                    <a:lnTo>
                      <a:pt x="6" y="31"/>
                    </a:lnTo>
                    <a:lnTo>
                      <a:pt x="6" y="29"/>
                    </a:lnTo>
                    <a:lnTo>
                      <a:pt x="3" y="27"/>
                    </a:lnTo>
                    <a:lnTo>
                      <a:pt x="0" y="26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909920" y="2976480"/>
                <a:ext cx="83160" cy="206640"/>
              </a:xfrm>
              <a:custGeom>
                <a:avLst/>
                <a:gdLst/>
                <a:ahLst/>
                <a:rect l="l" t="t" r="r" b="b"/>
                <a:pathLst>
                  <a:path w="57" h="130">
                    <a:moveTo>
                      <a:pt x="0" y="68"/>
                    </a:moveTo>
                    <a:lnTo>
                      <a:pt x="0" y="60"/>
                    </a:lnTo>
                    <a:lnTo>
                      <a:pt x="1" y="52"/>
                    </a:lnTo>
                    <a:lnTo>
                      <a:pt x="3" y="46"/>
                    </a:lnTo>
                    <a:lnTo>
                      <a:pt x="4" y="38"/>
                    </a:lnTo>
                    <a:lnTo>
                      <a:pt x="6" y="29"/>
                    </a:lnTo>
                    <a:lnTo>
                      <a:pt x="7" y="21"/>
                    </a:lnTo>
                    <a:lnTo>
                      <a:pt x="8" y="15"/>
                    </a:lnTo>
                    <a:lnTo>
                      <a:pt x="9" y="9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7" y="6"/>
                    </a:lnTo>
                    <a:lnTo>
                      <a:pt x="19" y="3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4" y="2"/>
                    </a:lnTo>
                    <a:lnTo>
                      <a:pt x="26" y="4"/>
                    </a:lnTo>
                    <a:lnTo>
                      <a:pt x="28" y="7"/>
                    </a:lnTo>
                    <a:lnTo>
                      <a:pt x="30" y="5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5" y="3"/>
                    </a:lnTo>
                    <a:lnTo>
                      <a:pt x="36" y="7"/>
                    </a:lnTo>
                    <a:lnTo>
                      <a:pt x="37" y="9"/>
                    </a:lnTo>
                    <a:lnTo>
                      <a:pt x="39" y="9"/>
                    </a:lnTo>
                    <a:lnTo>
                      <a:pt x="41" y="9"/>
                    </a:lnTo>
                    <a:lnTo>
                      <a:pt x="43" y="5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8" y="5"/>
                    </a:lnTo>
                    <a:lnTo>
                      <a:pt x="48" y="12"/>
                    </a:lnTo>
                    <a:lnTo>
                      <a:pt x="48" y="17"/>
                    </a:lnTo>
                    <a:lnTo>
                      <a:pt x="48" y="25"/>
                    </a:lnTo>
                    <a:lnTo>
                      <a:pt x="49" y="27"/>
                    </a:lnTo>
                    <a:lnTo>
                      <a:pt x="52" y="30"/>
                    </a:lnTo>
                    <a:lnTo>
                      <a:pt x="53" y="33"/>
                    </a:lnTo>
                    <a:lnTo>
                      <a:pt x="55" y="35"/>
                    </a:lnTo>
                    <a:lnTo>
                      <a:pt x="56" y="40"/>
                    </a:lnTo>
                    <a:lnTo>
                      <a:pt x="56" y="46"/>
                    </a:lnTo>
                    <a:lnTo>
                      <a:pt x="55" y="49"/>
                    </a:lnTo>
                    <a:lnTo>
                      <a:pt x="54" y="51"/>
                    </a:lnTo>
                    <a:lnTo>
                      <a:pt x="51" y="56"/>
                    </a:lnTo>
                    <a:lnTo>
                      <a:pt x="52" y="63"/>
                    </a:lnTo>
                    <a:lnTo>
                      <a:pt x="53" y="66"/>
                    </a:lnTo>
                    <a:lnTo>
                      <a:pt x="53" y="74"/>
                    </a:lnTo>
                    <a:lnTo>
                      <a:pt x="51" y="78"/>
                    </a:lnTo>
                    <a:lnTo>
                      <a:pt x="50" y="79"/>
                    </a:lnTo>
                    <a:lnTo>
                      <a:pt x="49" y="85"/>
                    </a:lnTo>
                    <a:lnTo>
                      <a:pt x="49" y="89"/>
                    </a:lnTo>
                    <a:lnTo>
                      <a:pt x="50" y="93"/>
                    </a:lnTo>
                    <a:lnTo>
                      <a:pt x="52" y="94"/>
                    </a:lnTo>
                    <a:lnTo>
                      <a:pt x="55" y="96"/>
                    </a:lnTo>
                    <a:lnTo>
                      <a:pt x="55" y="103"/>
                    </a:lnTo>
                    <a:lnTo>
                      <a:pt x="54" y="108"/>
                    </a:lnTo>
                    <a:lnTo>
                      <a:pt x="52" y="113"/>
                    </a:lnTo>
                    <a:lnTo>
                      <a:pt x="50" y="116"/>
                    </a:lnTo>
                    <a:lnTo>
                      <a:pt x="48" y="120"/>
                    </a:lnTo>
                    <a:lnTo>
                      <a:pt x="43" y="123"/>
                    </a:lnTo>
                    <a:lnTo>
                      <a:pt x="36" y="127"/>
                    </a:lnTo>
                    <a:lnTo>
                      <a:pt x="30" y="129"/>
                    </a:lnTo>
                    <a:lnTo>
                      <a:pt x="27" y="128"/>
                    </a:lnTo>
                    <a:lnTo>
                      <a:pt x="25" y="122"/>
                    </a:lnTo>
                    <a:lnTo>
                      <a:pt x="23" y="119"/>
                    </a:lnTo>
                    <a:lnTo>
                      <a:pt x="19" y="118"/>
                    </a:lnTo>
                    <a:lnTo>
                      <a:pt x="16" y="123"/>
                    </a:lnTo>
                    <a:lnTo>
                      <a:pt x="13" y="126"/>
                    </a:lnTo>
                    <a:lnTo>
                      <a:pt x="5" y="125"/>
                    </a:lnTo>
                    <a:lnTo>
                      <a:pt x="4" y="122"/>
                    </a:lnTo>
                    <a:lnTo>
                      <a:pt x="1" y="116"/>
                    </a:lnTo>
                    <a:lnTo>
                      <a:pt x="1" y="110"/>
                    </a:lnTo>
                    <a:lnTo>
                      <a:pt x="2" y="104"/>
                    </a:lnTo>
                    <a:lnTo>
                      <a:pt x="5" y="97"/>
                    </a:lnTo>
                    <a:lnTo>
                      <a:pt x="6" y="88"/>
                    </a:lnTo>
                    <a:lnTo>
                      <a:pt x="5" y="83"/>
                    </a:lnTo>
                    <a:lnTo>
                      <a:pt x="3" y="78"/>
                    </a:lnTo>
                    <a:lnTo>
                      <a:pt x="0" y="74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060760" y="313848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w="50" h="37">
                    <a:moveTo>
                      <a:pt x="0" y="19"/>
                    </a:moveTo>
                    <a:lnTo>
                      <a:pt x="0" y="17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8" y="1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2" y="3"/>
                    </a:lnTo>
                    <a:lnTo>
                      <a:pt x="42" y="5"/>
                    </a:lnTo>
                    <a:lnTo>
                      <a:pt x="42" y="7"/>
                    </a:lnTo>
                    <a:lnTo>
                      <a:pt x="43" y="7"/>
                    </a:lnTo>
                    <a:lnTo>
                      <a:pt x="45" y="8"/>
                    </a:lnTo>
                    <a:lnTo>
                      <a:pt x="47" y="9"/>
                    </a:lnTo>
                    <a:lnTo>
                      <a:pt x="48" y="10"/>
                    </a:lnTo>
                    <a:lnTo>
                      <a:pt x="49" y="11"/>
                    </a:lnTo>
                    <a:lnTo>
                      <a:pt x="49" y="13"/>
                    </a:lnTo>
                    <a:lnTo>
                      <a:pt x="48" y="14"/>
                    </a:lnTo>
                    <a:lnTo>
                      <a:pt x="47" y="14"/>
                    </a:lnTo>
                    <a:lnTo>
                      <a:pt x="45" y="16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2"/>
                    </a:lnTo>
                    <a:lnTo>
                      <a:pt x="42" y="24"/>
                    </a:lnTo>
                    <a:lnTo>
                      <a:pt x="42" y="25"/>
                    </a:lnTo>
                    <a:lnTo>
                      <a:pt x="44" y="26"/>
                    </a:lnTo>
                    <a:lnTo>
                      <a:pt x="46" y="26"/>
                    </a:lnTo>
                    <a:lnTo>
                      <a:pt x="48" y="27"/>
                    </a:lnTo>
                    <a:lnTo>
                      <a:pt x="48" y="29"/>
                    </a:lnTo>
                    <a:lnTo>
                      <a:pt x="48" y="30"/>
                    </a:lnTo>
                    <a:lnTo>
                      <a:pt x="46" y="32"/>
                    </a:lnTo>
                    <a:lnTo>
                      <a:pt x="44" y="33"/>
                    </a:lnTo>
                    <a:lnTo>
                      <a:pt x="42" y="34"/>
                    </a:lnTo>
                    <a:lnTo>
                      <a:pt x="38" y="34"/>
                    </a:lnTo>
                    <a:lnTo>
                      <a:pt x="31" y="36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20" y="33"/>
                    </a:lnTo>
                    <a:lnTo>
                      <a:pt x="17" y="33"/>
                    </a:lnTo>
                    <a:lnTo>
                      <a:pt x="14" y="34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3" y="34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4" y="27"/>
                    </a:lnTo>
                    <a:lnTo>
                      <a:pt x="5" y="25"/>
                    </a:lnTo>
                    <a:lnTo>
                      <a:pt x="5" y="23"/>
                    </a:lnTo>
                    <a:lnTo>
                      <a:pt x="2" y="22"/>
                    </a:lnTo>
                    <a:lnTo>
                      <a:pt x="0" y="21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978680" y="3138480"/>
                <a:ext cx="74520" cy="58680"/>
              </a:xfrm>
              <a:custGeom>
                <a:avLst/>
                <a:gdLst/>
                <a:ahLst/>
                <a:rect l="l" t="t" r="r" b="b"/>
                <a:pathLst>
                  <a:path w="51" h="37">
                    <a:moveTo>
                      <a:pt x="0" y="19"/>
                    </a:moveTo>
                    <a:lnTo>
                      <a:pt x="0" y="17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39" y="1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3" y="1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7"/>
                    </a:lnTo>
                    <a:lnTo>
                      <a:pt x="44" y="7"/>
                    </a:lnTo>
                    <a:lnTo>
                      <a:pt x="46" y="8"/>
                    </a:lnTo>
                    <a:lnTo>
                      <a:pt x="48" y="9"/>
                    </a:lnTo>
                    <a:lnTo>
                      <a:pt x="49" y="10"/>
                    </a:lnTo>
                    <a:lnTo>
                      <a:pt x="50" y="11"/>
                    </a:lnTo>
                    <a:lnTo>
                      <a:pt x="50" y="13"/>
                    </a:lnTo>
                    <a:lnTo>
                      <a:pt x="49" y="14"/>
                    </a:lnTo>
                    <a:lnTo>
                      <a:pt x="48" y="14"/>
                    </a:lnTo>
                    <a:lnTo>
                      <a:pt x="46" y="16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21"/>
                    </a:lnTo>
                    <a:lnTo>
                      <a:pt x="46" y="22"/>
                    </a:lnTo>
                    <a:lnTo>
                      <a:pt x="45" y="22"/>
                    </a:lnTo>
                    <a:lnTo>
                      <a:pt x="43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7" y="26"/>
                    </a:lnTo>
                    <a:lnTo>
                      <a:pt x="49" y="27"/>
                    </a:lnTo>
                    <a:lnTo>
                      <a:pt x="49" y="29"/>
                    </a:lnTo>
                    <a:lnTo>
                      <a:pt x="49" y="30"/>
                    </a:lnTo>
                    <a:lnTo>
                      <a:pt x="47" y="32"/>
                    </a:lnTo>
                    <a:lnTo>
                      <a:pt x="45" y="33"/>
                    </a:lnTo>
                    <a:lnTo>
                      <a:pt x="43" y="34"/>
                    </a:lnTo>
                    <a:lnTo>
                      <a:pt x="39" y="34"/>
                    </a:lnTo>
                    <a:lnTo>
                      <a:pt x="32" y="36"/>
                    </a:lnTo>
                    <a:lnTo>
                      <a:pt x="27" y="36"/>
                    </a:lnTo>
                    <a:lnTo>
                      <a:pt x="25" y="36"/>
                    </a:lnTo>
                    <a:lnTo>
                      <a:pt x="23" y="34"/>
                    </a:lnTo>
                    <a:lnTo>
                      <a:pt x="20" y="33"/>
                    </a:lnTo>
                    <a:lnTo>
                      <a:pt x="17" y="33"/>
                    </a:lnTo>
                    <a:lnTo>
                      <a:pt x="14" y="34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3" y="34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4" y="27"/>
                    </a:lnTo>
                    <a:lnTo>
                      <a:pt x="5" y="25"/>
                    </a:lnTo>
                    <a:lnTo>
                      <a:pt x="5" y="23"/>
                    </a:lnTo>
                    <a:lnTo>
                      <a:pt x="2" y="22"/>
                    </a:lnTo>
                    <a:lnTo>
                      <a:pt x="0" y="21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26160" y="3117960"/>
                <a:ext cx="93960" cy="7452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0" y="24"/>
                    </a:moveTo>
                    <a:lnTo>
                      <a:pt x="0" y="21"/>
                    </a:lnTo>
                    <a:lnTo>
                      <a:pt x="1" y="18"/>
                    </a:lnTo>
                    <a:lnTo>
                      <a:pt x="3" y="16"/>
                    </a:lnTo>
                    <a:lnTo>
                      <a:pt x="5" y="13"/>
                    </a:lnTo>
                    <a:lnTo>
                      <a:pt x="7" y="10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9" y="2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4" y="2"/>
                    </a:lnTo>
                    <a:lnTo>
                      <a:pt x="54" y="4"/>
                    </a:lnTo>
                    <a:lnTo>
                      <a:pt x="55" y="6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8" y="11"/>
                    </a:lnTo>
                    <a:lnTo>
                      <a:pt x="60" y="12"/>
                    </a:lnTo>
                    <a:lnTo>
                      <a:pt x="62" y="12"/>
                    </a:lnTo>
                    <a:lnTo>
                      <a:pt x="63" y="14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0" y="18"/>
                    </a:lnTo>
                    <a:lnTo>
                      <a:pt x="58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6"/>
                    </a:lnTo>
                    <a:lnTo>
                      <a:pt x="58" y="28"/>
                    </a:lnTo>
                    <a:lnTo>
                      <a:pt x="56" y="28"/>
                    </a:lnTo>
                    <a:lnTo>
                      <a:pt x="55" y="30"/>
                    </a:lnTo>
                    <a:lnTo>
                      <a:pt x="55" y="32"/>
                    </a:lnTo>
                    <a:lnTo>
                      <a:pt x="56" y="33"/>
                    </a:lnTo>
                    <a:lnTo>
                      <a:pt x="59" y="34"/>
                    </a:lnTo>
                    <a:lnTo>
                      <a:pt x="61" y="35"/>
                    </a:lnTo>
                    <a:lnTo>
                      <a:pt x="62" y="37"/>
                    </a:lnTo>
                    <a:lnTo>
                      <a:pt x="61" y="39"/>
                    </a:lnTo>
                    <a:lnTo>
                      <a:pt x="59" y="40"/>
                    </a:lnTo>
                    <a:lnTo>
                      <a:pt x="57" y="42"/>
                    </a:lnTo>
                    <a:lnTo>
                      <a:pt x="54" y="43"/>
                    </a:lnTo>
                    <a:lnTo>
                      <a:pt x="49" y="44"/>
                    </a:lnTo>
                    <a:lnTo>
                      <a:pt x="41" y="45"/>
                    </a:lnTo>
                    <a:lnTo>
                      <a:pt x="34" y="46"/>
                    </a:lnTo>
                    <a:lnTo>
                      <a:pt x="31" y="46"/>
                    </a:lnTo>
                    <a:lnTo>
                      <a:pt x="29" y="44"/>
                    </a:lnTo>
                    <a:lnTo>
                      <a:pt x="26" y="43"/>
                    </a:lnTo>
                    <a:lnTo>
                      <a:pt x="22" y="42"/>
                    </a:lnTo>
                    <a:lnTo>
                      <a:pt x="18" y="44"/>
                    </a:lnTo>
                    <a:lnTo>
                      <a:pt x="15" y="45"/>
                    </a:lnTo>
                    <a:lnTo>
                      <a:pt x="6" y="45"/>
                    </a:lnTo>
                    <a:lnTo>
                      <a:pt x="4" y="44"/>
                    </a:lnTo>
                    <a:lnTo>
                      <a:pt x="2" y="42"/>
                    </a:lnTo>
                    <a:lnTo>
                      <a:pt x="1" y="39"/>
                    </a:lnTo>
                    <a:lnTo>
                      <a:pt x="2" y="37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3" y="28"/>
                    </a:lnTo>
                    <a:lnTo>
                      <a:pt x="0" y="26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6858000" y="15238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Cía. de Seguros de Vid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73360" y="6248520"/>
            <a:ext cx="407988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83600" y="5808600"/>
            <a:ext cx="1457640" cy="3974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nsion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18400" y="6265800"/>
            <a:ext cx="2943360" cy="3974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Retiros Programado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602080" y="5638680"/>
            <a:ext cx="393984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11960" y="5199120"/>
            <a:ext cx="1756440" cy="3974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izacion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98640" y="1981080"/>
            <a:ext cx="499428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01320" y="1585800"/>
            <a:ext cx="3801240" cy="3358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guro de Invalidez y Sobrevivenci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969560" y="2286000"/>
            <a:ext cx="485316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27000" y="2325600"/>
            <a:ext cx="3274200" cy="3668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porte Adicional ( Siniestro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948440" y="3276720"/>
            <a:ext cx="0" cy="167616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65600" y="4054320"/>
            <a:ext cx="1405800" cy="305640"/>
          </a:xfrm>
          <a:prstGeom prst="rect">
            <a:avLst/>
          </a:prstGeom>
          <a:solidFill>
            <a:srgbClr val="0000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enta Vitalici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71720" y="3522600"/>
            <a:ext cx="1329480" cy="397440"/>
          </a:xfrm>
          <a:prstGeom prst="rect">
            <a:avLst/>
          </a:prstGeom>
          <a:solidFill>
            <a:srgbClr val="0000cc"/>
          </a:solidFill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NS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687680" y="3200400"/>
            <a:ext cx="0" cy="144792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3440" y="3200400"/>
            <a:ext cx="0" cy="144792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39840" y="3657600"/>
            <a:ext cx="1274760" cy="305640"/>
          </a:xfrm>
          <a:prstGeom prst="rect">
            <a:avLst/>
          </a:prstGeom>
          <a:solidFill>
            <a:srgbClr val="0000cc"/>
          </a:solidFill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OMISIO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809880"/>
            <a:ext cx="1251000" cy="305640"/>
          </a:xfrm>
          <a:prstGeom prst="rect">
            <a:avLst/>
          </a:prstGeom>
          <a:solidFill>
            <a:srgbClr val="0000cc"/>
          </a:solidFill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ministr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2602080" y="2971800"/>
            <a:ext cx="1547640" cy="19051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618160" y="3662280"/>
            <a:ext cx="1468440" cy="784080"/>
          </a:xfrm>
          <a:prstGeom prst="rect">
            <a:avLst/>
          </a:prstGeom>
          <a:noFill/>
          <a:ln w="50760">
            <a:solidFill>
              <a:srgbClr val="0a0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SCALIZ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727080" y="4114800"/>
            <a:ext cx="4222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140080" y="4114800"/>
            <a:ext cx="4222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26040" y="3738600"/>
            <a:ext cx="879480" cy="706320"/>
          </a:xfrm>
          <a:prstGeom prst="rect">
            <a:avLst/>
          </a:prstGeom>
          <a:noFill/>
          <a:ln w="50760">
            <a:solidFill>
              <a:srgbClr val="0a0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V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1916280"/>
            <a:ext cx="976320" cy="179280"/>
          </a:xfrm>
          <a:prstGeom prst="leftArrow">
            <a:avLst>
              <a:gd name="adj1" fmla="val 50000"/>
              <a:gd name="adj2" fmla="val 136145"/>
            </a:avLst>
          </a:prstGeom>
          <a:solidFill>
            <a:srgbClr val="cc99ff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3797280"/>
            <a:ext cx="9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 U .CH. 2002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03440" y="1219320"/>
            <a:ext cx="2392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652788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 algn="ctr">
              <a:lnSpc>
                <a:spcPct val="3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"/>
              </a:rPr>
              <a:t>BENEFICIOS DEL SISTEMA DE AFP</a:t>
            </a:r>
            <a:endParaRPr b="0" lang="en-US" sz="54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1EC-BD5A-4EEC-9A6B-5833D21B7432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56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VEJEZ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0568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DEFINICIÓN 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L TRABAJADOR DECIDE PENSIONARSE A UNA EDAD DETERMINADA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BENEFICIARI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L TRABAJADOR AFILIADO Y SU FAMILIA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REQUISITO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CUMPLIR EDAD LEGAL 60 M, 65 H.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MONTO PENSIÓN EN FUNCIÓN DE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AHORRO ACUMULADO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DAD DE PENSIONARSE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XPECTATIVAS DE VIDA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GRUPO FAMILIAR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TASA DE INTERES VIGENTE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9E3-015B-442F-8909-04A11DFFF77A}" type="slidenum">
              <a:t>22</a:t>
            </a:fld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60840" y="12240"/>
            <a:ext cx="9115560" cy="11178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985240" cy="669924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TABLA DE EXPECTATIVAS DE VID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EDAD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HOMBRE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MUJ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72      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78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5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2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2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4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7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7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4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5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4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4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5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1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5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6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90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0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      102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   102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DBA-7FDC-4851-B227-B702FF13BDFB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ENSIÓN DE VEJE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aramond"/>
              </a:rPr>
              <a:t>JUBILACIÓN ANTICIPADA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5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0066ff"/>
                </a:solidFill>
                <a:latin typeface="Garamond"/>
              </a:rPr>
              <a:t>EDAD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monto pensión debe ser superior a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SzPct val="60000"/>
              <a:buFont typeface="Monotype Sorts" charset="2"/>
              <a:buChar char="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150% de la pensión mínima y,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SzPct val="60000"/>
              <a:buFont typeface="Monotype Sorts" charset="2"/>
              <a:buChar char="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70 % de sus remuneraciones últimos 10 año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(reajustadas según inflación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Garamond"/>
              </a:rPr>
              <a:t>DESEMPEÑO DE TRABAJO PESA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trabajo pesado, semipesad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misión ergonóm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tización adiciona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rebaja de añ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CDC-CEB1-4E12-A69D-5511F8746D27}" type="slidenum">
              <a:t>24</a:t>
            </a:fld>
          </a:p>
        </p:txBody>
      </p:sp>
    </p:spTree>
  </p:cSld>
  <p:transition spd="med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Garamond"/>
              </a:rPr>
              <a:t>PENSIÓN DE VEJEZANTICIPAD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3080" y="1219320"/>
            <a:ext cx="8905680" cy="5549760"/>
          </a:xfrm>
          <a:prstGeom prst="rect">
            <a:avLst/>
          </a:prstGeom>
          <a:solidFill>
            <a:srgbClr val="fcfeb9"/>
          </a:solidFill>
          <a:ln w="25560">
            <a:solidFill>
              <a:srgbClr val="fcfeb9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700"/>
              </a:spcBef>
              <a:buClr>
                <a:srgbClr val="00279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Garamond"/>
              </a:rPr>
              <a:t>EFECTO DEL BONO DE RECONOCIMIENTO  EN LA JUBILACIÓN ANTICIPADA E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5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Garamond"/>
              </a:rPr>
              <a:t>DADO QUE EL BONO SE LIQUIDA CUANDO SE CUMPLE LA EDAD LEGAL (60 M, 65 H), Y EL TRABAJADOR SE ESTA PENSIONANDO ANTES, ENTONCES EL BONO PUEDE SER 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VENDIDO, AFP HACE LOS TRAMIT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ENDOSADO SOLO SI ESCOGE LA MODALIDAD DE RENTA VITALICI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99ccff"/>
              </a:buClr>
              <a:buSzPct val="75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BCF-32EF-4902-B430-9B9B8E2103D3}" type="slidenum">
              <a:t>25</a:t>
            </a:fld>
          </a:p>
        </p:txBody>
      </p:sp>
    </p:spTree>
  </p:cSld>
  <p:transition spd="med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55440" y="196920"/>
          <a:ext cx="8909280" cy="658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40" y="196920"/>
                    <a:ext cx="8909280" cy="65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C7A-6E90-468C-A9C1-F5234F365F56}" type="slidenum">
              <a:t>26</a:t>
            </a:fld>
          </a:p>
        </p:txBody>
      </p:sp>
    </p:spTree>
  </p:cSld>
  <p:transition spd="med"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0" y="1143000"/>
          <a:ext cx="434196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43419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809880" y="1065240"/>
          <a:ext cx="5772240" cy="548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1065240"/>
                    <a:ext cx="5772240" cy="54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DF0-7525-4B68-8438-E945A998790E}" type="slidenum">
              <a:t>27</a:t>
            </a:fld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17840" y="76320"/>
            <a:ext cx="6400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INVALIDEZ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720" y="1066320"/>
            <a:ext cx="9070920" cy="579132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5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DEFINICIÓN </a:t>
            </a:r>
            <a:r>
              <a:rPr b="0" lang="en-US" sz="2800" spc="-1" strike="noStrike">
                <a:solidFill>
                  <a:srgbClr val="99cc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EL TRABAJADOR HA PERDIDO A LO MENOS EL 50% DE SU CAPACIDAD DE TRABAJO. SI LA PÉRDIDA ES ENTRE UN 50% Y 66,6% ES INVALIDO PARCIAL. SI LA PÉRDIDA ES SUPERIOR AL 66,6%, ES INVALIDO TOTA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BENEFICIARI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EL TRABAJADOR AFILIADO DECLARADO INVÁLIDO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REQUISITO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HABER SIDO DECLARADO INVÁLIDO PARCIAL O TOTAL, POR UNA COMISIÓN MÉDICA REGIONAL O COMISIÓN MÉDICA CENTRA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6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MONTO PENSIÓN EN FUNCIÓN DE COBERTURA DEL SEGURO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               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             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PARCIAL     TOTA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CUBIERTO POR SEGURO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                       50%            70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PARCIALMENTE CUBIERTO(CESANTE)              35%            50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% EXPRESADO EN FUNCIÓN DE R.I. DE ULTIMOS 10 AÑO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8659-4414-4F7C-BE19-1C2393F8A717}" type="slidenum">
              <a:t>28</a:t>
            </a:fld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INVALIDEZ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080" y="1460520"/>
            <a:ext cx="898200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LA COMISIÓN MÉDICA REGIONAL(CMR) 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ITA AL AFILIADO A ENTREVISTA CON MÉDICO ASIGNAD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SOLICITA EXÁMENES DE APOYO A ESPECIALISTA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MÉDICO ASIGNADO PRESENTA EL CASO EN LA SESIÓN DE LA CMR (TRES MÉDICOS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EMITE EL PRIMER DICTAMEN EN UN PLAZO DE 60 DÍAS, QUE PUEDE SER AMPLIADO HASTA 120 DÍA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DICTAMEN DETERMINA LA INVALIDEZ (PARCIAL O TOTAL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1AE-2DED-42DB-9664-0080FC921E95}" type="slidenum">
              <a:t>29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5240" y="257040"/>
            <a:ext cx="8670960" cy="13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960" y="1218960"/>
            <a:ext cx="8986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BASADO EN EL REPART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ENSIONES SE PAGABAN CON LAS COTIZACIONE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DE LOS TRABAJ. ACTIVOS   (CASI NO EXISTIA AHORRO 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RIGIDEZ EN LA AFILIAC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SEGUN NATURALEZA DEL TRABAJ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0"/>
            <a:ext cx="7848720" cy="1198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      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INCIPALES CARACTERISTIC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32880" y="646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212-5469-464E-9C74-B1C6E096673F}" type="slidenum">
              <a:t>3</a:t>
            </a:fld>
          </a:p>
        </p:txBody>
      </p: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INVALIDEZ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3080" y="1460520"/>
            <a:ext cx="8982000" cy="523224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EL  SEGUNDO  DICTAMEN  SE EMITE EN UNA DE LAS SIGUIENTES CIRCUNSTANCIAS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HAN TRANSCURRIDO TRES AÑOS DESDE EMITIDO  EL PRIMER  DICTAMEN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UANDO AFILIADO CUMPLE LA EDAD LEGAL PARA PENSIONARSE POR VEJEZ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UANDO EL INVÁLIDO PARCIAL SOLICITA SER CALIFICADO COMO INVÁLIDO TOTA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A CMR CITA A UN AFILIADO A REEVALUARS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CD9-03AA-401D-9EF1-437281712F9B}" type="slidenum">
              <a:t>30</a:t>
            </a:fld>
          </a:p>
        </p:txBody>
      </p:sp>
    </p:spTree>
  </p:cSld>
  <p:transition spd="med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84240" y="168120"/>
          <a:ext cx="8851680" cy="655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240" y="168120"/>
                    <a:ext cx="8851680" cy="65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200-4725-4085-B921-047D32010469}" type="slidenum">
              <a:t>31</a:t>
            </a:fld>
          </a:p>
        </p:txBody>
      </p:sp>
    </p:spTree>
  </p:cSld>
  <p:transition spd="med"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41120" y="168120"/>
          <a:ext cx="8850600" cy="664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120" y="168120"/>
                    <a:ext cx="885060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5E0-3711-48FD-9BAC-554B9AB81124}" type="slidenum">
              <a:t>32</a:t>
            </a:fld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12680" y="196920"/>
          <a:ext cx="8850240" cy="658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680" y="196920"/>
                    <a:ext cx="8850240" cy="65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3AC-DB1C-45D5-B36A-31B883F6585E}" type="slidenum">
              <a:t>33</a:t>
            </a:fld>
          </a:p>
        </p:txBody>
      </p:sp>
    </p:spTree>
  </p:cSld>
  <p:transition spd="med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9C4-2B4B-4535-89FB-C986F825ACCB}" type="slidenum">
              <a:t>34</a:t>
            </a:fld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112680" y="112680"/>
          <a:ext cx="8880480" cy="661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680" y="112680"/>
                    <a:ext cx="8880480" cy="66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080-C12D-47BF-9426-904BA0DAC321}" type="slidenum">
              <a:t>35</a:t>
            </a:fld>
          </a:p>
        </p:txBody>
      </p:sp>
    </p:spTree>
  </p:cSld>
  <p:transition spd="med">
    <p:pull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Garamond"/>
              </a:rPr>
              <a:t>PENSIÓN DE SOBREVIVENCI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3080" y="1219320"/>
            <a:ext cx="8982000" cy="55497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4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Garamond"/>
              </a:rPr>
              <a:t>DEFINI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aramond"/>
              </a:rPr>
              <a:t>EL TRABAJADOR FALLECE Y SUS SOBREVIVIENTES RECIBEN UNA PENSIÓN SEGÚN EL TIPO DE PARENTESC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5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Garamond"/>
              </a:rPr>
              <a:t>BENEFICIARI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OS SOBREVIVIENTES DEL TRABAJADOR FALLECIDO 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OS CONYUG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HIJOS LEGÍTIMOS Y  NO MATRIMONIALES: MENOR DE 18 AÑOS O HASTA LOS 24 (ESTUDIANTES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MADRE DE HIJOS  NO MATRIMONIALES (SOLT. O VIUDA):VIVIR A EXPENSAS DEL TRABAJADOR FALLECID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HIJO INVÁLIDO PENSIÓN ES VITALICI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OS PADRES EN AUSENCIA DE LOS ANTERIORES,  QUE VIVEN A EXPENSAS DEL TRABAJADOR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87F-0266-4930-8F3C-D1ADDA9649A1}" type="slidenum">
              <a:t>36</a:t>
            </a:fld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73080" y="1460520"/>
            <a:ext cx="898200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aramond"/>
              </a:rPr>
              <a:t>MONTO DE PENS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CÓNYUGE CON/SIN HIJOS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35%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42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HIJOS CADA UNO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10.5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MADRE HIJOS  NO MATRIMONIALES C/S HIJOS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21%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25.2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PADRES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35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LOS % ESTAN REFERIDOS AL INGRESO PROMEDIO MENSUAL DE LOS ÚLTIMOS 10 AÑOS (REAJUSTADOS).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88920" y="12600"/>
            <a:ext cx="8977320" cy="119376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c7f69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Garamond"/>
              </a:rPr>
              <a:t>PENSIÓN DE SOBREVIVENCIA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B3D-A071-4206-B68F-68A250CE1D7F}" type="slidenum">
              <a:t>37</a:t>
            </a:fld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56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FINANCIAMIENTO DE LAS PENS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00" y="1384200"/>
            <a:ext cx="8966160" cy="538488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Garamond"/>
              </a:rPr>
              <a:t>EL TRABAJADOR AL MOMENTO DE PENSIONARSE TIENE LOS SIGUIENTES RECURSOS (CUANDO CORRESPOND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FONDO DE PENSIONES (10% MÁS RENTABILIDAD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TIZACIÓN VOLUNTARIA  ( A P V 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BONO DE RECONOCI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DEPÓSITOS CONVENID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APORTE ADICIONAL (INVALIDEZ Y SOBREVIVENCIA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AHORRO VOLUNTARIO / APV   (SI LO DESEA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9B11-65A8-48C8-BC70-AAFFDC50D936}" type="slidenum">
              <a:t>38</a:t>
            </a:fld>
          </a:p>
        </p:txBody>
      </p:sp>
    </p:spTree>
  </p:cSld>
  <p:transition spd="med"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076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CONSIDERACIONES GENER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080" y="1460520"/>
            <a:ext cx="8982000" cy="523224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Garamond"/>
              </a:rPr>
              <a:t>CUALQUIERA SEA LA CAUSA DE LA PENSIÓN DEL AFILIADO (VEJEZ, ANTICIPADA, INVALIDEZ) O DE LOS SOBREVIVIENTES, ELLOS DEBEN ESCOGER UNA MODALIDAD DE PENSIÓ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RETIROS PROGRAMAD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RENTA VITALICI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RENTA TEMPORAL CON RENTA VITALICIA DIFERID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OTRAS VARIABL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4D0-70BA-47BD-91E0-85277DF7E687}" type="slidenum">
              <a:t>39</a:t>
            </a:fld>
          </a:p>
        </p:txBody>
      </p:sp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5240" y="257040"/>
            <a:ext cx="8670960" cy="13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6960" y="1218960"/>
            <a:ext cx="8986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DMINISTRA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&gt; 32 CAJAS (MAYORIA ESTATALES) Y 52 REGIMENES 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25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COTIZAC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&gt; VARIABLE SEGUN CAJA ( EN ALGUNOS CASOS    MAYOR    AL   50%  DE  LA REMUNERACIÓN)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0"/>
            <a:ext cx="7848720" cy="1198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      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INCIPALES CARACTERISTIC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32880" y="646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DA9-C869-46D7-A8A2-2C1F89FC18A6}" type="slidenum">
              <a:t>4</a:t>
            </a:fld>
          </a:p>
        </p:txBody>
      </p:sp>
    </p:spTree>
  </p:cSld>
  <p:transition spd="slow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56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MODALIDADES DE PENS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040" y="1454040"/>
            <a:ext cx="8916840" cy="524520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7b00e4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ITEM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     R.VITALICIA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         R.PROGRAM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PENSIÓN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FIJA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VARIABL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MONEDA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UF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UF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SE PUEDE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CAMBIAR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NO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   SÍ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QUIEN PAGA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LA PENSIÓN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CÍA SEG.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   AFP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HERENCIA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  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NO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    SÍ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A09-77C8-42E5-BFA6-2224AC107845}" type="slidenum">
              <a:t>40</a:t>
            </a:fld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2600" y="12600"/>
            <a:ext cx="9048960" cy="11178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b4f37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Garamond"/>
              </a:rPr>
              <a:t>MODALIDADES DE PENSIÓ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440" y="1219320"/>
            <a:ext cx="8907480" cy="547344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99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ITEM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            R.VITALICIA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R.PROGRAM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C. MORTUORIA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Í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SÍ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ROPIEDAD FONDOS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ÍA DE SEG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 AFILIAD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DMIN. DE FONDO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ÍA DE SEG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AF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EXCED.LIB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ISPOSICIÓN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Í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SÍ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GARANTÍA ESTADO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. MÍNIMAS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P.MÍNIM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QUIEBRA CÍA.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RENT.MÍN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DE8-F115-4EB6-9AFC-78FF91AB9B44}" type="slidenum">
              <a:t>41</a:t>
            </a:fld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84240" y="139680"/>
          <a:ext cx="8935920" cy="661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240" y="139680"/>
                    <a:ext cx="8935920" cy="661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332-DDC9-4FB0-86D5-3140055E0F60}" type="slidenum">
              <a:t>42</a:t>
            </a:fld>
          </a:p>
        </p:txBody>
      </p:sp>
    </p:spTree>
  </p:cSld>
  <p:transition spd="med">
    <p:randomBa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90512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Garamond"/>
              </a:rPr>
              <a:t>EXCEDENTES  DE  LIBRE DISPOSICIÓ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0568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Garamond"/>
              </a:rPr>
              <a:t>EN CUALQUIER MODALIDAD QUE EL TRABAJADOR ESCOJA PARA SU PENSIÓN DE VEJEZ, TIENE LA OPCIÓN DE RETIRAR UNA PARTE DE SUS FONDOS PREVISIONALES PARA DISPONER LIBREMENTE DE ELLO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954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Garamond"/>
              </a:rPr>
              <a:t>EL MONTO DEL EXCEDENTE QUE PUEDE RETIRAR ESTA LIMITADO EN TERMINOS QUE EL SALDO QUE QUEDA EN LA CUENTA INDIVIDUAL PERMITA FINANCIAR UNA PENSIÓN EQUIVALENTE AL 70% DEL PROMEDIO DE LAS REMUNERACIONES E IGUAL AL 120% DE LA PENSIÓN MÍNIMA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D4B1-FFCD-4399-AFDE-2FC8C9119D93}" type="slidenum">
              <a:t>43</a:t>
            </a:fld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Garamond"/>
              </a:rPr>
              <a:t>CUOTA MORTUORI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8200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MONTO DE LA CUOTA MORTUORIA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Garamond"/>
              </a:rPr>
              <a:t>15 UF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REQUISI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ERTIFICADO DE FALLECI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FACTURA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VINCULO MATRIMONIO O PARENTESCO 100% DE 15 UF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OTRA PERSONA 100% GASTO CON TOPE DE 15 UF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20F-3F0F-4D34-8DC3-6423DA6F46F0}" type="slidenum">
              <a:t>44</a:t>
            </a:fld>
          </a:p>
        </p:txBody>
      </p:sp>
    </p:spTree>
  </p:cSld>
  <p:transition spd="med">
    <p:checke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Garamond"/>
              </a:rPr>
              <a:t>GARANTIA DEL ESTADO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0568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ccff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EL ESTADO GARANTIZA LO SIGUIENTE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BONO DE RECONOCI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PENSIONES BASICAS SOLIDARIAS Y PMAC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RENTABILIDAD MINIM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APORTE ADICIONA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NTRIBUCIÓN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           </a:t>
            </a: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RENTAS VITALICIAS 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6D3-C00E-4796-B7F6-3DBB35A06D07}" type="slidenum">
              <a:t>45</a:t>
            </a:fld>
          </a:p>
        </p:txBody>
      </p:sp>
    </p:spTree>
  </p:cSld>
  <p:transition spd="med">
    <p:cover dir="l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7520" y="304920"/>
            <a:ext cx="8885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SULTADOS DEL SISTEMA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0"/>
            <a:ext cx="78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stema de af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0B88-B40C-49BE-AB72-78E53D57E5B4}" type="slidenum">
              <a:t>46</a:t>
            </a:fld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7520" y="304920"/>
            <a:ext cx="8885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0"/>
            <a:ext cx="78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stema de af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ahoma"/>
              </a:rPr>
              <a:t>La importancia del ahorro...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468-29B9-4A3C-9575-FD233817E563}" type="slidenum">
              <a:t>47</a:t>
            </a:fld>
          </a:p>
        </p:txBody>
      </p:sp>
    </p:spTree>
  </p:cSld>
  <p:transition spd="slow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304920" y="380880"/>
          <a:ext cx="8839080" cy="617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80880"/>
                    <a:ext cx="88390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B02-C660-4F8C-A48A-39A2EF683D82}" type="slidenum">
              <a:t>48</a:t>
            </a:fld>
          </a:p>
        </p:txBody>
      </p:sp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3080" y="228600"/>
            <a:ext cx="8088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COTIZACIONES VOLUNTARIAS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SEGÚN </a:t>
            </a: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RENTA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IMPONIBLE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(d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ic. 2001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95400" y="1219320"/>
          <a:ext cx="854712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219320"/>
                    <a:ext cx="8547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 flipH="1">
            <a:off x="2285640" y="2286000"/>
            <a:ext cx="15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9880" y="2286000"/>
            <a:ext cx="0" cy="320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2133720"/>
            <a:ext cx="0" cy="3352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1905120"/>
            <a:ext cx="0" cy="358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285640" y="2133720"/>
            <a:ext cx="2462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285640" y="190512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10960" y="22096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9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25360" y="2057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48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21000" y="1523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73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7162560" y="1676520"/>
            <a:ext cx="6094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773480" y="1371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7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7DE-D822-48CA-AAAB-49F034BABE98}" type="slidenum">
              <a:t>49</a:t>
            </a:fld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6960" y="1218960"/>
            <a:ext cx="8986680" cy="54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BENEFICI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&gt;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ENSIONES DE VEJEZ, INVALIDEZ, SOBREVIVENCIA, ERAN DIVERSAS SEGÚN FUERE LA CAJ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 PENSIONES NO SE REAJUSTABAN AUTOMÁTICAMENTE SEGÚN LA INFLACIÓN (IPC). SE NECESITABA  UNA LEY ESPECIAL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 DISTINTOS REQUISITOS Y FÓRMULAS DE CÁLCULO  PARA OBTENER PENSIONES EN CADA CAJA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85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ahoma"/>
              </a:rPr>
              <a:t>        </a:t>
            </a:r>
            <a:br>
              <a:rPr sz="2000"/>
            </a:b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6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9B0-5039-43A8-931E-B3BCD81A3FEE}" type="slidenum">
              <a:t>5</a:t>
            </a:fld>
          </a:p>
        </p:txBody>
      </p:sp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3324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ahoma"/>
              </a:rPr>
              <a:t>Afiliados que mantienen 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Tahoma"/>
              </a:rPr>
              <a:t>Ahorro Previsional Voluntario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Fondos Administrado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(dic. 2001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Cotización Voluntaria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US$  276 millone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Depósitos Convenidos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US$  107 millon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Ahorro Voluntario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US$  211 millon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TOTAL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US$ 594 millon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Número de Persona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(dic. 2001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Cotización Voluntaria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238.918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Depósitos Convenido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42.285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Ahorro Voluntario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       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1.027.849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TOTAL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     1.309.052 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F1B5-C25C-48D1-974C-32EA7A128D74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5335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volución del número de afiliados y cotizan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47712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Fuente: Asociación de AFP-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-38160" y="1676520"/>
            <a:ext cx="4610160" cy="41418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4610160" y="1719360"/>
            <a:ext cx="4610160" cy="414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D59-A8C5-475D-99B3-FFD6C6BC2FF4}" type="slidenum">
              <a:t>51</a:t>
            </a:fld>
          </a:p>
        </p:txBody>
      </p:sp>
    </p:spTree>
  </p:cSld>
  <p:transition spd="slow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-233280" y="1346040"/>
          <a:ext cx="9559800" cy="551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33280" y="1346040"/>
                    <a:ext cx="9559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250920" y="-76320"/>
            <a:ext cx="88930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Evolución de los Fondos de Pensione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en millones de UF a diciembre de cada año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51640" y="1628640"/>
            <a:ext cx="2582640" cy="0"/>
          </a:xfrm>
          <a:prstGeom prst="line">
            <a:avLst/>
          </a:prstGeom>
          <a:ln w="38160">
            <a:solidFill>
              <a:srgbClr val="fe1c1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2160" y="1233360"/>
            <a:ext cx="123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ll. U.F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38120" y="135252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 $ 75.594,47 Millone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42920" y="2205000"/>
            <a:ext cx="56577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OS FONDOS ACUMULADOS PERTENECEN A MÁS DE 7,5  MILLONES DE CHILENOS,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UYO SALDO PROMEDI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LCANZA A $ 5,5 MILLO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62880" y="645336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Times New Roman"/>
              </a:rPr>
              <a:t>Junio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 U .CH. 2002</a:t>
            </a:r>
          </a:p>
        </p:txBody>
      </p:sp>
    </p:spTree>
  </p:cSld>
  <p:transition spd="slow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6320" y="0"/>
            <a:ext cx="90676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olución de las Inversiones de los Fondos de Pensiones por Sect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Como porcentaje del Total del Fondo de Pensiones</a:t>
            </a:r>
            <a:r>
              <a:rPr b="1" lang="en-US" sz="2000" spc="-1" strike="noStrike">
                <a:solidFill>
                  <a:srgbClr val="ffff00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-380880" y="2133720"/>
          <a:ext cx="419076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2133720"/>
                    <a:ext cx="419076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2438280" y="2438280"/>
          <a:ext cx="4419720" cy="407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2438280"/>
                    <a:ext cx="441972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6019920" y="1828800"/>
          <a:ext cx="3809880" cy="5029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1828800"/>
                    <a:ext cx="3809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534240" y="22240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1-Dic.-198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25200" y="22240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1-Dic.-199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49280" y="22240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1-Dic.-200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F42-60EF-4969-8FBE-8F98730DA975}" type="slidenum">
              <a:t>53</a:t>
            </a:fld>
          </a:p>
        </p:txBody>
      </p:sp>
    </p:spTree>
  </p:cSld>
  <p:transition spd="slow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-380880" y="493560"/>
          <a:ext cx="10726560" cy="712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493560"/>
                    <a:ext cx="10726560" cy="71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0" y="0"/>
            <a:ext cx="893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versiones de los Fondos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(Como % del Fondo de Pensiones  31 de diciembre de 2001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30480" y="4005360"/>
            <a:ext cx="1471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mpres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18,5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73360" y="2819520"/>
            <a:ext cx="11890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Bancari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33,1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27520" y="2819520"/>
            <a:ext cx="908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35,0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62640" y="4005360"/>
            <a:ext cx="1471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xtranjer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13,4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86400" y="19051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.R. (I.N.P.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,0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05720" y="1905120"/>
            <a:ext cx="16002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anco Centr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0,0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8288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,7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. H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2,9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18288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ep. y Bon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9,5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955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.F.I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,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90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onos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,2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7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9,9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5791320"/>
            <a:ext cx="129528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Vari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9,0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67480" y="5791320"/>
            <a:ext cx="129564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Fij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4,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09920" y="1130400"/>
            <a:ext cx="2838600" cy="459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M US$ 35.460,7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81D-B56B-431F-90CF-3B18533AE2BC}" type="slidenum">
              <a:t>54</a:t>
            </a:fld>
          </a:p>
        </p:txBody>
      </p:sp>
    </p:spTree>
  </p:cSld>
  <p:transition spd="slow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-396720" y="762120"/>
          <a:ext cx="10726560" cy="712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96720" y="762120"/>
                    <a:ext cx="10726560" cy="7126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99ccff"/>
                    </a:outerShdw>
                  </a:effectLst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76320" y="74520"/>
            <a:ext cx="893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versiones de los Fondos de Pension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Como % del Fondo de Pensiones de junio de 2006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378600">
            <a:off x="2842920" y="4149360"/>
            <a:ext cx="1471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mpres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23,81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1078600">
            <a:off x="2806560" y="3078000"/>
            <a:ext cx="118908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Bancari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29,95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19640" y="2924280"/>
            <a:ext cx="908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15,02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21009000">
            <a:off x="5866920" y="4005000"/>
            <a:ext cx="1471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xtranjer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31,22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788000" y="2057400"/>
            <a:ext cx="121896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.R. (I.N.P.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,83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67440" y="2057400"/>
            <a:ext cx="16002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anco Centr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9,17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00360" y="20574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00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,76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76360" y="20574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00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. H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,73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955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.F.I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,35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90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onos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,89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7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3,57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19920" y="5791320"/>
            <a:ext cx="13716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Vari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30,78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5791320"/>
            <a:ext cx="129564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Fij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0,4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1295280"/>
            <a:ext cx="283860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M US$ 75.594,4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8000" y="2057400"/>
            <a:ext cx="129528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00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ep.y Bon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4,46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812000" y="2060640"/>
            <a:ext cx="121932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I. Tesorerí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,02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443640" y="278136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2626920" y="2852640"/>
            <a:ext cx="144360" cy="216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08720" y="5157720"/>
            <a:ext cx="14292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916000" y="5373720"/>
            <a:ext cx="144360" cy="21600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0E9-E9A5-4D1F-BDAB-0A9A63B1C99C}" type="slidenum">
              <a:t>55</a:t>
            </a:fld>
          </a:p>
        </p:txBody>
      </p:sp>
    </p:spTree>
  </p:cSld>
  <p:transition spd="slow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42840" y="838080"/>
          <a:ext cx="8962920" cy="556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0" y="838080"/>
                    <a:ext cx="896292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561960" y="5029200"/>
            <a:ext cx="7905600" cy="0"/>
          </a:xfrm>
          <a:prstGeom prst="line">
            <a:avLst/>
          </a:prstGeom>
          <a:ln w="50760">
            <a:solidFill>
              <a:srgbClr val="fc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77320" y="2514600"/>
            <a:ext cx="914400" cy="7365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229600" y="2743200"/>
            <a:ext cx="1106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Century Gothic"/>
              </a:rPr>
              <a:t>10,7%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534520" y="327672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28800" y="1676520"/>
            <a:ext cx="2209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( *1) Rentabilidad promedio acumulada Julio 81-Dic. 200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504280" y="4876920"/>
            <a:ext cx="639720" cy="3938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4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5943600"/>
            <a:ext cx="883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81  82  83   84   85   86   87  88  89   90  91   92  93  94  95   96  97  98   99 ‘ 00  ‘01  (*1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920" y="76320"/>
            <a:ext cx="9039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ntabilidad Real Anual de l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ndos de Pension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647712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Fuente: Asociación de AFP-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D707-948E-4BFD-A817-EDDDA10C24EB}" type="slidenum">
              <a:t>56</a:t>
            </a:fld>
          </a:p>
        </p:txBody>
      </p:sp>
    </p:spTree>
  </p:cSld>
  <p:transition spd="slow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0" y="1311120"/>
          <a:ext cx="9164520" cy="554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11120"/>
                    <a:ext cx="9164520" cy="55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8497800" y="6361200"/>
            <a:ext cx="166680" cy="366480"/>
          </a:xfrm>
          <a:prstGeom prst="rect">
            <a:avLst/>
          </a:prstGeom>
          <a:noFill/>
          <a:ln w="0">
            <a:noFill/>
          </a:ln>
          <a:effectLst>
            <a:outerShdw dist="269322" dir="189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2360" y="119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26920" y="1197000"/>
            <a:ext cx="813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ntabilidad Real Anual de los Fondos de Pensio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En 25 año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445000"/>
            <a:ext cx="8245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713800" y="5300640"/>
            <a:ext cx="395280" cy="216000"/>
          </a:xfrm>
          <a:prstGeom prst="rect">
            <a:avLst/>
          </a:prstGeom>
          <a:solidFill>
            <a:srgbClr val="0000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67564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964720" y="3068640"/>
            <a:ext cx="0" cy="151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004720" y="2565360"/>
            <a:ext cx="31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Rentabilidad Promedio Anu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Acumulada jul. 81– dic. 05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282160" y="2637000"/>
            <a:ext cx="826920" cy="431640"/>
          </a:xfrm>
          <a:prstGeom prst="leftArrowCallout">
            <a:avLst>
              <a:gd name="adj1" fmla="val 0"/>
              <a:gd name="adj2" fmla="val 25000"/>
              <a:gd name="adj3" fmla="val 45224"/>
              <a:gd name="adj4" fmla="val 66673"/>
            </a:avLst>
          </a:prstGeom>
          <a:noFill/>
          <a:ln w="38160">
            <a:solidFill>
              <a:srgbClr val="d313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87160" y="649116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cc"/>
                </a:solidFill>
                <a:latin typeface="Tahoma"/>
              </a:rPr>
              <a:t>*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: Promedio ponderado multifond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03240" y="189000"/>
            <a:ext cx="2768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ffff00"/>
                </a:solidFill>
                <a:latin typeface="Arial"/>
              </a:rPr>
              <a:t>Rentabilidad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DBE-DB24-413E-9BBC-1281D4483839}" type="slidenum">
              <a:t>57</a:t>
            </a:fld>
          </a:p>
        </p:txBody>
      </p:sp>
    </p:spTree>
  </p:cSld>
  <p:transition spd="slow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55440" y="1558800"/>
          <a:ext cx="9126720" cy="503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40" y="1558800"/>
                    <a:ext cx="9126720" cy="50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8497800" y="6361200"/>
            <a:ext cx="166680" cy="366480"/>
          </a:xfrm>
          <a:prstGeom prst="rect">
            <a:avLst/>
          </a:prstGeom>
          <a:noFill/>
          <a:ln w="0">
            <a:noFill/>
          </a:ln>
          <a:effectLst>
            <a:outerShdw dist="269322" dir="189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00000" y="11253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( Promedio a Dic. de c/ año como % de la Renta Promedio Imponible 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49760" y="4782960"/>
            <a:ext cx="651132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cluye el Costo del Seguro y Comisión Fij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5440" y="63104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6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9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4436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8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986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5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896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1932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85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4472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5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050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2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654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1932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30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734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933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876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480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41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7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30216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6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610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5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1496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0294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-74880" y="62485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32000" y="2708280"/>
            <a:ext cx="705636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349360"/>
            <a:ext cx="6872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459640" y="3860640"/>
            <a:ext cx="68436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452440" y="3930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2,4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6520" y="2425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4,87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99640" y="43920"/>
            <a:ext cx="799308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osto para un Cotizant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n el Sistema de AFP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5929560" y="2133720"/>
            <a:ext cx="300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1,06%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Seg. Inv. Sobrev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1,31%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Comisión % AF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0,06% 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Comisión Fij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84480" y="223992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2,37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2133720"/>
            <a:ext cx="144360" cy="64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37532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6908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38980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75016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738280" y="659772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Jun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2DD-668B-4DBA-8C9C-0CD2A005E921}" type="slidenum">
              <a:t>58</a:t>
            </a:fld>
          </a:p>
        </p:txBody>
      </p:sp>
    </p:spTree>
  </p:cSld>
  <p:transition spd="slow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0720" y="0"/>
            <a:ext cx="89629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Número de Pensiones Pagad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990720" y="839880"/>
          <a:ext cx="8153280" cy="545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839880"/>
                    <a:ext cx="815328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06E-5429-496F-98AA-C3D8C351CD59}" type="slidenum">
              <a:t>59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6320" y="456840"/>
            <a:ext cx="8596440" cy="11905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7320" y="1980720"/>
            <a:ext cx="8758080" cy="4705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EQUISITOS PARA JUBILA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06360" y="2771640"/>
            <a:ext cx="8531280" cy="375300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3440" y="2971800"/>
            <a:ext cx="2446560" cy="3110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BRER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PLEADOS  PART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PLEAD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ÚBLIC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PLEAD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NCA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LAMENTA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7920" y="3060720"/>
            <a:ext cx="4194360" cy="35568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12120" y="3024360"/>
            <a:ext cx="116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65 AÑ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7920" y="3594240"/>
            <a:ext cx="3070440" cy="431640"/>
          </a:xfrm>
          <a:prstGeom prst="rect">
            <a:avLst/>
          </a:prstGeom>
          <a:solidFill>
            <a:srgbClr val="676767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56240" y="35575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35 AÑOS DE TRAB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7920" y="4280040"/>
            <a:ext cx="2506680" cy="355320"/>
          </a:xfrm>
          <a:prstGeom prst="rect">
            <a:avLst/>
          </a:prstGeom>
          <a:solidFill>
            <a:srgbClr val="91919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4480" y="4319640"/>
            <a:ext cx="27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30 AÑOS DE TRABAJ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7920" y="5118120"/>
            <a:ext cx="208764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72360" y="5157720"/>
            <a:ext cx="27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24 AÑOS DE TRABAJ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7920" y="5803920"/>
            <a:ext cx="1311480" cy="355680"/>
          </a:xfrm>
          <a:prstGeom prst="rect">
            <a:avLst/>
          </a:prstGeom>
          <a:solidFill>
            <a:srgbClr val="dadada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99440" y="5843520"/>
            <a:ext cx="27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15 AÑOS DE TRABAJ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0BD-877E-466A-83EE-46B6EBB537FC}" type="slidenum">
              <a:t>6</a:t>
            </a:fld>
          </a:p>
        </p:txBody>
      </p:sp>
    </p:spTree>
  </p:cSld>
  <p:transition spd="slow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ensiones Pagadas según Modalidad(Dic. 200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04920" y="1828800"/>
          <a:ext cx="883908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828800"/>
                    <a:ext cx="88390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065-6010-4FE9-869F-EEF903D2784F}" type="slidenum">
              <a:t>60</a:t>
            </a:fld>
          </a:p>
        </p:txBody>
      </p:sp>
    </p:spTree>
  </p:cSld>
  <p:transition spd="slow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116000" y="0"/>
            <a:ext cx="712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ensiones Pagada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or Tipo como % sobre el total a junio de 2006)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-541440" y="2284560"/>
          <a:ext cx="9145800" cy="644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2284560"/>
                    <a:ext cx="9145800" cy="64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489600" y="1628640"/>
            <a:ext cx="3720960" cy="45972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589.023 pensiones pagada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341360"/>
            <a:ext cx="3779640" cy="134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00"/>
                </a:solidFill>
                <a:uFillTx/>
                <a:latin typeface="Arial"/>
              </a:rPr>
              <a:t>Promedio Jubilación Anticipad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Hombres: 55,6 años (9,4 años antes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Mujeres  : 53,3 años (6,7 años antes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Total       : 55,2 año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3B2-7F05-4948-A340-49D317EBD701}" type="slidenum">
              <a:t>61</a:t>
            </a:fld>
          </a:p>
        </p:txBody>
      </p:sp>
    </p:spTree>
  </p:cSld>
  <p:transition spd="slow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24000" y="5300640"/>
            <a:ext cx="8567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Supuesto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: Afiliado hombre, cotiza desde los 18 años y se pensiona a los 65. Renta Imponible crece al 2% anual hasta los 50 años, luego estable ($282.680)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omisión Fija: $ 227;  Lagunas previsionales: 8%, 15% y 30%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Tasa de reemplazo líquida. RV-2004 Estática. Tasa de Interés Técnico: 4,3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947720" y="65800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21-VIII-2006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0" y="41400"/>
            <a:ext cx="9144000" cy="516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FA2-44BB-4134-88E5-8A07F284F795}" type="slidenum">
              <a:t>62</a:t>
            </a:fld>
          </a:p>
        </p:txBody>
      </p:sp>
    </p:spTree>
  </p:cSld>
  <p:transition spd="slow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520" y="304920"/>
            <a:ext cx="8885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520" y="0"/>
            <a:ext cx="78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stema de af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ahoma"/>
              </a:rPr>
              <a:t>La importancia del ahorro...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E60-B082-4FFD-BD52-E1A266E8A5AA}" type="slidenum">
              <a:t>63</a:t>
            </a:fld>
          </a:p>
        </p:txBody>
      </p:sp>
    </p:spTree>
  </p:cSld>
  <p:transition spd="slow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304920" y="380880"/>
          <a:ext cx="8839080" cy="617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80880"/>
                    <a:ext cx="88390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BB63-9210-4941-B952-7600904175F8}" type="slidenum">
              <a:t>64</a:t>
            </a:fld>
          </a:p>
        </p:txBody>
      </p:sp>
    </p:spTree>
  </p:cSld>
  <p:transition spd="slow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03080" y="228600"/>
            <a:ext cx="8088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COTIZACIONES VOLUNTARIAS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SEGÚN </a:t>
            </a: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RENTA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IMPONIBLE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(d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ic. 2001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95400" y="1219320"/>
          <a:ext cx="854712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219320"/>
                    <a:ext cx="8547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 flipH="1">
            <a:off x="2285640" y="2286000"/>
            <a:ext cx="15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9880" y="2286000"/>
            <a:ext cx="0" cy="320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2133720"/>
            <a:ext cx="0" cy="3352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29400" y="1905120"/>
            <a:ext cx="0" cy="358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2285640" y="2133720"/>
            <a:ext cx="2462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2285640" y="190512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10960" y="22096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9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25360" y="2057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48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21000" y="1523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73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7162560" y="1676520"/>
            <a:ext cx="6094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73480" y="1371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7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CE8-5A8C-47E8-8596-D04308AB6754}" type="slidenum">
              <a:t>65</a:t>
            </a:fld>
          </a:p>
        </p:txBody>
      </p:sp>
    </p:spTree>
  </p:cSld>
  <p:transition spd="slow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210960" y="1447920"/>
            <a:ext cx="8933040" cy="4821120"/>
          </a:xfrm>
          <a:prstGeom prst="rect">
            <a:avLst/>
          </a:prstGeom>
          <a:noFill/>
          <a:ln w="0">
            <a:noFill/>
          </a:ln>
        </p:spPr>
        <p:txBody>
          <a:bodyPr lIns="112680" rIns="112680" tIns="55440" bIns="55440" anchor="t">
            <a:normAutofit fontScale="81000"/>
          </a:bodyPr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ULTURA PREVISIONAL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CORPORACION DE LOS TRABAJADORES INDEPENDIENTE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ONTINUAR DIVERSIFICANDO LAS INVERSIONE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9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ERFECCIONAR LOS SISTEMAS DE COBRANZA DE COTIZACIONES IMPAGA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ERFECCIONAR MODALIDADES DE PENSION Y SU COMERCIALIZACION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8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135080" y="784080"/>
            <a:ext cx="6283440" cy="75096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DESAFIOS FUTUROS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7223040" y="646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93240" y="6588000"/>
            <a:ext cx="1885680" cy="2566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Book Antiqua"/>
              </a:rPr>
              <a:t>Asociación de AFP  AG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534-674F-408E-B791-EFE57E14854F}" type="slidenum">
              <a:t>66</a:t>
            </a:fld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-71640" y="189000"/>
            <a:ext cx="946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88720" y="0"/>
            <a:ext cx="85309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Potenciar Primer Pilar Solidario (no contributivo)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426320" y="1794240"/>
            <a:ext cx="6500520" cy="4510440"/>
            <a:chOff x="1426320" y="1794240"/>
            <a:chExt cx="6500520" cy="4510440"/>
          </a:xfrm>
        </p:grpSpPr>
        <p:sp>
          <p:nvSpPr>
            <p:cNvPr id="542" name=""/>
            <p:cNvSpPr/>
            <p:nvPr/>
          </p:nvSpPr>
          <p:spPr>
            <a:xfrm rot="16200000">
              <a:off x="6178680" y="2058840"/>
              <a:ext cx="999000" cy="116460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33880" y="6303960"/>
              <a:ext cx="6492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262200" y="2975040"/>
              <a:ext cx="998280" cy="3328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33880" y="5138280"/>
              <a:ext cx="1332360" cy="1165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507400">
              <a:off x="1767240" y="4639680"/>
              <a:ext cx="3161160" cy="1165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6200000">
              <a:off x="2350440" y="2391840"/>
              <a:ext cx="3328560" cy="449460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33880" y="1809360"/>
              <a:ext cx="1080" cy="44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33880" y="1809360"/>
              <a:ext cx="6492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919280" y="1794240"/>
              <a:ext cx="1080" cy="449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87520" y="4609800"/>
              <a:ext cx="181692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PILAR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CONTRIBUTIVO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26320" y="5123520"/>
              <a:ext cx="1332360" cy="66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PILAR SOLIDARIO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88600" y="2127960"/>
              <a:ext cx="1649520" cy="11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PILAR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VOLUNTARIO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AD4-FEFD-4E2E-8849-188C6FB00394}" type="slidenum">
              <a:t>67</a:t>
            </a:fld>
          </a:p>
        </p:txBody>
      </p:sp>
    </p:spTree>
  </p:cSld>
  <p:transition spd="slow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-1440" y="776160"/>
          <a:ext cx="9181800" cy="610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40" y="776160"/>
                    <a:ext cx="9181800" cy="61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cc"/>
                </a:solidFill>
                <a:latin typeface="Tahoma"/>
              </a:rPr>
              <a:t>Aporte Intern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10F-9D1F-43A7-A052-6D0E87AF72EE}" type="slidenum">
              <a:t>68</a:t>
            </a:fld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7320" y="1371240"/>
            <a:ext cx="8758080" cy="53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AUSA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DISMINUCION RELACION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(TRABAJADORES COTIZANTES / PENSIONADOS ) POR</a:t>
            </a:r>
            <a:r>
              <a:rPr b="1" i="1" lang="en-US" sz="20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EFECTOS DEMOGRAFIC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OTORGAMIENTO BENEFICIOS SIN FINANCIA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lnSpc>
                <a:spcPct val="5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LTA EVASION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POR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MINIMA RELACION ENTRE COTIZACIONES Y BENEFICI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ALTAS TASAS DE COTIZACION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BAJAS PENSION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INAPROPIADOS SISTEMAS DE CONTRO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8384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RISIS FINANCIERA 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5BA-60A0-4C4D-9FC2-FD25AEDFAA9B}" type="slidenum">
              <a:t>7</a:t>
            </a:fld>
          </a:p>
        </p:txBody>
      </p:sp>
    </p:spTree>
  </p:cSld>
  <p:transition spd="slow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30592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el origen de un cambio...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&gt;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aja en las tasas de fertilida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aumento en los índices de expectativas de vida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C3F-2CAA-4B28-AD99-45AECA80122F}" type="slidenum">
              <a:t>8</a:t>
            </a:fld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04920" y="1447920"/>
          <a:ext cx="8837640" cy="504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447920"/>
                    <a:ext cx="883764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152280"/>
            <a:ext cx="9524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baja en tasas de fert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280" y="125568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Times New Roman"/>
              </a:rPr>
              <a:t>Nº Hijos por Mujer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6D3-A1C2-492B-AED0-9F373BE05041}" type="slidenum">
              <a:t>9</a:t>
            </a:fld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5T01:42:35Z</dcterms:created>
  <dc:creator>UNIVERSIDAD DEL DESARROLLO</dc:creator>
  <dc:description/>
  <dc:language>en-US</dc:language>
  <cp:lastModifiedBy>USUARIO</cp:lastModifiedBy>
  <cp:lastPrinted>2002-05-11T23:00:06Z</cp:lastPrinted>
  <dcterms:modified xsi:type="dcterms:W3CDTF">2010-05-31T01:08:55Z</dcterms:modified>
  <cp:revision>106</cp:revision>
  <dc:subject/>
  <dc:title>Sin título de diapositiva</dc:title>
</cp:coreProperties>
</file>