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9D19-7C8F-437D-A42F-656620E990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68B9-2489-4F7F-B680-837C6E6CFE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6680" y="803160"/>
            <a:ext cx="4255920" cy="3192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5B6-E035-469A-A3D8-395F30042C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68120" y="1582560"/>
            <a:ext cx="6446880" cy="4835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26B-964B-4B3D-A1B7-EDA104DC36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641520" y="215280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47B-9451-4CB5-BF0D-C548D77973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14200" y="2581200"/>
            <a:ext cx="6353280" cy="4765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1BD1-BAA7-4FD6-8EE9-CF956CABC6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450720" y="2152800"/>
            <a:ext cx="5878800" cy="4408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4FB-507F-41CC-AF69-85FD1B0AE6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490680" y="2295360"/>
            <a:ext cx="587844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01DB-31A9-4AB1-9768-2C33ACF9FF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4566-5303-4133-A44C-4CBFC6690B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23880" y="2581200"/>
            <a:ext cx="5688000" cy="4265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D28C-E318-4D6A-8B60-5A72A9CE5A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450720" y="2367000"/>
            <a:ext cx="5878800" cy="440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E0E-D48B-49C9-BBE8-30B3D4087E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538200" y="2295360"/>
            <a:ext cx="5781600" cy="43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E9C-EF8B-4A61-B1D4-1C6837E705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719280" y="2295360"/>
            <a:ext cx="5497200" cy="4123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5D86-B6EA-4152-9AA3-915BB9D3B4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500040" y="2367000"/>
            <a:ext cx="5781600" cy="433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9D5-B004-4792-8880-18DEB17C74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6D7-37F0-401C-83BA-28BDE510E9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07800" y="2295360"/>
            <a:ext cx="6164280" cy="4623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39F5-C1A4-49F6-9960-9F64DA8504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641520" y="2438280"/>
            <a:ext cx="5497200" cy="41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30F6-BC3B-4A6D-996B-97968789AA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66680" y="2152800"/>
            <a:ext cx="6450120" cy="4836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DD5E-9788-46EB-82CC-6BFB6364BD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66680" y="1938240"/>
            <a:ext cx="6448320" cy="483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5F0-05DB-4845-84D3-9FE12298A6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444600" y="2225520"/>
            <a:ext cx="5970600" cy="4478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F7E-9744-4CA3-9A53-02AA793510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B7A-9376-41B4-B12D-012047EF83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C978-C781-4A61-A27A-9D6CFE15C8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8FD1-82A2-4910-BE5D-08C4791CBF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300204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FCF4-996E-4CD0-9952-F283BEC6B7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0F0-FB22-42BD-B287-401FA30E6E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263520" y="2476440"/>
            <a:ext cx="6310440" cy="4732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B83-CD89-4F59-B531-1FD1AA866E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1F4-D127-434D-967F-E02F730E23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50840" y="2220840"/>
            <a:ext cx="6437160" cy="4827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48A5-3960-4B41-A847-42D3484202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06360" y="2392200"/>
            <a:ext cx="6226200" cy="467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361-1219-4678-A282-E9D441F47B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70000" y="2347920"/>
            <a:ext cx="6306840" cy="4730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C70-6F46-4CC6-A23B-5F2CBB3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6D9-411F-486F-8B9A-20728FB3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C48-5600-4A65-83D3-88A30E4E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4BF-14AE-46F0-84E7-8BDE6560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B8C5-DEB8-43CE-83CF-B1C1908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CFF3-A142-48D1-816F-6E42AC9F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D231-8AD8-4DA2-BC54-5ED06D1E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0EED-81C6-4FAF-AC60-7F81C07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FB6-3CD9-47C0-B277-EE5C04E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18DC-F804-44F4-9D7F-E026288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D1F-05DD-49C4-8D8E-1756642D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6FD-8AF9-4398-80D8-6AAE854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905-957D-4E7A-A393-E035BA4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9622-E344-4CD4-8E6A-E4FCAD0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1B30-55DB-40B6-A5B7-CE1201BA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E312-5DC0-49D2-B9CA-18435D69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7E3E-5C4E-4FE2-A01A-8FAAB57C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288-407D-4B86-A810-1E0D5878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D83-99F1-4576-8695-74166DF4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4CC7-F124-4C30-959B-6BE1F217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74-EBA8-48E1-B53D-D35CA7F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8C8-59AA-4CDD-B033-EA7B00B5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AED-B5CA-40CD-AD6F-4711690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660-32FD-4E3E-8C13-A1E1AD8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1157-242F-4FE3-B291-9BB91B51C1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3E52-40FE-463F-9886-A782A584D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éctor Humeres Nogu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fes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CAD-E007-4C59-A70C-72CFDC2D87E7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1657440"/>
          <a:ext cx="88185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57440"/>
                    <a:ext cx="88185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24280" y="57913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uente: División de Población, Naciones Unidas, 1999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15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</a:rPr>
              <a:t>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601200" cy="696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umento en índices  de expectativas de vi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3A7-3DB8-4172-B5B5-45F2CA36D8CD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14280" y="2401920"/>
          <a:ext cx="824724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2401920"/>
                    <a:ext cx="82472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2280" y="304920"/>
            <a:ext cx="86868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tuación 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6600" y="1766880"/>
            <a:ext cx="751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NÚMERO DE TRABAJADORES ACTIVOS POR CADA PENSION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604960"/>
            <a:ext cx="62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12,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71760" y="2565360"/>
            <a:ext cx="72684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38960" y="2743200"/>
            <a:ext cx="515880" cy="406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6880" y="274320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84680" y="3200400"/>
            <a:ext cx="211320" cy="1905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DF3-BCDD-49CA-BA76-2C491235C36F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(Decreto Ley Nº 3500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apitalización o Ahorro Individual   (art. 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Administración Privada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23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ibertad Individual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Elección y Cambio de AFP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. 2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to Cotizar 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et. 14º y s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uándo y Cómo Jubilar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 (arts. 3º y 61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Primer Pilar solidario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Ley 20.255-2008  (Reforma)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0880"/>
            <a:ext cx="80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3B6-B4C7-47CE-9B2A-1CFBA73F5AF1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BASES    DEL    SISTEMA NUE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Igualdad: Reglas Comunes para todos (art. 61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Separación Patrimonial: AFP y Fondo de Pensione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 (art. 27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Rol del Estado:Marco Regulatorio y Control / Subsidiario; Solidario&gt;PBS y PMAC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 arts. 73 y ss. y 9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Beneficios: Pensiones de Vejez, Invalidez y Sobrevivencia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(arts. 3º a 13º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STEMA DE AF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B5D-7F59-4D02-B644-C518C82F0867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76320"/>
            <a:ext cx="883908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840" y="1447920"/>
            <a:ext cx="9047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Garamond"/>
              </a:rPr>
              <a:t>FINANCIAMIENTO RÉGIMEN CAPITALIZ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11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CAPITAL ACUMULADO EN LA CTA. INDIV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Cotizaciones Obligatorias, Voluntarias, Rentabilidad de las Inversiones , </a:t>
            </a:r>
            <a:r>
              <a:rPr b="1" lang="es-ES_tradnl" sz="2400" spc="-1" strike="noStrike">
                <a:solidFill>
                  <a:srgbClr val="ff0000"/>
                </a:solidFill>
                <a:latin typeface="Garamond"/>
              </a:rPr>
              <a:t>- Comisiones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Garamond"/>
              </a:rPr>
              <a:t>(arts. 14º a 22-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BONO DE RECONOCIMIENTO  (arts. 1º a 12º transit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TRASPASO DESDE  AHORRO VOLUNT. (arts. 20º a 22 bi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6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S ADICIONAL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Garamond"/>
              </a:rPr>
              <a:t>( Seguro de Invalidez y Sobrevivencia ) (arts. 52 y ss.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Garamond"/>
              </a:rPr>
              <a:t>+ </a:t>
            </a:r>
            <a:r>
              <a:rPr b="1" lang="es-ES_tradnl" sz="2600" spc="-1" strike="noStrike">
                <a:solidFill>
                  <a:srgbClr val="ffff99"/>
                </a:solidFill>
                <a:latin typeface="Garamond"/>
              </a:rPr>
              <a:t>APORTE ESTATAL</a:t>
            </a:r>
            <a:r>
              <a:rPr b="1" lang="es-ES_tradnl" sz="2600" spc="-1" strike="noStrike">
                <a:solidFill>
                  <a:srgbClr val="dddddd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(Pensión Mínima) (arts. 73 y ss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6680" y="6324480"/>
            <a:ext cx="8624880" cy="0"/>
          </a:xfrm>
          <a:prstGeom prst="line">
            <a:avLst/>
          </a:prstGeom>
          <a:ln w="127080">
            <a:solidFill>
              <a:srgbClr val="f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C2F-DAB0-42C4-AF1E-1BC23BB8BA84}" type="slidenum">
              <a:t>14</a:t>
            </a:fld>
          </a:p>
        </p:txBody>
      </p:sp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52280"/>
            <a:ext cx="913752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Garamond"/>
              </a:rPr>
              <a:t>sistema de afp y sistema antigu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LIBERTAD INDIVIDU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 &gt;Rigidez en la Afili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ELECCIÓN Y CAMBIO DE AFP  (arts. 2º/14º y ss/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&gt; CUÁNTO COTIZAR (SOBRE EL MÍNIMO)    (arts.14º y s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CUÁNDO Y CÓMO JUBILAR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3º y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e1c1c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IGUALDAD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Discrimin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REGLAS COMUNES PARA TODO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61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Garamond"/>
              </a:rPr>
              <a:t>&gt; SEPARACIÓN PATRIMONIAL</a:t>
            </a:r>
            <a:r>
              <a:rPr b="1" lang="es-ES_tradnl" sz="2600" spc="-1" strike="noStrike">
                <a:solidFill>
                  <a:srgbClr val="ccffff"/>
                </a:solidFill>
                <a:latin typeface="Garamond"/>
              </a:rPr>
              <a:t>:   </a:t>
            </a:r>
            <a:r>
              <a:rPr b="1" lang="es-ES_tradnl" sz="2600" spc="-1" strike="noStrike">
                <a:solidFill>
                  <a:srgbClr val="ff0000"/>
                </a:solidFill>
                <a:latin typeface="Garamond"/>
              </a:rPr>
              <a:t>(&gt; Sin Separación)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e1c1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&gt; AFP Y FONDO DE PENSIONES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99"/>
                </a:solidFill>
                <a:latin typeface="Garamond"/>
              </a:rPr>
              <a:t>(art. 27º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4F4-2D32-448F-BA02-875C08BEE721}" type="slidenum">
              <a:t>15</a:t>
            </a:fld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143000"/>
            <a:ext cx="807732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ROL DEL ESTAD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(arts. 93º y s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Marco Regulatorio y Contro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Dictar leyes y normas complementaria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upervisa, controla y sanciona a través de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la 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uperintendencia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Garamond"/>
              </a:rPr>
              <a:t>Aporta solidaridad al primer pila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AAF-3EC5-4C1A-A216-5E3BFB94D24F}" type="slidenum">
              <a:t>16</a:t>
            </a:fld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15058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676520"/>
            <a:ext cx="7848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s-E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Es subsidiario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ú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tima </a:t>
            </a:r>
            <a:r>
              <a:rPr b="1" lang="es-ES_tradnl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nstanci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Quiebra de Compañía de Seguro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buClr>
                <a:srgbClr val="cc99ff"/>
              </a:buClr>
              <a:buSzPct val="75000"/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Rentabilidad Mínima de los Fondos de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3808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Pensiones </a:t>
            </a:r>
            <a:r>
              <a:rPr b="1" lang="es-ES" sz="28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27160" y="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tistik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55C-6C92-436E-AE40-EC6693D225F2}" type="slidenum">
              <a:t>17</a:t>
            </a:fld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60" y="1517760"/>
            <a:ext cx="912024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eneficio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Pensiones 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EJEZ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65 AÑOS HOMBRES Y 60 LAS MUJERES  (art. 3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 VEJEZ ANTICIPADA: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art. 68º y 68º bi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150% PENSIÓN MINI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70% RENTAS REAJUSTADAS ÚLTIMOS 10 AÑOS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250-B371-4F4B-A87F-1D005C0E9AC6}" type="slidenum">
              <a:t>18</a:t>
            </a:fld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stema de afp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2024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VALIDEZ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(art. 4º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total: 7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* parcial: 50% del ingres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(pérdida capacidad de trabajo &gt; 50% y &lt; 2/3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OBREVIVENCIA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Viudez y Orfandad)(art. 5º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Cónyuges; hijos; padres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1BB-E1CB-4FFD-AFA0-F76F6C734336}" type="slidenum">
              <a:t>19</a:t>
            </a:fld>
          </a:p>
        </p:txBody>
      </p:sp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38188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Evolución del Sistema Previsional  Chileno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Antiguo Sistema de Pensiones Chile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isis Financier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2001"/>
              </a:spcBef>
              <a:buClr>
                <a:srgbClr val="99c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ctual Sistema de AFP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Principales Características y Refor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Resultados alcanzado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5C2-BB70-4A74-A6B3-BA3A54337369}" type="slidenum">
              <a:t>2</a:t>
            </a:fld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2000" y="177840"/>
            <a:ext cx="8607240" cy="1015920"/>
          </a:xfrm>
          <a:prstGeom prst="rect">
            <a:avLst/>
          </a:prstGeom>
          <a:gradFill rotWithShape="0">
            <a:gsLst>
              <a:gs pos="0">
                <a:srgbClr val="799797"/>
              </a:gs>
              <a:gs pos="50000">
                <a:srgbClr val="ccffff"/>
              </a:gs>
              <a:gs pos="100000">
                <a:srgbClr val="799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SISTEMA DE PENSIONES CHILENO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2760" y="6248520"/>
            <a:ext cx="2111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Afiliad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04240" y="5105520"/>
            <a:ext cx="1577880" cy="1181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6640" y="4807080"/>
            <a:ext cx="1467000" cy="1511280"/>
          </a:xfrm>
          <a:custGeom>
            <a:avLst/>
            <a:gdLst/>
            <a:ahLst/>
            <a:rect l="l" t="t" r="r" b="b"/>
            <a:pathLst>
              <a:path w="1001" h="952">
                <a:moveTo>
                  <a:pt x="121" y="10"/>
                </a:moveTo>
                <a:lnTo>
                  <a:pt x="284" y="43"/>
                </a:lnTo>
                <a:lnTo>
                  <a:pt x="281" y="0"/>
                </a:lnTo>
                <a:lnTo>
                  <a:pt x="475" y="50"/>
                </a:lnTo>
                <a:lnTo>
                  <a:pt x="475" y="0"/>
                </a:lnTo>
                <a:lnTo>
                  <a:pt x="683" y="0"/>
                </a:lnTo>
                <a:lnTo>
                  <a:pt x="679" y="46"/>
                </a:lnTo>
                <a:lnTo>
                  <a:pt x="931" y="0"/>
                </a:lnTo>
                <a:lnTo>
                  <a:pt x="627" y="267"/>
                </a:lnTo>
                <a:lnTo>
                  <a:pt x="656" y="269"/>
                </a:lnTo>
                <a:lnTo>
                  <a:pt x="690" y="277"/>
                </a:lnTo>
                <a:lnTo>
                  <a:pt x="728" y="287"/>
                </a:lnTo>
                <a:lnTo>
                  <a:pt x="764" y="300"/>
                </a:lnTo>
                <a:lnTo>
                  <a:pt x="802" y="318"/>
                </a:lnTo>
                <a:lnTo>
                  <a:pt x="835" y="335"/>
                </a:lnTo>
                <a:lnTo>
                  <a:pt x="868" y="359"/>
                </a:lnTo>
                <a:lnTo>
                  <a:pt x="898" y="384"/>
                </a:lnTo>
                <a:lnTo>
                  <a:pt x="921" y="407"/>
                </a:lnTo>
                <a:lnTo>
                  <a:pt x="944" y="434"/>
                </a:lnTo>
                <a:lnTo>
                  <a:pt x="963" y="466"/>
                </a:lnTo>
                <a:lnTo>
                  <a:pt x="980" y="500"/>
                </a:lnTo>
                <a:lnTo>
                  <a:pt x="991" y="533"/>
                </a:lnTo>
                <a:lnTo>
                  <a:pt x="998" y="564"/>
                </a:lnTo>
                <a:lnTo>
                  <a:pt x="1000" y="604"/>
                </a:lnTo>
                <a:lnTo>
                  <a:pt x="998" y="647"/>
                </a:lnTo>
                <a:lnTo>
                  <a:pt x="990" y="681"/>
                </a:lnTo>
                <a:lnTo>
                  <a:pt x="980" y="710"/>
                </a:lnTo>
                <a:lnTo>
                  <a:pt x="968" y="737"/>
                </a:lnTo>
                <a:lnTo>
                  <a:pt x="949" y="767"/>
                </a:lnTo>
                <a:lnTo>
                  <a:pt x="924" y="801"/>
                </a:lnTo>
                <a:lnTo>
                  <a:pt x="892" y="835"/>
                </a:lnTo>
                <a:lnTo>
                  <a:pt x="854" y="864"/>
                </a:lnTo>
                <a:lnTo>
                  <a:pt x="816" y="887"/>
                </a:lnTo>
                <a:lnTo>
                  <a:pt x="782" y="904"/>
                </a:lnTo>
                <a:lnTo>
                  <a:pt x="751" y="918"/>
                </a:lnTo>
                <a:lnTo>
                  <a:pt x="719" y="928"/>
                </a:lnTo>
                <a:lnTo>
                  <a:pt x="684" y="938"/>
                </a:lnTo>
                <a:lnTo>
                  <a:pt x="655" y="944"/>
                </a:lnTo>
                <a:lnTo>
                  <a:pt x="612" y="949"/>
                </a:lnTo>
                <a:lnTo>
                  <a:pt x="578" y="951"/>
                </a:lnTo>
                <a:lnTo>
                  <a:pt x="405" y="951"/>
                </a:lnTo>
                <a:lnTo>
                  <a:pt x="370" y="949"/>
                </a:lnTo>
                <a:lnTo>
                  <a:pt x="328" y="941"/>
                </a:lnTo>
                <a:lnTo>
                  <a:pt x="275" y="927"/>
                </a:lnTo>
                <a:lnTo>
                  <a:pt x="221" y="908"/>
                </a:lnTo>
                <a:lnTo>
                  <a:pt x="169" y="881"/>
                </a:lnTo>
                <a:lnTo>
                  <a:pt x="123" y="848"/>
                </a:lnTo>
                <a:lnTo>
                  <a:pt x="90" y="818"/>
                </a:lnTo>
                <a:lnTo>
                  <a:pt x="63" y="788"/>
                </a:lnTo>
                <a:lnTo>
                  <a:pt x="38" y="751"/>
                </a:lnTo>
                <a:lnTo>
                  <a:pt x="19" y="710"/>
                </a:lnTo>
                <a:lnTo>
                  <a:pt x="11" y="680"/>
                </a:lnTo>
                <a:lnTo>
                  <a:pt x="3" y="650"/>
                </a:lnTo>
                <a:lnTo>
                  <a:pt x="0" y="619"/>
                </a:lnTo>
                <a:lnTo>
                  <a:pt x="1" y="591"/>
                </a:lnTo>
                <a:lnTo>
                  <a:pt x="8" y="547"/>
                </a:lnTo>
                <a:lnTo>
                  <a:pt x="21" y="502"/>
                </a:lnTo>
                <a:lnTo>
                  <a:pt x="42" y="457"/>
                </a:lnTo>
                <a:lnTo>
                  <a:pt x="73" y="415"/>
                </a:lnTo>
                <a:lnTo>
                  <a:pt x="106" y="380"/>
                </a:lnTo>
                <a:lnTo>
                  <a:pt x="148" y="345"/>
                </a:lnTo>
                <a:lnTo>
                  <a:pt x="192" y="319"/>
                </a:lnTo>
                <a:lnTo>
                  <a:pt x="249" y="293"/>
                </a:lnTo>
                <a:lnTo>
                  <a:pt x="310" y="275"/>
                </a:lnTo>
                <a:lnTo>
                  <a:pt x="349" y="267"/>
                </a:lnTo>
                <a:lnTo>
                  <a:pt x="121" y="10"/>
                </a:lnTo>
              </a:path>
            </a:pathLst>
          </a:custGeom>
          <a:solidFill>
            <a:srgbClr val="99ccff"/>
          </a:solidFill>
          <a:ln cap="rnd" w="507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09520" y="5218200"/>
            <a:ext cx="362160" cy="888840"/>
          </a:xfrm>
          <a:custGeom>
            <a:avLst/>
            <a:gdLst/>
            <a:ahLst/>
            <a:rect l="l" t="t" r="r" b="b"/>
            <a:pathLst>
              <a:path w="247" h="560">
                <a:moveTo>
                  <a:pt x="95" y="54"/>
                </a:moveTo>
                <a:lnTo>
                  <a:pt x="152" y="54"/>
                </a:lnTo>
                <a:lnTo>
                  <a:pt x="152" y="0"/>
                </a:lnTo>
                <a:lnTo>
                  <a:pt x="182" y="0"/>
                </a:lnTo>
                <a:lnTo>
                  <a:pt x="182" y="54"/>
                </a:lnTo>
                <a:lnTo>
                  <a:pt x="246" y="125"/>
                </a:lnTo>
                <a:lnTo>
                  <a:pt x="246" y="203"/>
                </a:lnTo>
                <a:lnTo>
                  <a:pt x="166" y="203"/>
                </a:lnTo>
                <a:lnTo>
                  <a:pt x="166" y="140"/>
                </a:lnTo>
                <a:lnTo>
                  <a:pt x="87" y="140"/>
                </a:lnTo>
                <a:lnTo>
                  <a:pt x="87" y="241"/>
                </a:lnTo>
                <a:lnTo>
                  <a:pt x="188" y="241"/>
                </a:lnTo>
                <a:lnTo>
                  <a:pt x="246" y="304"/>
                </a:lnTo>
                <a:lnTo>
                  <a:pt x="246" y="435"/>
                </a:lnTo>
                <a:lnTo>
                  <a:pt x="182" y="505"/>
                </a:lnTo>
                <a:lnTo>
                  <a:pt x="182" y="559"/>
                </a:lnTo>
                <a:lnTo>
                  <a:pt x="152" y="559"/>
                </a:lnTo>
                <a:lnTo>
                  <a:pt x="152" y="505"/>
                </a:lnTo>
                <a:lnTo>
                  <a:pt x="95" y="505"/>
                </a:lnTo>
                <a:lnTo>
                  <a:pt x="95" y="559"/>
                </a:lnTo>
                <a:lnTo>
                  <a:pt x="65" y="559"/>
                </a:lnTo>
                <a:lnTo>
                  <a:pt x="65" y="505"/>
                </a:lnTo>
                <a:lnTo>
                  <a:pt x="0" y="435"/>
                </a:lnTo>
                <a:lnTo>
                  <a:pt x="0" y="373"/>
                </a:lnTo>
                <a:lnTo>
                  <a:pt x="87" y="373"/>
                </a:lnTo>
                <a:lnTo>
                  <a:pt x="87" y="427"/>
                </a:lnTo>
                <a:lnTo>
                  <a:pt x="166" y="427"/>
                </a:lnTo>
                <a:lnTo>
                  <a:pt x="166" y="326"/>
                </a:lnTo>
                <a:lnTo>
                  <a:pt x="65" y="326"/>
                </a:lnTo>
                <a:lnTo>
                  <a:pt x="0" y="257"/>
                </a:lnTo>
                <a:lnTo>
                  <a:pt x="0" y="125"/>
                </a:lnTo>
                <a:lnTo>
                  <a:pt x="65" y="54"/>
                </a:lnTo>
                <a:lnTo>
                  <a:pt x="65" y="0"/>
                </a:lnTo>
                <a:lnTo>
                  <a:pt x="95" y="0"/>
                </a:lnTo>
                <a:lnTo>
                  <a:pt x="95" y="54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1080" y="6308640"/>
            <a:ext cx="316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ndo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112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F.P</a:t>
            </a:r>
            <a:r>
              <a:rPr b="1" lang="en-US" sz="2800" spc="-1" strike="noStrike">
                <a:solidFill>
                  <a:srgbClr val="e4010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31960" y="1863720"/>
            <a:ext cx="823680" cy="12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cc"/>
            </a:outerShdw>
          </a:effectLst>
        </p:spPr>
      </p:pic>
      <p:grpSp>
        <p:nvGrpSpPr>
          <p:cNvPr id="167" name=""/>
          <p:cNvGrpSpPr/>
          <p:nvPr/>
        </p:nvGrpSpPr>
        <p:grpSpPr>
          <a:xfrm>
            <a:off x="7526160" y="2138400"/>
            <a:ext cx="985680" cy="1062000"/>
            <a:chOff x="7526160" y="2138400"/>
            <a:chExt cx="985680" cy="1062000"/>
          </a:xfrm>
        </p:grpSpPr>
        <p:grpSp>
          <p:nvGrpSpPr>
            <p:cNvPr id="168" name=""/>
            <p:cNvGrpSpPr/>
            <p:nvPr/>
          </p:nvGrpSpPr>
          <p:grpSpPr>
            <a:xfrm>
              <a:off x="7584840" y="2138400"/>
              <a:ext cx="873360" cy="1054080"/>
              <a:chOff x="7584840" y="2138400"/>
              <a:chExt cx="873360" cy="10540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68240" y="2138400"/>
                <a:ext cx="489960" cy="1054080"/>
                <a:chOff x="7968240" y="2138400"/>
                <a:chExt cx="489960" cy="105408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7968240" y="2138400"/>
                  <a:ext cx="489960" cy="1054080"/>
                  <a:chOff x="7968240" y="2138400"/>
                  <a:chExt cx="489960" cy="105408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105760" y="2138400"/>
                    <a:ext cx="191160" cy="58680"/>
                    <a:chOff x="8105760" y="2138400"/>
                    <a:chExt cx="191160" cy="5868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8155440" y="2138400"/>
                      <a:ext cx="141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34">
                          <a:moveTo>
                            <a:pt x="0" y="0"/>
                          </a:moveTo>
                          <a:lnTo>
                            <a:pt x="96" y="11"/>
                          </a:lnTo>
                          <a:lnTo>
                            <a:pt x="96" y="33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105760" y="2139840"/>
                      <a:ext cx="4788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6">
                          <a:moveTo>
                            <a:pt x="32" y="0"/>
                          </a:moveTo>
                          <a:lnTo>
                            <a:pt x="32" y="20"/>
                          </a:lnTo>
                          <a:lnTo>
                            <a:pt x="0" y="35"/>
                          </a:lnTo>
                          <a:lnTo>
                            <a:pt x="0" y="15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8114040" y="2146320"/>
                      <a:ext cx="32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0" y="25"/>
                          </a:moveTo>
                          <a:lnTo>
                            <a:pt x="0" y="11"/>
                          </a:lnTo>
                          <a:lnTo>
                            <a:pt x="21" y="0"/>
                          </a:lnTo>
                          <a:lnTo>
                            <a:pt x="21" y="14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968240" y="2158920"/>
                    <a:ext cx="489960" cy="1033560"/>
                    <a:chOff x="7968240" y="2158920"/>
                    <a:chExt cx="489960" cy="10335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68240" y="2160720"/>
                      <a:ext cx="185760" cy="10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648">
                          <a:moveTo>
                            <a:pt x="0" y="65"/>
                          </a:moveTo>
                          <a:lnTo>
                            <a:pt x="126" y="0"/>
                          </a:lnTo>
                          <a:lnTo>
                            <a:pt x="125" y="647"/>
                          </a:lnTo>
                          <a:lnTo>
                            <a:pt x="0" y="644"/>
                          </a:lnTo>
                          <a:lnTo>
                            <a:pt x="0" y="65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8158320" y="2158920"/>
                      <a:ext cx="295560" cy="10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647">
                          <a:moveTo>
                            <a:pt x="0" y="0"/>
                          </a:moveTo>
                          <a:lnTo>
                            <a:pt x="164" y="22"/>
                          </a:lnTo>
                          <a:lnTo>
                            <a:pt x="164" y="617"/>
                          </a:lnTo>
                          <a:lnTo>
                            <a:pt x="178" y="622"/>
                          </a:lnTo>
                          <a:lnTo>
                            <a:pt x="184" y="635"/>
                          </a:lnTo>
                          <a:lnTo>
                            <a:pt x="201" y="646"/>
                          </a:lnTo>
                          <a:lnTo>
                            <a:pt x="0" y="64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8158320" y="2162160"/>
                      <a:ext cx="299880" cy="10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649">
                          <a:moveTo>
                            <a:pt x="0" y="0"/>
                          </a:moveTo>
                          <a:lnTo>
                            <a:pt x="166" y="22"/>
                          </a:lnTo>
                          <a:lnTo>
                            <a:pt x="166" y="619"/>
                          </a:lnTo>
                          <a:lnTo>
                            <a:pt x="181" y="624"/>
                          </a:lnTo>
                          <a:lnTo>
                            <a:pt x="187" y="637"/>
                          </a:lnTo>
                          <a:lnTo>
                            <a:pt x="204" y="648"/>
                          </a:lnTo>
                          <a:lnTo>
                            <a:pt x="0" y="6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969320" y="2163960"/>
                  <a:ext cx="431280" cy="1011240"/>
                  <a:chOff x="7969320" y="2163960"/>
                  <a:chExt cx="431280" cy="101124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156520" y="2163960"/>
                    <a:ext cx="244080" cy="988920"/>
                    <a:chOff x="8156520" y="2163960"/>
                    <a:chExt cx="244080" cy="98892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157600" y="2935440"/>
                      <a:ext cx="242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9">
                          <a:moveTo>
                            <a:pt x="0" y="0"/>
                          </a:moveTo>
                          <a:lnTo>
                            <a:pt x="165" y="2"/>
                          </a:lnTo>
                          <a:lnTo>
                            <a:pt x="165" y="28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156520" y="3114720"/>
                      <a:ext cx="2426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4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3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156520" y="3054240"/>
                      <a:ext cx="2426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157600" y="2995560"/>
                      <a:ext cx="2426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5">
                          <a:moveTo>
                            <a:pt x="0" y="0"/>
                          </a:moveTo>
                          <a:lnTo>
                            <a:pt x="165" y="0"/>
                          </a:lnTo>
                          <a:lnTo>
                            <a:pt x="165" y="2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8157600" y="2874960"/>
                      <a:ext cx="2412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8">
                          <a:moveTo>
                            <a:pt x="0" y="0"/>
                          </a:moveTo>
                          <a:lnTo>
                            <a:pt x="164" y="4"/>
                          </a:lnTo>
                          <a:lnTo>
                            <a:pt x="164" y="27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156520" y="2814840"/>
                      <a:ext cx="2426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2">
                          <a:moveTo>
                            <a:pt x="0" y="0"/>
                          </a:moveTo>
                          <a:lnTo>
                            <a:pt x="165" y="8"/>
                          </a:lnTo>
                          <a:lnTo>
                            <a:pt x="165" y="31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156520" y="2754360"/>
                      <a:ext cx="24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34">
                          <a:moveTo>
                            <a:pt x="0" y="0"/>
                          </a:moveTo>
                          <a:lnTo>
                            <a:pt x="166" y="10"/>
                          </a:lnTo>
                          <a:lnTo>
                            <a:pt x="166" y="3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8156520" y="2693880"/>
                      <a:ext cx="24264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39">
                          <a:moveTo>
                            <a:pt x="0" y="0"/>
                          </a:moveTo>
                          <a:lnTo>
                            <a:pt x="165" y="15"/>
                          </a:lnTo>
                          <a:lnTo>
                            <a:pt x="165" y="38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156520" y="2633760"/>
                      <a:ext cx="242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0">
                          <a:moveTo>
                            <a:pt x="0" y="0"/>
                          </a:moveTo>
                          <a:lnTo>
                            <a:pt x="165" y="16"/>
                          </a:lnTo>
                          <a:lnTo>
                            <a:pt x="165" y="39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8156520" y="257328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19"/>
                          </a:lnTo>
                          <a:lnTo>
                            <a:pt x="165" y="43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8156520" y="2513160"/>
                      <a:ext cx="2440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46">
                          <a:moveTo>
                            <a:pt x="0" y="0"/>
                          </a:moveTo>
                          <a:lnTo>
                            <a:pt x="166" y="19"/>
                          </a:lnTo>
                          <a:lnTo>
                            <a:pt x="166" y="45"/>
                          </a:ln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8159400" y="2452680"/>
                      <a:ext cx="239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45">
                          <a:moveTo>
                            <a:pt x="0" y="0"/>
                          </a:moveTo>
                          <a:lnTo>
                            <a:pt x="163" y="20"/>
                          </a:lnTo>
                          <a:lnTo>
                            <a:pt x="163" y="44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8156520" y="2390760"/>
                      <a:ext cx="242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0">
                          <a:moveTo>
                            <a:pt x="0" y="0"/>
                          </a:moveTo>
                          <a:lnTo>
                            <a:pt x="165" y="23"/>
                          </a:lnTo>
                          <a:lnTo>
                            <a:pt x="165" y="49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8156520" y="2324160"/>
                      <a:ext cx="24264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54">
                          <a:moveTo>
                            <a:pt x="0" y="0"/>
                          </a:moveTo>
                          <a:lnTo>
                            <a:pt x="165" y="25"/>
                          </a:lnTo>
                          <a:lnTo>
                            <a:pt x="165" y="53"/>
                          </a:lnTo>
                          <a:lnTo>
                            <a:pt x="0" y="2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8156520" y="2271600"/>
                      <a:ext cx="2426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5">
                          <a:moveTo>
                            <a:pt x="0" y="0"/>
                          </a:moveTo>
                          <a:lnTo>
                            <a:pt x="165" y="22"/>
                          </a:lnTo>
                          <a:lnTo>
                            <a:pt x="165" y="44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8156520" y="2212920"/>
                      <a:ext cx="24264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8">
                          <a:moveTo>
                            <a:pt x="0" y="0"/>
                          </a:moveTo>
                          <a:lnTo>
                            <a:pt x="165" y="21"/>
                          </a:lnTo>
                          <a:lnTo>
                            <a:pt x="165" y="47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8156520" y="2163960"/>
                      <a:ext cx="242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44">
                          <a:moveTo>
                            <a:pt x="0" y="0"/>
                          </a:moveTo>
                          <a:lnTo>
                            <a:pt x="165" y="20"/>
                          </a:lnTo>
                          <a:lnTo>
                            <a:pt x="165" y="43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8184600" y="2165400"/>
                    <a:ext cx="191160" cy="1009800"/>
                    <a:chOff x="8184600" y="2165400"/>
                    <a:chExt cx="191160" cy="10098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8375760" y="2190960"/>
                      <a:ext cx="0" cy="9712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8346600" y="2189160"/>
                      <a:ext cx="0" cy="978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8318520" y="2184480"/>
                      <a:ext cx="0" cy="9842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8291160" y="2179800"/>
                      <a:ext cx="0" cy="9936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8263440" y="2174760"/>
                      <a:ext cx="0" cy="99864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8238600" y="2171880"/>
                      <a:ext cx="0" cy="9871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10520" y="2171880"/>
                      <a:ext cx="0" cy="9903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8184600" y="2165400"/>
                      <a:ext cx="0" cy="10098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969320" y="2212920"/>
                    <a:ext cx="186840" cy="901800"/>
                    <a:chOff x="7969320" y="2212920"/>
                    <a:chExt cx="186840" cy="9018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>
                      <a:off x="7970400" y="2212920"/>
                      <a:ext cx="183960" cy="9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972200" y="2273400"/>
                      <a:ext cx="182880" cy="87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970760" y="2324160"/>
                      <a:ext cx="18540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57">
                          <a:moveTo>
                            <a:pt x="126" y="0"/>
                          </a:moveTo>
                          <a:lnTo>
                            <a:pt x="0" y="56"/>
                          </a:lnTo>
                          <a:lnTo>
                            <a:pt x="0" y="5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 flipH="1">
                      <a:off x="7970400" y="2390760"/>
                      <a:ext cx="183960" cy="81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7970400" y="2452680"/>
                      <a:ext cx="183960" cy="71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H="1">
                      <a:off x="7970400" y="2513160"/>
                      <a:ext cx="183960" cy="64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970400" y="2575080"/>
                      <a:ext cx="183960" cy="56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>
                      <a:off x="7970400" y="2635200"/>
                      <a:ext cx="183960" cy="54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>
                      <a:off x="7970400" y="2693880"/>
                      <a:ext cx="183960" cy="44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7969320" y="2754360"/>
                      <a:ext cx="185760" cy="4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>
                      <a:off x="7969320" y="2816280"/>
                      <a:ext cx="185760" cy="33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H="1">
                      <a:off x="7970400" y="2874960"/>
                      <a:ext cx="183960" cy="3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flipH="1">
                      <a:off x="7969320" y="2935440"/>
                      <a:ext cx="185760" cy="23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>
                      <a:off x="7977600" y="2995560"/>
                      <a:ext cx="17676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 flipH="1">
                      <a:off x="7976520" y="3056040"/>
                      <a:ext cx="1782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>
                      <a:off x="7974720" y="3114720"/>
                      <a:ext cx="179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7584840" y="2370240"/>
                <a:ext cx="337680" cy="815760"/>
                <a:chOff x="7584840" y="2370240"/>
                <a:chExt cx="337680" cy="815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07600" y="2373480"/>
                  <a:ext cx="210600" cy="811080"/>
                </a:xfrm>
                <a:custGeom>
                  <a:avLst/>
                  <a:gdLst/>
                  <a:ahLst/>
                  <a:rect l="l" t="t" r="r" b="b"/>
                  <a:pathLst>
                    <a:path w="144" h="511">
                      <a:moveTo>
                        <a:pt x="0" y="0"/>
                      </a:moveTo>
                      <a:lnTo>
                        <a:pt x="143" y="16"/>
                      </a:lnTo>
                      <a:lnTo>
                        <a:pt x="143" y="510"/>
                      </a:lnTo>
                      <a:lnTo>
                        <a:pt x="0" y="5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07600" y="2370240"/>
                  <a:ext cx="214920" cy="815760"/>
                </a:xfrm>
                <a:custGeom>
                  <a:avLst/>
                  <a:gdLst/>
                  <a:ahLst/>
                  <a:rect l="l" t="t" r="r" b="b"/>
                  <a:pathLst>
                    <a:path w="147" h="514">
                      <a:moveTo>
                        <a:pt x="0" y="0"/>
                      </a:moveTo>
                      <a:lnTo>
                        <a:pt x="146" y="16"/>
                      </a:lnTo>
                      <a:lnTo>
                        <a:pt x="146" y="513"/>
                      </a:lnTo>
                      <a:lnTo>
                        <a:pt x="0" y="5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7584840" y="2370240"/>
                  <a:ext cx="325800" cy="815760"/>
                  <a:chOff x="7584840" y="2370240"/>
                  <a:chExt cx="325800" cy="815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7584840" y="2370240"/>
                    <a:ext cx="119520" cy="815760"/>
                    <a:chOff x="7584840" y="2370240"/>
                    <a:chExt cx="119520" cy="8157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7584840" y="2370240"/>
                      <a:ext cx="119520" cy="81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514">
                          <a:moveTo>
                            <a:pt x="0" y="40"/>
                          </a:moveTo>
                          <a:lnTo>
                            <a:pt x="81" y="0"/>
                          </a:lnTo>
                          <a:lnTo>
                            <a:pt x="81" y="513"/>
                          </a:lnTo>
                          <a:lnTo>
                            <a:pt x="0" y="513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>
                      <a:off x="7667640" y="2389320"/>
                      <a:ext cx="2880" cy="780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7629840" y="2411280"/>
                      <a:ext cx="0" cy="762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7660440" y="3135240"/>
                      <a:ext cx="1620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7619760" y="3135240"/>
                      <a:ext cx="15840" cy="42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716240" y="2423880"/>
                    <a:ext cx="194400" cy="754200"/>
                    <a:chOff x="7716240" y="2423880"/>
                    <a:chExt cx="194400" cy="754200"/>
                  </a:xfrm>
                </p:grpSpPr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7741080" y="3125880"/>
                      <a:ext cx="145800" cy="52200"/>
                      <a:chOff x="7741080" y="3125880"/>
                      <a:chExt cx="145800" cy="5220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783288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7867800" y="3127320"/>
                        <a:ext cx="19080" cy="50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7741080" y="3125880"/>
                        <a:ext cx="1584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7775640" y="3125880"/>
                        <a:ext cx="17280" cy="522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400" bIns="5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716240" y="2433600"/>
                      <a:ext cx="194400" cy="658800"/>
                      <a:chOff x="7716240" y="2433600"/>
                      <a:chExt cx="194400" cy="65880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7718760" y="243360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7718760" y="2471760"/>
                        <a:ext cx="19152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8">
                            <a:moveTo>
                              <a:pt x="0" y="0"/>
                            </a:moveTo>
                            <a:lnTo>
                              <a:pt x="130" y="14"/>
                            </a:lnTo>
                            <a:lnTo>
                              <a:pt x="130" y="27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7720200" y="2511360"/>
                        <a:ext cx="1900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7">
                            <a:moveTo>
                              <a:pt x="0" y="0"/>
                            </a:moveTo>
                            <a:lnTo>
                              <a:pt x="129" y="13"/>
                            </a:lnTo>
                            <a:lnTo>
                              <a:pt x="129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7718760" y="254952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3"/>
                            </a:lnTo>
                            <a:lnTo>
                              <a:pt x="130" y="2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7718760" y="258624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7718760" y="2621160"/>
                        <a:ext cx="19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7">
                            <a:moveTo>
                              <a:pt x="0" y="0"/>
                            </a:moveTo>
                            <a:lnTo>
                              <a:pt x="130" y="12"/>
                            </a:lnTo>
                            <a:lnTo>
                              <a:pt x="130" y="26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7720200" y="2660760"/>
                        <a:ext cx="1900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5">
                            <a:moveTo>
                              <a:pt x="0" y="0"/>
                            </a:moveTo>
                            <a:lnTo>
                              <a:pt x="129" y="11"/>
                            </a:lnTo>
                            <a:lnTo>
                              <a:pt x="129" y="24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7718760" y="2698920"/>
                        <a:ext cx="19152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4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3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7718760" y="273672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10"/>
                            </a:lnTo>
                            <a:lnTo>
                              <a:pt x="130" y="22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7718760" y="2773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718760" y="2813040"/>
                        <a:ext cx="1915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7718760" y="2854440"/>
                        <a:ext cx="19152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3">
                            <a:moveTo>
                              <a:pt x="0" y="0"/>
                            </a:moveTo>
                            <a:lnTo>
                              <a:pt x="130" y="9"/>
                            </a:lnTo>
                            <a:lnTo>
                              <a:pt x="130" y="22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718760" y="2897280"/>
                        <a:ext cx="19152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21">
                            <a:moveTo>
                              <a:pt x="0" y="0"/>
                            </a:moveTo>
                            <a:lnTo>
                              <a:pt x="130" y="7"/>
                            </a:lnTo>
                            <a:lnTo>
                              <a:pt x="130" y="20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7718760" y="2936880"/>
                        <a:ext cx="1904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22">
                            <a:moveTo>
                              <a:pt x="0" y="0"/>
                            </a:moveTo>
                            <a:lnTo>
                              <a:pt x="129" y="8"/>
                            </a:lnTo>
                            <a:lnTo>
                              <a:pt x="129" y="21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7716240" y="2979720"/>
                        <a:ext cx="1944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20">
                            <a:moveTo>
                              <a:pt x="0" y="0"/>
                            </a:moveTo>
                            <a:lnTo>
                              <a:pt x="132" y="6"/>
                            </a:lnTo>
                            <a:lnTo>
                              <a:pt x="132" y="19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716240" y="3022560"/>
                        <a:ext cx="19440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9">
                            <a:moveTo>
                              <a:pt x="0" y="0"/>
                            </a:moveTo>
                            <a:lnTo>
                              <a:pt x="132" y="5"/>
                            </a:lnTo>
                            <a:lnTo>
                              <a:pt x="132" y="18"/>
                            </a:lnTo>
                            <a:lnTo>
                              <a:pt x="0" y="1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7716240" y="3065400"/>
                        <a:ext cx="194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17">
                            <a:moveTo>
                              <a:pt x="0" y="0"/>
                            </a:moveTo>
                            <a:lnTo>
                              <a:pt x="132" y="3"/>
                            </a:lnTo>
                            <a:lnTo>
                              <a:pt x="132" y="16"/>
                            </a:lnTo>
                            <a:lnTo>
                              <a:pt x="0" y="1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761240" y="2423880"/>
                      <a:ext cx="106560" cy="703440"/>
                      <a:chOff x="7761240" y="2423880"/>
                      <a:chExt cx="106560" cy="703440"/>
                    </a:xfrm>
                  </p:grpSpPr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7761240" y="2423880"/>
                        <a:ext cx="21600" cy="703080"/>
                        <a:chOff x="7761240" y="2423880"/>
                        <a:chExt cx="21600" cy="703080"/>
                      </a:xfrm>
                    </p:grpSpPr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7761240" y="2423880"/>
                          <a:ext cx="0" cy="703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7782840" y="2425320"/>
                          <a:ext cx="0" cy="7016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7847280" y="2433240"/>
                        <a:ext cx="20520" cy="694080"/>
                        <a:chOff x="7847280" y="2433240"/>
                        <a:chExt cx="20520" cy="694080"/>
                      </a:xfrm>
                    </p:grpSpPr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7847280" y="2433240"/>
                          <a:ext cx="0" cy="693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 flipV="1">
                          <a:off x="7867800" y="2435400"/>
                          <a:ext cx="0" cy="691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65" name=""/>
            <p:cNvGrpSpPr/>
            <p:nvPr/>
          </p:nvGrpSpPr>
          <p:grpSpPr>
            <a:xfrm>
              <a:off x="7526160" y="2976480"/>
              <a:ext cx="985680" cy="223920"/>
              <a:chOff x="7526160" y="2976480"/>
              <a:chExt cx="985680" cy="223920"/>
            </a:xfrm>
          </p:grpSpPr>
          <p:sp>
            <p:nvSpPr>
              <p:cNvPr id="266" name=""/>
              <p:cNvSpPr/>
              <p:nvPr/>
            </p:nvSpPr>
            <p:spPr>
              <a:xfrm>
                <a:off x="8151480" y="3127320"/>
                <a:ext cx="153720" cy="73080"/>
              </a:xfrm>
              <a:custGeom>
                <a:avLst/>
                <a:gdLst/>
                <a:ahLst/>
                <a:rect l="l" t="t" r="r" b="b"/>
                <a:pathLst>
                  <a:path w="105" h="46">
                    <a:moveTo>
                      <a:pt x="0" y="24"/>
                    </a:moveTo>
                    <a:lnTo>
                      <a:pt x="1" y="21"/>
                    </a:lnTo>
                    <a:lnTo>
                      <a:pt x="3" y="18"/>
                    </a:lnTo>
                    <a:lnTo>
                      <a:pt x="6" y="16"/>
                    </a:lnTo>
                    <a:lnTo>
                      <a:pt x="8" y="13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2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6" y="3"/>
                    </a:lnTo>
                    <a:lnTo>
                      <a:pt x="79" y="2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0" y="6"/>
                    </a:lnTo>
                    <a:lnTo>
                      <a:pt x="89" y="9"/>
                    </a:lnTo>
                    <a:lnTo>
                      <a:pt x="91" y="9"/>
                    </a:lnTo>
                    <a:lnTo>
                      <a:pt x="96" y="11"/>
                    </a:lnTo>
                    <a:lnTo>
                      <a:pt x="98" y="12"/>
                    </a:lnTo>
                    <a:lnTo>
                      <a:pt x="102" y="12"/>
                    </a:lnTo>
                    <a:lnTo>
                      <a:pt x="104" y="14"/>
                    </a:lnTo>
                    <a:lnTo>
                      <a:pt x="104" y="16"/>
                    </a:lnTo>
                    <a:lnTo>
                      <a:pt x="102" y="17"/>
                    </a:lnTo>
                    <a:lnTo>
                      <a:pt x="99" y="18"/>
                    </a:lnTo>
                    <a:lnTo>
                      <a:pt x="95" y="20"/>
                    </a:lnTo>
                    <a:lnTo>
                      <a:pt x="96" y="22"/>
                    </a:lnTo>
                    <a:lnTo>
                      <a:pt x="98" y="23"/>
                    </a:lnTo>
                    <a:lnTo>
                      <a:pt x="98" y="26"/>
                    </a:lnTo>
                    <a:lnTo>
                      <a:pt x="95" y="27"/>
                    </a:lnTo>
                    <a:lnTo>
                      <a:pt x="92" y="28"/>
                    </a:lnTo>
                    <a:lnTo>
                      <a:pt x="90" y="30"/>
                    </a:lnTo>
                    <a:lnTo>
                      <a:pt x="90" y="31"/>
                    </a:lnTo>
                    <a:lnTo>
                      <a:pt x="92" y="33"/>
                    </a:lnTo>
                    <a:lnTo>
                      <a:pt x="97" y="33"/>
                    </a:lnTo>
                    <a:lnTo>
                      <a:pt x="101" y="34"/>
                    </a:lnTo>
                    <a:lnTo>
                      <a:pt x="102" y="36"/>
                    </a:lnTo>
                    <a:lnTo>
                      <a:pt x="100" y="38"/>
                    </a:lnTo>
                    <a:lnTo>
                      <a:pt x="97" y="39"/>
                    </a:lnTo>
                    <a:lnTo>
                      <a:pt x="93" y="40"/>
                    </a:lnTo>
                    <a:lnTo>
                      <a:pt x="90" y="42"/>
                    </a:lnTo>
                    <a:lnTo>
                      <a:pt x="80" y="43"/>
                    </a:lnTo>
                    <a:lnTo>
                      <a:pt x="66" y="44"/>
                    </a:lnTo>
                    <a:lnTo>
                      <a:pt x="55" y="45"/>
                    </a:lnTo>
                    <a:lnTo>
                      <a:pt x="51" y="45"/>
                    </a:lnTo>
                    <a:lnTo>
                      <a:pt x="47" y="43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9" y="43"/>
                    </a:lnTo>
                    <a:lnTo>
                      <a:pt x="24" y="44"/>
                    </a:lnTo>
                    <a:lnTo>
                      <a:pt x="10" y="43"/>
                    </a:lnTo>
                    <a:lnTo>
                      <a:pt x="7" y="43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0" y="29"/>
                    </a:lnTo>
                    <a:lnTo>
                      <a:pt x="6" y="27"/>
                    </a:lnTo>
                    <a:lnTo>
                      <a:pt x="1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18240" y="3124080"/>
                <a:ext cx="93600" cy="7308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0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8" y="22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58" y="27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1"/>
                    </a:lnTo>
                    <a:lnTo>
                      <a:pt x="56" y="33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1" y="38"/>
                    </a:lnTo>
                    <a:lnTo>
                      <a:pt x="59" y="40"/>
                    </a:lnTo>
                    <a:lnTo>
                      <a:pt x="57" y="40"/>
                    </a:lnTo>
                    <a:lnTo>
                      <a:pt x="54" y="42"/>
                    </a:lnTo>
                    <a:lnTo>
                      <a:pt x="49" y="43"/>
                    </a:lnTo>
                    <a:lnTo>
                      <a:pt x="40" y="44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28" y="43"/>
                    </a:lnTo>
                    <a:lnTo>
                      <a:pt x="25" y="41"/>
                    </a:lnTo>
                    <a:lnTo>
                      <a:pt x="21" y="41"/>
                    </a:lnTo>
                    <a:lnTo>
                      <a:pt x="18" y="43"/>
                    </a:lnTo>
                    <a:lnTo>
                      <a:pt x="14" y="44"/>
                    </a:lnTo>
                    <a:lnTo>
                      <a:pt x="6" y="43"/>
                    </a:lnTo>
                    <a:lnTo>
                      <a:pt x="4" y="43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2" y="36"/>
                    </a:lnTo>
                    <a:lnTo>
                      <a:pt x="5" y="34"/>
                    </a:lnTo>
                    <a:lnTo>
                      <a:pt x="6" y="31"/>
                    </a:lnTo>
                    <a:lnTo>
                      <a:pt x="6" y="29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09920" y="2976480"/>
                <a:ext cx="83160" cy="206640"/>
              </a:xfrm>
              <a:custGeom>
                <a:avLst/>
                <a:gdLst/>
                <a:ahLst/>
                <a:rect l="l" t="t" r="r" b="b"/>
                <a:pathLst>
                  <a:path w="57" h="130">
                    <a:moveTo>
                      <a:pt x="0" y="68"/>
                    </a:moveTo>
                    <a:lnTo>
                      <a:pt x="0" y="60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7" y="21"/>
                    </a:lnTo>
                    <a:lnTo>
                      <a:pt x="8" y="15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6" y="7"/>
                    </a:lnTo>
                    <a:lnTo>
                      <a:pt x="37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3" y="5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5"/>
                    </a:lnTo>
                    <a:lnTo>
                      <a:pt x="48" y="12"/>
                    </a:lnTo>
                    <a:lnTo>
                      <a:pt x="48" y="17"/>
                    </a:lnTo>
                    <a:lnTo>
                      <a:pt x="48" y="25"/>
                    </a:lnTo>
                    <a:lnTo>
                      <a:pt x="49" y="27"/>
                    </a:lnTo>
                    <a:lnTo>
                      <a:pt x="52" y="30"/>
                    </a:lnTo>
                    <a:lnTo>
                      <a:pt x="53" y="33"/>
                    </a:lnTo>
                    <a:lnTo>
                      <a:pt x="55" y="35"/>
                    </a:lnTo>
                    <a:lnTo>
                      <a:pt x="56" y="40"/>
                    </a:lnTo>
                    <a:lnTo>
                      <a:pt x="56" y="46"/>
                    </a:lnTo>
                    <a:lnTo>
                      <a:pt x="55" y="49"/>
                    </a:lnTo>
                    <a:lnTo>
                      <a:pt x="54" y="51"/>
                    </a:lnTo>
                    <a:lnTo>
                      <a:pt x="51" y="56"/>
                    </a:lnTo>
                    <a:lnTo>
                      <a:pt x="52" y="63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9" y="85"/>
                    </a:lnTo>
                    <a:lnTo>
                      <a:pt x="49" y="89"/>
                    </a:lnTo>
                    <a:lnTo>
                      <a:pt x="50" y="93"/>
                    </a:lnTo>
                    <a:lnTo>
                      <a:pt x="52" y="94"/>
                    </a:lnTo>
                    <a:lnTo>
                      <a:pt x="55" y="96"/>
                    </a:lnTo>
                    <a:lnTo>
                      <a:pt x="55" y="103"/>
                    </a:lnTo>
                    <a:lnTo>
                      <a:pt x="54" y="108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48" y="120"/>
                    </a:lnTo>
                    <a:lnTo>
                      <a:pt x="43" y="123"/>
                    </a:lnTo>
                    <a:lnTo>
                      <a:pt x="36" y="127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2"/>
                    </a:lnTo>
                    <a:lnTo>
                      <a:pt x="23" y="119"/>
                    </a:lnTo>
                    <a:lnTo>
                      <a:pt x="19" y="118"/>
                    </a:lnTo>
                    <a:lnTo>
                      <a:pt x="16" y="123"/>
                    </a:lnTo>
                    <a:lnTo>
                      <a:pt x="13" y="126"/>
                    </a:lnTo>
                    <a:lnTo>
                      <a:pt x="5" y="125"/>
                    </a:lnTo>
                    <a:lnTo>
                      <a:pt x="4" y="122"/>
                    </a:lnTo>
                    <a:lnTo>
                      <a:pt x="1" y="116"/>
                    </a:lnTo>
                    <a:lnTo>
                      <a:pt x="1" y="110"/>
                    </a:lnTo>
                    <a:lnTo>
                      <a:pt x="2" y="104"/>
                    </a:lnTo>
                    <a:lnTo>
                      <a:pt x="5" y="97"/>
                    </a:lnTo>
                    <a:lnTo>
                      <a:pt x="6" y="88"/>
                    </a:lnTo>
                    <a:lnTo>
                      <a:pt x="5" y="83"/>
                    </a:lnTo>
                    <a:lnTo>
                      <a:pt x="3" y="78"/>
                    </a:lnTo>
                    <a:lnTo>
                      <a:pt x="0" y="74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60760" y="3138480"/>
                <a:ext cx="73080" cy="58680"/>
              </a:xfrm>
              <a:custGeom>
                <a:avLst/>
                <a:gdLst/>
                <a:ahLst/>
                <a:rect l="l" t="t" r="r" b="b"/>
                <a:pathLst>
                  <a:path w="50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1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5" y="8"/>
                    </a:lnTo>
                    <a:lnTo>
                      <a:pt x="47" y="9"/>
                    </a:lnTo>
                    <a:lnTo>
                      <a:pt x="48" y="10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2" y="24"/>
                    </a:lnTo>
                    <a:lnTo>
                      <a:pt x="42" y="25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8" y="27"/>
                    </a:lnTo>
                    <a:lnTo>
                      <a:pt x="48" y="29"/>
                    </a:lnTo>
                    <a:lnTo>
                      <a:pt x="48" y="30"/>
                    </a:lnTo>
                    <a:lnTo>
                      <a:pt x="46" y="32"/>
                    </a:lnTo>
                    <a:lnTo>
                      <a:pt x="44" y="33"/>
                    </a:lnTo>
                    <a:lnTo>
                      <a:pt x="42" y="34"/>
                    </a:lnTo>
                    <a:lnTo>
                      <a:pt x="38" y="34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78680" y="3138480"/>
                <a:ext cx="74520" cy="586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0" y="19"/>
                    </a:moveTo>
                    <a:lnTo>
                      <a:pt x="0" y="17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7"/>
                    </a:lnTo>
                    <a:lnTo>
                      <a:pt x="44" y="7"/>
                    </a:lnTo>
                    <a:lnTo>
                      <a:pt x="46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49" y="14"/>
                    </a:lnTo>
                    <a:lnTo>
                      <a:pt x="48" y="14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21"/>
                    </a:lnTo>
                    <a:lnTo>
                      <a:pt x="46" y="22"/>
                    </a:lnTo>
                    <a:lnTo>
                      <a:pt x="45" y="22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7" y="32"/>
                    </a:lnTo>
                    <a:lnTo>
                      <a:pt x="45" y="33"/>
                    </a:lnTo>
                    <a:lnTo>
                      <a:pt x="43" y="34"/>
                    </a:lnTo>
                    <a:lnTo>
                      <a:pt x="39" y="34"/>
                    </a:lnTo>
                    <a:lnTo>
                      <a:pt x="32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4"/>
                    </a:lnTo>
                    <a:lnTo>
                      <a:pt x="20" y="33"/>
                    </a:lnTo>
                    <a:lnTo>
                      <a:pt x="17" y="33"/>
                    </a:lnTo>
                    <a:lnTo>
                      <a:pt x="14" y="34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3" y="34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0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526160" y="3117960"/>
                <a:ext cx="939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4"/>
                    </a:moveTo>
                    <a:lnTo>
                      <a:pt x="0" y="21"/>
                    </a:lnTo>
                    <a:lnTo>
                      <a:pt x="1" y="18"/>
                    </a:lnTo>
                    <a:lnTo>
                      <a:pt x="3" y="16"/>
                    </a:lnTo>
                    <a:lnTo>
                      <a:pt x="5" y="13"/>
                    </a:lnTo>
                    <a:lnTo>
                      <a:pt x="7" y="10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5" y="6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2" y="12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58" y="20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6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6" y="33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2" y="37"/>
                    </a:lnTo>
                    <a:lnTo>
                      <a:pt x="61" y="39"/>
                    </a:lnTo>
                    <a:lnTo>
                      <a:pt x="59" y="40"/>
                    </a:lnTo>
                    <a:lnTo>
                      <a:pt x="57" y="42"/>
                    </a:lnTo>
                    <a:lnTo>
                      <a:pt x="54" y="43"/>
                    </a:lnTo>
                    <a:lnTo>
                      <a:pt x="49" y="44"/>
                    </a:lnTo>
                    <a:lnTo>
                      <a:pt x="41" y="45"/>
                    </a:lnTo>
                    <a:lnTo>
                      <a:pt x="34" y="46"/>
                    </a:lnTo>
                    <a:lnTo>
                      <a:pt x="31" y="46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2" y="42"/>
                    </a:lnTo>
                    <a:lnTo>
                      <a:pt x="18" y="44"/>
                    </a:lnTo>
                    <a:lnTo>
                      <a:pt x="15" y="45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2"/>
                    </a:lnTo>
                    <a:lnTo>
                      <a:pt x="1" y="39"/>
                    </a:lnTo>
                    <a:lnTo>
                      <a:pt x="2" y="37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3" y="28"/>
                    </a:lnTo>
                    <a:lnTo>
                      <a:pt x="0" y="26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06000"/>
              </a:solidFill>
              <a:ln cap="rnd" w="12600">
                <a:solidFill>
                  <a:srgbClr val="4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6858000" y="152388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Cía. de Seguros de Vid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73360" y="6248520"/>
            <a:ext cx="40798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3600" y="5808600"/>
            <a:ext cx="14576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18400" y="6265800"/>
            <a:ext cx="294336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Retiros Programado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602080" y="5638680"/>
            <a:ext cx="393984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11960" y="5199120"/>
            <a:ext cx="1756440" cy="3974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izacio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98640" y="1981080"/>
            <a:ext cx="499428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1320" y="1585800"/>
            <a:ext cx="3801240" cy="3358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guro de Invalidez y Sobrevivenc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69560" y="2286000"/>
            <a:ext cx="4853160" cy="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27000" y="2325600"/>
            <a:ext cx="3274200" cy="366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orte Adicional ( Siniestro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48440" y="3276720"/>
            <a:ext cx="0" cy="167616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5600" y="4054320"/>
            <a:ext cx="1405800" cy="305640"/>
          </a:xfrm>
          <a:prstGeom prst="rect">
            <a:avLst/>
          </a:prstGeom>
          <a:solidFill>
            <a:srgbClr val="0000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enta Vitalic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71720" y="3522600"/>
            <a:ext cx="1329480" cy="3974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N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8768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3440" y="3200400"/>
            <a:ext cx="0" cy="1447920"/>
          </a:xfrm>
          <a:prstGeom prst="line">
            <a:avLst/>
          </a:prstGeom>
          <a:ln w="50760">
            <a:solidFill>
              <a:srgbClr val="99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39840" y="3657600"/>
            <a:ext cx="127476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OMIS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1251000" cy="305640"/>
          </a:xfrm>
          <a:prstGeom prst="rect">
            <a:avLst/>
          </a:prstGeom>
          <a:solidFill>
            <a:srgbClr val="0000cc"/>
          </a:solidFill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ministr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602080" y="2971800"/>
            <a:ext cx="1547640" cy="19051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18160" y="3662280"/>
            <a:ext cx="1468440" cy="78408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SCALIZ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727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0080" y="4114800"/>
            <a:ext cx="422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26040" y="3738600"/>
            <a:ext cx="879480" cy="706320"/>
          </a:xfrm>
          <a:prstGeom prst="rect">
            <a:avLst/>
          </a:prstGeom>
          <a:noFill/>
          <a:ln w="50760">
            <a:solidFill>
              <a:srgbClr val="0a0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V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1916280"/>
            <a:ext cx="976320" cy="179280"/>
          </a:xfrm>
          <a:prstGeom prst="leftArrow">
            <a:avLst>
              <a:gd name="adj1" fmla="val 50000"/>
              <a:gd name="adj2" fmla="val 136145"/>
            </a:avLst>
          </a:prstGeom>
          <a:solidFill>
            <a:srgbClr val="cc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379728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03440" y="1219320"/>
            <a:ext cx="2392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527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 algn="ctr">
              <a:lnSpc>
                <a:spcPct val="3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BENEFICIOS DEL SISTEMA DE AFP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2F7-4529-4261-9559-BB4E58497FEC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VEJ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DEFINICIÓN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DECIDE PENSIONARSE A UNA EDAD DETERMINA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L TRABAJADOR AFILIADO Y SU FAMILI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MPLIR EDAD LEGAL 60 M, 65 H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MONTO PENSIÓN EN FUNCIÓN DE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AHORRO ACUMULADO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DAD DE PENSIONARS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EXPECTATIVAS DE VIDA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GRUPO FAMILIAR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TASA DE INTERES VIGENTE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37E-4C1C-4044-82E4-36AEDB0E091A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60840" y="12240"/>
            <a:ext cx="91155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85240" cy="669924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TABLA DE EXPECTATIVAS DE VID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EDAD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HOMBRE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MUJ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2      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5008"/>
                </a:solidFill>
                <a:latin typeface="Tahoma"/>
              </a:rPr>
              <a:t>78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7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4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5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4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5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1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5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7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3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88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90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0080" indent="372960" algn="ctr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00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   102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   102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3C7-434E-4D48-9E7F-FC11C9DE7834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ÓN DE VEJE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JUBILACIÓN ANTICIPA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EDAD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onto pensión debe ser superior 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150% de la pensión mínima y,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ff"/>
              </a:buClr>
              <a:buSzPct val="60000"/>
              <a:buFont typeface="Monotype Sorts" charset="2"/>
              <a:buChar char="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70 % de sus remuneraciones últimos 10 años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(reajustadas según inflación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Garamond"/>
              </a:rPr>
              <a:t>DESEMPEÑO DE TRABAJO PESAD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trabajo pesado, semipes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misión ergonómic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279f"/>
              </a:buClr>
              <a:buSzPct val="60000"/>
              <a:buFont typeface="Monotype Sort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baja de añ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C31-4C92-415A-A4F9-054398AF5EA5}" type="slidenum">
              <a:t>24</a:t>
            </a:fld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Garamond"/>
              </a:rPr>
              <a:t>PENSIÓN DE VEJEZANTICIP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0568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cfeb9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8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EFECTO DEL BONO DE RECONOCIMIENTO  EN LA JUBILACIÓN ANTICIPADA E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 algn="just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DADO QUE EL BONO SE LIQUIDA CUANDO SE CUMPLE LA EDAD LEGAL (60 M, 65 H), Y EL TRABAJADOR SE ESTA PENSIONANDO ANTES, ENTONCES EL BONO PUEDE SER 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ENDIDO, AFP HACE LOS TRAMIT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NDOSADO SOLO SI ESCOGE LA MODALIDAD DE 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CA5-855C-4E76-B11C-62A03D85061C}" type="slidenum">
              <a:t>25</a:t>
            </a:fld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55440" y="196920"/>
          <a:ext cx="890928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96920"/>
                    <a:ext cx="890928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B5F-92DD-4D46-A364-4A9DF7C9516C}" type="slidenum">
              <a:t>26</a:t>
            </a:fld>
          </a:p>
        </p:txBody>
      </p:sp>
    </p:spTree>
  </p:cSld>
  <p:transition spd="med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1143000"/>
          <a:ext cx="434196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43419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809880" y="1065240"/>
          <a:ext cx="5772240" cy="548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065240"/>
                    <a:ext cx="577224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F38-4CBF-48AD-971E-61FB92347654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17840" y="76320"/>
            <a:ext cx="6400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720" y="1066320"/>
            <a:ext cx="9070920" cy="579132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DEFINICIÓN </a:t>
            </a:r>
            <a:r>
              <a:rPr b="0" lang="en-US" sz="2800" spc="-1" strike="noStrike">
                <a:solidFill>
                  <a:srgbClr val="99cc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HA PERDIDO A LO MENOS EL 50% DE SU CAPACIDAD DE TRABAJO. SI LA PÉRDIDA ES ENTRE UN 50% Y 66,6% ES INVALIDO PARCIAL. SI LA PÉRDIDA ES SUPERIOR AL 66,6%, ES INVALIDO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BENEFICIARI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EL TRABAJADOR AFILIADO DECLARADO INVÁLID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REQUISIT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ABER SIDO DECLARADO INVÁLIDO PARCIAL O TOTAL, POR UNA COMISIÓN MÉDICA REGIONAL O COMISIÓN MÉDICA CENTR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6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Garamond"/>
              </a:rPr>
              <a:t>MONTO PENSIÓN EN FUNCIÓN DE COBERTURA DEL SEGURO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  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     TOTA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UBIERTO POR SEGUR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                    50%            7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RCIALMENTE CUBIERTO(CESANTE)              35%            50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Garamond"/>
              </a:rPr>
              <a:t>% EXPRESADO EN FUNCIÓN DE R.I. DE ULTIMOS 10 AÑO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0A3-181B-44E8-BD99-CA833F7E3D54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LA COMISIÓN MÉDICA REGIONAL(CMR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ITA AL AFILIADO A ENTREVISTA CON MÉDICO ASIGNA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SOLICITA EXÁMENES DE APOYO A ESPECIALISTA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ÉDICO ASIGNADO PRESENTA EL CASO EN LA SESIÓN DE LA CMR (TRES MÉDICO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EMITE EL PRIMER DICTAMEN EN UN PLAZO DE 60 DÍAS, QUE PUEDE SER AMPLIADO HASTA 120 DÍAS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ICTAMEN DETERMINA LA INVALIDEZ (PARCIAL O TOTAL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58-E3D3-4D4F-A8CD-73150416BA28}" type="slidenum">
              <a:t>29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ASADO EN EL REPART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SE PAGABAN CON LAS COTIZACION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DE LOS TRABAJ. ACTIVOS   (CASI NO EXISTIA AHORRO 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RIGIDEZ EN LA AFILIAC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SEGUN NATURALEZA DEL TRABAJ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3E-24D0-4760-B0D9-29364CC5384E}" type="slidenum">
              <a:t>3</a:t>
            </a:fld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PENSIÓN DE INVALIDEZ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 SEGUNDO  DICTAMEN  SE EMITE EN UNA DE LAS SIGUIENTES CIRCUNSTANCIA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AN TRANSCURRIDO TRES AÑOS DESDE EMITIDO  EL PRIMER  DICTAME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AFILIADO CUMPLE LA EDAD LEGAL PARA PENSIONARSE POR VEJEZ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UANDO EL INVÁLIDO PARCIAL SOLICITA SER CALIFICADO COMO INVÁLIDO TOT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A CMR CITA A UN AFILIADO A REEVALUARSE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583-0BB6-4A82-9ED8-BEE162BF1864}" type="slidenum">
              <a:t>30</a:t>
            </a:fld>
          </a:p>
        </p:txBody>
      </p:sp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4240" y="168120"/>
          <a:ext cx="8851680" cy="655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68120"/>
                    <a:ext cx="88516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201-99F1-48A0-AE44-79EA16FE7268}" type="slidenum">
              <a:t>31</a:t>
            </a:fld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1120" y="168120"/>
          <a:ext cx="8850600" cy="66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168120"/>
                    <a:ext cx="885060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0C0-C771-48B5-B28D-A36ECCE6FEBD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2680" y="196920"/>
          <a:ext cx="885024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96920"/>
                    <a:ext cx="885024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583-68FD-4780-A8F5-9E27EAC260F1}" type="slidenum">
              <a:t>33</a:t>
            </a:fld>
          </a:p>
        </p:txBody>
      </p:sp>
    </p:spTree>
  </p:cSld>
  <p:transition spd="med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C13-22FA-4FB2-8C9B-91F1DFAEA52D}" type="slidenum">
              <a:t>34</a:t>
            </a:fld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12680" y="112680"/>
          <a:ext cx="8880480" cy="661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680" y="112680"/>
                    <a:ext cx="8880480" cy="66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F93-C36E-4AAD-ACED-42C72AE09E96}" type="slidenum">
              <a:t>35</a:t>
            </a:fld>
          </a:p>
        </p:txBody>
      </p:sp>
    </p:spTree>
  </p:cSld>
  <p:transition spd="med"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PENSIÓN DE SOBREVIVENC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3080" y="1219320"/>
            <a:ext cx="8982000" cy="55497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DEFINI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aramond"/>
              </a:rPr>
              <a:t>EL TRABAJADOR FALLECE Y SUS SOBREVIVIENTES RECIBEN UNA PENSIÓN SEGÚN EL TIPO DE PARENTESC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285840" indent="-285840">
              <a:lnSpc>
                <a:spcPct val="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Garamond"/>
              </a:rPr>
              <a:t>BENEFICIA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SOBREVIVIENTES DEL TRABAJADOR FALLECIDO 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CONYUG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S LEGÍTIMOS Y  NO MATRIMONIALES: MENOR DE 18 AÑOS O HASTA LOS 24 (ESTUDIANTE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MADRE DE HIJOS  NO MATRIMONIALES (SOLT. O VIUDA):VIVIR A EXPENSAS DEL TRABAJADOR FALLECID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HIJO INVÁLIDO PENSIÓN ES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8600">
              <a:lnSpc>
                <a:spcPct val="82000"/>
              </a:lnSpc>
              <a:spcBef>
                <a:spcPts val="751"/>
              </a:spcBef>
              <a:buClr>
                <a:srgbClr val="0066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LOS PADRES EN AUSENCIA DE LOS ANTERIORES,  QUE VIVEN A EXPENSAS DEL TRABAJADOR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098-ABF6-4933-BADE-081A2027F674}" type="slidenum">
              <a:t>36</a:t>
            </a:fld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73080" y="146052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aramond"/>
              </a:rPr>
              <a:t>MONTO DE PEN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CÓNYUGE CON/SIN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4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HIJOS CADA UNO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10.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MADRE HIJOS  NO MATRIMONIALES C/S HIJOS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1%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25.2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PADRES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35%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Garamond"/>
              </a:rPr>
              <a:t>LOS % ESTAN REFERIDOS AL INGRESO PROMEDIO MENSUAL DE LOS ÚLTIMOS 10 AÑOS (REAJUSTADOS).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8920" y="12600"/>
            <a:ext cx="8977320" cy="1193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c7f69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PENSIÓN DE SOBREVIVENCIA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794-5B23-40DB-BA5A-554BC4584558}" type="slidenum">
              <a:t>37</a:t>
            </a:fld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FINANCIAMIENTO DE LAS PENS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00" y="1384200"/>
            <a:ext cx="8966160" cy="538488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EL TRABAJADOR AL MOMENTO DE PENSIONARSE TIENE LOS SIGUIENTES RECURSOS (CUANDO CORRESPOND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ONDO DE PENSIONES (10% MÁS RENTABILIDAD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TIZACIÓN VOLUNTARIA  ( A P V 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DEPÓSITOS CONVENI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 (INVALIDEZ Y SOBREVIVENCI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HORRO VOLUNTARIO / APV   (SI LO DESEA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8A0-8414-42E7-9811-F52CDA725F5B}" type="slidenum">
              <a:t>38</a:t>
            </a:fld>
          </a:p>
        </p:txBody>
      </p:sp>
    </p:spTree>
  </p:cSld>
  <p:transition spd="med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076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CONSIDERACIONE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80" y="1460520"/>
            <a:ext cx="8982000" cy="52322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Garamond"/>
              </a:rPr>
              <a:t>CUALQUIERA SEA LA CAUSA DE LA PENSIÓN DEL AFILIADO (VEJEZ, ANTICIPADA, INVALIDEZ) O DE LOS SOBREVIVIENTES, ELLOS DEBEN ESCOGER UNA MODALIDAD DE PENSIÓN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TIROS PROGRAMAD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VITALICI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RENTA TEMPORAL CON RENTA VITALICIA DIFERID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66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Garamond"/>
              </a:rPr>
              <a:t>OTRAS VARIABL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180-E9B1-4351-8A8E-D0D580D6CC8A}" type="slidenum">
              <a:t>39</a:t>
            </a:fld>
          </a:p>
        </p:txBody>
      </p:sp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" y="257040"/>
            <a:ext cx="867096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ADMINIST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32 CAJAS (MAYORIA ESTATALES) Y 52 REGIMENES 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COTIZAC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&gt; VARIABLE SEGUN CAJA ( EN ALGUNOS CASOS    MAYOR    AL   50%  DE  LA REMUNERACIÓN)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0"/>
            <a:ext cx="7848720" cy="1198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ahoma"/>
              </a:rPr>
              <a:t>    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INCIPALES CARACTERISTIC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6467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C58-7353-4B65-9C8E-49B6785F2861}" type="slidenum">
              <a:t>4</a:t>
            </a:fld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256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MODALIDADES DE PENS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040" y="1454040"/>
            <a:ext cx="8916840" cy="524520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7b00e4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ITEM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R.VITALICIA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279f"/>
                </a:solidFill>
                <a:latin typeface="Tahoma"/>
              </a:rPr>
              <a:t>         R.PROGRAM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IJA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VARIABL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MONED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F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SE PUEDE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CAMBIAR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QUIEN PAG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LA PENSIÓN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ÍA SEG.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AFP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ccff"/>
                </a:solidFill>
                <a:latin typeface="Tahoma"/>
              </a:rPr>
              <a:t>HERENCIA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O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        SÍ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B30-A541-4F28-8D96-96BB9BE79A90}" type="slidenum">
              <a:t>40</a:t>
            </a:fld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2600" y="12600"/>
            <a:ext cx="9048960" cy="11178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b4f37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Garamond"/>
              </a:rPr>
              <a:t>MODALIDADES DE PENS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" y="1219320"/>
            <a:ext cx="8907480" cy="547344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99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ITEM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            R.VITALICIA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Times New Roman"/>
              </a:rPr>
              <a:t> R.PROGRA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. MORTUORIA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ROPIEDAD FONDO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AFILIAD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DMIN. DE FOND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CÍA DE SEG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EXCED.LIB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DISPOSICIÓN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Í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SÍ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GARANTÍA ESTADO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. MÍNIMAS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P.MÍNI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QUIEBRA CÍA.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RENT.MÍN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1E1-CB8F-435C-87D9-3B05DD18232D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4240" y="139680"/>
          <a:ext cx="8935920" cy="661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240" y="139680"/>
                    <a:ext cx="893592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76B-6FC1-4D38-83CD-F27441FB161D}" type="slidenum">
              <a:t>42</a:t>
            </a:fld>
          </a:p>
        </p:txBody>
      </p:sp>
    </p:spTree>
  </p:cSld>
  <p:transition spd="med"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90512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Garamond"/>
              </a:rPr>
              <a:t>EXCEDENTES  DE  LIBRE DISPOSICIÓ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Garamond"/>
              </a:rPr>
              <a:t>EN CUALQUIER MODALIDAD QUE EL TRABAJADOR ESCOJA PARA SU PENSIÓN DE VEJEZ, TIENE LA OPCIÓN DE RETIRAR UNA PARTE DE SUS FONDOS PREVISIONALES PARA DISPONER LIBREMENTE DE ELLO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95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Garamond"/>
              </a:rPr>
              <a:t>EL MONTO DEL EXCEDENTE QUE PUEDE RETIRAR ESTA LIMITADO EN TERMINOS QUE EL SALDO QUE QUEDA EN LA CUENTA INDIVIDUAL PERMITA FINANCIAR UNA PENSIÓN EQUIVALENTE AL 70% DEL PROMEDIO DE LAS REMUNERACIONES E IGUAL AL 120% DE LA PENSIÓN MÍNIMA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C82-6950-4271-A950-B267C8752120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CUOTA MORTUORI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8200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MONTO DE LA CUOTA MORTUORIA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15 UF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REQUISI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ERTIFICADO DE FALLE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FACTURA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VINCULO MATRIMONIO O PARENTESCO 100%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OTRA PERSONA 100% GASTO CON TOPE DE 15 UF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BC4-A098-49D3-B6A6-98D46144A9A2}" type="slidenum">
              <a:t>44</a:t>
            </a:fld>
          </a:p>
        </p:txBody>
      </p:sp>
    </p:spTree>
  </p:cSld>
  <p:transition spd="med">
    <p:checke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gradFill rotWithShape="0">
            <a:gsLst>
              <a:gs pos="0">
                <a:srgbClr val="a3f25f"/>
              </a:gs>
              <a:gs pos="50000">
                <a:srgbClr val="abf26e"/>
              </a:gs>
              <a:gs pos="100000">
                <a:srgbClr val="a3f25f"/>
              </a:gs>
            </a:gsLst>
            <a:lin ang="13500000"/>
          </a:gradFill>
          <a:ln w="255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Garamond"/>
              </a:rPr>
              <a:t>GARANTIA DEL ESTADO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3080" y="1384200"/>
            <a:ext cx="8905680" cy="5308560"/>
          </a:xfrm>
          <a:prstGeom prst="rect">
            <a:avLst/>
          </a:prstGeom>
          <a:solidFill>
            <a:srgbClr val="fcfeb9"/>
          </a:solidFill>
          <a:ln w="25560">
            <a:solidFill>
              <a:srgbClr val="ccff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75000"/>
              <a:buFont typeface="Monotype Sort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aramond"/>
              </a:rPr>
              <a:t>EL ESTADO GARANTIZA LO SIGUIENTE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BONO DE RECONOCI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PENSIONES BASICAS SOLIDARIAS Y PMAC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BILIDAD MINIM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APORTE ADICIONA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CONTRIBUCIÓN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79f"/>
              </a:buClr>
              <a:buSzPct val="75000"/>
              <a:buFont typeface="Monotype Sor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           </a:t>
            </a:r>
            <a:r>
              <a:rPr b="1" lang="en-US" sz="2000" spc="-1" strike="noStrike">
                <a:solidFill>
                  <a:srgbClr val="0000cc"/>
                </a:solidFill>
                <a:latin typeface="Garamond"/>
              </a:rPr>
              <a:t>RENTAS VITALICIAS 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235-8DC7-4B71-8C3C-E84B45ED3300}" type="slidenum">
              <a:t>45</a:t>
            </a:fld>
          </a:p>
        </p:txBody>
      </p:sp>
    </p:spTree>
  </p:cSld>
  <p:transition spd="med">
    <p:cover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SULTADOS DEL SISTEMA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BCB-1F00-459E-9F58-8C1484E452FB}" type="slidenum">
              <a:t>46</a:t>
            </a:fld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AE0-7A10-4538-9CFB-C9D9E8C12DCF}" type="slidenum">
              <a:t>47</a:t>
            </a:fld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182-1348-4056-A3DA-AF8DB97F84D3}" type="slidenum">
              <a:t>48</a:t>
            </a:fld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16D-2920-4491-BA31-CC1B53A32FC1}" type="slidenum">
              <a:t>49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6960" y="1218960"/>
            <a:ext cx="898668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BENEFICI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&gt;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NSIONES DE VEJEZ, INVALIDEZ, SOBREVIVENCIA, ERAN DIVERSAS SEGÚN FUERE LA CAJ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PENSIONES NO SE REAJUSTABAN AUTOMÁTICAMENTE SEGÚN LA INFLACIÓN (IPC). SE NECESITABA  UNA LEY ESPECIAL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&gt;  DISTINTOS REQUISITOS Y FÓRMULAS DE CÁLCULO  PARA OBTENER PENSIONES EN CADA CAJA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ahoma"/>
              </a:rPr>
              <a:t>        </a:t>
            </a:r>
            <a:br>
              <a:rPr sz="2000"/>
            </a:b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6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8B4-6C62-4CD3-B33C-9D1C24B7572A}" type="slidenum">
              <a:t>5</a:t>
            </a:fld>
          </a:p>
        </p:txBody>
      </p:sp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324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filiados que mantienen </a:t>
            </a:r>
            <a:br>
              <a:rPr sz="3600"/>
            </a:br>
            <a:r>
              <a:rPr b="1" lang="es-MX" sz="3600" spc="-1" strike="noStrike">
                <a:solidFill>
                  <a:srgbClr val="ffff00"/>
                </a:solidFill>
                <a:latin typeface="Tahoma"/>
              </a:rPr>
              <a:t>Ahorro Previsional Voluntari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Fondos Administra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276 millone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US$  107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US$  211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US$ 594 millon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Número de Persona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(dic. 2001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Cotización Voluntaria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238.918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Depósitos Convenidos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42.285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Ahorro Voluntario 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1" lang="es-MX" sz="2400" spc="-1" strike="noStrike" u="sng">
                <a:solidFill>
                  <a:srgbClr val="ffff00"/>
                </a:solidFill>
                <a:uFillTx/>
                <a:latin typeface="Comic Sans MS"/>
              </a:rPr>
              <a:t>1.027.849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TOTAL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     1.309.052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2FD-EC8A-4F5E-B87E-3A99B38E72E0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533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volución del número de afiliados y cotizant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-38160" y="1676520"/>
            <a:ext cx="4610160" cy="4141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4610160" y="1719360"/>
            <a:ext cx="4610160" cy="414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44D-F56D-47D1-B49D-7307E5A58079}" type="slidenum">
              <a:t>51</a:t>
            </a:fld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-233280" y="1346040"/>
          <a:ext cx="9559800" cy="551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3280" y="1346040"/>
                    <a:ext cx="9559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250920" y="-76320"/>
            <a:ext cx="889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volución de los Fondos de Pensione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en millones de UF a diciembre de cada año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51640" y="1628640"/>
            <a:ext cx="2582640" cy="0"/>
          </a:xfrm>
          <a:prstGeom prst="line">
            <a:avLst/>
          </a:prstGeom>
          <a:ln w="38160">
            <a:solidFill>
              <a:srgbClr val="fe1c1c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2160" y="1233360"/>
            <a:ext cx="123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l. U.F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8120" y="1352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 $ 75.594,47 Millon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2205000"/>
            <a:ext cx="56577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S FONDOS ACUMULADOS PERTENECEN A MÁS DE 7,5  MILLONES DE CHILENOS,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UYO SALDO PROMEDI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LCANZA A $ 5,5 MILLO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62880" y="645336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Times New Roman"/>
              </a:rPr>
              <a:t>Juni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 U .CH. 2002</a:t>
            </a:r>
          </a:p>
        </p:txBody>
      </p:sp>
    </p:spTree>
  </p:cSld>
  <p:transition spd="slow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6320" y="0"/>
            <a:ext cx="90676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olución de las Inversiones de los Fondos de Pensiones por Se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(Como porcentaje del Total del Fondo de Pensiones</a:t>
            </a: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-380880" y="2133720"/>
          <a:ext cx="419076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2133720"/>
                    <a:ext cx="41907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438280" y="2438280"/>
          <a:ext cx="441972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438280"/>
                    <a:ext cx="44197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019920" y="1828800"/>
          <a:ext cx="380988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1828800"/>
                    <a:ext cx="3809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53424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2520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199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49280" y="222408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1-Dic.-200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962-48FC-4912-BC36-FC2558683ABF}" type="slidenum">
              <a:t>53</a:t>
            </a:fld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-380880" y="493560"/>
          <a:ext cx="10726560" cy="712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80880" y="493560"/>
                    <a:ext cx="10726560" cy="71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0" y="0"/>
            <a:ext cx="89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versiones de los Fondos de Pensio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Como % del Fondo de Pensiones  31 de diciembre de 2001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048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8,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73360" y="2819520"/>
            <a:ext cx="118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3,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7520" y="281952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5,0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62640" y="400536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3,4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9051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905120"/>
            <a:ext cx="16002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0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18288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 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9,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5791320"/>
            <a:ext cx="129528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9,0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4,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09920" y="1130400"/>
            <a:ext cx="2838600" cy="459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35.460,7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027-01D9-4476-BFE1-BC25C7E03905}" type="slidenum">
              <a:t>54</a:t>
            </a:fld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-396720" y="762120"/>
          <a:ext cx="10726560" cy="71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762120"/>
                    <a:ext cx="10726560" cy="7126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4303641" blurRad="0" rotWithShape="0">
                      <a:srgbClr val="99ccff"/>
                    </a:outerShdw>
                  </a:effectLst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6320" y="74520"/>
            <a:ext cx="893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versiones de los 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Como % del Fondo de Pensiones de junio de 200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378600">
            <a:off x="2842920" y="4149360"/>
            <a:ext cx="1471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mpres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3,81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078600">
            <a:off x="2806560" y="3078000"/>
            <a:ext cx="11890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Bancar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29,95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19640" y="2924280"/>
            <a:ext cx="908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15,0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009000">
            <a:off x="5866920" y="4005000"/>
            <a:ext cx="1471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Extranjer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3332"/>
                </a:solidFill>
                <a:latin typeface="Times New Roman"/>
              </a:rPr>
              <a:t>31,22%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8000" y="2057400"/>
            <a:ext cx="121896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.R. (I.N.P.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8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67440" y="2057400"/>
            <a:ext cx="16002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anco Centr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9,1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0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,7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2057400"/>
            <a:ext cx="1143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. H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,7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955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.F.I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,35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90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onos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,89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7760" y="5791320"/>
            <a:ext cx="11430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ion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3,57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5791320"/>
            <a:ext cx="137160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Vari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30,78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5791320"/>
            <a:ext cx="129564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Rta. Fij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0,4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295280"/>
            <a:ext cx="283860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 US$ 75.594,4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8000" y="2057400"/>
            <a:ext cx="1295280" cy="53352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00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ep.y Bon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4,46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12000" y="2060640"/>
            <a:ext cx="1219320" cy="533160"/>
          </a:xfrm>
          <a:prstGeom prst="rect">
            <a:avLst/>
          </a:prstGeom>
          <a:solidFill>
            <a:srgbClr val="0000cc"/>
          </a:solidFill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I. Tesorerí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,02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43640" y="2781360"/>
            <a:ext cx="142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626920" y="2852640"/>
            <a:ext cx="144360" cy="2160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08720" y="5157720"/>
            <a:ext cx="14292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916000" y="5373720"/>
            <a:ext cx="144360" cy="21600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2FF-E4CA-4F0C-9857-E6BDCFDD699D}" type="slidenum">
              <a:t>55</a:t>
            </a:fld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42840" y="838080"/>
          <a:ext cx="8962920" cy="55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838080"/>
                    <a:ext cx="896292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561960" y="5029200"/>
            <a:ext cx="7905600" cy="0"/>
          </a:xfrm>
          <a:prstGeom prst="line">
            <a:avLst/>
          </a:prstGeom>
          <a:ln w="50760">
            <a:solidFill>
              <a:srgbClr val="fc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2514600"/>
            <a:ext cx="914400" cy="736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29600" y="2743200"/>
            <a:ext cx="1106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entury Gothic"/>
              </a:rPr>
              <a:t>10,7%</a:t>
            </a:r>
            <a:endParaRPr b="0" lang="en-US" sz="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34520" y="32767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1676520"/>
            <a:ext cx="2209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( *1) Rentabilidad promedio acumulada Julio 81-Dic. 200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504280" y="4876920"/>
            <a:ext cx="639720" cy="39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943600"/>
            <a:ext cx="883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entury Gothic"/>
              </a:rPr>
              <a:t>81  82  83   84   85   86   87  88  89   90  91   92  93  94  95   96  97  98   99 ‘ 00  ‘01  (*1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920" y="76320"/>
            <a:ext cx="90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ntabilidad Real Anual de 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ndos de Pension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647712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Fuente: Asociación de AFP-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033-C7FA-446A-9A61-C602F019644D}" type="slidenum">
              <a:t>56</a:t>
            </a:fld>
          </a:p>
        </p:txBody>
      </p:sp>
    </p:spTree>
  </p:cSld>
  <p:transition spd="slow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311120"/>
          <a:ext cx="9164520" cy="554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11120"/>
                    <a:ext cx="916452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119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26920" y="1197000"/>
            <a:ext cx="813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ntabilidad Real Anual de los Fondos de Pensi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En 25 años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445000"/>
            <a:ext cx="824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713800" y="5300640"/>
            <a:ext cx="395280" cy="216000"/>
          </a:xfrm>
          <a:prstGeom prst="rect">
            <a:avLst/>
          </a:prstGeom>
          <a:solidFill>
            <a:srgbClr val="0000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64720" y="306864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04720" y="25653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Rentabilidad Promedio Anu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imes New Roman"/>
              </a:rPr>
              <a:t>Acumulada jul. 81– dic. 05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82160" y="2637000"/>
            <a:ext cx="826920" cy="431640"/>
          </a:xfrm>
          <a:prstGeom prst="leftArrowCallout">
            <a:avLst>
              <a:gd name="adj1" fmla="val 0"/>
              <a:gd name="adj2" fmla="val 25000"/>
              <a:gd name="adj3" fmla="val 45224"/>
              <a:gd name="adj4" fmla="val 66673"/>
            </a:avLst>
          </a:prstGeom>
          <a:noFill/>
          <a:ln w="38160">
            <a:solidFill>
              <a:srgbClr val="d31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87160" y="649116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cc"/>
                </a:solidFill>
                <a:latin typeface="Tahoma"/>
              </a:rPr>
              <a:t>*</a:t>
            </a:r>
            <a:r>
              <a:rPr b="0" lang="es-CL" sz="1800" spc="-1" strike="noStrike">
                <a:solidFill>
                  <a:srgbClr val="ffff00"/>
                </a:solidFill>
                <a:latin typeface="Tahoma"/>
              </a:rPr>
              <a:t>: Promedio ponderado multifon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03240" y="189000"/>
            <a:ext cx="276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ff00"/>
                </a:solidFill>
                <a:latin typeface="Arial"/>
              </a:rPr>
              <a:t>Rentabilidad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6FE-F0AA-40DC-9C56-39F8C3A9F980}" type="slidenum">
              <a:t>57</a:t>
            </a:fld>
          </a:p>
        </p:txBody>
      </p:sp>
    </p:spTree>
  </p:cSld>
  <p:transition spd="slow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5440" y="1558800"/>
          <a:ext cx="9126720" cy="503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1558800"/>
                    <a:ext cx="912672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8497800" y="6361200"/>
            <a:ext cx="166680" cy="366480"/>
          </a:xfrm>
          <a:prstGeom prst="rect">
            <a:avLst/>
          </a:prstGeom>
          <a:noFill/>
          <a:ln w="0">
            <a:noFill/>
          </a:ln>
          <a:effectLst>
            <a:outerShdw dist="269322" dir="189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11253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 Promedio a Dic. de c/ año como % de la Renta Promedio Imponible 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49760" y="4782960"/>
            <a:ext cx="651132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luye el Costo del Seguro y Comisión Fij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5440" y="631044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43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986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89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85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4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47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5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2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65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1932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3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3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1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876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80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3,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4180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7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0216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6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49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29440" y="63244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880" y="6248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32000" y="2708280"/>
            <a:ext cx="705636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349360"/>
            <a:ext cx="6872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459640" y="3860640"/>
            <a:ext cx="6843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2440" y="3930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2,4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6520" y="242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4,87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99640" y="43920"/>
            <a:ext cx="79930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sto para un Cotizan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n el Sistema de AFP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5929560" y="2133720"/>
            <a:ext cx="30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06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Seg. Inv. Sobrev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1,31%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% AF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0,06% 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Comisión Fij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84480" y="223992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imes New Roman"/>
              </a:rPr>
              <a:t>2,3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213372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7532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6908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8980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750160" y="63324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Times New Roman"/>
              </a:rPr>
              <a:t>2,4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38280" y="659772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Times New Roman"/>
              </a:rPr>
              <a:t>Ju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5F8-084B-4D45-9093-48F0A744B63C}" type="slidenum">
              <a:t>58</a:t>
            </a:fld>
          </a:p>
        </p:txBody>
      </p:sp>
    </p:spTree>
  </p:cSld>
  <p:transition spd="slow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9629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úmero de Pensiones Pagad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990720" y="839880"/>
          <a:ext cx="8153280" cy="545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9880"/>
                    <a:ext cx="815328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0E8-4ABC-49C3-8F63-53221345E5E5}" type="slidenum">
              <a:t>59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320" y="456840"/>
            <a:ext cx="8596440" cy="1190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antiguo sistema de pensiones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320" y="1980720"/>
            <a:ext cx="8758080" cy="470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QUISITOS PARA JUBILA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6360" y="2771640"/>
            <a:ext cx="8531280" cy="37530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40" y="2971800"/>
            <a:ext cx="2446560" cy="311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BRER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  PART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PLEAD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NC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LAMENTA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7920" y="3060720"/>
            <a:ext cx="4194360" cy="355680"/>
          </a:xfrm>
          <a:prstGeom prst="rect">
            <a:avLst/>
          </a:prstGeom>
          <a:solidFill>
            <a:srgbClr val="3333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12120" y="302436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65 AÑ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7920" y="3594240"/>
            <a:ext cx="3070440" cy="431640"/>
          </a:xfrm>
          <a:prstGeom prst="rect">
            <a:avLst/>
          </a:prstGeom>
          <a:solidFill>
            <a:srgbClr val="676767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56240" y="355752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5 AÑOS DE TRAB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4280040"/>
            <a:ext cx="2506680" cy="355320"/>
          </a:xfrm>
          <a:prstGeom prst="rect">
            <a:avLst/>
          </a:prstGeom>
          <a:solidFill>
            <a:srgbClr val="91919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4480" y="431964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30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7920" y="5118120"/>
            <a:ext cx="20876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2360" y="51577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4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7920" y="5803920"/>
            <a:ext cx="1311480" cy="355680"/>
          </a:xfrm>
          <a:prstGeom prst="rect">
            <a:avLst/>
          </a:prstGeom>
          <a:solidFill>
            <a:srgbClr val="dadada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99440" y="5843520"/>
            <a:ext cx="27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5 AÑOS DE TRABAJ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DBB-DF49-4484-BF03-AFF378FEC353}" type="slidenum">
              <a:t>6</a:t>
            </a:fld>
          </a:p>
        </p:txBody>
      </p:sp>
    </p:spTree>
  </p:cSld>
  <p:transition spd="slow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ensiones Pagadas según Modalidad(Dic. 200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04920" y="1828800"/>
          <a:ext cx="8839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828800"/>
                    <a:ext cx="8839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F0A-869E-45C2-92F3-FC0AAE484E50}" type="slidenum">
              <a:t>60</a:t>
            </a:fld>
          </a:p>
        </p:txBody>
      </p:sp>
    </p:spTree>
  </p:cSld>
  <p:transition spd="slow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16000" y="0"/>
            <a:ext cx="712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ensiones Pagadas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r Tipo como % sobre el total a junio de 2006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-541440" y="2284560"/>
          <a:ext cx="9145800" cy="64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2284560"/>
                    <a:ext cx="9145800" cy="64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89600" y="1628640"/>
            <a:ext cx="3720960" cy="45972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589.023 pensiones pagada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341360"/>
            <a:ext cx="3779640" cy="134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</a:rPr>
              <a:t>Promedio Jubilación Anticip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ombres: 55,6 años (9,4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jeres  : 53,3 años (6,7 años ant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Total       : 55,2 añ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2EC-16E8-4E47-BFA6-8DA0106CA849}" type="slidenum">
              <a:t>61</a:t>
            </a:fld>
          </a:p>
        </p:txBody>
      </p:sp>
    </p:spTree>
  </p:cSld>
  <p:transition spd="slow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5300640"/>
            <a:ext cx="8567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Supuesto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: Afiliado hombre, cotiza desde los 18 años y se pensiona a los 65. Renta Imponible crece al 2% anual hasta los 50 años, luego estable ($282.680)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misión Fija: $ 227;  Lagunas previsionales: 8%, 15% y 30%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asa de reemplazo líquida. RV-2004 Estática. Tasa de Interés Técnico: 4,3%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47720" y="65800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21-VIII-20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41400"/>
            <a:ext cx="9144000" cy="516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741-8B1D-4F3B-8391-4D52CC952AC0}" type="slidenum">
              <a:t>62</a:t>
            </a:fld>
          </a:p>
        </p:txBody>
      </p:sp>
    </p:spTree>
  </p:cSld>
  <p:transition spd="slow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520" y="304920"/>
            <a:ext cx="8885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0"/>
            <a:ext cx="78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istema de afp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ahoma"/>
              </a:rPr>
              <a:t>La importancia del ahorro...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2EF-23E9-4A8B-B676-D19F5B58DF76}" type="slidenum">
              <a:t>63</a:t>
            </a:fld>
          </a:p>
        </p:txBody>
      </p:sp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304920" y="380880"/>
          <a:ext cx="8839080" cy="617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8390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1A8-ED18-4A1C-A795-A251E72D35F2}" type="slidenum">
              <a:t>64</a:t>
            </a:fld>
          </a:p>
        </p:txBody>
      </p:sp>
    </p:spTree>
  </p:cSld>
  <p:transition spd="slow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03080" y="228600"/>
            <a:ext cx="808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COTIZACIONES VOLUNTARIAS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SEGÚN </a:t>
            </a: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ENT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IMPONIBLE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d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ic. 2001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95400" y="1219320"/>
          <a:ext cx="854712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219320"/>
                    <a:ext cx="8547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 flipH="1">
            <a:off x="2285640" y="2286000"/>
            <a:ext cx="15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28600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2133720"/>
            <a:ext cx="0" cy="3352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1905120"/>
            <a:ext cx="0" cy="358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285640" y="2133720"/>
            <a:ext cx="2462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1905120"/>
            <a:ext cx="4343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10960" y="22096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5360" y="2057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21000" y="152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73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162560" y="16765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73480" y="1371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27%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BF1-827F-4F3C-81BF-9FF75876B807}" type="slidenum">
              <a:t>65</a:t>
            </a:fld>
          </a:p>
        </p:txBody>
      </p:sp>
    </p:spTree>
  </p:cSld>
  <p:transition spd="slow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10960" y="1447920"/>
            <a:ext cx="8933040" cy="4821120"/>
          </a:xfrm>
          <a:prstGeom prst="rect">
            <a:avLst/>
          </a:prstGeom>
          <a:noFill/>
          <a:ln w="0">
            <a:noFill/>
          </a:ln>
        </p:spPr>
        <p:txBody>
          <a:bodyPr lIns="112680" rIns="112680" tIns="55440" bIns="55440" anchor="t">
            <a:normAutofit fontScale="81000"/>
          </a:bodyPr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ULTURA PREVISIONAL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CORPORACION DE LOS TRABAJADORES INDEPENDIENT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TINUAR DIVERSIFICANDO LAS INVERSION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9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LOS SISTEMAS DE COBRANZA DE COTIZACIONES IMPAG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13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ERFECCIONAR MODALIDADES DE PENSION Y SU COMERCIALIZACION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0" algn="just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160" indent="-308160" algn="just">
              <a:lnSpc>
                <a:spcPct val="80000"/>
              </a:lnSpc>
              <a:buClr>
                <a:srgbClr val="99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135080" y="784080"/>
            <a:ext cx="6283440" cy="7509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SAFIOS FUTURO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7223040" y="6467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93240" y="6588000"/>
            <a:ext cx="1885680" cy="2566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Book Antiqua"/>
              </a:rPr>
              <a:t>Asociación de AFP  AG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456-44DD-418A-B791-5DC9B14353FE}" type="slidenum">
              <a:t>66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71640" y="189000"/>
            <a:ext cx="946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88720" y="0"/>
            <a:ext cx="85309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Potenciar Primer Pilar Solidario (no contributivo)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426320" y="1794240"/>
            <a:ext cx="6500520" cy="4510440"/>
            <a:chOff x="1426320" y="1794240"/>
            <a:chExt cx="6500520" cy="4510440"/>
          </a:xfrm>
        </p:grpSpPr>
        <p:sp>
          <p:nvSpPr>
            <p:cNvPr id="542" name=""/>
            <p:cNvSpPr/>
            <p:nvPr/>
          </p:nvSpPr>
          <p:spPr>
            <a:xfrm rot="16200000">
              <a:off x="6178680" y="2058840"/>
              <a:ext cx="999000" cy="116460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33880" y="6303960"/>
              <a:ext cx="6492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62200" y="2975040"/>
              <a:ext cx="998280" cy="3328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33880" y="5138280"/>
              <a:ext cx="13323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507400">
              <a:off x="1767240" y="4639680"/>
              <a:ext cx="3161160" cy="116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6200000">
              <a:off x="2350440" y="2391840"/>
              <a:ext cx="3328560" cy="44946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33880" y="1809360"/>
              <a:ext cx="1080" cy="44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3880" y="1809360"/>
              <a:ext cx="649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919280" y="1794240"/>
              <a:ext cx="1080" cy="44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87520" y="4609800"/>
              <a:ext cx="181692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CONTRIBUTIV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6320" y="5123520"/>
              <a:ext cx="1332360" cy="66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 SOLID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88600" y="2127960"/>
              <a:ext cx="1649520" cy="11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PILAR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00"/>
                  </a:solidFill>
                  <a:latin typeface="Arial"/>
                </a:rPr>
                <a:t>VOLUNTARIO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5AC-3F28-43EC-893E-E17E2DA25E7D}" type="slidenum">
              <a:t>67</a:t>
            </a:fld>
          </a:p>
        </p:txBody>
      </p:sp>
    </p:spTree>
  </p:cSld>
  <p:transition spd="slow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-1440" y="776160"/>
          <a:ext cx="9181800" cy="610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776160"/>
                    <a:ext cx="9181800" cy="61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cc"/>
                </a:solidFill>
                <a:latin typeface="Tahoma"/>
              </a:rPr>
              <a:t>Aporte Intern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D2F-DA5E-4AB0-A314-7BE2FD8357D4}" type="slidenum">
              <a:t>68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7320" y="1371240"/>
            <a:ext cx="8758080" cy="53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AUSAS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DISMINUCION RELAC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Garamond"/>
              </a:rPr>
              <a:t>(TRABAJADORES COTIZANTES / PENSIONADOS ) POR</a:t>
            </a:r>
            <a:r>
              <a:rPr b="1" i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FECTOS DEMOGRAFIC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TORGAMIENTO BENEFICIOS SIN FINANCIAMIENT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lnSpc>
                <a:spcPct val="5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LTA EVASION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POR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NIMA RELACION ENTRE COTIZACIONES Y BENEFICI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LTAS TASAS DE COTIZAC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BAJAS PENSIONE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APROPIADOS SISTEMAS DE CONTRO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384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RISIS FINANCIERA 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0AB-FE0C-43AE-8418-B64203D3DE38}" type="slidenum">
              <a:t>7</a:t>
            </a:fld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el origen de un cambio...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&gt;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baja en las tasas de fertilida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aumento en los índices de expectativas de vid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5CD-8552-485F-A3DD-DD3EDC952E0A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447920"/>
          <a:ext cx="8837640" cy="50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447920"/>
                    <a:ext cx="88376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152280"/>
            <a:ext cx="9524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baja en tasas de fert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280" y="125568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Nº Hijos por Mujer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6C2-B45A-4234-B2F2-988682678E43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01:42:35Z</dcterms:created>
  <dc:creator>UNIVERSIDAD DEL DESARROLLO</dc:creator>
  <dc:description/>
  <dc:language>en-US</dc:language>
  <cp:lastModifiedBy>USUARIO</cp:lastModifiedBy>
  <cp:lastPrinted>2002-05-11T23:00:06Z</cp:lastPrinted>
  <dcterms:modified xsi:type="dcterms:W3CDTF">2010-05-31T01:08:55Z</dcterms:modified>
  <cp:revision>106</cp:revision>
  <dc:subject/>
  <dc:title>Sin título de diapositiva</dc:title>
</cp:coreProperties>
</file>