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EE73-8336-4390-ABA0-DC7A09AE53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7110-AC43-464C-AF61-ADA20190F7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6680" y="803160"/>
            <a:ext cx="4255920" cy="3192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A3AB-8B61-4D07-9CC2-17FA84D164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68120" y="1582560"/>
            <a:ext cx="6446880" cy="483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6BCF-07B1-4438-8138-D096D19130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641520" y="215280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7E53-9A02-44CA-BC3A-961FF27A40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14200" y="2581200"/>
            <a:ext cx="6353280" cy="4765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EAE4-BAEB-4445-8394-D7E6ADDA3E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450720" y="2152800"/>
            <a:ext cx="5878800" cy="4408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6445-7E48-48BD-A2C2-3EA3731466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490680" y="2295360"/>
            <a:ext cx="587844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7F2-1BDE-4CCA-B75F-767455CC27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CA5-72CE-4110-98F0-A655F7C234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3880" y="2581200"/>
            <a:ext cx="5688000" cy="426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90F-B3B8-4596-8277-DE2772A4E4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450720" y="2367000"/>
            <a:ext cx="587880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7C33-39BE-445A-80B3-3E5BF65590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538200" y="2295360"/>
            <a:ext cx="5781600" cy="43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157D-09B5-4FF2-9EBC-0F35A3384D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19280" y="2295360"/>
            <a:ext cx="5497200" cy="4123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FF2-220B-4775-A740-4BA4C822B7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500040" y="2367000"/>
            <a:ext cx="5781600" cy="43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C5A-D25B-4F8C-A045-189DAD33C1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5592-2C95-42A0-B127-B88B2C4C79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07800" y="2295360"/>
            <a:ext cx="6164280" cy="4623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1EE-F6F5-4E86-9AAE-31393E7750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641520" y="243828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261-C8CE-4E96-B46F-CBD50D16D4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66680" y="2152800"/>
            <a:ext cx="6450120" cy="4836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C4D-7CAA-4EEA-B327-55C57F0C9B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66680" y="1938240"/>
            <a:ext cx="6448320" cy="483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DC5E-0C30-4102-836B-26DFF220DA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444600" y="2225520"/>
            <a:ext cx="5970600" cy="4478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0889-A159-41CA-83EC-46FCEEDF4E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FB8-E937-48A0-B8B7-AA64FDA8A1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4828-341D-426A-91A4-DDA44B4AA3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886A-402E-4375-A915-B569480D94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3002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867-C5C2-46BB-8535-1A573B0F2A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4C55-3AB0-4B64-9C33-88713B8B4F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63520" y="2476440"/>
            <a:ext cx="6310440" cy="4732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62C-74FF-4ABC-8ECF-E077FADBD0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B1AC-C8A8-430C-8E75-4E15EC6A66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FCB2-75F3-40B9-84B7-4F2C5C12DF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7EDC-C166-441E-BD3C-4009AA912B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8F6-46DB-4878-BE69-F504932B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4B2-7285-4E8A-9DDB-1E2E79B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C2A-707E-47AB-9F1F-9EE567B4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03A-026F-4D1F-B869-BB0B84DD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2DBA-D7C4-4CCD-B694-D5CDCA4E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291F-CE02-4B7A-B960-2DF1678A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9C3D-B766-41B1-9EB5-D7C36F1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3E2-A609-4770-9597-2DB407B4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3B4-9A6D-46A0-9998-EDF4DECF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B2C-7F4E-40F8-962D-657F880B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E66-B779-427B-8515-A1C8181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9C8-CD0B-4365-9BFD-FFDD30DB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1EAE-1976-4B39-82E5-D8F2EDD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9C61-4D10-40B1-A76A-FB78F19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8644-F4A1-4CDE-AECD-0D1F7569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4503-05D5-4667-BD2F-741F31A6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70E6-76DF-4199-B1A4-947E6F6E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8C9-73DA-46C2-AD13-D063FE36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07A-90BD-45AA-837E-3F98CB0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EFB-88AF-4D05-B7BF-C6CD2A2C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AEB-A4D1-4663-B194-6D21201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AB2-D730-4039-A206-4E8E8487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6ED-E2F9-4E98-8B1C-E55F823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2C0-B3A7-4AED-A7C1-57AF2B9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0963-E2BA-49A9-B64D-06ECE452EB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2A07-0387-4841-A534-69C2186A9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éctor Humeres Nogu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fes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110-B245-4748-97E9-6BBC697A14BD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1657440"/>
          <a:ext cx="88185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57440"/>
                    <a:ext cx="88185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242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uente: División de Población, Naciones Unidas, 1999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601200" cy="6969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umento en índices  de expectativas de vi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090-2FE8-4E3C-A1D5-FCFD2232D21E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14280" y="2401920"/>
          <a:ext cx="824724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2401920"/>
                    <a:ext cx="82472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2280" y="304920"/>
            <a:ext cx="86868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tuación 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1766880"/>
            <a:ext cx="75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NÚMERO DE TRABAJADORES ACTIVOS POR CADA PENSION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604960"/>
            <a:ext cx="62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12,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1760" y="2565360"/>
            <a:ext cx="72684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38960" y="2743200"/>
            <a:ext cx="51588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46880" y="274320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4680" y="3200400"/>
            <a:ext cx="2113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265-19DC-4762-B833-9024F6CF97E9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(Decreto Ley Nº 35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apitalización o Ahorro Individual   (art. 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Administración Privada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23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ibertad Individual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Elección y Cambio de AFP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. 2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to Cotizar 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et. 14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do y Cómo Jubilar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3º y 6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Primer Pilar solidario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ey 20.255-2008  (Reforma)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9E9-C651-4475-8D48-0E35A19DEE08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Igualdad: Reglas Comunes para todos (art. 61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Separación Patrimonial: AFP y Fondo de Pensione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 (art. 27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Rol del Estado:Marco Regulatorio y Control / Subsidiario; Solidario&gt;PBS y PMAC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 arts. 73 y ss. y 9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Beneficios: Pensiones de Vejez, Invalidez y Sobrevivencia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arts. 3º a 1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DFE-93FF-4A53-82D9-DB187BC21E4D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76320"/>
            <a:ext cx="883908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840" y="1447920"/>
            <a:ext cx="904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Garamond"/>
              </a:rPr>
              <a:t>FINANCIAMIENTO RÉGIMEN CAPITALIZ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CAPITAL ACUMULADO EN LA CTA. INDIV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otizaciones Obligatorias, Voluntarias, Rentabilidad de las Inversiones , </a:t>
            </a:r>
            <a:r>
              <a:rPr b="1" lang="es-ES_tradnl" sz="2400" spc="-1" strike="noStrike">
                <a:solidFill>
                  <a:srgbClr val="ff0000"/>
                </a:solidFill>
                <a:latin typeface="Garamond"/>
              </a:rPr>
              <a:t>- Comisiones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(arts. 14º a 22-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BONO DE RECONOCIMIENTO  (arts. 1º a 12º transit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TRASPASO DESDE  AHORRO VOLUNT. (arts. 20º a 22 bi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6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S ADICIONAL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Garamond"/>
              </a:rPr>
              <a:t>( Seguro de Invalidez y Sobrevivencia ) (arts. 52 y ss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 ESTATAL</a:t>
            </a:r>
            <a:r>
              <a:rPr b="1" lang="es-ES_tradnl" sz="2600" spc="-1" strike="noStrike">
                <a:solidFill>
                  <a:srgbClr val="dddddd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(Pensión Mínima) (arts. 73 y s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680" y="6324480"/>
            <a:ext cx="8624880" cy="0"/>
          </a:xfrm>
          <a:prstGeom prst="line">
            <a:avLst/>
          </a:prstGeom>
          <a:ln w="127080">
            <a:solidFill>
              <a:srgbClr val="f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58D-EF85-423A-8A94-FC7CCC9CDD80}" type="slidenum">
              <a:t>14</a:t>
            </a:fld>
          </a:p>
        </p:txBody>
      </p:sp>
    </p:spTree>
  </p:cSld>
  <p:transition spd="slow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13752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Garamond"/>
              </a:rPr>
              <a:t>sistema de afp y sistema antigu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LIBERTAD INDIVIDU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 &gt;Rigidez en la Afili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ELECCIÓN Y CAMBIO DE AFP  (arts. 2º/14º y ss/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CUÁNTO COTIZAR (SOBRE EL MÍNIMO)    (arts.14º y s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CUÁNDO Y CÓMO JUBILAR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e1c1c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IGUALDAD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Discrimin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REGLAS COMUNES PARA TODO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SEPARACIÓN PATRIMONI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 Sin Separ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AFP Y FONDO DE PENSIONE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27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780-5CC1-479D-BD06-CAA4E9E4AABE}" type="slidenum">
              <a:t>15</a:t>
            </a:fld>
          </a:p>
        </p:txBody>
      </p:sp>
    </p:spTree>
  </p:cSld>
  <p:transition spd="slow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143000"/>
            <a:ext cx="80773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ROL DEL ESTADO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(arts. 93º y s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Marco Regulatorio y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Dictar leyes y normas complementari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upervisa, controla y sanciona a través de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uperintendencia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Garamond"/>
              </a:rPr>
              <a:t>Aporta solidaridad al primer pil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7DB-E9D2-4255-A58F-16206FF39F5A}" type="slidenum">
              <a:t>16</a:t>
            </a:fld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1505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7848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Es subsidiari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ú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tim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stanci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Quiebra de Compañía de Seguro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Rentabilidad Mínima de los Fondos 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Pensiones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27160" y="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3B3-1B46-4FFA-84AD-3046ABAA9AC5}" type="slidenum">
              <a:t>17</a:t>
            </a:fld>
          </a:p>
        </p:txBody>
      </p:sp>
    </p:spTree>
  </p:cSld>
  <p:transition spd="slow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60" y="1517760"/>
            <a:ext cx="912024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neficio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Pensiones 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JEZ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65 AÑOS HOMBRES Y 60 LAS MUJERES  (art. 3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 VEJEZ ANTICIPADA: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art. 68º y 68º 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150% PENSIÓN MIN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70% RENTAS REAJUSTADAS ÚLTIMOS 10 AÑOS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EA6-9933-4D6F-8200-75F840BE1BEF}" type="slidenum">
              <a:t>18</a:t>
            </a:fld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912024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VALIDEZ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(art. 4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total: 7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parcial: 5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50% y &l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BREVIVENCIA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Viudez y Orfandad)(art. 5º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Cónyuges; hijos; padres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88D-1453-4E0B-89E0-16E7EA2D3932}" type="slidenum">
              <a:t>19</a:t>
            </a:fld>
          </a:p>
        </p:txBody>
      </p:sp>
    </p:spTree>
  </p:cSld>
  <p:transition spd="slow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38188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Evolución del Sistema Previsional  Chilen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Antiguo Sistema de Pensiones Chile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isis Financi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ctual Sistema de AFP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Principales Características y Refor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Resultados alcanzado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03E-BA73-4F37-8B35-86E658736351}" type="slidenum">
              <a:t>2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2000" y="177840"/>
            <a:ext cx="8607240" cy="1015920"/>
          </a:xfrm>
          <a:prstGeom prst="rect">
            <a:avLst/>
          </a:prstGeom>
          <a:gradFill rotWithShape="0">
            <a:gsLst>
              <a:gs pos="0">
                <a:srgbClr val="799797"/>
              </a:gs>
              <a:gs pos="50000">
                <a:srgbClr val="ccffff"/>
              </a:gs>
              <a:gs pos="100000">
                <a:srgbClr val="799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ISTEMA DE PENSIONES CHILENO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2760" y="6248520"/>
            <a:ext cx="211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Afiliad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04240" y="5105520"/>
            <a:ext cx="1577880" cy="118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6640" y="4807080"/>
            <a:ext cx="1467000" cy="1511280"/>
          </a:xfrm>
          <a:custGeom>
            <a:avLst/>
            <a:gdLst/>
            <a:ahLst/>
            <a:rect l="l" t="t" r="r" b="b"/>
            <a:pathLst>
              <a:path w="1001" h="952">
                <a:moveTo>
                  <a:pt x="121" y="10"/>
                </a:moveTo>
                <a:lnTo>
                  <a:pt x="284" y="43"/>
                </a:lnTo>
                <a:lnTo>
                  <a:pt x="281" y="0"/>
                </a:lnTo>
                <a:lnTo>
                  <a:pt x="475" y="50"/>
                </a:lnTo>
                <a:lnTo>
                  <a:pt x="475" y="0"/>
                </a:lnTo>
                <a:lnTo>
                  <a:pt x="683" y="0"/>
                </a:lnTo>
                <a:lnTo>
                  <a:pt x="679" y="46"/>
                </a:lnTo>
                <a:lnTo>
                  <a:pt x="931" y="0"/>
                </a:lnTo>
                <a:lnTo>
                  <a:pt x="627" y="267"/>
                </a:lnTo>
                <a:lnTo>
                  <a:pt x="656" y="269"/>
                </a:lnTo>
                <a:lnTo>
                  <a:pt x="690" y="277"/>
                </a:lnTo>
                <a:lnTo>
                  <a:pt x="728" y="287"/>
                </a:lnTo>
                <a:lnTo>
                  <a:pt x="764" y="300"/>
                </a:lnTo>
                <a:lnTo>
                  <a:pt x="802" y="318"/>
                </a:lnTo>
                <a:lnTo>
                  <a:pt x="835" y="335"/>
                </a:lnTo>
                <a:lnTo>
                  <a:pt x="868" y="359"/>
                </a:lnTo>
                <a:lnTo>
                  <a:pt x="898" y="384"/>
                </a:lnTo>
                <a:lnTo>
                  <a:pt x="921" y="407"/>
                </a:lnTo>
                <a:lnTo>
                  <a:pt x="944" y="434"/>
                </a:lnTo>
                <a:lnTo>
                  <a:pt x="963" y="466"/>
                </a:lnTo>
                <a:lnTo>
                  <a:pt x="980" y="500"/>
                </a:lnTo>
                <a:lnTo>
                  <a:pt x="991" y="533"/>
                </a:lnTo>
                <a:lnTo>
                  <a:pt x="998" y="564"/>
                </a:lnTo>
                <a:lnTo>
                  <a:pt x="1000" y="604"/>
                </a:lnTo>
                <a:lnTo>
                  <a:pt x="998" y="647"/>
                </a:lnTo>
                <a:lnTo>
                  <a:pt x="990" y="681"/>
                </a:lnTo>
                <a:lnTo>
                  <a:pt x="980" y="710"/>
                </a:lnTo>
                <a:lnTo>
                  <a:pt x="968" y="737"/>
                </a:lnTo>
                <a:lnTo>
                  <a:pt x="949" y="767"/>
                </a:lnTo>
                <a:lnTo>
                  <a:pt x="924" y="801"/>
                </a:lnTo>
                <a:lnTo>
                  <a:pt x="892" y="835"/>
                </a:lnTo>
                <a:lnTo>
                  <a:pt x="854" y="864"/>
                </a:lnTo>
                <a:lnTo>
                  <a:pt x="816" y="887"/>
                </a:lnTo>
                <a:lnTo>
                  <a:pt x="782" y="904"/>
                </a:lnTo>
                <a:lnTo>
                  <a:pt x="751" y="918"/>
                </a:lnTo>
                <a:lnTo>
                  <a:pt x="719" y="928"/>
                </a:lnTo>
                <a:lnTo>
                  <a:pt x="684" y="938"/>
                </a:lnTo>
                <a:lnTo>
                  <a:pt x="655" y="944"/>
                </a:lnTo>
                <a:lnTo>
                  <a:pt x="612" y="949"/>
                </a:lnTo>
                <a:lnTo>
                  <a:pt x="578" y="951"/>
                </a:lnTo>
                <a:lnTo>
                  <a:pt x="405" y="951"/>
                </a:lnTo>
                <a:lnTo>
                  <a:pt x="370" y="949"/>
                </a:lnTo>
                <a:lnTo>
                  <a:pt x="328" y="941"/>
                </a:lnTo>
                <a:lnTo>
                  <a:pt x="275" y="927"/>
                </a:lnTo>
                <a:lnTo>
                  <a:pt x="221" y="908"/>
                </a:lnTo>
                <a:lnTo>
                  <a:pt x="169" y="881"/>
                </a:lnTo>
                <a:lnTo>
                  <a:pt x="123" y="848"/>
                </a:lnTo>
                <a:lnTo>
                  <a:pt x="90" y="818"/>
                </a:lnTo>
                <a:lnTo>
                  <a:pt x="63" y="788"/>
                </a:lnTo>
                <a:lnTo>
                  <a:pt x="38" y="751"/>
                </a:lnTo>
                <a:lnTo>
                  <a:pt x="19" y="710"/>
                </a:lnTo>
                <a:lnTo>
                  <a:pt x="11" y="680"/>
                </a:lnTo>
                <a:lnTo>
                  <a:pt x="3" y="650"/>
                </a:lnTo>
                <a:lnTo>
                  <a:pt x="0" y="619"/>
                </a:lnTo>
                <a:lnTo>
                  <a:pt x="1" y="591"/>
                </a:lnTo>
                <a:lnTo>
                  <a:pt x="8" y="547"/>
                </a:lnTo>
                <a:lnTo>
                  <a:pt x="21" y="502"/>
                </a:lnTo>
                <a:lnTo>
                  <a:pt x="42" y="457"/>
                </a:lnTo>
                <a:lnTo>
                  <a:pt x="73" y="415"/>
                </a:lnTo>
                <a:lnTo>
                  <a:pt x="106" y="380"/>
                </a:lnTo>
                <a:lnTo>
                  <a:pt x="148" y="345"/>
                </a:lnTo>
                <a:lnTo>
                  <a:pt x="192" y="319"/>
                </a:lnTo>
                <a:lnTo>
                  <a:pt x="249" y="293"/>
                </a:lnTo>
                <a:lnTo>
                  <a:pt x="310" y="275"/>
                </a:lnTo>
                <a:lnTo>
                  <a:pt x="349" y="267"/>
                </a:lnTo>
                <a:lnTo>
                  <a:pt x="121" y="10"/>
                </a:lnTo>
              </a:path>
            </a:pathLst>
          </a:custGeom>
          <a:solidFill>
            <a:srgbClr val="99ccff"/>
          </a:solidFill>
          <a:ln cap="rnd" w="507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9520" y="5218200"/>
            <a:ext cx="362160" cy="888840"/>
          </a:xfrm>
          <a:custGeom>
            <a:avLst/>
            <a:gdLst/>
            <a:ahLst/>
            <a:rect l="l" t="t" r="r" b="b"/>
            <a:pathLst>
              <a:path w="247" h="560">
                <a:moveTo>
                  <a:pt x="95" y="54"/>
                </a:moveTo>
                <a:lnTo>
                  <a:pt x="152" y="54"/>
                </a:lnTo>
                <a:lnTo>
                  <a:pt x="152" y="0"/>
                </a:lnTo>
                <a:lnTo>
                  <a:pt x="182" y="0"/>
                </a:lnTo>
                <a:lnTo>
                  <a:pt x="182" y="54"/>
                </a:lnTo>
                <a:lnTo>
                  <a:pt x="246" y="125"/>
                </a:lnTo>
                <a:lnTo>
                  <a:pt x="246" y="203"/>
                </a:lnTo>
                <a:lnTo>
                  <a:pt x="166" y="203"/>
                </a:lnTo>
                <a:lnTo>
                  <a:pt x="166" y="140"/>
                </a:lnTo>
                <a:lnTo>
                  <a:pt x="87" y="140"/>
                </a:lnTo>
                <a:lnTo>
                  <a:pt x="87" y="241"/>
                </a:lnTo>
                <a:lnTo>
                  <a:pt x="188" y="241"/>
                </a:lnTo>
                <a:lnTo>
                  <a:pt x="246" y="304"/>
                </a:lnTo>
                <a:lnTo>
                  <a:pt x="246" y="435"/>
                </a:lnTo>
                <a:lnTo>
                  <a:pt x="182" y="505"/>
                </a:lnTo>
                <a:lnTo>
                  <a:pt x="182" y="559"/>
                </a:lnTo>
                <a:lnTo>
                  <a:pt x="152" y="559"/>
                </a:lnTo>
                <a:lnTo>
                  <a:pt x="152" y="505"/>
                </a:lnTo>
                <a:lnTo>
                  <a:pt x="95" y="505"/>
                </a:lnTo>
                <a:lnTo>
                  <a:pt x="95" y="559"/>
                </a:lnTo>
                <a:lnTo>
                  <a:pt x="65" y="559"/>
                </a:lnTo>
                <a:lnTo>
                  <a:pt x="65" y="505"/>
                </a:lnTo>
                <a:lnTo>
                  <a:pt x="0" y="435"/>
                </a:lnTo>
                <a:lnTo>
                  <a:pt x="0" y="373"/>
                </a:lnTo>
                <a:lnTo>
                  <a:pt x="87" y="373"/>
                </a:lnTo>
                <a:lnTo>
                  <a:pt x="87" y="427"/>
                </a:lnTo>
                <a:lnTo>
                  <a:pt x="166" y="427"/>
                </a:lnTo>
                <a:lnTo>
                  <a:pt x="166" y="326"/>
                </a:lnTo>
                <a:lnTo>
                  <a:pt x="65" y="326"/>
                </a:lnTo>
                <a:lnTo>
                  <a:pt x="0" y="257"/>
                </a:lnTo>
                <a:lnTo>
                  <a:pt x="0" y="125"/>
                </a:lnTo>
                <a:lnTo>
                  <a:pt x="65" y="54"/>
                </a:lnTo>
                <a:lnTo>
                  <a:pt x="65" y="0"/>
                </a:lnTo>
                <a:lnTo>
                  <a:pt x="95" y="0"/>
                </a:lnTo>
                <a:lnTo>
                  <a:pt x="95" y="54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6308640"/>
            <a:ext cx="316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ndo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112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F.P</a:t>
            </a:r>
            <a:r>
              <a:rPr b="1" lang="en-US" sz="2800" spc="-1" strike="noStrike">
                <a:solidFill>
                  <a:srgbClr val="e4010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31960" y="1863720"/>
            <a:ext cx="823680" cy="12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cc"/>
            </a:outerShdw>
          </a:effectLst>
        </p:spPr>
      </p:pic>
      <p:grpSp>
        <p:nvGrpSpPr>
          <p:cNvPr id="167" name=""/>
          <p:cNvGrpSpPr/>
          <p:nvPr/>
        </p:nvGrpSpPr>
        <p:grpSpPr>
          <a:xfrm>
            <a:off x="7526160" y="2138400"/>
            <a:ext cx="985680" cy="1062000"/>
            <a:chOff x="7526160" y="2138400"/>
            <a:chExt cx="985680" cy="1062000"/>
          </a:xfrm>
        </p:grpSpPr>
        <p:grpSp>
          <p:nvGrpSpPr>
            <p:cNvPr id="168" name=""/>
            <p:cNvGrpSpPr/>
            <p:nvPr/>
          </p:nvGrpSpPr>
          <p:grpSpPr>
            <a:xfrm>
              <a:off x="7584840" y="2138400"/>
              <a:ext cx="873360" cy="1054080"/>
              <a:chOff x="7584840" y="2138400"/>
              <a:chExt cx="873360" cy="10540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68240" y="2138400"/>
                <a:ext cx="489960" cy="1054080"/>
                <a:chOff x="7968240" y="2138400"/>
                <a:chExt cx="489960" cy="105408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7968240" y="2138400"/>
                  <a:ext cx="489960" cy="1054080"/>
                  <a:chOff x="7968240" y="2138400"/>
                  <a:chExt cx="489960" cy="10540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105760" y="2138400"/>
                    <a:ext cx="191160" cy="58680"/>
                    <a:chOff x="8105760" y="2138400"/>
                    <a:chExt cx="191160" cy="586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155440" y="2138400"/>
                      <a:ext cx="141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34">
                          <a:moveTo>
                            <a:pt x="0" y="0"/>
                          </a:moveTo>
                          <a:lnTo>
                            <a:pt x="96" y="11"/>
                          </a:lnTo>
                          <a:lnTo>
                            <a:pt x="96" y="3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105760" y="2139840"/>
                      <a:ext cx="47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6">
                          <a:moveTo>
                            <a:pt x="32" y="0"/>
                          </a:moveTo>
                          <a:lnTo>
                            <a:pt x="32" y="20"/>
                          </a:lnTo>
                          <a:lnTo>
                            <a:pt x="0" y="35"/>
                          </a:lnTo>
                          <a:lnTo>
                            <a:pt x="0" y="15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114040" y="2146320"/>
                      <a:ext cx="32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0" y="25"/>
                          </a:moveTo>
                          <a:lnTo>
                            <a:pt x="0" y="11"/>
                          </a:lnTo>
                          <a:lnTo>
                            <a:pt x="21" y="0"/>
                          </a:lnTo>
                          <a:lnTo>
                            <a:pt x="21" y="14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7968240" y="2158920"/>
                    <a:ext cx="489960" cy="1033560"/>
                    <a:chOff x="7968240" y="2158920"/>
                    <a:chExt cx="489960" cy="10335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68240" y="2160720"/>
                      <a:ext cx="185760" cy="10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648">
                          <a:moveTo>
                            <a:pt x="0" y="65"/>
                          </a:moveTo>
                          <a:lnTo>
                            <a:pt x="126" y="0"/>
                          </a:lnTo>
                          <a:lnTo>
                            <a:pt x="125" y="647"/>
                          </a:lnTo>
                          <a:lnTo>
                            <a:pt x="0" y="644"/>
                          </a:lnTo>
                          <a:lnTo>
                            <a:pt x="0" y="65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158320" y="2158920"/>
                      <a:ext cx="295560" cy="10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647">
                          <a:moveTo>
                            <a:pt x="0" y="0"/>
                          </a:moveTo>
                          <a:lnTo>
                            <a:pt x="164" y="22"/>
                          </a:lnTo>
                          <a:lnTo>
                            <a:pt x="164" y="617"/>
                          </a:lnTo>
                          <a:lnTo>
                            <a:pt x="178" y="622"/>
                          </a:lnTo>
                          <a:lnTo>
                            <a:pt x="184" y="635"/>
                          </a:lnTo>
                          <a:lnTo>
                            <a:pt x="201" y="646"/>
                          </a:lnTo>
                          <a:lnTo>
                            <a:pt x="0" y="64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8158320" y="2162160"/>
                      <a:ext cx="299880" cy="10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649">
                          <a:moveTo>
                            <a:pt x="0" y="0"/>
                          </a:moveTo>
                          <a:lnTo>
                            <a:pt x="166" y="22"/>
                          </a:lnTo>
                          <a:lnTo>
                            <a:pt x="166" y="619"/>
                          </a:lnTo>
                          <a:lnTo>
                            <a:pt x="181" y="624"/>
                          </a:lnTo>
                          <a:lnTo>
                            <a:pt x="187" y="637"/>
                          </a:lnTo>
                          <a:lnTo>
                            <a:pt x="204" y="648"/>
                          </a:lnTo>
                          <a:lnTo>
                            <a:pt x="0" y="6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969320" y="2163960"/>
                  <a:ext cx="431280" cy="1011240"/>
                  <a:chOff x="7969320" y="2163960"/>
                  <a:chExt cx="431280" cy="101124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8156520" y="2163960"/>
                    <a:ext cx="244080" cy="988920"/>
                    <a:chOff x="8156520" y="2163960"/>
                    <a:chExt cx="244080" cy="9889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157600" y="2935440"/>
                      <a:ext cx="242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9">
                          <a:moveTo>
                            <a:pt x="0" y="0"/>
                          </a:moveTo>
                          <a:lnTo>
                            <a:pt x="165" y="2"/>
                          </a:lnTo>
                          <a:lnTo>
                            <a:pt x="165" y="28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8156520" y="3114720"/>
                      <a:ext cx="2426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4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3"/>
                          </a:lnTo>
                          <a:lnTo>
                            <a:pt x="0" y="2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156520" y="3054240"/>
                      <a:ext cx="2426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157600" y="2995560"/>
                      <a:ext cx="242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157600" y="2874960"/>
                      <a:ext cx="2412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8">
                          <a:moveTo>
                            <a:pt x="0" y="0"/>
                          </a:moveTo>
                          <a:lnTo>
                            <a:pt x="164" y="4"/>
                          </a:lnTo>
                          <a:lnTo>
                            <a:pt x="164" y="27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156520" y="2814840"/>
                      <a:ext cx="2426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2">
                          <a:moveTo>
                            <a:pt x="0" y="0"/>
                          </a:moveTo>
                          <a:lnTo>
                            <a:pt x="165" y="8"/>
                          </a:lnTo>
                          <a:lnTo>
                            <a:pt x="165" y="31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156520" y="2754360"/>
                      <a:ext cx="24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34">
                          <a:moveTo>
                            <a:pt x="0" y="0"/>
                          </a:moveTo>
                          <a:lnTo>
                            <a:pt x="166" y="10"/>
                          </a:lnTo>
                          <a:lnTo>
                            <a:pt x="166" y="3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156520" y="2693880"/>
                      <a:ext cx="24264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9">
                          <a:moveTo>
                            <a:pt x="0" y="0"/>
                          </a:moveTo>
                          <a:lnTo>
                            <a:pt x="165" y="15"/>
                          </a:lnTo>
                          <a:lnTo>
                            <a:pt x="165" y="38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156520" y="2633760"/>
                      <a:ext cx="242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0">
                          <a:moveTo>
                            <a:pt x="0" y="0"/>
                          </a:moveTo>
                          <a:lnTo>
                            <a:pt x="165" y="16"/>
                          </a:lnTo>
                          <a:lnTo>
                            <a:pt x="165" y="39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156520" y="257328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19"/>
                          </a:lnTo>
                          <a:lnTo>
                            <a:pt x="165" y="4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8156520" y="2513160"/>
                      <a:ext cx="2440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46">
                          <a:moveTo>
                            <a:pt x="0" y="0"/>
                          </a:moveTo>
                          <a:lnTo>
                            <a:pt x="166" y="19"/>
                          </a:lnTo>
                          <a:lnTo>
                            <a:pt x="166" y="45"/>
                          </a:ln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159400" y="2452680"/>
                      <a:ext cx="239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45">
                          <a:moveTo>
                            <a:pt x="0" y="0"/>
                          </a:moveTo>
                          <a:lnTo>
                            <a:pt x="163" y="20"/>
                          </a:lnTo>
                          <a:lnTo>
                            <a:pt x="163" y="4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8156520" y="2390760"/>
                      <a:ext cx="242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0">
                          <a:moveTo>
                            <a:pt x="0" y="0"/>
                          </a:moveTo>
                          <a:lnTo>
                            <a:pt x="165" y="23"/>
                          </a:lnTo>
                          <a:lnTo>
                            <a:pt x="165" y="49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8156520" y="2324160"/>
                      <a:ext cx="24264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4">
                          <a:moveTo>
                            <a:pt x="0" y="0"/>
                          </a:moveTo>
                          <a:lnTo>
                            <a:pt x="165" y="25"/>
                          </a:lnTo>
                          <a:lnTo>
                            <a:pt x="165" y="53"/>
                          </a:lnTo>
                          <a:lnTo>
                            <a:pt x="0" y="2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156520" y="2271600"/>
                      <a:ext cx="2426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5">
                          <a:moveTo>
                            <a:pt x="0" y="0"/>
                          </a:moveTo>
                          <a:lnTo>
                            <a:pt x="165" y="22"/>
                          </a:lnTo>
                          <a:lnTo>
                            <a:pt x="165" y="4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156520" y="2212920"/>
                      <a:ext cx="24264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8">
                          <a:moveTo>
                            <a:pt x="0" y="0"/>
                          </a:moveTo>
                          <a:lnTo>
                            <a:pt x="165" y="21"/>
                          </a:lnTo>
                          <a:lnTo>
                            <a:pt x="165" y="47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156520" y="216396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20"/>
                          </a:lnTo>
                          <a:lnTo>
                            <a:pt x="165" y="43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184600" y="2165400"/>
                    <a:ext cx="191160" cy="1009800"/>
                    <a:chOff x="8184600" y="2165400"/>
                    <a:chExt cx="191160" cy="10098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375760" y="2190960"/>
                      <a:ext cx="0" cy="9712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8346600" y="2189160"/>
                      <a:ext cx="0" cy="978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318520" y="2184480"/>
                      <a:ext cx="0" cy="9842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91160" y="2179800"/>
                      <a:ext cx="0" cy="993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263440" y="2174760"/>
                      <a:ext cx="0" cy="9986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8238600" y="2171880"/>
                      <a:ext cx="0" cy="987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10520" y="2171880"/>
                      <a:ext cx="0" cy="9903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8184600" y="2165400"/>
                      <a:ext cx="0" cy="1009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969320" y="2212920"/>
                    <a:ext cx="186840" cy="901800"/>
                    <a:chOff x="7969320" y="2212920"/>
                    <a:chExt cx="186840" cy="901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>
                      <a:off x="7970400" y="2212920"/>
                      <a:ext cx="183960" cy="9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7972200" y="2273400"/>
                      <a:ext cx="182880" cy="8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70760" y="2324160"/>
                      <a:ext cx="1854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57">
                          <a:moveTo>
                            <a:pt x="126" y="0"/>
                          </a:moveTo>
                          <a:lnTo>
                            <a:pt x="0" y="56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>
                      <a:off x="7970400" y="2390760"/>
                      <a:ext cx="183960" cy="81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>
                      <a:off x="7970400" y="2452680"/>
                      <a:ext cx="18396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>
                      <a:off x="7970400" y="2513160"/>
                      <a:ext cx="183960" cy="6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7970400" y="2575080"/>
                      <a:ext cx="183960" cy="56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>
                      <a:off x="7970400" y="2635200"/>
                      <a:ext cx="183960" cy="54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>
                      <a:off x="7970400" y="2693880"/>
                      <a:ext cx="183960" cy="4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7969320" y="2754360"/>
                      <a:ext cx="185760" cy="4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7969320" y="2816280"/>
                      <a:ext cx="18576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7970400" y="2874960"/>
                      <a:ext cx="18396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7969320" y="2935440"/>
                      <a:ext cx="185760" cy="2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7977600" y="2995560"/>
                      <a:ext cx="17676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7976520" y="3056040"/>
                      <a:ext cx="1782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7974720" y="3114720"/>
                      <a:ext cx="179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7584840" y="2370240"/>
                <a:ext cx="337680" cy="815760"/>
                <a:chOff x="7584840" y="2370240"/>
                <a:chExt cx="337680" cy="815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07600" y="2373480"/>
                  <a:ext cx="210600" cy="811080"/>
                </a:xfrm>
                <a:custGeom>
                  <a:avLst/>
                  <a:gdLst/>
                  <a:ahLst/>
                  <a:rect l="l" t="t" r="r" b="b"/>
                  <a:pathLst>
                    <a:path w="144" h="511">
                      <a:moveTo>
                        <a:pt x="0" y="0"/>
                      </a:moveTo>
                      <a:lnTo>
                        <a:pt x="143" y="16"/>
                      </a:lnTo>
                      <a:lnTo>
                        <a:pt x="143" y="510"/>
                      </a:lnTo>
                      <a:lnTo>
                        <a:pt x="0" y="5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07600" y="2370240"/>
                  <a:ext cx="214920" cy="815760"/>
                </a:xfrm>
                <a:custGeom>
                  <a:avLst/>
                  <a:gdLst/>
                  <a:ahLst/>
                  <a:rect l="l" t="t" r="r" b="b"/>
                  <a:pathLst>
                    <a:path w="147" h="514">
                      <a:moveTo>
                        <a:pt x="0" y="0"/>
                      </a:moveTo>
                      <a:lnTo>
                        <a:pt x="146" y="16"/>
                      </a:lnTo>
                      <a:lnTo>
                        <a:pt x="146" y="513"/>
                      </a:lnTo>
                      <a:lnTo>
                        <a:pt x="0" y="5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584840" y="2370240"/>
                  <a:ext cx="325800" cy="815760"/>
                  <a:chOff x="7584840" y="2370240"/>
                  <a:chExt cx="325800" cy="815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584840" y="2370240"/>
                    <a:ext cx="119520" cy="815760"/>
                    <a:chOff x="7584840" y="2370240"/>
                    <a:chExt cx="119520" cy="815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7584840" y="2370240"/>
                      <a:ext cx="119520" cy="81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514">
                          <a:moveTo>
                            <a:pt x="0" y="40"/>
                          </a:moveTo>
                          <a:lnTo>
                            <a:pt x="81" y="0"/>
                          </a:lnTo>
                          <a:lnTo>
                            <a:pt x="81" y="513"/>
                          </a:lnTo>
                          <a:lnTo>
                            <a:pt x="0" y="513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>
                      <a:off x="7667640" y="2389320"/>
                      <a:ext cx="2880" cy="780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629840" y="2411280"/>
                      <a:ext cx="0" cy="76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660440" y="3135240"/>
                      <a:ext cx="1620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619760" y="3135240"/>
                      <a:ext cx="1584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716240" y="2423880"/>
                    <a:ext cx="194400" cy="754200"/>
                    <a:chOff x="7716240" y="2423880"/>
                    <a:chExt cx="194400" cy="754200"/>
                  </a:xfrm>
                </p:grpSpPr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7741080" y="3125880"/>
                      <a:ext cx="145800" cy="52200"/>
                      <a:chOff x="7741080" y="3125880"/>
                      <a:chExt cx="145800" cy="5220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783288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86780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741080" y="3125880"/>
                        <a:ext cx="1584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775640" y="3125880"/>
                        <a:ext cx="1728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716240" y="2433600"/>
                      <a:ext cx="194400" cy="658800"/>
                      <a:chOff x="7716240" y="2433600"/>
                      <a:chExt cx="194400" cy="65880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7718760" y="243360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718760" y="247176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720200" y="2511360"/>
                        <a:ext cx="1900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7">
                            <a:moveTo>
                              <a:pt x="0" y="0"/>
                            </a:moveTo>
                            <a:lnTo>
                              <a:pt x="129" y="13"/>
                            </a:lnTo>
                            <a:lnTo>
                              <a:pt x="129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18760" y="254952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3"/>
                            </a:lnTo>
                            <a:lnTo>
                              <a:pt x="130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18760" y="258624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7718760" y="262116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7720200" y="2660760"/>
                        <a:ext cx="1900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5">
                            <a:moveTo>
                              <a:pt x="0" y="0"/>
                            </a:moveTo>
                            <a:lnTo>
                              <a:pt x="129" y="11"/>
                            </a:lnTo>
                            <a:lnTo>
                              <a:pt x="129" y="24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7718760" y="2698920"/>
                        <a:ext cx="19152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4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3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7718760" y="273672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2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7718760" y="2773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718760" y="281304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718760" y="2854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718760" y="2897280"/>
                        <a:ext cx="19152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1">
                            <a:moveTo>
                              <a:pt x="0" y="0"/>
                            </a:moveTo>
                            <a:lnTo>
                              <a:pt x="130" y="7"/>
                            </a:lnTo>
                            <a:lnTo>
                              <a:pt x="130" y="20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7718760" y="2936880"/>
                        <a:ext cx="1904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2">
                            <a:moveTo>
                              <a:pt x="0" y="0"/>
                            </a:moveTo>
                            <a:lnTo>
                              <a:pt x="129" y="8"/>
                            </a:lnTo>
                            <a:lnTo>
                              <a:pt x="129" y="21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716240" y="2979720"/>
                        <a:ext cx="19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20">
                            <a:moveTo>
                              <a:pt x="0" y="0"/>
                            </a:moveTo>
                            <a:lnTo>
                              <a:pt x="132" y="6"/>
                            </a:lnTo>
                            <a:lnTo>
                              <a:pt x="132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716240" y="3022560"/>
                        <a:ext cx="1944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9">
                            <a:moveTo>
                              <a:pt x="0" y="0"/>
                            </a:moveTo>
                            <a:lnTo>
                              <a:pt x="132" y="5"/>
                            </a:lnTo>
                            <a:lnTo>
                              <a:pt x="132" y="18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7716240" y="3065400"/>
                        <a:ext cx="194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7">
                            <a:moveTo>
                              <a:pt x="0" y="0"/>
                            </a:moveTo>
                            <a:lnTo>
                              <a:pt x="132" y="3"/>
                            </a:lnTo>
                            <a:lnTo>
                              <a:pt x="132" y="1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761240" y="2423880"/>
                      <a:ext cx="106560" cy="703440"/>
                      <a:chOff x="7761240" y="2423880"/>
                      <a:chExt cx="106560" cy="703440"/>
                    </a:xfrm>
                  </p:grpSpPr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7761240" y="2423880"/>
                        <a:ext cx="21600" cy="703080"/>
                        <a:chOff x="7761240" y="2423880"/>
                        <a:chExt cx="21600" cy="70308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7761240" y="2423880"/>
                          <a:ext cx="0" cy="703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7782840" y="2425320"/>
                          <a:ext cx="0" cy="701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7847280" y="2433240"/>
                        <a:ext cx="20520" cy="694080"/>
                        <a:chOff x="7847280" y="2433240"/>
                        <a:chExt cx="20520" cy="694080"/>
                      </a:xfrm>
                    </p:grpSpPr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7847280" y="2433240"/>
                          <a:ext cx="0" cy="693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V="1">
                          <a:off x="7867800" y="2435400"/>
                          <a:ext cx="0" cy="69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65" name=""/>
            <p:cNvGrpSpPr/>
            <p:nvPr/>
          </p:nvGrpSpPr>
          <p:grpSpPr>
            <a:xfrm>
              <a:off x="7526160" y="2976480"/>
              <a:ext cx="985680" cy="223920"/>
              <a:chOff x="7526160" y="2976480"/>
              <a:chExt cx="985680" cy="22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8151480" y="3127320"/>
                <a:ext cx="153720" cy="73080"/>
              </a:xfrm>
              <a:custGeom>
                <a:avLst/>
                <a:gdLst/>
                <a:ahLst/>
                <a:rect l="l" t="t" r="r" b="b"/>
                <a:pathLst>
                  <a:path w="105" h="46">
                    <a:moveTo>
                      <a:pt x="0" y="24"/>
                    </a:moveTo>
                    <a:lnTo>
                      <a:pt x="1" y="21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6" y="3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2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89" y="9"/>
                    </a:lnTo>
                    <a:lnTo>
                      <a:pt x="91" y="9"/>
                    </a:lnTo>
                    <a:lnTo>
                      <a:pt x="96" y="11"/>
                    </a:lnTo>
                    <a:lnTo>
                      <a:pt x="98" y="12"/>
                    </a:lnTo>
                    <a:lnTo>
                      <a:pt x="102" y="12"/>
                    </a:lnTo>
                    <a:lnTo>
                      <a:pt x="104" y="14"/>
                    </a:lnTo>
                    <a:lnTo>
                      <a:pt x="104" y="16"/>
                    </a:lnTo>
                    <a:lnTo>
                      <a:pt x="102" y="17"/>
                    </a:lnTo>
                    <a:lnTo>
                      <a:pt x="99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8" y="23"/>
                    </a:lnTo>
                    <a:lnTo>
                      <a:pt x="98" y="26"/>
                    </a:lnTo>
                    <a:lnTo>
                      <a:pt x="95" y="27"/>
                    </a:lnTo>
                    <a:lnTo>
                      <a:pt x="92" y="28"/>
                    </a:lnTo>
                    <a:lnTo>
                      <a:pt x="90" y="30"/>
                    </a:lnTo>
                    <a:lnTo>
                      <a:pt x="90" y="31"/>
                    </a:lnTo>
                    <a:lnTo>
                      <a:pt x="92" y="33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2" y="36"/>
                    </a:lnTo>
                    <a:lnTo>
                      <a:pt x="100" y="38"/>
                    </a:lnTo>
                    <a:lnTo>
                      <a:pt x="97" y="39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0" y="43"/>
                    </a:lnTo>
                    <a:lnTo>
                      <a:pt x="66" y="44"/>
                    </a:lnTo>
                    <a:lnTo>
                      <a:pt x="55" y="45"/>
                    </a:lnTo>
                    <a:lnTo>
                      <a:pt x="51" y="45"/>
                    </a:lnTo>
                    <a:lnTo>
                      <a:pt x="47" y="43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9" y="43"/>
                    </a:lnTo>
                    <a:lnTo>
                      <a:pt x="24" y="44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0" y="29"/>
                    </a:lnTo>
                    <a:lnTo>
                      <a:pt x="6" y="27"/>
                    </a:lnTo>
                    <a:lnTo>
                      <a:pt x="1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18240" y="3124080"/>
                <a:ext cx="93600" cy="7308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8" y="22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58" y="27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1"/>
                    </a:lnTo>
                    <a:lnTo>
                      <a:pt x="56" y="33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1" y="38"/>
                    </a:lnTo>
                    <a:lnTo>
                      <a:pt x="59" y="40"/>
                    </a:lnTo>
                    <a:lnTo>
                      <a:pt x="57" y="40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0" y="44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18" y="43"/>
                    </a:lnTo>
                    <a:lnTo>
                      <a:pt x="14" y="44"/>
                    </a:lnTo>
                    <a:lnTo>
                      <a:pt x="6" y="43"/>
                    </a:lnTo>
                    <a:lnTo>
                      <a:pt x="4" y="43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2" y="36"/>
                    </a:lnTo>
                    <a:lnTo>
                      <a:pt x="5" y="34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09920" y="2976480"/>
                <a:ext cx="83160" cy="206640"/>
              </a:xfrm>
              <a:custGeom>
                <a:avLst/>
                <a:gdLst/>
                <a:ahLst/>
                <a:rect l="l" t="t" r="r" b="b"/>
                <a:pathLst>
                  <a:path w="57" h="130">
                    <a:moveTo>
                      <a:pt x="0" y="68"/>
                    </a:moveTo>
                    <a:lnTo>
                      <a:pt x="0" y="60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7" y="21"/>
                    </a:lnTo>
                    <a:lnTo>
                      <a:pt x="8" y="15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6" y="7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5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48" y="12"/>
                    </a:lnTo>
                    <a:lnTo>
                      <a:pt x="48" y="17"/>
                    </a:lnTo>
                    <a:lnTo>
                      <a:pt x="48" y="25"/>
                    </a:lnTo>
                    <a:lnTo>
                      <a:pt x="49" y="27"/>
                    </a:lnTo>
                    <a:lnTo>
                      <a:pt x="52" y="30"/>
                    </a:lnTo>
                    <a:lnTo>
                      <a:pt x="53" y="33"/>
                    </a:lnTo>
                    <a:lnTo>
                      <a:pt x="55" y="35"/>
                    </a:lnTo>
                    <a:lnTo>
                      <a:pt x="56" y="40"/>
                    </a:lnTo>
                    <a:lnTo>
                      <a:pt x="56" y="46"/>
                    </a:lnTo>
                    <a:lnTo>
                      <a:pt x="55" y="49"/>
                    </a:lnTo>
                    <a:lnTo>
                      <a:pt x="54" y="51"/>
                    </a:lnTo>
                    <a:lnTo>
                      <a:pt x="51" y="56"/>
                    </a:lnTo>
                    <a:lnTo>
                      <a:pt x="52" y="63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9" y="85"/>
                    </a:lnTo>
                    <a:lnTo>
                      <a:pt x="49" y="89"/>
                    </a:lnTo>
                    <a:lnTo>
                      <a:pt x="50" y="93"/>
                    </a:lnTo>
                    <a:lnTo>
                      <a:pt x="52" y="94"/>
                    </a:lnTo>
                    <a:lnTo>
                      <a:pt x="55" y="96"/>
                    </a:lnTo>
                    <a:lnTo>
                      <a:pt x="55" y="103"/>
                    </a:lnTo>
                    <a:lnTo>
                      <a:pt x="54" y="108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48" y="120"/>
                    </a:lnTo>
                    <a:lnTo>
                      <a:pt x="43" y="123"/>
                    </a:lnTo>
                    <a:lnTo>
                      <a:pt x="36" y="127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2"/>
                    </a:lnTo>
                    <a:lnTo>
                      <a:pt x="23" y="119"/>
                    </a:lnTo>
                    <a:lnTo>
                      <a:pt x="19" y="118"/>
                    </a:lnTo>
                    <a:lnTo>
                      <a:pt x="16" y="123"/>
                    </a:lnTo>
                    <a:lnTo>
                      <a:pt x="13" y="126"/>
                    </a:lnTo>
                    <a:lnTo>
                      <a:pt x="5" y="125"/>
                    </a:lnTo>
                    <a:lnTo>
                      <a:pt x="4" y="122"/>
                    </a:lnTo>
                    <a:lnTo>
                      <a:pt x="1" y="116"/>
                    </a:lnTo>
                    <a:lnTo>
                      <a:pt x="1" y="110"/>
                    </a:lnTo>
                    <a:lnTo>
                      <a:pt x="2" y="104"/>
                    </a:lnTo>
                    <a:lnTo>
                      <a:pt x="5" y="97"/>
                    </a:lnTo>
                    <a:lnTo>
                      <a:pt x="6" y="88"/>
                    </a:lnTo>
                    <a:lnTo>
                      <a:pt x="5" y="83"/>
                    </a:lnTo>
                    <a:lnTo>
                      <a:pt x="3" y="78"/>
                    </a:lnTo>
                    <a:lnTo>
                      <a:pt x="0" y="74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60760" y="313848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8" y="29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8" y="34"/>
                    </a:lnTo>
                    <a:lnTo>
                      <a:pt x="31" y="36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78680" y="313848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21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7" y="32"/>
                    </a:lnTo>
                    <a:lnTo>
                      <a:pt x="45" y="33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2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6160" y="3117960"/>
                <a:ext cx="939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6" y="33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2" y="37"/>
                    </a:lnTo>
                    <a:lnTo>
                      <a:pt x="61" y="39"/>
                    </a:lnTo>
                    <a:lnTo>
                      <a:pt x="59" y="40"/>
                    </a:lnTo>
                    <a:lnTo>
                      <a:pt x="57" y="42"/>
                    </a:lnTo>
                    <a:lnTo>
                      <a:pt x="54" y="43"/>
                    </a:lnTo>
                    <a:lnTo>
                      <a:pt x="49" y="44"/>
                    </a:lnTo>
                    <a:lnTo>
                      <a:pt x="41" y="45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2" y="42"/>
                    </a:lnTo>
                    <a:lnTo>
                      <a:pt x="18" y="44"/>
                    </a:lnTo>
                    <a:lnTo>
                      <a:pt x="15" y="45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3" y="28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858000" y="15238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ía. de Seguros de Vid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3360" y="6248520"/>
            <a:ext cx="40798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3600" y="5808600"/>
            <a:ext cx="14576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18400" y="6265800"/>
            <a:ext cx="294336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Retiros Programado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02080" y="5638680"/>
            <a:ext cx="393984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1960" y="5199120"/>
            <a:ext cx="17564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izac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98640" y="1981080"/>
            <a:ext cx="49942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1320" y="1585800"/>
            <a:ext cx="3801240" cy="3358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guro de Invalidez y Sobrevivenc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69560" y="2286000"/>
            <a:ext cx="485316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7000" y="2325600"/>
            <a:ext cx="3274200" cy="366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orte Adicional ( Siniestro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48440" y="3276720"/>
            <a:ext cx="0" cy="167616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65600" y="4054320"/>
            <a:ext cx="1405800" cy="3056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 Vitalic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71720" y="3522600"/>
            <a:ext cx="1329480" cy="3974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8768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344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9840" y="3657600"/>
            <a:ext cx="127476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MIS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125100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ministr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602080" y="2971800"/>
            <a:ext cx="1547640" cy="1905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18160" y="3662280"/>
            <a:ext cx="1468440" cy="78408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SCALIZ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727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140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26040" y="3738600"/>
            <a:ext cx="879480" cy="70632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V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1916280"/>
            <a:ext cx="976320" cy="179280"/>
          </a:xfrm>
          <a:prstGeom prst="leftArrow">
            <a:avLst>
              <a:gd name="adj1" fmla="val 50000"/>
              <a:gd name="adj2" fmla="val 136145"/>
            </a:avLst>
          </a:prstGeom>
          <a:solidFill>
            <a:srgbClr val="cc99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79728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03440" y="1219320"/>
            <a:ext cx="2392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527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3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BENEFICIOS DEL SISTEMA DE AFP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982-2041-4566-B360-B43C6244587A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VEJ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DEFINICIÓN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DECIDE PENSIONARSE A UNA EDAD DETERMINA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AFILIADO Y SU FAMILI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MPLIR EDAD LEGAL 60 M, 65 H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MONTO PENSIÓN EN FUNCIÓN DE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AHORRO ACUMULAD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DAD DE PENSIONARS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XPECTATIVAS DE VI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GRUPO FAMILIAR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TASA DE INTERES VIGENT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E41-1B48-4A5B-BD88-736C155CC766}" type="slidenum">
              <a:t>22</a:t>
            </a:fld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60840" y="12240"/>
            <a:ext cx="91155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85240" cy="66992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TABLA DE EXPECTATIVAS DE VID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DAD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HOMBRE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MUJ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2   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8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4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5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5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9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   10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10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3A0-1D92-42DB-A850-F3C1ECA3C207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ÓN DE VEJE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JUBILACIÓN ANTICIPA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EDA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onto pensión debe ser superior 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150% de la pensión mínima y,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70 % de sus remuneraciones últimos 10 año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(reajustadas según inflació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Garamond"/>
              </a:rPr>
              <a:t>DESEMPEÑO DE TRABAJO PESA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trabajo pesado, semipes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misión ergonóm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baja de añ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AD7-3B86-4D7D-8E20-B3D5AFA8C3C4}" type="slidenum">
              <a:t>24</a:t>
            </a:fld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Garamond"/>
              </a:rPr>
              <a:t>PENSIÓN DE VEJEZANTICIP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0568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cfeb9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EFECTO DEL BONO DE RECONOCIMIENTO  EN LA JUBILACIÓN ANTICIPADA E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DADO QUE EL BONO SE LIQUIDA CUANDO SE CUMPLE LA EDAD LEGAL (60 M, 65 H), Y EL TRABAJADOR SE ESTA PENSIONANDO ANTES, ENTONCES EL BONO PUEDE SER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ENDIDO, AFP HACE LOS TRAMIT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NDOSADO SOLO SI ESCOGE LA MODALIDAD DE 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17A-59F3-4B4D-8FE9-D9B243FF47B8}" type="slidenum">
              <a:t>25</a:t>
            </a:fld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55440" y="196920"/>
          <a:ext cx="890928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96920"/>
                    <a:ext cx="890928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065-CF32-41DB-BE86-5A35FD819AA1}" type="slidenum">
              <a:t>26</a:t>
            </a:fld>
          </a:p>
        </p:txBody>
      </p:sp>
    </p:spTree>
  </p:cSld>
  <p:transition spd="med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1143000"/>
          <a:ext cx="434196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4341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09880" y="1065240"/>
          <a:ext cx="5772240" cy="548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065240"/>
                    <a:ext cx="577224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070-AE89-4D83-889D-930EF1C07A92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17840" y="763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720" y="1066320"/>
            <a:ext cx="9070920" cy="579132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DEFINICIÓN </a:t>
            </a:r>
            <a:r>
              <a:rPr b="0" lang="en-US" sz="2800" spc="-1" strike="noStrike">
                <a:solidFill>
                  <a:srgbClr val="99cc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HA PERDIDO A LO MENOS EL 50% DE SU CAPACIDAD DE TRABAJO. SI LA PÉRDIDA ES ENTRE UN 50% Y 66,6% ES INVALIDO PARCIAL. SI LA PÉRDIDA ES SUPERIOR AL 66,6%, ES INVALIDO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AFILIADO DECLARADO INVÁLID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ABER SIDO DECLARADO INVÁLIDO PARCIAL O TOTAL, POR UNA COMISIÓN MÉDICA REGIONAL O COMISIÓN MÉDICA CENTR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6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MONTO PENSIÓN EN FUNCIÓN DE COBERTURA DEL SEGURO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    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BIERTO POR SEGUR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                    50%            7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MENTE CUBIERTO(CESANTE)              35%            5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% EXPRESADO EN FUNCIÓN DE R.I. DE ULTIMOS 10 AÑO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819-F4BD-4FC6-B946-A26C84E23C92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LA COMISIÓN MÉDICA REGIONAL(CMR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ITA AL AFILIADO A ENTREVISTA CON MÉDICO ASIGN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SOLICITA EXÁMENES DE APOYO A ESPECIALISTA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ÉDICO ASIGNADO PRESENTA EL CASO EN LA SESIÓN DE LA CMR (TRES MÉDICO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MITE EL PRIMER DICTAMEN EN UN PLAZO DE 60 DÍAS, QUE PUEDE SER AMPLIADO HASTA 120 DÍA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ICTAMEN DETERMINA LA INVALIDEZ (PARCIAL O TOTAL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879-964B-4D11-8CB1-D47B876396A5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ASADO EN EL REPART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SE PAGABAN CON LAS COTIZACION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E LOS TRABAJ. ACTIVOS   (CASI NO EXISTIA AHORRO 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RIGIDEZ EN LA AFILIAC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SEGUN NATURALEZA DEL TRABAJ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A88-70BE-490C-8081-2420EABA9BC4}" type="slidenum">
              <a:t>3</a:t>
            </a:fld>
          </a:p>
        </p:txBody>
      </p:sp>
    </p:spTree>
  </p:cSld>
  <p:transition spd="slow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 SEGUNDO  DICTAMEN  SE EMITE EN UNA DE LAS SIGUIENTES CIRCUNSTANCIA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AN TRANSCURRIDO TRES AÑOS DESDE EMITIDO  EL PRIMER  DICTAME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AFILIADO CUMPLE LA EDAD LEGAL PARA PENSIONARSE POR VEJEZ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EL INVÁLIDO PARCIAL SOLICITA SER CALIFICADO COMO INVÁLIDO TOT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A CMR CITA A UN AFILIADO A REEVALUAR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DAE-2933-4024-9C61-A5914E74D5B7}" type="slidenum">
              <a:t>30</a:t>
            </a:fld>
          </a:p>
        </p:txBody>
      </p:sp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4240" y="168120"/>
          <a:ext cx="8851680" cy="655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68120"/>
                    <a:ext cx="88516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EF4-4653-46FA-B62F-AAE3DBFA81FF}" type="slidenum">
              <a:t>31</a:t>
            </a:fld>
          </a:p>
        </p:txBody>
      </p:sp>
    </p:spTree>
  </p:cSld>
  <p:transition spd="med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1120" y="168120"/>
          <a:ext cx="8850600" cy="66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168120"/>
                    <a:ext cx="885060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01D-B86A-4A8D-AF6D-A454627819C6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2680" y="196920"/>
          <a:ext cx="885024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96920"/>
                    <a:ext cx="885024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32C-A032-492D-9B73-7B10E5343E53}" type="slidenum">
              <a:t>33</a:t>
            </a:fld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44F-8C0C-40E7-BF14-7FB6BBC7FB16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2680" y="112680"/>
          <a:ext cx="8880480" cy="66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12680"/>
                    <a:ext cx="888048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9C0-45D6-4286-A21D-22FA9D86C766}" type="slidenum">
              <a:t>35</a:t>
            </a:fld>
          </a:p>
        </p:txBody>
      </p:sp>
    </p:spTree>
  </p:cSld>
  <p:transition spd="med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PENSIÓN DE SOBREVIVENC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8200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DEFINI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EL TRABAJADOR FALLECE Y SUS SOBREVIVIENTES RECIBEN UNA PENSIÓN SEGÚN EL TIPO DE PARENTESC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BENEFICIA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SOBREVIVIENTES DEL TRABAJADOR FALLECIDO 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CONYUG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S LEGÍTIMOS Y  NO MATRIMONIALES: MENOR DE 18 AÑOS O HASTA LOS 24 (ESTUDIANTE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ADRE DE HIJOS  NO MATRIMONIALES (SOLT. O VIUDA):VIVIR A EXPENSAS DEL TRABAJADOR FALLECI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 INVÁLIDO PENSIÓN ES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PADRES EN AUSENCIA DE LOS ANTERIORES,  QUE VIVEN A EXPENSAS DEL TRABAJADOR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3EF-B959-4536-A6B4-0AD5D4406790}" type="slidenum">
              <a:t>36</a:t>
            </a:fld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MONTO DE PEN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ÓNYUGE CON/SIN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4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IJOS CADA UN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10.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MADRE HIJOS  NO MATRIMONIALES C/S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1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5.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DRES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LOS % ESTAN REFERIDOS AL INGRESO PROMEDIO MENSUAL DE LOS ÚLTIMOS 10 AÑOS (REAJUSTADOS)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8920" y="12600"/>
            <a:ext cx="8977320" cy="1193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c7f69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PENSIÓN DE SOBREVIVENCI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658-A348-4B2B-8D60-DC8200FE08C2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FINANCIAMIENTO DE LAS PEN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00" y="1384200"/>
            <a:ext cx="8966160" cy="5384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EL TRABAJADOR AL MOMENTO DE PENSIONARSE TIENE LOS SIGUIENTES RECURSOS (CUANDO CORRESPOND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ONDO DE PENSIONES (10% MÁS RENTABILIDAD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VOLUNTARIA  ( A P V 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EPÓSITOS CONVENI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 (INVALIDEZ Y SOBREVIVENCI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HORRO VOLUNTARIO / APV   (SI LO DESE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28A-A0E5-461E-ADD1-C9F47ED2006C}" type="slidenum">
              <a:t>38</a:t>
            </a:fld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0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CONSIDERACIONE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Garamond"/>
              </a:rPr>
              <a:t>CUALQUIERA SEA LA CAUSA DE LA PENSIÓN DEL AFILIADO (VEJEZ, ANTICIPADA, INVALIDEZ) O DE LOS SOBREVIVIENTES, ELLOS DEBEN ESCOGER UNA MODALIDAD DE PENSIÓ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TIROS PROGRAMA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TEMPORAL CON RENTA VITALICIA DIFERID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OTRAS VARIABL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DD5-607E-4419-A215-6C70F64B7C44}" type="slidenum">
              <a:t>39</a:t>
            </a:fld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MINIST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32 CAJAS (MAYORIA ESTATALES) Y 52 REGIMENES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TIZAC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VARIABLE SEGUN CAJA ( EN ALGUNOS CASOS    MAYOR    AL   50%  DE  LA REMUNERACIÓN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D4E-52CA-48BC-889C-A92F35272AD1}" type="slidenum">
              <a:t>4</a:t>
            </a:fld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MODALIDADES DE PEN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040" y="1454040"/>
            <a:ext cx="8916840" cy="524520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7b00e4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ITEM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R.VITALICIA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   R.PROGRA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FIJA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VARI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MONED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SE PUED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CAMBIAR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QUIEN PAG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LA 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ÍA SEG.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AFP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HERENCI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0FC-7751-4A83-A081-6D9CD7FEBA01}" type="slidenum">
              <a:t>40</a:t>
            </a:fld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2600" y="12600"/>
            <a:ext cx="90489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b4f37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MODALIDADES DE PENS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440" y="1219320"/>
            <a:ext cx="8907480" cy="54734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ITEM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  R.VITALICIA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R.PROGRA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. MORTUORIA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PIEDAD FONDO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AFILIAD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DMIN. DE FOND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EXCED.LIB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ISPOSICIÓN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GARANTÍA ESTADO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. MÍNIMAS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P.MÍNI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QUIEBRA CÍA.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RENT.MÍ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8F1-272A-40FD-86C3-5027C87CFAF9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4240" y="139680"/>
          <a:ext cx="8935920" cy="661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39680"/>
                    <a:ext cx="893592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135-F4E5-408E-B46E-351ED07B3BFC}" type="slidenum">
              <a:t>42</a:t>
            </a:fld>
          </a:p>
        </p:txBody>
      </p:sp>
    </p:spTree>
  </p:cSld>
  <p:transition spd="med"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9051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Garamond"/>
              </a:rPr>
              <a:t>EXCEDENTES  DE  LIBRE DISPOSICIÓ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Garamond"/>
              </a:rPr>
              <a:t>EN CUALQUIER MODALIDAD QUE EL TRABAJADOR ESCOJA PARA SU PENSIÓN DE VEJEZ, TIENE LA OPCIÓN DE RETIRAR UNA PARTE DE SUS FONDOS PREVISIONALES PARA DISPONER LIBREMENTE DE ELLO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954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Garamond"/>
              </a:rPr>
              <a:t>EL MONTO DEL EXCEDENTE QUE PUEDE RETIRAR ESTA LIMITADO EN TERMINOS QUE EL SALDO QUE QUEDA EN LA CUENTA INDIVIDUAL PERMITA FINANCIAR UNA PENSIÓN EQUIVALENTE AL 70% DEL PROMEDIO DE LAS REMUNERACIONES E IGUAL AL 120% DE LA PENSIÓN MÍNIMA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62E-1684-4718-BA3A-6142654807AF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CUOTA MORTUOR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MONTO DE LA CUOTA MORTUORIA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15 UF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REQUISI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ERTIFICADO DE FALLE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ACTURA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INCULO MATRIMONIO O PARENTESCO 100%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OTRA PERSONA 100% GASTO CON TOPE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B3A-A0D4-49E9-ADF3-FDFA18D02DFE}" type="slidenum">
              <a:t>44</a:t>
            </a:fld>
          </a:p>
        </p:txBody>
      </p:sp>
    </p:spTree>
  </p:cSld>
  <p:transition spd="med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GARANTIA DEL ESTADO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cc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ESTADO GARANTIZA LO SIGUIENTE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PENSIONES BASICAS SOLIDARIAS Y PMAC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BILIDAD MINIM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NTRIBUCIÓ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S VITALICIAS 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219-4ED2-45B1-8A00-3F830A143E23}" type="slidenum">
              <a:t>45</a:t>
            </a:fld>
          </a:p>
        </p:txBody>
      </p:sp>
    </p:spTree>
  </p:cSld>
  <p:transition spd="med">
    <p:cover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SULTADOS DEL SISTEMA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EF6-CC6C-4A34-8EDC-73A4E1E1BA14}" type="slidenum">
              <a:t>46</a:t>
            </a:fld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798-123F-42E2-892F-0C0740781A6E}" type="slidenum">
              <a:t>47</a:t>
            </a:fld>
          </a:p>
        </p:txBody>
      </p:sp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560-CDC0-459D-90D5-54772082E0B3}" type="slidenum">
              <a:t>48</a:t>
            </a:fld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A3E-2539-4772-82FE-FC11171D825C}" type="slidenum">
              <a:t>49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ENEFICI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DE VEJEZ, INVALIDEZ, SOBREVIVENCIA, ERAN DIVERSAS SEGÚN FUERE LA CAJ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PENSIONES NO SE REAJUSTABAN AUTOMÁTICAMENTE SEGÚN LA INFLACIÓN (IPC). SE NECESITABA  UNA LEY ESPECIAL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DISTINTOS REQUISITOS Y FÓRMULAS DE CÁLCULO  PARA OBTENER PENSIONES EN CADA CAJA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        </a:t>
            </a:r>
            <a:br>
              <a:rPr sz="20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6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FFF-D674-4692-8717-3AA80BBA5255}" type="slidenum">
              <a:t>5</a:t>
            </a:fld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filiados que mantienen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horro Previsional Voluntari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Fondos Administra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276 millone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107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US$  211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US$ 594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Número de Persona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238.918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42.285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1.027.849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    1.309.052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52-F317-4ECF-85CB-19B556857822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volución del número de afiliados y cotizan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38160" y="1676520"/>
            <a:ext cx="4610160" cy="41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10160" y="1719360"/>
            <a:ext cx="4610160" cy="41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94E-62F5-4328-9614-7C609AF5F3FC}" type="slidenum">
              <a:t>51</a:t>
            </a:fld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-233280" y="1346040"/>
          <a:ext cx="9559800" cy="55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3280" y="1346040"/>
                    <a:ext cx="9559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250920" y="-76320"/>
            <a:ext cx="8893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Evolución de los Fondos de Pension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en millones de UF a diciembre de cada año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51640" y="1628640"/>
            <a:ext cx="2582640" cy="0"/>
          </a:xfrm>
          <a:prstGeom prst="line">
            <a:avLst/>
          </a:prstGeom>
          <a:ln w="38160">
            <a:solidFill>
              <a:srgbClr val="fe1c1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2160" y="1233360"/>
            <a:ext cx="12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l. U.F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8120" y="1352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 $ 75.594,47 Millon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2920" y="2205000"/>
            <a:ext cx="56577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S FONDOS ACUMULADOS PERTENECEN A MÁS DE 7,5  MILLONES DE CHILENOS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YO SALDO PROMEDI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CANZA A $ 5,5 MILLO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2880" y="6453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Times New Roman"/>
              </a:rPr>
              <a:t>Juni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6320" y="0"/>
            <a:ext cx="90676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olución de las Inversiones de los Fondos de Pensiones por Se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Como porcentaje del Total del Fondo de Pensiones</a:t>
            </a: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-380880" y="2133720"/>
          <a:ext cx="419076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41907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2438280"/>
          <a:ext cx="441972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438280"/>
                    <a:ext cx="44197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19920" y="1828800"/>
          <a:ext cx="380988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828800"/>
                    <a:ext cx="3809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3424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2520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9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4928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2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4C4-B329-4979-BD40-E102A6084EBE}" type="slidenum">
              <a:t>53</a:t>
            </a:fld>
          </a:p>
        </p:txBody>
      </p:sp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-380880" y="493560"/>
          <a:ext cx="10726560" cy="712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493560"/>
                    <a:ext cx="10726560" cy="71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89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versiones de los Fondos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Como % del Fondo de Pensiones  31 de diciembre de 200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048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8,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2819520"/>
            <a:ext cx="1189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3,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7520" y="281952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5,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6264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3,4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9051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905120"/>
            <a:ext cx="16002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0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 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9,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5791320"/>
            <a:ext cx="129528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9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4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09920" y="1130400"/>
            <a:ext cx="28386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35.460,7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452-C0D4-469B-9193-3CE7DACFD0A2}" type="slidenum">
              <a:t>54</a:t>
            </a:fld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-396720" y="762120"/>
          <a:ext cx="10726560" cy="71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762120"/>
                    <a:ext cx="10726560" cy="7126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99ccff"/>
                    </a:outerShdw>
                  </a:effectLst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6320" y="74520"/>
            <a:ext cx="89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versiones de los 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mo % del Fondo de Pensiones de junio de 200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378600">
            <a:off x="2842920" y="4149360"/>
            <a:ext cx="1471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3,8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078600">
            <a:off x="2806560" y="3078000"/>
            <a:ext cx="11890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9,9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292428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5,0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009000">
            <a:off x="5866920" y="400500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1,2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88000" y="2057400"/>
            <a:ext cx="121896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8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67440" y="2057400"/>
            <a:ext cx="16002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1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0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,7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3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8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3,5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5791320"/>
            <a:ext cx="13716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30,78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0,4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295280"/>
            <a:ext cx="28386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75.594,4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000" y="2057400"/>
            <a:ext cx="129528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4,4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12000" y="2060640"/>
            <a:ext cx="121932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. Tesorerí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0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43640" y="2781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626920" y="2852640"/>
            <a:ext cx="14436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8720" y="5157720"/>
            <a:ext cx="14292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916000" y="5373720"/>
            <a:ext cx="144360" cy="2160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9D5-8B4C-4713-AB22-2328A223CA30}" type="slidenum">
              <a:t>55</a:t>
            </a:fld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42840" y="838080"/>
          <a:ext cx="8962920" cy="55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838080"/>
                    <a:ext cx="896292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61960" y="5029200"/>
            <a:ext cx="7905600" cy="0"/>
          </a:xfrm>
          <a:prstGeom prst="line">
            <a:avLst/>
          </a:prstGeom>
          <a:ln w="50760">
            <a:solidFill>
              <a:srgbClr val="fc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2514600"/>
            <a:ext cx="914400" cy="736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2743200"/>
            <a:ext cx="1106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entury Gothic"/>
              </a:rPr>
              <a:t>10,7%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34520" y="32767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676520"/>
            <a:ext cx="220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( *1) Rentabilidad promedio acumulada Julio 81-Dic. 200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04280" y="4876920"/>
            <a:ext cx="639720" cy="393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943600"/>
            <a:ext cx="883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81  82  83   84   85   86   87  88  89   90  91   92  93  94  95   96  97  98   99 ‘ 00  ‘01  (*1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920" y="76320"/>
            <a:ext cx="90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ntabilidad Real Anual de 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AD0-B28F-485C-BB1C-072752023CB0}" type="slidenum">
              <a:t>56</a:t>
            </a:fld>
          </a:p>
        </p:txBody>
      </p:sp>
    </p:spTree>
  </p:cSld>
  <p:transition spd="slow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311120"/>
          <a:ext cx="9164520" cy="554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11120"/>
                    <a:ext cx="91645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119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1197000"/>
            <a:ext cx="813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ntabilidad Real Anual de los Fondos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n 25 año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445000"/>
            <a:ext cx="8245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713800" y="5300640"/>
            <a:ext cx="395280" cy="216000"/>
          </a:xfrm>
          <a:prstGeom prst="rect">
            <a:avLst/>
          </a:prstGeom>
          <a:solidFill>
            <a:srgbClr val="0000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75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64720" y="306864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04720" y="256536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Rentabilidad Promedio Anu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Acumulada jul. 81– dic. 0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82160" y="2637000"/>
            <a:ext cx="826920" cy="431640"/>
          </a:xfrm>
          <a:prstGeom prst="leftArrowCallout">
            <a:avLst>
              <a:gd name="adj1" fmla="val 0"/>
              <a:gd name="adj2" fmla="val 25000"/>
              <a:gd name="adj3" fmla="val 45224"/>
              <a:gd name="adj4" fmla="val 66673"/>
            </a:avLst>
          </a:prstGeom>
          <a:noFill/>
          <a:ln w="38160">
            <a:solidFill>
              <a:srgbClr val="d31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87160" y="64911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cc"/>
                </a:solidFill>
                <a:latin typeface="Tahoma"/>
              </a:rPr>
              <a:t>*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: Promedio ponderado multifon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189000"/>
            <a:ext cx="276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41F-B772-4BF9-837B-CA9D2F38C40E}" type="slidenum">
              <a:t>57</a:t>
            </a:fld>
          </a:p>
        </p:txBody>
      </p:sp>
    </p:spTree>
  </p:cSld>
  <p:transition spd="slow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5440" y="1558800"/>
          <a:ext cx="9126720" cy="50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558800"/>
                    <a:ext cx="9126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112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 Promedio a Dic. de c/ año como % de la Renta Promedio Imponible 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49760" y="4782960"/>
            <a:ext cx="65113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luye el Costo del Seguro y Comisión Fij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5440" y="6310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43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986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47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5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65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3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3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76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80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1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7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021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49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29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74880" y="6248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708280"/>
            <a:ext cx="705636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349360"/>
            <a:ext cx="6872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59640" y="3860640"/>
            <a:ext cx="684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2440" y="3930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2,4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6520" y="242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4,87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9640" y="43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sto para un Cotizan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 el Sistema de AFP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929560" y="2133720"/>
            <a:ext cx="30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06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Seg. Inv. Sobrev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31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%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0,06% 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Fij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84480" y="22399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2,3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213372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7532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908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980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7501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38280" y="6597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Ju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A2D-9852-4645-9579-8A81B71C506E}" type="slidenum">
              <a:t>58</a:t>
            </a:fld>
          </a:p>
        </p:txBody>
      </p:sp>
    </p:spTree>
  </p:cSld>
  <p:transition spd="slow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9629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úmero de Pensiones Pagad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990720" y="839880"/>
          <a:ext cx="8153280" cy="54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9880"/>
                    <a:ext cx="81532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8CF-8E25-4580-858E-1994E51970AE}" type="slidenum">
              <a:t>59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320" y="456840"/>
            <a:ext cx="8596440" cy="119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7320" y="1980720"/>
            <a:ext cx="8758080" cy="4705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QUISITOS PARA JUBILA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6360" y="2771640"/>
            <a:ext cx="8531280" cy="37530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2971800"/>
            <a:ext cx="2446560" cy="311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BRER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  PART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NC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LAMENT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7920" y="3060720"/>
            <a:ext cx="4194360" cy="35568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2120" y="302436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65 AÑ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7920" y="3594240"/>
            <a:ext cx="3070440" cy="431640"/>
          </a:xfrm>
          <a:prstGeom prst="rect">
            <a:avLst/>
          </a:prstGeom>
          <a:solidFill>
            <a:srgbClr val="67676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35575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5 AÑOS DE TRAB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4280040"/>
            <a:ext cx="2506680" cy="355320"/>
          </a:xfrm>
          <a:prstGeom prst="rect">
            <a:avLst/>
          </a:prstGeom>
          <a:solidFill>
            <a:srgbClr val="919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4480" y="431964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0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7920" y="5118120"/>
            <a:ext cx="20876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2360" y="51577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4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7920" y="5803920"/>
            <a:ext cx="1311480" cy="355680"/>
          </a:xfrm>
          <a:prstGeom prst="rect">
            <a:avLst/>
          </a:prstGeom>
          <a:solidFill>
            <a:srgbClr val="dadada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99440" y="58435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5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694-E68E-4638-B9FB-4E1BC6C6931B}" type="slidenum">
              <a:t>6</a:t>
            </a:fld>
          </a:p>
        </p:txBody>
      </p:sp>
    </p:spTree>
  </p:cSld>
  <p:transition spd="slow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ones Pagadas según Modalidad(Dic. 200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04920" y="1828800"/>
          <a:ext cx="8839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839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328-6B1E-4EC5-BB27-F6F2A5528AAA}" type="slidenum">
              <a:t>60</a:t>
            </a:fld>
          </a:p>
        </p:txBody>
      </p:sp>
    </p:spTree>
  </p:cSld>
  <p:transition spd="slow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16000" y="0"/>
            <a:ext cx="712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ensiones Pagada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r Tipo como % sobre el total a junio de 2006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-541440" y="2284560"/>
          <a:ext cx="9145800" cy="64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2284560"/>
                    <a:ext cx="9145800" cy="64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89600" y="1628640"/>
            <a:ext cx="3720960" cy="45972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589.023 pensiones pagada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341360"/>
            <a:ext cx="3779640" cy="134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Promedio Jubilación Anticip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ombres: 55,6 años (9,4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jeres  : 53,3 años (6,7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tal       : 55,2 a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62D-8296-49CA-A170-596491C45234}" type="slidenum">
              <a:t>61</a:t>
            </a:fld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5300640"/>
            <a:ext cx="856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Supuesto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: Afiliado hombre, cotiza desde los 18 años y se pensiona a los 65. Renta Imponible crece al 2% anual hasta los 50 años, luego estable ($282.680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isión Fija: $ 227;  Lagunas previsionales: 8%, 15% y 30%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asa de reemplazo líquida. RV-2004 Estática. Tasa de Interés Técnico: 4,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47720" y="6580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21-VIII-20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41400"/>
            <a:ext cx="9144000" cy="516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B98-E41F-47E4-A946-33305BE96824}" type="slidenum">
              <a:t>62</a:t>
            </a:fld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CD9-59CA-440D-82F1-79ACCA2BA52A}" type="slidenum">
              <a:t>63</a:t>
            </a:fld>
          </a:p>
        </p:txBody>
      </p:sp>
    </p:spTree>
  </p:cSld>
  <p:transition spd="slow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BB1-EE5E-4BDE-82FB-0AF36DA5FFE4}" type="slidenum">
              <a:t>64</a:t>
            </a:fld>
          </a:p>
        </p:txBody>
      </p:sp>
    </p:spTree>
  </p:cSld>
  <p:transition spd="slow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32E-BDF0-47FD-AB9C-0C1E8046F87F}" type="slidenum">
              <a:t>65</a:t>
            </a:fld>
          </a:p>
        </p:txBody>
      </p:sp>
    </p:spTree>
  </p:cSld>
  <p:transition spd="slow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10960" y="1447920"/>
            <a:ext cx="8933040" cy="482112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5440" bIns="55440" anchor="t">
            <a:normAutofit fontScale="81000"/>
          </a:bodyPr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ULTURA PREVISIONAL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CORPORACION DE LOS TRABAJADORES INDEPENDIENT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TINUAR DIVERSIFICANDO LAS INVERSION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9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LOS SISTEMAS DE COBRANZA DE COTIZACIONES IMPAGA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MODALIDADES DE PENSION Y SU COMERCIALIZAC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8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35080" y="784080"/>
            <a:ext cx="6283440" cy="7509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DESAFIOS FUTURO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722304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93240" y="6588000"/>
            <a:ext cx="1885680" cy="25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Book Antiqua"/>
              </a:rPr>
              <a:t>Asociación de AFP  AG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CD1-F60A-438B-B08E-D88A7FDAD93D}" type="slidenum">
              <a:t>66</a:t>
            </a:fld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71640" y="189000"/>
            <a:ext cx="946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88720" y="0"/>
            <a:ext cx="8530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Potenciar Primer Pilar Solidario (no contributivo)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426320" y="1794240"/>
            <a:ext cx="6500520" cy="4510440"/>
            <a:chOff x="1426320" y="1794240"/>
            <a:chExt cx="6500520" cy="4510440"/>
          </a:xfrm>
        </p:grpSpPr>
        <p:sp>
          <p:nvSpPr>
            <p:cNvPr id="542" name=""/>
            <p:cNvSpPr/>
            <p:nvPr/>
          </p:nvSpPr>
          <p:spPr>
            <a:xfrm rot="16200000">
              <a:off x="6178680" y="2058840"/>
              <a:ext cx="999000" cy="116460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33880" y="6303960"/>
              <a:ext cx="6492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62200" y="2975040"/>
              <a:ext cx="998280" cy="3328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33880" y="5138280"/>
              <a:ext cx="13323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507400">
              <a:off x="1767240" y="4639680"/>
              <a:ext cx="31611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2350440" y="2391840"/>
              <a:ext cx="3328560" cy="44946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33880" y="1809360"/>
              <a:ext cx="1080" cy="44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3880" y="1809360"/>
              <a:ext cx="649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919280" y="1794240"/>
              <a:ext cx="1080" cy="44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87520" y="4609800"/>
              <a:ext cx="181692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CONTRIBUTIV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6320" y="5123520"/>
              <a:ext cx="13323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 SOLID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88600" y="2127960"/>
              <a:ext cx="1649520" cy="11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VOLUNT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875-445D-415C-8134-B2E1AA916764}" type="slidenum">
              <a:t>67</a:t>
            </a:fld>
          </a:p>
        </p:txBody>
      </p:sp>
    </p:spTree>
  </p:cSld>
  <p:transition spd="slow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-1440" y="776160"/>
          <a:ext cx="9181800" cy="610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776160"/>
                    <a:ext cx="91818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Tahoma"/>
              </a:rPr>
              <a:t>Aporte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6A8-C3ED-43CE-B8A4-273DFB9963C0}" type="slidenum">
              <a:t>68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7320" y="1371240"/>
            <a:ext cx="87580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USA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ISMINUCION RELAC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(TRABAJADORES COTIZANTES / PENSIONADOS ) POR</a:t>
            </a: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FECTOS DEMOGRAFIC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TORGAMIENTO BENEFICIOS SIN FINANCIA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TA EVAS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POR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NIMA RELACION ENTRE COTIZACIONES Y BENEFICI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LTAS TASAS DE COTIZAC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BAJAS PENS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APROPIADOS SISTEMAS DE CONTRO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ISIS FINANCIERA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779-062B-447C-B4E1-E87B7B651F81}" type="slidenum">
              <a:t>7</a:t>
            </a:fld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el origen de un cambio..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aja en las tasas de fertilida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aumento en los índices de expectativas de vid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4BC-6CB5-4C1D-B312-7926BE276F61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447920"/>
          <a:ext cx="8837640" cy="504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8376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52280"/>
            <a:ext cx="9524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baja en tasas de fert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280" y="12556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Nº Hijos por Muje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FE9-A5B9-457E-B520-14A6AAA11EC7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1:42:35Z</dcterms:created>
  <dc:creator>UNIVERSIDAD DEL DESARROLLO</dc:creator>
  <dc:description/>
  <dc:language>en-US</dc:language>
  <cp:lastModifiedBy>USUARIO</cp:lastModifiedBy>
  <cp:lastPrinted>2002-05-11T23:00:06Z</cp:lastPrinted>
  <dcterms:modified xsi:type="dcterms:W3CDTF">2010-05-31T01:08:55Z</dcterms:modified>
  <cp:revision>106</cp:revision>
  <dc:subject/>
  <dc:title>Sin título de diapositiva</dc:title>
</cp:coreProperties>
</file>