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CD1A-0A72-4661-938F-B868808B4D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FA12-3CBE-4134-8BC4-B49C8A82E32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91A6-CB8E-46E3-BAE8-B4B2DF29AA1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AFD7-9CDA-4638-B713-C5FAF120FBF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AB77-FA06-4E10-BC9F-5E566CFB9D1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9D8CF-33CA-491D-9B6B-912CED276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66D7-3D6B-4D6D-BB38-6FAE81145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38170-8949-4AF5-9F68-F267AB61A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B95C4-12A8-46A8-A306-4D0017273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C18CA-84BA-4CAF-A73F-D84A9F6DB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468E9-C170-4FEB-9C4C-DEFA9995C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F4FC9-6085-43D9-93AA-EE6C51067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5074F-0078-4D70-8F41-D097C3A4E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20279-5D0B-4A3E-862D-5AD762BB8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15B0B-F4EE-4697-AEBE-240391A07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57F17-DC7E-4475-BE9E-4F3633935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A1939-646F-4320-8B36-AC8341FE9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8300D-EEDE-470F-877D-C438C7DF4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08BDC-F6B2-48CF-AB15-E9DC56042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CA880-D6B5-4104-BD4A-496F550BB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2FF34-4058-4B17-A563-02CA6A82C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56DC7-3B27-431A-BA0F-C985527F8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DBDA6-9626-479F-BADA-67D59514C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726CA-27F1-4676-9511-1528C8DF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81202-C57E-49FD-BCDA-9E80278CC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1D57-9FA2-4BE9-80BC-2632C0039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88F83-4512-4373-9264-181A104C2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5E33-4B83-4774-89C8-861279FED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6474D-12E3-47EF-A739-A53E982A4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E8B0-C92E-4A23-AA74-F78C77C26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6A27-0B6C-41DA-A6D4-6281B71A0E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8208-BDD4-4768-89B6-F5E19BBB24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3600" spc="-1" strike="noStrike">
                <a:solidFill>
                  <a:srgbClr val="ffff00"/>
                </a:solidFill>
                <a:latin typeface="Arial"/>
                <a:ea typeface="Arial"/>
              </a:rPr>
              <a:t>ILICITOS LABORALES </a:t>
            </a:r>
            <a:br>
              <a:rPr sz="3600"/>
            </a:br>
            <a:r>
              <a:rPr b="1" lang="es-ES_tradnl" sz="3600" spc="-1" strike="noStrike">
                <a:solidFill>
                  <a:srgbClr val="ffff00"/>
                </a:solidFill>
                <a:latin typeface="Arial"/>
                <a:ea typeface="Arial"/>
              </a:rPr>
              <a:t>EN LA SUBCONTRATACION Y SUMINISTRO DE TRABAJADORES</a:t>
            </a:r>
            <a:br>
              <a:rPr sz="36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C9C3-594F-49A7-B65F-7E79A6712F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1. Cuando no existe contrato de puesta a disposición de trabajadores entre EST y Usuaria</a:t>
            </a:r>
            <a:endParaRPr b="0" lang="en-US" sz="2800" spc="-1" strike="noStrike">
              <a:solidFill>
                <a:srgbClr val="ffff00"/>
              </a:solidFill>
              <a:latin typeface="Times New Roman"/>
            </a:endParaRPr>
          </a:p>
        </p:txBody>
      </p:sp>
      <p:sp>
        <p:nvSpPr>
          <p:cNvPr id="127" name="PlaceHolder 2"/>
          <p:cNvSpPr>
            <a:spLocks noGrp="1"/>
          </p:cNvSpPr>
          <p:nvPr>
            <p:ph/>
          </p:nvPr>
        </p:nvSpPr>
        <p:spPr>
          <a:xfrm>
            <a:off x="611280" y="1484280"/>
            <a:ext cx="7772400" cy="445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N inc.5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La falta de contrato escrito de puesta a disposición de trabajadores de servicios transitorios excluirá  a la usuaria de la aplicación de las normas del presente Párrafo 2º. En consecuencia, el trabajador se considerará como dependiente de la usuaria, vínculo que se regirá por las normas de la legislación laboral común, sin perjuicio de las demás sanciones que correspondiera aplicar conforme a este Código</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8D3B-B399-4E77-8F03-E760AB3D28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2. Cuando se utiliza el suministro en situaciones no permitidas por el CT: fraude a ley laboral </a:t>
            </a:r>
            <a:endParaRPr b="0" lang="en-US" sz="2800" spc="-1" strike="noStrike">
              <a:solidFill>
                <a:srgbClr val="ffff00"/>
              </a:solidFill>
              <a:latin typeface="Times New Roman"/>
            </a:endParaRPr>
          </a:p>
        </p:txBody>
      </p:sp>
      <p:sp>
        <p:nvSpPr>
          <p:cNvPr id="130"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rt. 183-U</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Los contratos de trabajo celebrados en supuestos distintos a aquellos que justifican la contratación de servicios transitorios de conformidad con el artículo 183-Ñ, o que tengan por objeto encubrir una relación de trabajo de carácter permanente con la usuaria, se entenderán celebrados en fraude a la ley, excluyendo a la usuaria de la aplicación de las normas del presente Párrafo 2º.  En consecuencia, el trabajador se considerará como dependiente de la usuaria, vínculo que se regirá por las normas de la legislación laboral común, sin perjuicio de las demás sanciones que correspondan</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Fraude  a la ley laboral cuando el contrato de trabajo transitorio </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i) se celebra en supuestos distintos a los permitidos en art. 183-Ñ, y (ii) cuando tiene por objeto encubrir una relación de trabajo permanente con la Usuari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EC47-5DDE-4589-979B-792085C620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3. Cuando Usuaria contrata a un trabajador de servicios transitorios con una empresa que no es EST</a:t>
            </a:r>
            <a:endParaRPr b="0" lang="en-US" sz="2800" spc="-1" strike="noStrike">
              <a:solidFill>
                <a:srgbClr val="ffff00"/>
              </a:solidFill>
              <a:latin typeface="Times New Roman"/>
            </a:endParaRPr>
          </a:p>
        </p:txBody>
      </p:sp>
      <p:sp>
        <p:nvSpPr>
          <p:cNvPr id="133"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t. 183-AA</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presente Párrafo 2º.  En consecuencia, el trabajador se considerará como dependiente de la usuaria, vínculo que se regirá por las normas de la legislación laboral común</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FB6C-8125-428C-82B2-87FB73A88C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1. Subcontratación que esconde un suministro ilegal de trabajadores</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A inc. 2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Si los servicios prestados se realizan sin sujeción a los requisitos señalados en el inciso anterior o se limitan sólo a la intermediación de trabajadores a una faena, se entenderá que el empleador es el dueño de la obra, empresa o faena, sin perjuicio de las sanciones que correspondan por aplicación del artículo 478</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AA47-E943-48D9-B05B-0F9C7C3457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Dos situaciones de simulación de subcontratación</a:t>
            </a:r>
            <a:endParaRPr b="0" lang="en-US" sz="36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Cuando no se cumplen los requisitos del trabajo en régimen de subcontratación (definido en art.183-A inc. 1º)</a:t>
            </a:r>
            <a:endParaRPr b="0" lang="en-US" sz="2800" spc="-1" strike="noStrike">
              <a:solidFill>
                <a:srgbClr val="ffffff"/>
              </a:solidFill>
              <a:latin typeface="Times New Roman"/>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NO están bajo el mando y dependencia de la empresa contratista, sino de la empresa principal.</a:t>
            </a:r>
            <a:endParaRPr b="0" lang="en-US" sz="24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 Cuando los servicios se limitan sólo a la intermediación de trabajadores</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FECTO: </a:t>
            </a:r>
            <a:r>
              <a:rPr b="1" lang="en-US" sz="2800" spc="-1" strike="noStrike">
                <a:solidFill>
                  <a:srgbClr val="ffffff"/>
                </a:solidFill>
                <a:latin typeface="Times New Roman"/>
                <a:ea typeface="Times New Roman"/>
              </a:rPr>
              <a:t>Empleador es la empresa principal</a:t>
            </a:r>
            <a:r>
              <a:rPr b="0" lang="en-US" sz="2800" spc="-1" strike="noStrike">
                <a:solidFill>
                  <a:srgbClr val="ffffff"/>
                </a:solidFill>
                <a:latin typeface="Times New Roman"/>
                <a:ea typeface="Times New Roman"/>
              </a:rPr>
              <a:t>, sin perjuicio de aplicación del art. 478 inc.1º, hoy 507 inc.1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E306-7AC2-486D-B058-19D16001B2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09"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 trabajo en régimen de subcontratación ”exige que las obras o servicios que ejecuta el contratista para la empresa principal, deben ser realizadas con trabajadores de su dependencia.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En otros términos, la prestación de servicios de los trabajadores del contratista debe ejecutarse bajo un vínculo de subordinación y dependencia respecto de éste, el cual, conforme a la doctrina y jurisprudencia administrativa vigente, se traduce, entre otros aspectos, en el </a:t>
            </a:r>
            <a:r>
              <a:rPr b="0" lang="en-US" sz="2000" spc="-1" strike="noStrike" u="sng">
                <a:solidFill>
                  <a:srgbClr val="ffffff"/>
                </a:solidFill>
                <a:uFillTx/>
                <a:latin typeface="Times New Roman"/>
              </a:rPr>
              <a:t>derecho del empleador a dirigir al trabajador impartiéndole órdenes e instrucciones</a:t>
            </a:r>
            <a:r>
              <a:rPr b="0" lang="en-US" sz="2000" spc="-1" strike="noStrike">
                <a:solidFill>
                  <a:srgbClr val="ffffff"/>
                </a:solidFill>
                <a:latin typeface="Times New Roman"/>
              </a:rPr>
              <a:t>, principalmente acerca de la forma y oportunidad de la ejecución de las labores, y en el </a:t>
            </a:r>
            <a:r>
              <a:rPr b="0" lang="en-US" sz="2000" spc="-1" strike="noStrike" u="sng">
                <a:solidFill>
                  <a:srgbClr val="ffffff"/>
                </a:solidFill>
                <a:uFillTx/>
                <a:latin typeface="Times New Roman"/>
              </a:rPr>
              <a:t>deber del trabajador de acatar y obedecer las misma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2105-B84E-461A-B9FE-4A2EE9260F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685800" y="2091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2"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De esta suerte, en el régimen de subcontratación … es el contratista, en su carácter de empleador, el que estará dotado de la </a:t>
            </a:r>
            <a:r>
              <a:rPr b="0" lang="en-US" sz="2000" spc="-1" strike="noStrike" u="sng">
                <a:solidFill>
                  <a:srgbClr val="ffffff"/>
                </a:solidFill>
                <a:uFillTx/>
                <a:latin typeface="Times New Roman"/>
              </a:rPr>
              <a:t>facultad de supervigilar</a:t>
            </a:r>
            <a:r>
              <a:rPr b="0" lang="en-US" sz="2000" spc="-1" strike="noStrike">
                <a:solidFill>
                  <a:srgbClr val="ffffff"/>
                </a:solidFill>
                <a:latin typeface="Times New Roman"/>
              </a:rPr>
              <a:t> a los trabajadores que se desempeñen en las obras o servicios que realiza para  la empresa principal, como asimismo, para  </a:t>
            </a:r>
            <a:r>
              <a:rPr b="0" lang="en-US" sz="2000" spc="-1" strike="noStrike" u="sng">
                <a:solidFill>
                  <a:srgbClr val="ffffff"/>
                </a:solidFill>
                <a:uFillTx/>
                <a:latin typeface="Times New Roman"/>
              </a:rPr>
              <a:t>impartirles las  instrucciones</a:t>
            </a:r>
            <a:r>
              <a:rPr b="0" lang="en-US" sz="2000" spc="-1" strike="noStrike">
                <a:solidFill>
                  <a:srgbClr val="ffffff"/>
                </a:solidFill>
                <a:latin typeface="Times New Roman"/>
              </a:rPr>
              <a:t> que estime pertinentes y </a:t>
            </a:r>
            <a:r>
              <a:rPr b="0" lang="en-US" sz="2000" spc="-1" strike="noStrike" u="sng">
                <a:solidFill>
                  <a:srgbClr val="ffffff"/>
                </a:solidFill>
                <a:uFillTx/>
                <a:latin typeface="Times New Roman"/>
              </a:rPr>
              <a:t>ejercer los controles necesarios</a:t>
            </a:r>
            <a:r>
              <a:rPr b="0" lang="en-US" sz="2000" spc="-1" strike="noStrike">
                <a:solidFill>
                  <a:srgbClr val="ffffff"/>
                </a:solidFill>
                <a:latin typeface="Times New Roman"/>
              </a:rPr>
              <a:t> para tales efectos, </a:t>
            </a:r>
            <a:r>
              <a:rPr b="0" lang="en-US" sz="2000" spc="-1" strike="noStrike" u="sng">
                <a:solidFill>
                  <a:srgbClr val="ffffff"/>
                </a:solidFill>
                <a:uFillTx/>
                <a:latin typeface="Times New Roman"/>
              </a:rPr>
              <a:t>sin que corresponda a la empresa principal ingerencia alguna al respecto</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concurrencia de los requisitos del trabajo en régimen de subcontratación “debe ser </a:t>
            </a:r>
            <a:r>
              <a:rPr b="0" lang="en-US" sz="2000" spc="-1" strike="noStrike" u="sng">
                <a:solidFill>
                  <a:srgbClr val="ffffff"/>
                </a:solidFill>
                <a:uFillTx/>
                <a:latin typeface="Times New Roman"/>
              </a:rPr>
              <a:t>analizada caso a caso</a:t>
            </a:r>
            <a:r>
              <a:rPr b="0" lang="en-US" sz="2000" spc="-1" strike="noStrike">
                <a:solidFill>
                  <a:srgbClr val="ffffff"/>
                </a:solidFill>
                <a:latin typeface="Times New Roman"/>
              </a:rPr>
              <a:t>, a fin de determinar si en una situación concreta se está o no en presencia de trabajo en régimen de subcontratación, teniendo presente los antecedentes  de que se disponga sobre el particular.”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D7FD-6A07-441D-BC67-0E3598D711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5"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La sola circunstancia de que el contratista designe a un supervisor a cargo de sus trabajadores, no basta para entender que se está en presencia de trabajo en régimen de subcontratación, siendo necesario para ello, además, que </a:t>
            </a:r>
            <a:r>
              <a:rPr b="0" lang="en-US" sz="2000" spc="-1" strike="noStrike" u="sng">
                <a:solidFill>
                  <a:srgbClr val="ffffff"/>
                </a:solidFill>
                <a:uFillTx/>
                <a:latin typeface="Times New Roman"/>
              </a:rPr>
              <a:t>dicho supervisor ejerza con autonomía de la empresa principal</a:t>
            </a:r>
            <a:r>
              <a:rPr b="0" lang="en-US" sz="2000" spc="-1" strike="noStrike">
                <a:solidFill>
                  <a:srgbClr val="ffffff"/>
                </a:solidFill>
                <a:latin typeface="Times New Roman"/>
              </a:rPr>
              <a:t> y en forma efectiva y directa, las </a:t>
            </a:r>
            <a:r>
              <a:rPr b="0" lang="en-US" sz="2000" spc="-1" strike="noStrike" u="sng">
                <a:solidFill>
                  <a:srgbClr val="ffffff"/>
                </a:solidFill>
                <a:uFillTx/>
                <a:latin typeface="Times New Roman"/>
              </a:rPr>
              <a:t>atribuciones derivadas del vínculo de subordinación o dependencia</a:t>
            </a:r>
            <a:r>
              <a:rPr b="0" lang="en-US" sz="2000" spc="-1" strike="noStrike">
                <a:solidFill>
                  <a:srgbClr val="ffffff"/>
                </a:solidFill>
                <a:latin typeface="Times New Roman"/>
              </a:rPr>
              <a:t> que une a aquél con el personal subcontratado.</a:t>
            </a:r>
            <a:endParaRPr b="0" lang="en-US" sz="2000" spc="-1" strike="noStrike">
              <a:solidFill>
                <a:srgbClr val="ffffff"/>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orde a lo señalado, forzoso es convenir que al supervisor le corresponde desarrollar un papel activo y autónomo dentro del régimen de trabajo subcontratado como el que nos ocupa, lo cual implica que </a:t>
            </a:r>
            <a:r>
              <a:rPr b="0" lang="en-US" sz="2000" spc="-1" strike="noStrike" u="sng">
                <a:solidFill>
                  <a:srgbClr val="ffffff"/>
                </a:solidFill>
                <a:uFillTx/>
                <a:latin typeface="Times New Roman"/>
              </a:rPr>
              <a:t>su labor no puede estar subordinada a las decisiones de la  empresa principal</a:t>
            </a:r>
            <a:r>
              <a:rPr b="0" lang="en-US" sz="2000" spc="-1" strike="noStrike">
                <a:solidFill>
                  <a:srgbClr val="ffffff"/>
                </a:solidFill>
                <a:latin typeface="Times New Roman"/>
              </a:rPr>
              <a:t>, </a:t>
            </a:r>
            <a:r>
              <a:rPr b="0" lang="en-US" sz="2000" spc="-1" strike="noStrike" u="sng">
                <a:solidFill>
                  <a:srgbClr val="ffffff"/>
                </a:solidFill>
                <a:uFillTx/>
                <a:latin typeface="Times New Roman"/>
              </a:rPr>
              <a:t>ni  limitarse a  la mera transmisión de órdenes</a:t>
            </a:r>
            <a:r>
              <a:rPr b="0" lang="en-US" sz="2000" spc="-1" strike="noStrike">
                <a:solidFill>
                  <a:srgbClr val="ffffff"/>
                </a:solidFill>
                <a:latin typeface="Times New Roman"/>
              </a:rPr>
              <a:t> impartidas por aquella, puesto que de lo contrario, podría estimarse que el ejercicio efectivo  de tales atribuciones respecto del personal del contratista no lo realiza por cuenta de éste sino de la empresa principa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ECBE-18E0-4130-9693-1FF7F7DDAE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Atendido lo anterior, forzoso resulta concluir que </a:t>
            </a:r>
            <a:r>
              <a:rPr b="0" lang="en-US" sz="1800" spc="-1" strike="noStrike" u="sng">
                <a:solidFill>
                  <a:srgbClr val="ffffff"/>
                </a:solidFill>
                <a:uFillTx/>
                <a:latin typeface="Times New Roman"/>
              </a:rPr>
              <a:t>la empresa principal  no se encuentra legalmente facultada para ejercer respecto de los trabajadores del contratista atribución alguna en materia de instrucciones, dirección supervigilancia y control</a:t>
            </a:r>
            <a:r>
              <a:rPr b="0" lang="en-US" sz="1800" spc="-1" strike="noStrike">
                <a:solidFill>
                  <a:srgbClr val="ffffff"/>
                </a:solidFill>
                <a:latin typeface="Times New Roman"/>
              </a:rPr>
              <a:t> que se derivan de todo vínculo de subordinación o dependencia, toda vez, que como ya se expresara, éstas corresponden en forma exclusiva al contratista, en su  calidad  de empleador del mencionado personal. Ello no significa, en caso alguno, desconocer a la empresa principal el ejercicio de determinadas atribuciones a su respecto, siempre que éstas no se traduzcan en alguna de las manifestaciones del vínculo de subordinación y dependencia a que se ha hecho referencia, toda vez que de ser así, podría válidamente sostenerse que es aquella la que revestiría la calidad de empleadora del referido personal …”.  Acorde a lo expresado, la circunstancia de que la empresa principal exija a los trabajadores del contratista el cumplimiento de </a:t>
            </a:r>
            <a:r>
              <a:rPr b="0" lang="en-US" sz="1800" spc="-1" strike="noStrike" u="sng">
                <a:solidFill>
                  <a:srgbClr val="ffffff"/>
                </a:solidFill>
                <a:uFillTx/>
                <a:latin typeface="Times New Roman"/>
              </a:rPr>
              <a:t>medidas mínimas de control de ingreso u otras necesarias para la seguridad y buen funcionamiento de la misma</a:t>
            </a:r>
            <a:r>
              <a:rPr b="0" lang="en-US" sz="1800" spc="-1" strike="noStrike">
                <a:solidFill>
                  <a:srgbClr val="ffffff"/>
                </a:solidFill>
                <a:latin typeface="Times New Roman"/>
              </a:rPr>
              <a:t>, no implica el ejercicio de atribuciones propias del vínculo de subordinación o dependencia que pudieren atribuirle la calidad de empleadora de los mismos.</a:t>
            </a:r>
            <a:endParaRPr b="0" lang="en-US" sz="1800" spc="-1" strike="noStrike">
              <a:solidFill>
                <a:srgbClr val="ffffff"/>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FAA6-1DE6-4588-A716-4BE2207BBC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21"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En el mismo orden de ideas, en opinión de este Servicio, no implicarían manifestaciones propias de dicho vínculo, las relaciones que emanan de normas de educación, de buenas costumbres y de comportamiento o trato cotidiano que necesariamente deben existir entre los trabajadores del contratista y aquellos que ejercen cargos de jefatura   en  la empresa principal. </a:t>
            </a:r>
            <a:endParaRPr b="0" lang="en-US" sz="1800" spc="-1" strike="noStrike">
              <a:solidFill>
                <a:srgbClr val="ffffff"/>
              </a:solidFill>
              <a:latin typeface="Times New Roman"/>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n otros términos, el trabajo en régimen de subcontratación que como, en la especie, se realiza dentro de las dependencias físicas de la empresa principal, genera una interacción natural en el desarrollo de las labores que deben cumplir  tanto los trabajadores de esta última como los del contratista, lo que determina la existencia de una relación de convivencia y de coordinación mínima entre ambos grupos de trabajadores. Es así como … no importaría asumir  atribuciones propias del vínculo de subordinación o dependencia, por parte de la empresa principal, el hecho de que ésta requiera circunstancialmente a los trabajadores del contratista sobre el respeto de normas de comportamiento y otras que tengan por objeto una mayor eficiencia y el mejor desarrollo de los servicios subcontrat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AFC7-D782-4965-865D-3D304B2FAD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ea typeface="Arial"/>
              </a:rPr>
              <a:t>2. Suministro ilegal de trabajadores</a:t>
            </a:r>
            <a:endParaRPr b="0" lang="en-US" sz="3400" spc="-1" strike="noStrike">
              <a:solidFill>
                <a:srgbClr val="ffff00"/>
              </a:solidFill>
              <a:latin typeface="Times New Roman"/>
            </a:endParaRPr>
          </a:p>
        </p:txBody>
      </p:sp>
      <p:sp>
        <p:nvSpPr>
          <p:cNvPr id="124"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no existe contrato de puesta a disposición d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entre EST y Usuari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2.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se utiliza el suministro en situaciones no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rmitidas por el CT: fraude a ley laboral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Usuaria contrata a un trabajador de servicio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nsitorios con una empresa que no es ES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FECTO: Usuaria es el empleador. Fiscaliza: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rección del Trabajo, Art. 183-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2T14:09:13Z</dcterms:modified>
  <cp:revision>85</cp:revision>
  <dc:subject/>
  <dc:title>Ley Nº 20.123</dc:title>
</cp:coreProperties>
</file>