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172C-E213-49AB-A1D5-F733D972137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A9A3-8AD4-49C8-A771-45BE98C5BA8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9D02-5ACC-4486-B152-E77945E4DAD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61FE-1681-4351-9BFA-2581B88C3F3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9AC7-1F27-47C4-AB03-CF977B6ED3C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388C-2AD3-45EC-907A-144A72C1D8C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048E-A127-4183-93D5-27F882A6B93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673F-0A37-4170-9E66-EF385787CB5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E6E3-9238-4AED-8A75-69379929DDD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EDB2-8066-47A1-A1D1-DF64BC06BE8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0FCF-9324-452C-9B61-9F0ED5F450B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A631-FE7F-4D15-98FF-13081AFAD93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8703-4F85-4D12-B8B3-1CA150D6F3B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CE19-2818-49FA-A523-F37C190C1CF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121F-8BB9-485D-9E3F-0FE945937C4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1C0B-E527-4850-93EA-B39ACD570AA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5272-D617-42D8-BDDF-A00467F4247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4839-B223-451F-BC3A-5FF2107DD4A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D211-FB6D-42FB-993D-22439E65DD2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7D3F-4436-40AA-85CB-ED1C36AE75E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F805-E147-4389-A636-5F13E905FF7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555E-4938-4B36-96F7-958D074880C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47AB-B675-427D-8B75-D80C92E2AF8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9AFB-C7F8-43C4-8CF2-44925287F3C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97B9-17A1-4F4D-A7E8-DB99F035205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BA96-78FB-443F-99D1-82DA21B7AE2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B414-899E-44B7-9F1E-C2FE54EE28D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5B54-79C0-457B-B051-8129F64A735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16EF-6C5F-4290-AFA7-149A21A33C3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795B-90A4-47E3-9338-1CE3FFBF1C5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5971-C103-4AC5-8A20-FCD03CDC216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6C92-7B9E-4609-A783-F4DD3D67074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4E3A-20E2-4522-B77F-F3CBDAE3191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9B49-0D4F-46D2-97EB-E64A477BB85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3727-3361-4D6F-9D0D-60B3E033390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6323-97A4-4BB4-9539-22AB20A2DB2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BACB-AA95-42FF-AE87-BD6C7413461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89BD-60E8-49B1-B3B0-FB6E4388367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8A61-2A8F-42A8-9497-6C570C02A2F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A569-C303-4B8D-ACAA-F2A7DAF2927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FFA7-9CDB-4565-9BFB-EA2A18799A4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F030-0528-45DB-832D-CFAB6E02F5A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192F-28CF-42D3-AC64-A9658E417E4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109-30D8-45FF-A451-5310DFD649F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9CAF-5989-4751-9D65-B7750FE921A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D55A-CD6F-4FB6-9E64-AA99F39DB7F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F158-3064-4028-BB98-917C419619F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7CD5-5C0D-4065-B0B9-DAAE6FF77C0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E88B-31CB-4FF4-BE2E-3CD58D719E8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FBE9-7B24-4FEC-BE9F-B7B64E1FFAD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572D-AE18-43D1-8677-32F6CDBFF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48CF-FD0E-45A1-8211-899E18D22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874AC-E81F-4B27-973B-0C9E818E8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41AC8-3703-456B-94C4-0E62A0834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A91E8-AFAD-401E-9BFA-9531FFD62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C81B4-5872-4D00-801B-E90FCB1A7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ADA79-D66E-4899-BB97-8A347E8BF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6CD82-3730-465D-8874-3F7A25FE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E2147-8A91-4336-975F-C7C5762B8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AE1EF-AD9B-4E5B-B187-61A1E2BD2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808A8-006D-40CD-8761-A91618D48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DC3D7-ED1C-48B3-9E0F-F438CC550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F4A1-77BE-47E5-BE17-E90A9EF47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CC6F-8364-4A93-AFD1-830E7AE60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43B66-99A8-42A6-B4E0-A3C51742A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7A839-392B-49C7-8561-A3A1598FF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89B22-F92F-4B35-9E9C-FA8039FF9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CDBC3-FD35-40A3-B2B8-F6BE4EA7DC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BBF88-587A-4402-90DE-25B212E99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9E8BA-6BF0-430A-AF60-FBE9B3394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75CA4-EFD9-4F63-9095-A4553959C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47D40-AFBC-4DE8-BA64-97AB95F59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43DA-8F69-4489-B735-FAF72718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2F330-3C49-445F-8468-75F14E4AA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6684F-6433-4967-A478-E4DE90D2C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9BAFF-9527-4C05-9DA8-DA064D63B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076D5-062C-4D48-8CF3-512025EEC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9251F-3718-4FB1-A3DA-4FF2D4A1E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6D1A82-4613-4531-B0F4-16C012F7F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D80CF-F2D3-42A5-92C1-79C88176B5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11530-6E93-4888-9452-93BF02B3FE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96C1E-5CCE-446C-840D-99589D010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43AE4-B358-49CD-A0B3-2EEAAD2CB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C3F9-1A07-411D-832E-08DE0816F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3D587-9949-428D-8447-F5ECB7F9E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34D70-0832-4D74-AD0D-4091F63F6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82B4D-A5A9-4E05-BA39-452BE82C6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668D2-2C42-4DC2-BFBD-42E13CC67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A7FD9-9C88-4009-BF6D-3BB0C4C0D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32E37-4B32-4D18-A9F1-1A73086A5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4D538-75FC-4859-9D8B-E12CAAAA2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AC6D3-F805-4D3F-AC6E-B55CF3A5F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13E6DA-584D-46F2-8EBE-D3C72782C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A4222-EC2B-4A14-A60A-D9CB8B86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AEA78-129D-4194-8B1D-A07B5A29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3540-8BAF-43D8-B137-B6D90DB7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72AC-BF88-4F7C-8222-87281C7E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83B2-AD1C-43BB-9C8F-3224342B5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E3F7-7219-4966-B96D-703CFFE0F9AB}"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931C-20D1-46A8-81F6-3D82112881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C581-5F25-4820-9A46-25C6A25B589F}"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DAB8-49C0-47E7-A14C-0045F13F56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4194-E53F-4906-A450-D44C7D1B7F69}"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C2CC-2771-4222-993E-82F17799B2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C62-DC87-47A5-9DC3-6FE7DA489F4D}" type="datetime">
              <a:rPr b="0" lang="en-US" sz="1400" spc="-1" strike="noStrike">
                <a:solidFill>
                  <a:srgbClr val="ff0000"/>
                </a:solidFill>
                <a:latin typeface="Times New Roman"/>
              </a:rPr>
              <a:t>07/31/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519D-E801-458D-B457-14A6DC566F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1DC8-BBC7-4A6B-A69C-16E228FAE08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182C-96AF-4BAB-B49E-22E9742D6C4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0F3F-AAAD-4DEF-919F-321938900FF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5C29-FFFF-465C-9B05-E6503D32E1C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2707-0CAC-4AA6-95AF-C6FAA74E5D0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E303-B0D8-4421-8459-6EA8F7C1CAE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1121-CB5F-44D3-AEEF-010C3DEDCFE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4D62-0376-4EDE-B83A-00E3BF4359C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6316-9F85-4F81-83E8-B0090E6DEE0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9731-CF87-44D2-8640-34EFEBF752B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AFBB-E72F-4F38-9481-8D9DE949554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27EB-8348-4861-8EE8-0A93CD591C1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C38A-654B-462B-B365-8BF047A193B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CE1E-0738-4E50-9CF8-201CC556D03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F3E1-9914-43C1-B232-567E942B907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4BE3-2769-4723-80BB-CDE00CB711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9260-C02B-40B0-B687-95E2621E169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46FF-9511-449F-82BA-23091EB980C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7B12-D60D-4564-A174-50EBD88170A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FD47-8989-4ED8-8C40-18FF2FA9500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FBD8-2B24-4412-BFD5-3D21DE5FA6C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D9C6-80AE-4CB7-9045-4C4DCE1ECEC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9160-A531-4CA0-A16C-4C404CFA6F6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554C-A671-4E29-B312-84982FF950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F45B-6AF0-4923-9091-F3E425324CD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DCD2-7607-4F98-B2FE-A180BDA4170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CCDF-DE9F-42BF-B729-5A7B4E98976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731C-CC32-4E29-809B-CAF1FEFA4BE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F872-756B-4BB4-93F4-0BE7886F088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A0F7-DC26-4B9F-9C12-FE49EFEC881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DF86-8111-44FC-BB22-CD95478171C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CF77-8B85-4706-B1B7-7B048202F90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913E-DC1D-4730-95B9-255C6C3BE97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FEBC-7CF8-4AD1-8A86-29798F97761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41EB-ECD3-416C-93E2-DBD3093D497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9F26-BA85-4B4F-B3BC-8ED6DA5F5F2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24B2-E8AC-4171-8ECC-7623FCD2CF7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628B-FA30-4131-936E-C47078F3931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CED7-995D-484C-842B-E9F2B8BF01D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728C-EBA0-49BE-8E11-6BF30C7A082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C6C3-6AA6-4251-A38F-5BEB0DA2886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5316-7C26-468C-88B5-EC22BDB7F4A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55F4-4A38-425C-86F6-9B7BC320903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C1C8-205C-4C7A-8035-70B4B277F09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BE1C-2087-4CCA-B530-F453F8C211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E562-25A4-42AD-8AEC-F41840F710D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069D-B70C-4060-AB76-B9D1819B3AD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F620-3232-4C13-A018-83E7DFE2E3A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94D3-00A1-4218-96C4-C05541893E8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0419-9093-463B-9D75-544E6AA4916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69CA-971F-4A8A-A083-1DE4C12D515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A325-0D5B-40DB-88B7-8AB20286BA2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A61A-8051-4A14-90E0-A5FFE43BADB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0595-8F7E-46C9-B0EB-D16AFCB5E76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6B32-34F2-448D-87B6-AAEE5596163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8F75-7AD1-4529-AA85-3C7FF831E2B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