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5C9A-0E84-4D99-AB0D-DB014C758C9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408E-AB7D-4B22-80B3-755061EF04F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4" name="PlaceHolder 1"/>
          <p:cNvSpPr>
            <a:spLocks noGrp="1"/>
          </p:cNvSpPr>
          <p:nvPr>
            <p:ph type="sldImg"/>
          </p:nvPr>
        </p:nvSpPr>
        <p:spPr>
          <a:xfrm>
            <a:off x="1144440" y="685800"/>
            <a:ext cx="4572000" cy="3429000"/>
          </a:xfrm>
          <a:prstGeom prst="rect">
            <a:avLst/>
          </a:prstGeom>
          <a:ln w="0">
            <a:noFill/>
          </a:ln>
        </p:spPr>
      </p:sp>
      <p:sp>
        <p:nvSpPr>
          <p:cNvPr id="150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B304-B557-4613-9123-586AF8D7CFC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1" name="PlaceHolder 1"/>
          <p:cNvSpPr>
            <a:spLocks noGrp="1"/>
          </p:cNvSpPr>
          <p:nvPr>
            <p:ph type="sldImg"/>
          </p:nvPr>
        </p:nvSpPr>
        <p:spPr>
          <a:xfrm>
            <a:off x="1144440" y="685800"/>
            <a:ext cx="4572000" cy="3429000"/>
          </a:xfrm>
          <a:prstGeom prst="rect">
            <a:avLst/>
          </a:prstGeom>
          <a:ln w="0">
            <a:noFill/>
          </a:ln>
        </p:spPr>
      </p:sp>
      <p:sp>
        <p:nvSpPr>
          <p:cNvPr id="1502"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373E8-9167-436A-9B40-2B9893C32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3DE00-BC94-4277-8BA8-B8E9A64B8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8E07F-F172-472C-85D3-6ADD14927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0A21E-D648-47D3-9CA5-C411CAD48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DC7F0-2DCF-4B8D-BBBE-775F83F4A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58D86-F65E-4DE5-8991-9AFCD0111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6926A-42E6-48F9-8414-8B6C4AA83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A2A3C-A485-40ED-A437-91E171F28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F9934-7212-4E54-892E-5F40167BE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F6F1B-73A6-42E2-A053-C80F8D799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88124-E2E6-4EF1-A055-69FABFD1B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9BAE3-D9AB-4C2E-B757-7F9D0608B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F32A6-0EF4-416D-89F1-F089FCBBE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59146-AC27-4F79-843A-AD2955042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312BC-F0CD-46A5-8C80-9F0CB41BE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B80D2-C12C-4AF9-A009-49DFF0FE4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A810C-075D-419E-A562-33CD1FA89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98CB4-EAFC-457A-8C3A-7F799CAC9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D2A9F-1FAE-459E-B99D-12FC0E705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4A1F9-D675-4C90-B646-2B0151DC4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CE019-F51D-435F-9E61-70B33C04E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ABDF9-B079-4B7B-A666-7E799ACB1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DB8B3-A113-48A6-9567-E03C06331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4DF89-9CDD-425E-8984-9F77AFC57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D062-282F-4E22-A9AC-BED076781DB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F4A7-26D8-450E-B28A-781966E277B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r>
              <a:rPr b="1" lang="es-ES_tradnl" sz="4000" spc="-1" strike="noStrike">
                <a:solidFill>
                  <a:srgbClr val="ffff00"/>
                </a:solidFill>
                <a:latin typeface="Times New Roman"/>
              </a:rPr>
              <a:t>Y SUMINISTRO DE TRABAJADORES</a:t>
            </a:r>
            <a:br>
              <a:rPr sz="4000"/>
            </a:b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Septiembre 2007</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14C5B632-56D8-4749-896B-8502572001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Times New Roman"/>
                <a:ea typeface="Arial"/>
              </a:rPr>
              <a:t> </a:t>
            </a:r>
            <a:endParaRPr b="0" lang="en-US" sz="4400" spc="-1" strike="noStrike">
              <a:solidFill>
                <a:srgbClr val="ffff00"/>
              </a:solidFill>
              <a:latin typeface="Times New Roman"/>
            </a:endParaRPr>
          </a:p>
        </p:txBody>
      </p:sp>
      <p:sp>
        <p:nvSpPr>
          <p:cNvPr id="1452" name="PlaceHolder 2"/>
          <p:cNvSpPr>
            <a:spLocks noGrp="1"/>
          </p:cNvSpPr>
          <p:nvPr>
            <p:ph type="subTitle"/>
          </p:nvPr>
        </p:nvSpPr>
        <p:spPr>
          <a:xfrm>
            <a:off x="761760" y="2514600"/>
            <a:ext cx="7467480" cy="3200400"/>
          </a:xfrm>
          <a:prstGeom prst="rect">
            <a:avLst/>
          </a:prstGeom>
          <a:noFill/>
          <a:ln w="0">
            <a:noFill/>
          </a:ln>
        </p:spPr>
        <p:txBody>
          <a:bodyPr lIns="92160" rIns="92160" tIns="46080" bIns="46080" anchor="t">
            <a:no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1.-</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os trabajadores (A) prestan sus servicios al contratista o subcontratista, que es su empleador directo, en virtud de un </a:t>
            </a:r>
            <a:r>
              <a:rPr b="1" lang="en-US" sz="2600" spc="-1" strike="noStrike">
                <a:solidFill>
                  <a:srgbClr val="ffffff"/>
                </a:solidFill>
                <a:latin typeface="Times New Roman"/>
                <a:ea typeface="Arial"/>
              </a:rPr>
              <a:t>CONTRATO DE TRABAJO</a:t>
            </a:r>
            <a:r>
              <a:rPr b="0" lang="en-US" sz="2600" spc="-1" strike="noStrike">
                <a:solidFill>
                  <a:srgbClr val="ffffff"/>
                </a:solidFill>
                <a:latin typeface="Times New Roman"/>
                <a:ea typeface="Arial"/>
              </a:rPr>
              <a:t>.</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2.-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El contratista o subcontratista (B) se relaciona con la empresa principal (C) en razón de un </a:t>
            </a:r>
            <a:r>
              <a:rPr b="1" lang="en-US" sz="2600" spc="-1" strike="noStrike">
                <a:solidFill>
                  <a:srgbClr val="ffffff"/>
                </a:solidFill>
                <a:latin typeface="Times New Roman"/>
                <a:ea typeface="Arial"/>
              </a:rPr>
              <a:t>ACUERDO CONTRACTUAL</a:t>
            </a:r>
            <a:r>
              <a:rPr b="0" lang="en-US" sz="2600" spc="-1" strike="noStrike">
                <a:solidFill>
                  <a:srgbClr val="ffffff"/>
                </a:solidFill>
                <a:latin typeface="Times New Roman"/>
                <a:ea typeface="Arial"/>
              </a:rPr>
              <a:t> en el cual se establece la obra o servicio que le ejecutará o prestará. </a:t>
            </a:r>
            <a:endParaRPr b="0" lang="en-US" sz="26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DC82F175-BC51-4B16-9B76-A86E7AB1A1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4" name="PlaceHolder 2"/>
          <p:cNvSpPr>
            <a:spLocks noGrp="1"/>
          </p:cNvSpPr>
          <p:nvPr>
            <p:ph type="subTitle"/>
          </p:nvPr>
        </p:nvSpPr>
        <p:spPr>
          <a:xfrm>
            <a:off x="761760" y="2361960"/>
            <a:ext cx="7467480" cy="3352680"/>
          </a:xfrm>
          <a:prstGeom prst="rect">
            <a:avLst/>
          </a:prstGeom>
          <a:noFill/>
          <a:ln w="0">
            <a:noFill/>
          </a:ln>
        </p:spPr>
        <p:txBody>
          <a:bodyPr lIns="92160" rIns="92160" tIns="46080" bIns="4608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3.-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ejecución de las obras o la prestación de los servicios es </a:t>
            </a:r>
            <a:r>
              <a:rPr b="1" lang="en-US" sz="2600" spc="-1" strike="noStrike">
                <a:solidFill>
                  <a:srgbClr val="ffffff"/>
                </a:solidFill>
                <a:latin typeface="Times New Roman"/>
                <a:ea typeface="Arial"/>
              </a:rPr>
              <a:t>por CUENTA Y RIESGO</a:t>
            </a:r>
            <a:r>
              <a:rPr b="0" lang="en-US" sz="2600" spc="-1" strike="noStrike">
                <a:solidFill>
                  <a:srgbClr val="ffffff"/>
                </a:solidFill>
                <a:latin typeface="Times New Roman"/>
                <a:ea typeface="Arial"/>
              </a:rPr>
              <a:t> del contratista (B), lo que implica tener trabajadores (A) bajo su dependencia. (</a:t>
            </a:r>
            <a:r>
              <a:rPr b="1" lang="en-US" sz="2600" spc="-1" strike="noStrike">
                <a:solidFill>
                  <a:srgbClr val="ffffff"/>
                </a:solidFill>
                <a:latin typeface="Times New Roman"/>
                <a:ea typeface="Arial"/>
              </a:rPr>
              <a:t>AUTONOMIA</a:t>
            </a:r>
            <a:r>
              <a:rPr b="0" lang="en-US" sz="2600" spc="-1" strike="noStrike">
                <a:solidFill>
                  <a:srgbClr val="ffffff"/>
                </a:solidFill>
                <a:latin typeface="Times New Roman"/>
                <a:ea typeface="Arial"/>
              </a:rPr>
              <a:t> DEL CONTRATISTA)</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4.-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subcontratación  se refiere a los servicios que se prestan o a las obras que se ejecutan </a:t>
            </a:r>
            <a:r>
              <a:rPr b="1" lang="en-US" sz="2600" spc="-1" strike="noStrike">
                <a:solidFill>
                  <a:srgbClr val="ffffff"/>
                </a:solidFill>
                <a:latin typeface="Times New Roman"/>
                <a:ea typeface="Arial"/>
              </a:rPr>
              <a:t>EN</a:t>
            </a:r>
            <a:r>
              <a:rPr b="0" lang="en-US" sz="2600" spc="-1" strike="noStrike">
                <a:solidFill>
                  <a:srgbClr val="ffffff"/>
                </a:solidFill>
                <a:latin typeface="Times New Roman"/>
                <a:ea typeface="Arial"/>
              </a:rPr>
              <a:t> la empresa principal, obra o faena. </a:t>
            </a:r>
            <a:endParaRPr b="0" lang="en-US" sz="26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57A1617B-FCFB-4872-BD9D-D8A13AD2A2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	</a:t>
            </a: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6" name="PlaceHolder 2"/>
          <p:cNvSpPr>
            <a:spLocks noGrp="1"/>
          </p:cNvSpPr>
          <p:nvPr>
            <p:ph type="subTitle"/>
          </p:nvPr>
        </p:nvSpPr>
        <p:spPr>
          <a:xfrm>
            <a:off x="761760" y="2209680"/>
            <a:ext cx="7467480" cy="3353040"/>
          </a:xfrm>
          <a:prstGeom prst="rect">
            <a:avLst/>
          </a:prstGeom>
          <a:noFill/>
          <a:ln w="0">
            <a:noFill/>
          </a:ln>
        </p:spPr>
        <p:txBody>
          <a:bodyPr lIns="92160" rIns="92160" tIns="46080" bIns="4608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5</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La definición de las obras que se ejecutan o de los servicios que se prestan tiene que tener una </a:t>
            </a:r>
            <a:r>
              <a:rPr b="1" lang="en-US" sz="2400" spc="-1" strike="noStrike">
                <a:solidFill>
                  <a:srgbClr val="ffffff"/>
                </a:solidFill>
                <a:latin typeface="Times New Roman"/>
                <a:ea typeface="Arial"/>
              </a:rPr>
              <a:t>CONTINUIDAD o HABITUALIDAD</a:t>
            </a:r>
            <a:r>
              <a:rPr b="0" lang="en-US" sz="2400" spc="-1" strike="noStrike">
                <a:solidFill>
                  <a:srgbClr val="ffffff"/>
                </a:solidFill>
                <a:latin typeface="Times New Roman"/>
                <a:ea typeface="Arial"/>
              </a:rPr>
              <a:t>. Se excluyen de esta definición de subcontratación las obras que se ejecuten o los servicios que se presten en forma </a:t>
            </a:r>
            <a:r>
              <a:rPr b="1" lang="en-US" sz="2400" spc="-1" strike="noStrike">
                <a:solidFill>
                  <a:srgbClr val="ffffff"/>
                </a:solidFill>
                <a:latin typeface="Times New Roman"/>
                <a:ea typeface="Arial"/>
              </a:rPr>
              <a:t>DISCONTINUA O ESPORADICA</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6.-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Se entiende que la empresa principal es empleador cuando no se cumplan los requisitos de la subcontratación, o cuando los servicios se limitan a la intermediación de trabajadores a una faen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BB7E7D17-A6EE-494C-AC4A-8200940574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II - Responsabilidad de la empresa principal</a:t>
            </a:r>
            <a:endParaRPr b="0" lang="en-US" sz="2800" spc="-1" strike="noStrike">
              <a:solidFill>
                <a:srgbClr val="ffff00"/>
              </a:solidFill>
              <a:latin typeface="Times New Roman"/>
            </a:endParaRPr>
          </a:p>
        </p:txBody>
      </p:sp>
      <p:sp>
        <p:nvSpPr>
          <p:cNvPr id="14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ffffff"/>
                </a:solidFill>
                <a:latin typeface="Times New Roman"/>
                <a:ea typeface="Times New Roman"/>
              </a:rPr>
              <a:t>La empresa principal es </a:t>
            </a:r>
            <a:r>
              <a:rPr b="0" lang="es-CL" sz="2400" spc="-1" strike="noStrike" u="sng">
                <a:solidFill>
                  <a:srgbClr val="ffffff"/>
                </a:solidFill>
                <a:uFillTx/>
                <a:latin typeface="Times New Roman"/>
                <a:ea typeface="Times New Roman"/>
              </a:rPr>
              <a:t>solidariamente</a:t>
            </a:r>
            <a:r>
              <a:rPr b="0" lang="es-CL" sz="2400" spc="-1" strike="noStrike">
                <a:solidFill>
                  <a:srgbClr val="ffffff"/>
                </a:solidFill>
                <a:latin typeface="Times New Roman"/>
                <a:ea typeface="Times New Roman"/>
              </a:rPr>
              <a:t> responsable de las </a:t>
            </a:r>
            <a:r>
              <a:rPr b="0" lang="es-CL" sz="2400" spc="-1" strike="noStrike" u="sng">
                <a:solidFill>
                  <a:srgbClr val="ffffff"/>
                </a:solidFill>
                <a:uFillTx/>
                <a:latin typeface="Times New Roman"/>
                <a:ea typeface="Times New Roman"/>
              </a:rPr>
              <a:t>obligaciones laborales y provisionales</a:t>
            </a:r>
            <a:r>
              <a:rPr b="0" lang="es-CL" sz="2400" spc="-1" strike="noStrike">
                <a:solidFill>
                  <a:srgbClr val="ffffff"/>
                </a:solidFill>
                <a:latin typeface="Times New Roman"/>
                <a:ea typeface="Times New Roman"/>
              </a:rPr>
              <a:t>, incluidas las </a:t>
            </a:r>
            <a:r>
              <a:rPr b="0" lang="es-CL" sz="2400" spc="-1" strike="noStrike" u="sng">
                <a:solidFill>
                  <a:srgbClr val="ffffff"/>
                </a:solidFill>
                <a:uFillTx/>
                <a:latin typeface="Times New Roman"/>
                <a:ea typeface="Times New Roman"/>
              </a:rPr>
              <a:t>indemnizaciones legales por término de relación laboral,</a:t>
            </a:r>
            <a:r>
              <a:rPr b="0" lang="es-CL" sz="2400" spc="-1" strike="noStrike">
                <a:solidFill>
                  <a:srgbClr val="ffffff"/>
                </a:solidFill>
                <a:latin typeface="Times New Roman"/>
                <a:ea typeface="Times New Roman"/>
              </a:rPr>
              <a:t> que tengan los contratistas a favor de los trabajadores, por el tiempo durante el cual los trabajadores prestaron servicios en su obra, empresa o faena responsabilidad que pasa a ser </a:t>
            </a:r>
            <a:r>
              <a:rPr b="0" lang="es-CL" sz="2400" spc="-1" strike="noStrike" u="sng">
                <a:solidFill>
                  <a:srgbClr val="ffffff"/>
                </a:solidFill>
                <a:uFillTx/>
                <a:latin typeface="Times New Roman"/>
                <a:ea typeface="Times New Roman"/>
              </a:rPr>
              <a:t>subsidiaria</a:t>
            </a:r>
            <a:r>
              <a:rPr b="0" lang="es-CL" sz="2400" spc="-1" strike="noStrike">
                <a:solidFill>
                  <a:srgbClr val="ffffff"/>
                </a:solidFill>
                <a:latin typeface="Times New Roman"/>
                <a:ea typeface="Times New Roman"/>
              </a:rPr>
              <a:t> si la empresa principal ejerce conforme a la ley los derechos que en su favor contempla la ley para controlar eficazmente el cumplimiento de tales obligaciones</a:t>
            </a:r>
            <a:r>
              <a:rPr b="0" lang="es-ES" sz="2400" spc="-1" strike="noStrike">
                <a:solidFill>
                  <a:srgbClr val="ffffff"/>
                </a:solidFill>
                <a:latin typeface="Times New Roman"/>
              </a:rPr>
              <a:t> </a:t>
            </a:r>
            <a:r>
              <a:rPr b="0" lang="es-CL" sz="2400" spc="-1" strike="noStrike">
                <a:solidFill>
                  <a:srgbClr val="ffffff"/>
                </a:solidFill>
                <a:latin typeface="Times New Roman"/>
              </a:rPr>
              <a:t>(artículos 183-B y 183-D).</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6E9E91D-8A02-4D45-B91E-6D4E189E4C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 </a:t>
            </a:r>
            <a:r>
              <a:rPr b="1" lang="en-US" sz="2800" spc="-1" strike="noStrike">
                <a:solidFill>
                  <a:srgbClr val="ffff00"/>
                </a:solidFill>
                <a:latin typeface="Times New Roman"/>
                <a:ea typeface="Arial"/>
              </a:rPr>
              <a:t>Responsabilidad de la empresa principal </a:t>
            </a:r>
            <a:r>
              <a:rPr b="0" lang="en-US" sz="3200" spc="-1" strike="noStrike">
                <a:solidFill>
                  <a:srgbClr val="ffff00"/>
                </a:solidFill>
                <a:latin typeface="Times New Roman"/>
                <a:ea typeface="Times New Roman"/>
              </a:rPr>
              <a:t>…</a:t>
            </a: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0" name="PlaceHolder 2"/>
          <p:cNvSpPr>
            <a:spLocks noGrp="1"/>
          </p:cNvSpPr>
          <p:nvPr>
            <p:ph/>
          </p:nvPr>
        </p:nvSpPr>
        <p:spPr>
          <a:xfrm>
            <a:off x="755640" y="1557000"/>
            <a:ext cx="7772400" cy="4876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sí, la empresa principal “será solidariamente responsable de las obligaciones laborales y previsionales de dar que afectan los contratistas a favor de los trabajadores de éstos, incluidas las eventuales indemnizaciones legales que correspondan por término de la relación laboral”. Esta responsabilidad está acotada al tiempo en que se prestaron los servicios en régimen de subcontratación.</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o quiere decir que el trabajador, al entablar la demanda en contra de su empleador directo, podrá hacerlo indistintamente en contra de todos aquellos que puedan responder de sus derechos, es decir también la empresa principal.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ero, la empresa principal tiene </a:t>
            </a:r>
            <a:r>
              <a:rPr b="1" lang="en-US" sz="2000" spc="-1" strike="noStrike">
                <a:solidFill>
                  <a:srgbClr val="ffffff"/>
                </a:solidFill>
                <a:latin typeface="Times New Roman"/>
                <a:ea typeface="Arial"/>
              </a:rPr>
              <a:t>derecho a ser informada,</a:t>
            </a:r>
            <a:r>
              <a:rPr b="0" lang="en-US" sz="2000" spc="-1" strike="noStrike">
                <a:solidFill>
                  <a:srgbClr val="ffffff"/>
                </a:solidFill>
                <a:latin typeface="Times New Roman"/>
                <a:ea typeface="Arial"/>
              </a:rPr>
              <a:t> por los contratistas y subcontratistas, sobre el cumplimiento de las obligaciones laborales y previsionales que les correspondan con sus trabajadores. </a:t>
            </a: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E066133-76C7-4B92-A799-A335C1CD75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Responsabilidad de la empresa principal …</a:t>
            </a:r>
            <a:endParaRPr b="0" lang="en-US" sz="3200" spc="-1" strike="noStrike">
              <a:solidFill>
                <a:srgbClr val="ffff00"/>
              </a:solidFill>
              <a:latin typeface="Times New Roman"/>
            </a:endParaRPr>
          </a:p>
        </p:txBody>
      </p:sp>
      <p:sp>
        <p:nvSpPr>
          <p:cNvPr id="146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e cumplimiento será </a:t>
            </a:r>
            <a:r>
              <a:rPr b="1" lang="en-US" sz="2000" spc="-1" strike="noStrike">
                <a:solidFill>
                  <a:srgbClr val="ffffff"/>
                </a:solidFill>
                <a:latin typeface="Times New Roman"/>
                <a:ea typeface="Arial"/>
              </a:rPr>
              <a:t>acreditado por certificados</a:t>
            </a:r>
            <a:r>
              <a:rPr b="0" lang="en-US" sz="2000" spc="-1" strike="noStrike">
                <a:solidFill>
                  <a:srgbClr val="ffffff"/>
                </a:solidFill>
                <a:latin typeface="Times New Roman"/>
                <a:ea typeface="Arial"/>
              </a:rPr>
              <a:t> que emitan las Inspecciones del Trabajo respectivas o por medios idóneos que garanticen la veracidad de dichos montos y estado de cumplimiento. Si no lo acreditan, la empresa principal puede retener los montos pendientes. Para regular este sistema de información: Reglament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ntonces, si la empresa principal se informa del cumplimiento y retiene los montos es responsable sólo SUBSIDIARIAMENTE, esto es, que si bien el trabajador podrá reclamar su cumplimiento tanto a su empleador directo como a la empresa principal, esta última sólo responderá si aquella no lo hace. (En la responsabilidad SOLIDARIA el trabajador puede reclamar el cumplimiento total de la obligación simultánea e indistintamente a todos los obligados).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ste mismo derecho tienen también los contratistas respecto de sus subcontratista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BCA8D10-28A8-4166-8472-7321E0F095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Responsabilidad </a:t>
            </a:r>
            <a:br>
              <a:rPr sz="2800"/>
            </a:br>
            <a:r>
              <a:rPr b="1" lang="es-CL" sz="2800" spc="-1" strike="noStrike">
                <a:solidFill>
                  <a:srgbClr val="ffff00"/>
                </a:solidFill>
                <a:latin typeface="Times New Roman"/>
              </a:rPr>
              <a:t>de la empresa principal</a:t>
            </a:r>
            <a:endParaRPr b="0" lang="en-US" sz="2800" spc="-1" strike="noStrike">
              <a:solidFill>
                <a:srgbClr val="ffff00"/>
              </a:solidFill>
              <a:latin typeface="Times New Roman"/>
            </a:endParaRPr>
          </a:p>
        </p:txBody>
      </p:sp>
      <p:sp>
        <p:nvSpPr>
          <p:cNvPr id="14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Alcance de las obligaciones laborales y previsionales de que es responsable (Art. 183-B):</a:t>
            </a:r>
            <a:endParaRPr b="0" lang="en-US" sz="24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Obligaciones de  </a:t>
            </a:r>
            <a:r>
              <a:rPr b="0" lang="es-CL" sz="2000" spc="-1" strike="noStrike" u="sng">
                <a:solidFill>
                  <a:srgbClr val="ffffff"/>
                </a:solidFill>
                <a:uFillTx/>
                <a:latin typeface="Times New Roman"/>
                <a:ea typeface="Times New Roman"/>
              </a:rPr>
              <a:t>dar </a:t>
            </a:r>
            <a:r>
              <a:rPr b="0" lang="es-CL" sz="2000" spc="-1" strike="noStrike">
                <a:solidFill>
                  <a:srgbClr val="ffffff"/>
                </a:solidFill>
                <a:latin typeface="Times New Roman"/>
                <a:ea typeface="Times New Roman"/>
              </a:rPr>
              <a:t>o pecuniarias. Exclusión de las obligaciones de “hacer”.</a:t>
            </a:r>
            <a:endParaRPr b="0" lang="en-US" sz="20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Responsabilidad referida a: </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1. Obligaciones labor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2. Obligaciones prevision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3. Indemnizaciones legales que correspondan por término de la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relación laboral.</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D1811AF-1FE5-40E9-8EF3-F2C9F29E5D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Responsabilidad de la empresa principal </a:t>
            </a:r>
            <a:br>
              <a:rPr sz="2800"/>
            </a:b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6" name="PlaceHolder 2"/>
          <p:cNvSpPr>
            <a:spLocks noGrp="1"/>
          </p:cNvSpPr>
          <p:nvPr>
            <p:ph/>
          </p:nvPr>
        </p:nvSpPr>
        <p:spPr>
          <a:xfrm>
            <a:off x="685800" y="2057040"/>
            <a:ext cx="7772400" cy="43434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ser informado</a:t>
            </a:r>
            <a:r>
              <a:rPr b="0" lang="es-CL" sz="2400" spc="-1" strike="noStrike">
                <a:solidFill>
                  <a:srgbClr val="ffffff"/>
                </a:solidFill>
                <a:latin typeface="Times New Roman"/>
              </a:rPr>
              <a:t> por el contratista acerca del monto y estado de cumplimiento de las obligacion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Forma de acreditar el cumplimiento: Certificado de la Inspección del Trabajo o Medios idóneos que garanticen la veracidad del monto y estado de cumplimiento.</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retener</a:t>
            </a:r>
            <a:r>
              <a:rPr b="0" lang="es-CL" sz="2400" spc="-1" strike="noStrike">
                <a:solidFill>
                  <a:srgbClr val="ffffff"/>
                </a:solidFill>
                <a:latin typeface="Times New Roman"/>
              </a:rPr>
              <a:t> las obligaciones que tenga con el contratista o subcontratist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Pagar por subrogación</a:t>
            </a:r>
            <a:r>
              <a:rPr b="0" lang="es-CL" sz="2400" spc="-1" strike="noStrike">
                <a:solidFill>
                  <a:srgbClr val="ffffff"/>
                </a:solidFill>
                <a:latin typeface="Times New Roman"/>
              </a:rPr>
              <a:t> al trabajador o institución previsional acreedor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Esta responsabilidad está acotada al tiempo en que se prestaron los servicios en régimen de subcontratación.</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La responsabilidad de la empresa principal debe hacerse efectiva en sede judicial.</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2F961F6-833B-429E-9DB5-41B9E5A511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s-ES_tradnl" sz="4400" spc="-1" strike="noStrike">
                <a:solidFill>
                  <a:srgbClr val="000000"/>
                </a:solidFill>
                <a:latin typeface="Arial"/>
              </a:rPr>
              <a:t> </a:t>
            </a:r>
            <a:r>
              <a:rPr b="1" lang="es-ES_tradnl" sz="4400" spc="-1" strike="noStrike">
                <a:solidFill>
                  <a:srgbClr val="ffffff"/>
                </a:solidFill>
                <a:latin typeface="Times New Roman"/>
              </a:rPr>
              <a:t>TRABAJO EN EMPRESAS DE SERVICIOS TRANSITORIOS</a:t>
            </a:r>
            <a:r>
              <a:rPr b="1" lang="es-ES_tradnl" sz="3600" spc="-1" strike="noStrike">
                <a:solidFill>
                  <a:srgbClr val="ffffff"/>
                </a:solidFill>
                <a:latin typeface="Times New Roman"/>
              </a:rPr>
              <a:t> </a:t>
            </a:r>
            <a:br>
              <a:rPr sz="3600"/>
            </a:br>
            <a:r>
              <a:rPr b="1" lang="es-ES_tradnl" sz="3600" spc="-1" strike="noStrike">
                <a:solidFill>
                  <a:srgbClr val="ffffff"/>
                </a:solidFill>
                <a:latin typeface="Times New Roman"/>
              </a:rPr>
              <a:t>( Suministro de trabajadores)</a:t>
            </a:r>
            <a:br>
              <a:rPr sz="3600"/>
            </a:br>
            <a:br>
              <a:rPr sz="3600"/>
            </a:br>
            <a:br>
              <a:rPr sz="2400"/>
            </a:br>
            <a:endParaRPr b="0" lang="en-US" sz="3600" spc="-1" strike="noStrike">
              <a:solidFill>
                <a:srgbClr val="ffff00"/>
              </a:solidFill>
              <a:latin typeface="Times New Roman"/>
            </a:endParaRPr>
          </a:p>
        </p:txBody>
      </p:sp>
      <p:sp>
        <p:nvSpPr>
          <p:cNvPr id="3" name="PlaceHolder 2"/>
          <p:cNvSpPr>
            <a:spLocks noGrp="1"/>
          </p:cNvSpPr>
          <p:nvPr>
            <p:ph type="sldNum" idx="3"/>
          </p:nvPr>
        </p:nvSpPr>
        <p:spPr/>
        <p:txBody>
          <a:bodyPr/>
          <a:p>
            <a:fld id="{93C54D5E-98E6-46BF-9DD3-AFD7F3567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Trabajo en E.S.T.</a:t>
            </a:r>
            <a:endParaRPr b="0" lang="en-US" sz="4400" spc="-1" strike="noStrike">
              <a:solidFill>
                <a:srgbClr val="ffff00"/>
              </a:solidFill>
              <a:latin typeface="Times New Roman"/>
            </a:endParaRPr>
          </a:p>
        </p:txBody>
      </p:sp>
      <p:pic>
        <p:nvPicPr>
          <p:cNvPr id="1469" name="Picture 4" descr=""/>
          <p:cNvPicPr/>
          <p:nvPr/>
        </p:nvPicPr>
        <p:blipFill>
          <a:blip r:embed="rId1"/>
          <a:stretch/>
        </p:blipFill>
        <p:spPr>
          <a:xfrm>
            <a:off x="1981080" y="1752480"/>
            <a:ext cx="5183280" cy="4572000"/>
          </a:xfrm>
          <a:prstGeom prst="rect">
            <a:avLst/>
          </a:prstGeom>
          <a:ln w="0">
            <a:noFill/>
          </a:ln>
        </p:spPr>
      </p:pic>
      <p:sp>
        <p:nvSpPr>
          <p:cNvPr id="3" name="PlaceHolder 2"/>
          <p:cNvSpPr>
            <a:spLocks noGrp="1"/>
          </p:cNvSpPr>
          <p:nvPr>
            <p:ph type="sldNum" idx="3"/>
          </p:nvPr>
        </p:nvSpPr>
        <p:spPr/>
        <p:txBody>
          <a:bodyPr/>
          <a:p>
            <a:fld id="{233998CF-DF08-4A2E-8337-4E3883CEA7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220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Ley Nº 20.123</a:t>
            </a:r>
            <a:r>
              <a:rPr b="1" lang="es-ES_tradnl" sz="4800" spc="-1" strike="noStrike">
                <a:solidFill>
                  <a:srgbClr val="ffff00"/>
                </a:solidFill>
                <a:latin typeface="Arial"/>
              </a:rPr>
              <a:t> </a:t>
            </a:r>
            <a:endParaRPr b="0" lang="en-US" sz="4800" spc="-1" strike="noStrike">
              <a:solidFill>
                <a:srgbClr val="ffff00"/>
              </a:solidFill>
              <a:latin typeface="Times New Roman"/>
            </a:endParaRPr>
          </a:p>
        </p:txBody>
      </p:sp>
      <p:sp>
        <p:nvSpPr>
          <p:cNvPr id="101" name="PlaceHolder 2"/>
          <p:cNvSpPr>
            <a:spLocks noGrp="1"/>
          </p:cNvSpPr>
          <p:nvPr>
            <p:ph type="subTitle"/>
          </p:nvPr>
        </p:nvSpPr>
        <p:spPr>
          <a:xfrm>
            <a:off x="1371600" y="2742840"/>
            <a:ext cx="6400800" cy="2895480"/>
          </a:xfrm>
          <a:prstGeom prst="rect">
            <a:avLst/>
          </a:prstGeom>
          <a:noFill/>
          <a:ln w="0">
            <a:noFill/>
          </a:ln>
        </p:spPr>
        <p:txBody>
          <a:bodyPr lIns="92160" rIns="92160" tIns="46080" bIns="46080" anchor="t">
            <a:noAutofit/>
          </a:bodyPr>
          <a:p>
            <a:pPr>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iario Oficial 16.10.2006, entrada en vigencia 14.01.2007. Agrega nuevo Título VII al Libro I del Código del Trabajo </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régimen de subcontratación.</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Empresas de Servicios Transitorios</a:t>
            </a:r>
            <a:endParaRPr b="0" lang="en-US" sz="2800" spc="-1" strike="noStrike">
              <a:solidFill>
                <a:srgbClr val="ffffff"/>
              </a:solidFill>
              <a:latin typeface="Times New Roman"/>
            </a:endParaRPr>
          </a:p>
        </p:txBody>
      </p:sp>
      <p:sp>
        <p:nvSpPr>
          <p:cNvPr id="4" name="PlaceHolder 3"/>
          <p:cNvSpPr>
            <a:spLocks noGrp="1"/>
          </p:cNvSpPr>
          <p:nvPr>
            <p:ph type="sldNum" idx="6"/>
          </p:nvPr>
        </p:nvSpPr>
        <p:spPr/>
        <p:txBody>
          <a:bodyPr/>
          <a:p>
            <a:fld id="{B66373D2-58EB-44EB-B0BC-41BAF13EFF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Régimen jurídico: artículos 183-F a 183-AE Código del Trabajo</a:t>
            </a:r>
            <a:endParaRPr b="0" lang="en-US" sz="3600" spc="-1" strike="noStrike">
              <a:solidFill>
                <a:srgbClr val="ffff00"/>
              </a:solidFill>
              <a:latin typeface="Times New Roman"/>
            </a:endParaRPr>
          </a:p>
        </p:txBody>
      </p:sp>
      <p:sp>
        <p:nvSpPr>
          <p:cNvPr id="1471" name="PlaceHolder 2"/>
          <p:cNvSpPr>
            <a:spLocks noGrp="1"/>
          </p:cNvSpPr>
          <p:nvPr>
            <p:ph/>
          </p:nvPr>
        </p:nvSpPr>
        <p:spPr>
          <a:xfrm>
            <a:off x="685800" y="1641240"/>
            <a:ext cx="7772400" cy="4454280"/>
          </a:xfrm>
          <a:prstGeom prst="rect">
            <a:avLst/>
          </a:prstGeom>
          <a:noFill/>
          <a:ln w="0">
            <a:noFill/>
          </a:ln>
        </p:spPr>
        <p:txBody>
          <a:bodyPr anchor="t">
            <a:normAutofit fontScale="94000"/>
          </a:bodyPr>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Define qué son las empresas de servicios transitorios.</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fine q</a:t>
            </a:r>
            <a:r>
              <a:rPr b="1" lang="en-US" sz="2800" spc="-1" strike="noStrike">
                <a:solidFill>
                  <a:srgbClr val="ffffff"/>
                </a:solidFill>
                <a:latin typeface="Times New Roman"/>
                <a:ea typeface="Arial"/>
              </a:rPr>
              <a:t>ué es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cuándo se puede celebrar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eñala la d</a:t>
            </a:r>
            <a:r>
              <a:rPr b="1" lang="en-US" sz="2800" spc="-1" strike="noStrike">
                <a:solidFill>
                  <a:srgbClr val="ffffff"/>
                </a:solidFill>
                <a:latin typeface="Times New Roman"/>
                <a:ea typeface="Arial"/>
              </a:rPr>
              <a:t>uración de los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las particularidades del contrato de trabajo de servicios transitorios.</a:t>
            </a:r>
            <a:endParaRPr b="0" lang="en-US" sz="2800" spc="-1" strike="noStrike">
              <a:solidFill>
                <a:srgbClr val="ffffff"/>
              </a:solidFill>
              <a:latin typeface="Times New Roman"/>
            </a:endParaRPr>
          </a:p>
          <a:p>
            <a:pPr marL="501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3CDF804-E119-498E-AAC3-6C0B4CD384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ea typeface="Arial"/>
              </a:rPr>
              <a:t>1. Empresas de Servicios Transitorios (E.S.T.)</a:t>
            </a:r>
            <a:endParaRPr b="0" lang="en-US" sz="3600" spc="-1" strike="noStrike">
              <a:solidFill>
                <a:srgbClr val="ffff00"/>
              </a:solidFill>
              <a:latin typeface="Times New Roman"/>
            </a:endParaRPr>
          </a:p>
        </p:txBody>
      </p:sp>
      <p:sp>
        <p:nvSpPr>
          <p:cNvPr id="147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Persona jurídica que tenga por actividad exclusiva (“objeto social exclusivo”) poner trabajadores (A) a disposición, para cumplir tareas transitorias u ocasionales.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Que no sea filial, esté relacionada ni tenga intereses con la empresa usuaria (C) que contrata sus servic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Inscrita en un registro público especial que lleva la Dirección del Trabajo.</a:t>
            </a:r>
            <a:endParaRPr b="0" lang="en-US" sz="24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Garantía permanente constituida para responder (preferentemente) por las obligaciones con sus trabajadores.</a:t>
            </a:r>
            <a:r>
              <a:rPr b="0" lang="en-US" sz="2800" spc="-1" strike="noStrike">
                <a:solidFill>
                  <a:srgbClr val="ffffff"/>
                </a:solidFill>
                <a:latin typeface="Times New Roman"/>
              </a:rPr>
              <a:t> </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B80F151-9BA3-4F1D-8593-EBDD2F3C5F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2. Contrato de puesta a disposición de trabajadores.</a:t>
            </a:r>
            <a:endParaRPr b="0" lang="en-US" sz="3200" spc="-1" strike="noStrike">
              <a:solidFill>
                <a:srgbClr val="ffff00"/>
              </a:solidFill>
              <a:latin typeface="Times New Roman"/>
            </a:endParaRPr>
          </a:p>
        </p:txBody>
      </p:sp>
      <p:sp>
        <p:nvSpPr>
          <p:cNvPr id="1475"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ffffff"/>
                </a:solidFill>
                <a:latin typeface="Times New Roman"/>
                <a:ea typeface="Arial"/>
              </a:rPr>
              <a:t>El contrato entre EST (B), y empresa usuaria (C), se denomina “contrato de puesta a disposición de trabajadores”. </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En este contrato tiene que explicitarse lo siguiente: </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motivo (la </a:t>
            </a:r>
            <a:r>
              <a:rPr b="1" lang="en-US" sz="2400" spc="-1" strike="noStrike">
                <a:solidFill>
                  <a:srgbClr val="ffffff"/>
                </a:solidFill>
                <a:latin typeface="Times New Roman"/>
                <a:ea typeface="Arial"/>
              </a:rPr>
              <a:t>causal</a:t>
            </a:r>
            <a:r>
              <a:rPr b="0" lang="en-US" sz="2400" spc="-1" strike="noStrike">
                <a:solidFill>
                  <a:srgbClr val="ffffff"/>
                </a:solidFill>
                <a:latin typeface="Times New Roman"/>
                <a:ea typeface="Arial"/>
              </a:rPr>
              <a:t>) por el cual (C ) requiere esos trabajadores.</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os </a:t>
            </a:r>
            <a:r>
              <a:rPr b="1" lang="en-US" sz="2400" spc="-1" strike="noStrike">
                <a:solidFill>
                  <a:srgbClr val="ffffff"/>
                </a:solidFill>
                <a:latin typeface="Times New Roman"/>
                <a:ea typeface="Arial"/>
              </a:rPr>
              <a:t>puestos de trabajo</a:t>
            </a:r>
            <a:r>
              <a:rPr b="0" lang="en-US" sz="2400" spc="-1" strike="noStrike">
                <a:solidFill>
                  <a:srgbClr val="ffffff"/>
                </a:solidFill>
                <a:latin typeface="Times New Roman"/>
                <a:ea typeface="Arial"/>
              </a:rPr>
              <a:t> que ocuparán.</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a </a:t>
            </a:r>
            <a:r>
              <a:rPr b="1" lang="en-US" sz="2400" spc="-1" strike="noStrike">
                <a:solidFill>
                  <a:srgbClr val="ffffff"/>
                </a:solidFill>
                <a:latin typeface="Times New Roman"/>
                <a:ea typeface="Arial"/>
              </a:rPr>
              <a:t>duración de los servicios</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a:t>
            </a:r>
            <a:r>
              <a:rPr b="1" lang="en-US" sz="2400" spc="-1" strike="noStrike">
                <a:solidFill>
                  <a:srgbClr val="ffffff"/>
                </a:solidFill>
                <a:latin typeface="Times New Roman"/>
                <a:ea typeface="Arial"/>
              </a:rPr>
              <a:t>precio convenido</a:t>
            </a:r>
            <a:r>
              <a:rPr b="0" lang="en-US" sz="2400" spc="-1" strike="noStrike">
                <a:solidFill>
                  <a:srgbClr val="ffffff"/>
                </a:solidFill>
                <a:latin typeface="Times New Roman"/>
                <a:ea typeface="Arial"/>
              </a:rPr>
              <a:t> entre (B) y (C) por esta provisión de trabajadores (A) y otras condiciones, tales como el transporte, por ejemplo.</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D4D453F-5782-4BDB-95AD-80277656B0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3. 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7"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 transitoriedad como rasgo distintivo:</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a.- Para suplir ausencias de trabajadores de (C) por licencias médicas, descansos de maternidad o feriad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b.- Para eventos extraordinarios (tales como organización de congresos, ferias, exposicione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 Para proyectos nuevos y específicos de (C), (construcción de nuevas instalaciones, ampliación de las existentes o expansión a nuevos mercado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D0489EC-7F16-4897-9F81-E577C53ACA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9" name="PlaceHolder 2"/>
          <p:cNvSpPr>
            <a:spLocks noGrp="1"/>
          </p:cNvSpPr>
          <p:nvPr>
            <p:ph/>
          </p:nvPr>
        </p:nvSpPr>
        <p:spPr>
          <a:xfrm>
            <a:off x="685800" y="1676520"/>
            <a:ext cx="7772400" cy="4419360"/>
          </a:xfrm>
          <a:prstGeom prst="rect">
            <a:avLst/>
          </a:prstGeom>
          <a:noFill/>
          <a:ln w="0">
            <a:noFill/>
          </a:ln>
        </p:spPr>
        <p:txBody>
          <a:bodyPr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d.- Para período de inicio de actividades en empresas nuevas.</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e.- Para aumentos ocasionales, periódicos o no, o extraordinarios de actividad en una determinada sección, faena o establecimiento de la empresa usuaria  (C). </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f.- Para trabajos urgentes, precisos e impostergables que requieran una ejecución inmediata (reparaciones en las instalaciones y servicios de (C).</a:t>
            </a:r>
            <a:br>
              <a:rPr sz="2800"/>
            </a:b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95FBB72-585A-4D2E-9699-9B0B726A73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N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81"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tareas en que se pueda representar a la usuaria (tales como los gerentes, subgerentes, agentes o apoderados). </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reemplazar trabajadores en huelga legal declarada en proceso de negociación colectiva.</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ara ceder trabajadores a otras EST.</a:t>
            </a:r>
            <a:r>
              <a:rPr b="0" lang="en-US" sz="3200" spc="-1" strike="noStrike">
                <a:solidFill>
                  <a:srgbClr val="ffffff"/>
                </a:solidFill>
                <a:latin typeface="Times New Roman"/>
                <a:ea typeface="Arial"/>
              </a:rPr>
              <a:t> </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66AB00A-5FB1-4A03-91F6-1BE4158FC0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4. Duración</a:t>
            </a:r>
            <a:br>
              <a:rPr sz="3200"/>
            </a:br>
            <a:r>
              <a:rPr b="1" lang="en-US" sz="3200" spc="-1" strike="noStrike">
                <a:solidFill>
                  <a:srgbClr val="ffffff"/>
                </a:solidFill>
                <a:latin typeface="Times New Roman"/>
                <a:ea typeface="Arial"/>
              </a:rPr>
              <a:t>Contrato de puesta a disposición de trabajadores.</a:t>
            </a:r>
            <a:endParaRPr b="0" lang="en-US" sz="3200" spc="-1" strike="noStrike">
              <a:solidFill>
                <a:srgbClr val="ffff00"/>
              </a:solidFill>
              <a:latin typeface="Times New Roman"/>
            </a:endParaRPr>
          </a:p>
        </p:txBody>
      </p:sp>
      <p:sp>
        <p:nvSpPr>
          <p:cNvPr id="1483"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Principio: </a:t>
            </a:r>
            <a:r>
              <a:rPr b="0" lang="en-US" sz="3200" spc="-1" strike="noStrike">
                <a:solidFill>
                  <a:srgbClr val="ffffff"/>
                </a:solidFill>
                <a:latin typeface="Times New Roman"/>
                <a:ea typeface="Arial"/>
              </a:rPr>
              <a:t>Se trata de servicios transitorios y no permanentes o de duración indefinida.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Estos plazos varían según se trate de las  distintas circunstancias descritas antes, pero en el caso extremo, el máximo no puede durar más de 180 días.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863E05D-360E-4663-BCC6-32C69E05EA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5"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suplen ausencias de trabajadores de la empresa usuaria (caso a), el plazo del contrato durará lo que dure la ausencia del trabajador que se reemplaza.</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eventos extraordinarios, caso b-, y aumentos ocasionales o extraordinarios de las actividades (caso e), el plazo del contrato no puede ser mayor de 90 días.</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proyectos nuevos (caso c), o para inicio de actividades en empresas nuevas (caso d),  el plazo será de 180 días, no siendo ambos casos susceptibles de renovación.</a:t>
            </a:r>
            <a:endParaRPr b="0" lang="en-US" sz="2400" spc="-1" strike="noStrike">
              <a:solidFill>
                <a:srgbClr val="ffffff"/>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525BFCB-8608-4B6A-8CBF-4B6E76985C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7" name="PlaceHolder 2"/>
          <p:cNvSpPr>
            <a:spLocks noGrp="1"/>
          </p:cNvSpPr>
          <p:nvPr>
            <p:ph/>
          </p:nvPr>
        </p:nvSpPr>
        <p:spPr>
          <a:xfrm>
            <a:off x="685800" y="1904760"/>
            <a:ext cx="7772400" cy="4190760"/>
          </a:xfrm>
          <a:prstGeom prst="rect">
            <a:avLst/>
          </a:prstGeom>
          <a:noFill/>
          <a:ln w="0">
            <a:noFill/>
          </a:ln>
        </p:spPr>
        <p:txBody>
          <a:bodyPr anchor="t">
            <a:normAutofit fontScale="96000"/>
          </a:bodyPr>
          <a:p>
            <a:pPr marL="585000" indent="-58500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i nada se dice y el trabajador continúa prestando servicios después de expirado el plazo de su contrato de trabajo de servicios transitorios, éste se transforma en uno de duración indefinida, pasando la usuaria a ser su empleador.</a:t>
            </a:r>
            <a:endParaRPr b="0" lang="en-US" sz="2400" spc="-1" strike="noStrike">
              <a:solidFill>
                <a:srgbClr val="ffffff"/>
              </a:solidFill>
              <a:latin typeface="Times New Roman"/>
            </a:endParaRPr>
          </a:p>
          <a:p>
            <a:pPr marL="585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85000" indent="-58500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atándose del fuero maternal, las trabajadoras contratadas por una empresa de servicios transitorios gozan de inamovilidad, cesando su fuero, de pleno de derecho, al término de su puesta a disposición de la empresa usuari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850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E058111-9D2B-47B9-B6B0-15C38A295B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5. 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89"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ffffff"/>
                </a:solidFill>
                <a:latin typeface="Times New Roman"/>
                <a:ea typeface="Arial"/>
              </a:rPr>
              <a:t>Definición del contrato</a:t>
            </a:r>
            <a:r>
              <a:rPr b="0" lang="es-ES" sz="2800" spc="-1" strike="noStrike">
                <a:solidFill>
                  <a:srgbClr val="ffffff"/>
                </a:solidFill>
                <a:latin typeface="Times New Roman"/>
                <a:ea typeface="Arial"/>
              </a:rPr>
              <a:t>: El contrato de trabajo de servicios transitorios es una convención en virtud de la cual un trabajador (A) y una EST (B) se obligan recíprocament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Arial"/>
              </a:rPr>
              <a:t>a ejecutar labores específicas para una usuaria (C) de dicha empresa y la EST (B) a pagar la remuneración determinada por el tiempo servido.</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9C66205-03B2-477C-B71B-7C18081E29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Times New Roman"/>
              </a:rPr>
              <a:t>Contenidos y objetivos de la </a:t>
            </a:r>
            <a:br>
              <a:rPr sz="3600"/>
            </a:br>
            <a:r>
              <a:rPr b="1" lang="es-CL" sz="3600" spc="-1" strike="noStrike">
                <a:solidFill>
                  <a:srgbClr val="ffff00"/>
                </a:solidFill>
                <a:latin typeface="Times New Roman"/>
              </a:rPr>
              <a:t>Ley N° 20.123</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2400" spc="-1" strike="noStrike">
                <a:solidFill>
                  <a:srgbClr val="ffffff"/>
                </a:solidFill>
                <a:latin typeface="Times New Roman"/>
              </a:rPr>
              <a:t>Delimitar  jurídicamente  las  formas  de  tercerización o </a:t>
            </a:r>
            <a:r>
              <a:rPr b="0" lang="es-CL" sz="2400" spc="-1" strike="noStrike">
                <a:solidFill>
                  <a:srgbClr val="ffffff"/>
                </a:solidFill>
                <a:latin typeface="Times New Roman"/>
              </a:rPr>
              <a:t>	</a:t>
            </a:r>
            <a:r>
              <a:rPr b="0" lang="es-CL" sz="2400" spc="-1" strike="noStrike">
                <a:solidFill>
                  <a:srgbClr val="ffffff"/>
                </a:solidFill>
                <a:latin typeface="Times New Roman"/>
              </a:rPr>
              <a:t>externalización legales de las ilegales.  </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el sistema de responsabilidad asociado a las formas de tercerización legale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ancionar la simulación de contratación de trabajadores a través de tercero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la responsabilidad de la empresa principal/usuaria en materias de higiene y seguridad en el trabajo.</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6650CCD-5848-4541-8058-BDDDBEF245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Escrituración del Contrato:</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Como todo contrato de trabajo debe celebrarse por escrito y dentro de los 5 días siguientes a la incorporación del trabajador. Una copia del contrato de trabajo deberá ser enviada a la empresa usuaria (C) a la que el trabajador prestará servicios.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FDA7747-7F2E-46B2-AA76-AAEA568402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Servicios Transitorios</a:t>
            </a:r>
            <a:endParaRPr b="0" lang="en-US" sz="2800" spc="-1" strike="noStrike">
              <a:solidFill>
                <a:srgbClr val="ffff00"/>
              </a:solidFill>
              <a:latin typeface="Times New Roman"/>
            </a:endParaRPr>
          </a:p>
        </p:txBody>
      </p:sp>
      <p:sp>
        <p:nvSpPr>
          <p:cNvPr id="1493" name="PlaceHolder 2"/>
          <p:cNvSpPr>
            <a:spLocks noGrp="1"/>
          </p:cNvSpPr>
          <p:nvPr>
            <p:ph/>
          </p:nvPr>
        </p:nvSpPr>
        <p:spPr>
          <a:xfrm>
            <a:off x="685800" y="2549160"/>
            <a:ext cx="7772400" cy="35463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a:t>
            </a:r>
            <a:r>
              <a:rPr b="0" lang="en-US" sz="3200" spc="-1" strike="noStrike">
                <a:solidFill>
                  <a:srgbClr val="ffffff"/>
                </a:solidFill>
                <a:latin typeface="Times New Roman"/>
                <a:ea typeface="Arial"/>
              </a:rPr>
              <a:t>Se trata de una relación laboral especial. De hecho las responsabilidades y obligaciones se dividen entre la EST (B) y la empresa usuaria (C).</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6183980-A3FB-4C94-AFB0-C99C749A8C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76212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3200" spc="-1" strike="noStrike">
                <a:solidFill>
                  <a:srgbClr val="ffffff"/>
                </a:solidFill>
                <a:latin typeface="Times New Roman"/>
                <a:ea typeface="Arial"/>
              </a:rPr>
              <a:t>La Empresa Usuaria (C):</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Organiza y dirige el trabajo de servicios transitor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ontrola la asistencia del trabajador.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subsidiariamente </a:t>
            </a:r>
            <a:r>
              <a:rPr b="0" lang="en-US" sz="2400" spc="-1" strike="noStrike">
                <a:solidFill>
                  <a:srgbClr val="ffffff"/>
                </a:solidFill>
                <a:latin typeface="Times New Roman"/>
                <a:ea typeface="Arial"/>
              </a:rPr>
              <a:t>responsable de las obligaciones laborales y previsionales que afecten a las empresas de servicios transitorios a favor de los trabajadores de ésta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directamente</a:t>
            </a:r>
            <a:r>
              <a:rPr b="0" lang="en-US" sz="2400" spc="-1" strike="noStrike">
                <a:solidFill>
                  <a:srgbClr val="ffffff"/>
                </a:solidFill>
                <a:latin typeface="Times New Roman"/>
                <a:ea typeface="Arial"/>
              </a:rPr>
              <a:t> responsable del cumplimiento de las normas de higiene y seguridad en el trabajo.</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B9C325A-2867-4AE2-9910-1079A8E646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7"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duración de la jornada de trabajo, los descansos diarios y semanales. </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naturaleza de los servicios que se prestarán (de acuerdo con lo solicitado por la empresa usuaria), y la remuneración.</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ugar de prestación de estos servicios (de acuerdo con lo solicitado por la empresa usuaria).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EFECF57-5326-4F4D-AB3E-1DC8F01B44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684360" y="25992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9" name="PlaceHolder 2"/>
          <p:cNvSpPr>
            <a:spLocks noGrp="1"/>
          </p:cNvSpPr>
          <p:nvPr>
            <p:ph/>
          </p:nvPr>
        </p:nvSpPr>
        <p:spPr>
          <a:xfrm>
            <a:off x="685800" y="2057400"/>
            <a:ext cx="7772400" cy="4572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e corresponde la facultad disciplinari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constatar que el estado de salud del trabajador sea compatible con la actividad específica que desempeñará.</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proporcionar capacitación cada año calendario, al menos al 10% de los trabajadores que pongan a disposición en el mismo período, a través de alguno de los mecanismos previstos en el Párrafo 4º del Título I de la ley Nº 19.518.</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5DAAA8E-0081-449D-A089-614F32A6390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9"/>
          <p:cNvGrpSpPr/>
          <p:nvPr/>
        </p:nvGrpSpPr>
        <p:grpSpPr>
          <a:xfrm>
            <a:off x="2724120" y="609480"/>
            <a:ext cx="3006720" cy="520920"/>
            <a:chOff x="2724120" y="609480"/>
            <a:chExt cx="3006720" cy="520920"/>
          </a:xfrm>
        </p:grpSpPr>
        <p:sp>
          <p:nvSpPr>
            <p:cNvPr id="105" name="Rectangle 4"/>
            <p:cNvSpPr/>
            <p:nvPr/>
          </p:nvSpPr>
          <p:spPr>
            <a:xfrm>
              <a:off x="2724120" y="609480"/>
              <a:ext cx="3006720" cy="52092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Freeform 5"/>
            <p:cNvSpPr/>
            <p:nvPr/>
          </p:nvSpPr>
          <p:spPr>
            <a:xfrm>
              <a:off x="2724120" y="609480"/>
              <a:ext cx="3006720" cy="33480"/>
            </a:xfrm>
            <a:prstGeom prst="pie">
              <a:avLst/>
            </a:prstGeom>
            <a:solidFill>
              <a:srgbClr val="3299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Freeform 6"/>
            <p:cNvSpPr/>
            <p:nvPr/>
          </p:nvSpPr>
          <p:spPr>
            <a:xfrm>
              <a:off x="2724120" y="609480"/>
              <a:ext cx="28440" cy="520920"/>
            </a:xfrm>
            <a:prstGeom prst="pie">
              <a:avLst/>
            </a:prstGeom>
            <a:solidFill>
              <a:srgbClr val="66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Freeform 7"/>
            <p:cNvSpPr/>
            <p:nvPr/>
          </p:nvSpPr>
          <p:spPr>
            <a:xfrm>
              <a:off x="2724120" y="1098720"/>
              <a:ext cx="3006720" cy="31680"/>
            </a:xfrm>
            <a:prstGeom prst="pie">
              <a:avLst/>
            </a:prstGeom>
            <a:solidFill>
              <a:srgbClr val="00676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Freeform 8"/>
            <p:cNvSpPr/>
            <p:nvPr/>
          </p:nvSpPr>
          <p:spPr>
            <a:xfrm>
              <a:off x="5702400" y="609480"/>
              <a:ext cx="28440" cy="520920"/>
            </a:xfrm>
            <a:prstGeom prst="pie">
              <a:avLst/>
            </a:prstGeom>
            <a:solidFill>
              <a:srgbClr val="00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 name="Rectangle 10"/>
          <p:cNvSpPr/>
          <p:nvPr/>
        </p:nvSpPr>
        <p:spPr>
          <a:xfrm>
            <a:off x="3059640" y="747720"/>
            <a:ext cx="2553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XTERNALIZACION DE: </a:t>
            </a:r>
            <a:endParaRPr b="0" lang="en-US" sz="1700" spc="-1" strike="noStrike">
              <a:solidFill>
                <a:srgbClr val="ffffff"/>
              </a:solidFill>
              <a:latin typeface="Times New Roman"/>
            </a:endParaRPr>
          </a:p>
        </p:txBody>
      </p:sp>
      <p:grpSp>
        <p:nvGrpSpPr>
          <p:cNvPr id="111" name="Group 22"/>
          <p:cNvGrpSpPr/>
          <p:nvPr/>
        </p:nvGrpSpPr>
        <p:grpSpPr>
          <a:xfrm>
            <a:off x="1135080" y="1913040"/>
            <a:ext cx="2722680" cy="585720"/>
            <a:chOff x="1135080" y="1913040"/>
            <a:chExt cx="2722680" cy="585720"/>
          </a:xfrm>
        </p:grpSpPr>
        <p:sp>
          <p:nvSpPr>
            <p:cNvPr id="112" name="Rectangle 11"/>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Freeform 12"/>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Freeform 13"/>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Freeform 14"/>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Freeform 15"/>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Rectangle 16"/>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Rectangle 17"/>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Line 18"/>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 name="Line 19"/>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Line 20"/>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2" name="Line 21"/>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23" name="Rectangle 23"/>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24" name="Rectangle 24"/>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25" name="Group 36"/>
          <p:cNvGrpSpPr/>
          <p:nvPr/>
        </p:nvGrpSpPr>
        <p:grpSpPr>
          <a:xfrm>
            <a:off x="4708440" y="1913040"/>
            <a:ext cx="2724120" cy="585720"/>
            <a:chOff x="4708440" y="1913040"/>
            <a:chExt cx="2724120" cy="585720"/>
          </a:xfrm>
        </p:grpSpPr>
        <p:sp>
          <p:nvSpPr>
            <p:cNvPr id="126" name="Rectangle 25"/>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Freeform 26"/>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Freeform 27"/>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Freeform 28"/>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Freeform 29"/>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Rectangle 30"/>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Rectangle 31"/>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Line 32"/>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 name="Line 33"/>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5" name="Line 34"/>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Line 35"/>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37" name="Rectangle 37"/>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38" name="Rectangle 38"/>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39" name="Group 41"/>
          <p:cNvGrpSpPr/>
          <p:nvPr/>
        </p:nvGrpSpPr>
        <p:grpSpPr>
          <a:xfrm>
            <a:off x="2440080" y="1130400"/>
            <a:ext cx="1758960" cy="684000"/>
            <a:chOff x="2440080" y="1130400"/>
            <a:chExt cx="1758960" cy="684000"/>
          </a:xfrm>
        </p:grpSpPr>
        <p:sp>
          <p:nvSpPr>
            <p:cNvPr id="140" name="Line 39"/>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Freeform 40"/>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2" name="Group 44"/>
          <p:cNvGrpSpPr/>
          <p:nvPr/>
        </p:nvGrpSpPr>
        <p:grpSpPr>
          <a:xfrm>
            <a:off x="4199040" y="1130400"/>
            <a:ext cx="1758960" cy="684000"/>
            <a:chOff x="4199040" y="1130400"/>
            <a:chExt cx="1758960" cy="684000"/>
          </a:xfrm>
        </p:grpSpPr>
        <p:sp>
          <p:nvSpPr>
            <p:cNvPr id="143" name="Line 42"/>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Freeform 43"/>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5" name="Group 56"/>
          <p:cNvGrpSpPr/>
          <p:nvPr/>
        </p:nvGrpSpPr>
        <p:grpSpPr>
          <a:xfrm>
            <a:off x="1135080" y="1913040"/>
            <a:ext cx="2722680" cy="585720"/>
            <a:chOff x="1135080" y="1913040"/>
            <a:chExt cx="2722680" cy="585720"/>
          </a:xfrm>
        </p:grpSpPr>
        <p:sp>
          <p:nvSpPr>
            <p:cNvPr id="146" name="Rectangle 45"/>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Freeform 46"/>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Freeform 47"/>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Freeform 48"/>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Freeform 49"/>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50"/>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51"/>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Line 52"/>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4" name="Line 53"/>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 name="Line 54"/>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6" name="Line 55"/>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57" name="Rectangle 57"/>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58" name="Rectangle 58"/>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59" name="Group 70"/>
          <p:cNvGrpSpPr/>
          <p:nvPr/>
        </p:nvGrpSpPr>
        <p:grpSpPr>
          <a:xfrm>
            <a:off x="4708440" y="1913040"/>
            <a:ext cx="2724120" cy="585720"/>
            <a:chOff x="4708440" y="1913040"/>
            <a:chExt cx="2724120" cy="585720"/>
          </a:xfrm>
        </p:grpSpPr>
        <p:sp>
          <p:nvSpPr>
            <p:cNvPr id="160" name="Rectangle 59"/>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Freeform 60"/>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Freeform 61"/>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Freeform 62"/>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Freeform 63"/>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Rectangle 64"/>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65"/>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66"/>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8" name="Line 67"/>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 name="Line 68"/>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 name="Line 69"/>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71" name="Rectangle 71"/>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72" name="Rectangle 72"/>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73" name="Group 75"/>
          <p:cNvGrpSpPr/>
          <p:nvPr/>
        </p:nvGrpSpPr>
        <p:grpSpPr>
          <a:xfrm>
            <a:off x="2440080" y="1130400"/>
            <a:ext cx="1758960" cy="684000"/>
            <a:chOff x="2440080" y="1130400"/>
            <a:chExt cx="1758960" cy="684000"/>
          </a:xfrm>
        </p:grpSpPr>
        <p:sp>
          <p:nvSpPr>
            <p:cNvPr id="174" name="Line 73"/>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Freeform 74"/>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 name="Group 78"/>
          <p:cNvGrpSpPr/>
          <p:nvPr/>
        </p:nvGrpSpPr>
        <p:grpSpPr>
          <a:xfrm>
            <a:off x="4199040" y="1130400"/>
            <a:ext cx="1758960" cy="684000"/>
            <a:chOff x="4199040" y="1130400"/>
            <a:chExt cx="1758960" cy="684000"/>
          </a:xfrm>
        </p:grpSpPr>
        <p:sp>
          <p:nvSpPr>
            <p:cNvPr id="177" name="Line 76"/>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Freeform 77"/>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9" name="Line 79"/>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 name="Line 80"/>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81"/>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Rectangle 82"/>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83"/>
          <p:cNvSpPr/>
          <p:nvPr/>
        </p:nvSpPr>
        <p:spPr>
          <a:xfrm>
            <a:off x="517212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ÓN TRIANGULAR</a:t>
            </a:r>
            <a:endParaRPr b="0" lang="en-US" sz="1500" spc="-1" strike="noStrike">
              <a:solidFill>
                <a:srgbClr val="ffffff"/>
              </a:solidFill>
              <a:latin typeface="Times New Roman"/>
            </a:endParaRPr>
          </a:p>
        </p:txBody>
      </p:sp>
      <p:grpSp>
        <p:nvGrpSpPr>
          <p:cNvPr id="184" name="Group 176"/>
          <p:cNvGrpSpPr/>
          <p:nvPr/>
        </p:nvGrpSpPr>
        <p:grpSpPr>
          <a:xfrm>
            <a:off x="5504040" y="3386160"/>
            <a:ext cx="1319040" cy="733320"/>
            <a:chOff x="5504040" y="3386160"/>
            <a:chExt cx="1319040" cy="733320"/>
          </a:xfrm>
        </p:grpSpPr>
        <p:grpSp>
          <p:nvGrpSpPr>
            <p:cNvPr id="185" name="Group 174"/>
            <p:cNvGrpSpPr/>
            <p:nvPr/>
          </p:nvGrpSpPr>
          <p:grpSpPr>
            <a:xfrm>
              <a:off x="5504040" y="3386160"/>
              <a:ext cx="1319040" cy="733320"/>
              <a:chOff x="5504040" y="3386160"/>
              <a:chExt cx="1319040" cy="733320"/>
            </a:xfrm>
          </p:grpSpPr>
          <p:sp>
            <p:nvSpPr>
              <p:cNvPr id="186" name="Rectangle 84"/>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Rectangle 85"/>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Rectangle 86"/>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Rectangle 87"/>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Rectangle 88"/>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89"/>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Rectangle 90"/>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Rectangle 91"/>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Rectangle 92"/>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Rectangle 93"/>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Rectangle 94"/>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Rectangle 95"/>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Rectangle 96"/>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Rectangle 97"/>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8"/>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99"/>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Rectangle 100"/>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01"/>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02"/>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03"/>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104"/>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105"/>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Rectangle 106"/>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107"/>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Rectangle 108"/>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Rectangle 109"/>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110"/>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Rectangle 111"/>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12"/>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113"/>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114"/>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115"/>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Rectangle 116"/>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117"/>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118"/>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Rectangle 119"/>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Rectangle 120"/>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Rectangle 121"/>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Rectangle 122"/>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123"/>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Rectangle 124"/>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125"/>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Rectangle 126"/>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Rectangle 127"/>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28"/>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Rectangle 129"/>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Rectangle 130"/>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Rectangle 131"/>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Rectangle 132"/>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Rectangle 133"/>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134"/>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Rectangle 135"/>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136"/>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Rectangle 137"/>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Rectangle 138"/>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Rectangle 139"/>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140"/>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141"/>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Rectangle 142"/>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Rectangle 143"/>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144"/>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145"/>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Rectangle 146"/>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Rectangle 147"/>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148"/>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149"/>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150"/>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151"/>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Rectangle 152"/>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153"/>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54"/>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155"/>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156"/>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157"/>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158"/>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Rectangle 159"/>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Rectangle 160"/>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Rectangle 161"/>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Rectangle 162"/>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Rectangle 163"/>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164"/>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Rectangle 165"/>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166"/>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Rectangle 167"/>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168"/>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Rectangle 169"/>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Rectangle 170"/>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171"/>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Rectangle 172"/>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173"/>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6" name="Freeform 175"/>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7" name="Rectangle 177"/>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278" name="Rectangle 178"/>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279" name="Rectangle 179"/>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280" name="Rectangle 180"/>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281" name="Group 281"/>
          <p:cNvGrpSpPr/>
          <p:nvPr/>
        </p:nvGrpSpPr>
        <p:grpSpPr>
          <a:xfrm>
            <a:off x="4765680" y="5276880"/>
            <a:ext cx="1035000" cy="797040"/>
            <a:chOff x="4765680" y="5276880"/>
            <a:chExt cx="1035000" cy="797040"/>
          </a:xfrm>
        </p:grpSpPr>
        <p:grpSp>
          <p:nvGrpSpPr>
            <p:cNvPr id="282" name="Group 279"/>
            <p:cNvGrpSpPr/>
            <p:nvPr/>
          </p:nvGrpSpPr>
          <p:grpSpPr>
            <a:xfrm>
              <a:off x="4765680" y="5276880"/>
              <a:ext cx="1035000" cy="797040"/>
              <a:chOff x="4765680" y="5276880"/>
              <a:chExt cx="1035000" cy="797040"/>
            </a:xfrm>
          </p:grpSpPr>
          <p:sp>
            <p:nvSpPr>
              <p:cNvPr id="283" name="Rectangle 181"/>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Rectangle 182"/>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Rectangle 183"/>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Rectangle 184"/>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Rectangle 185"/>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Rectangle 186"/>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Rectangle 187"/>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Rectangle 188"/>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Rectangle 189"/>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Rectangle 190"/>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Rectangle 191"/>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Rectangle 192"/>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Rectangle 193"/>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Rectangle 194"/>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Rectangle 195"/>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Rectangle 196"/>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Rectangle 197"/>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Rectangle 198"/>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Rectangle 199"/>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Rectangle 200"/>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Rectangle 201"/>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Rectangle 202"/>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Rectangle 203"/>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204"/>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205"/>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206"/>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207"/>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208"/>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Rectangle 209"/>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210"/>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Rectangle 211"/>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Rectangle 212"/>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Rectangle 213"/>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Rectangle 214"/>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Rectangle 215"/>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216"/>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Rectangle 217"/>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218"/>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219"/>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Rectangle 220"/>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221"/>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222"/>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223"/>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Rectangle 224"/>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Rectangle 225"/>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Rectangle 226"/>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Rectangle 227"/>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Rectangle 228"/>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Rectangle 229"/>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Rectangle 230"/>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Rectangle 231"/>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232"/>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Rectangle 233"/>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Rectangle 234"/>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Rectangle 235"/>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Rectangle 236"/>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Rectangle 237"/>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Rectangle 238"/>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Rectangle 239"/>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Rectangle 240"/>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241"/>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Rectangle 242"/>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Rectangle 243"/>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Rectangle 244"/>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Rectangle 245"/>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Rectangle 246"/>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Rectangle 247"/>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Rectangle 248"/>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249"/>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Rectangle 250"/>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Rectangle 251"/>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252"/>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Rectangle 253"/>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54"/>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55"/>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56"/>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57"/>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8"/>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259"/>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Rectangle 260"/>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Rectangle 261"/>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262"/>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Rectangle 263"/>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Rectangle 264"/>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Rectangle 265"/>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Rectangle 266"/>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Rectangle 267"/>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Rectangle 268"/>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Rectangle 269"/>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Rectangle 270"/>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Rectangle 271"/>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Rectangle 272"/>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Rectangle 273"/>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Rectangle 274"/>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Rectangle 275"/>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Rectangle 276"/>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Rectangle 277"/>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Rectangle 278"/>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1" name="Freeform 280"/>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2" name="Rectangle 282"/>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383" name="Rectangle 283"/>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384" name="Rectangle 284"/>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385" name="Group 385"/>
          <p:cNvGrpSpPr/>
          <p:nvPr/>
        </p:nvGrpSpPr>
        <p:grpSpPr>
          <a:xfrm>
            <a:off x="6581880" y="5276880"/>
            <a:ext cx="1092240" cy="797040"/>
            <a:chOff x="6581880" y="5276880"/>
            <a:chExt cx="1092240" cy="797040"/>
          </a:xfrm>
        </p:grpSpPr>
        <p:grpSp>
          <p:nvGrpSpPr>
            <p:cNvPr id="386" name="Group 383"/>
            <p:cNvGrpSpPr/>
            <p:nvPr/>
          </p:nvGrpSpPr>
          <p:grpSpPr>
            <a:xfrm>
              <a:off x="6581880" y="5276880"/>
              <a:ext cx="1092240" cy="797040"/>
              <a:chOff x="6581880" y="5276880"/>
              <a:chExt cx="1092240" cy="797040"/>
            </a:xfrm>
          </p:grpSpPr>
          <p:sp>
            <p:nvSpPr>
              <p:cNvPr id="387" name="Rectangle 285"/>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Rectangle 286"/>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Rectangle 287"/>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Rectangle 288"/>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Rectangle 289"/>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Rectangle 290"/>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Rectangle 291"/>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Rectangle 292"/>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Rectangle 293"/>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294"/>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Rectangle 295"/>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Rectangle 296"/>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Rectangle 297"/>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Rectangle 298"/>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Rectangle 299"/>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Rectangle 300"/>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301"/>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302"/>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303"/>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304"/>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305"/>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306"/>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Rectangle 307"/>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Rectangle 308"/>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Rectangle 309"/>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10"/>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Rectangle 311"/>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Rectangle 312"/>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Rectangle 313"/>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314"/>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Rectangle 315"/>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Rectangle 316"/>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Rectangle 317"/>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Rectangle 318"/>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Rectangle 319"/>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Rectangle 320"/>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Rectangle 321"/>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Rectangle 322"/>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323"/>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Rectangle 324"/>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Rectangle 325"/>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Rectangle 326"/>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Rectangle 327"/>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Rectangle 328"/>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Rectangle 329"/>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Rectangle 330"/>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Rectangle 331"/>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Rectangle 332"/>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Rectangle 333"/>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Rectangle 334"/>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Rectangle 335"/>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Rectangle 336"/>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Rectangle 337"/>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Rectangle 338"/>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Rectangle 339"/>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Rectangle 340"/>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Rectangle 341"/>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Rectangle 342"/>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Rectangle 343"/>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Rectangle 344"/>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Rectangle 345"/>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Rectangle 346"/>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Rectangle 347"/>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Rectangle 348"/>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Rectangle 349"/>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Rectangle 350"/>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Rectangle 351"/>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Rectangle 352"/>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Rectangle 353"/>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354"/>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355"/>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356"/>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357"/>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358"/>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359"/>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Rectangle 360"/>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Rectangle 361"/>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62"/>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363"/>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Rectangle 364"/>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Rectangle 365"/>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Rectangle 366"/>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Rectangle 367"/>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Rectangle 368"/>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Rectangle 369"/>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2" name="Rectangle 370"/>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Rectangle 371"/>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Rectangle 372"/>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3"/>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Rectangle 374"/>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Rectangle 375"/>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Rectangle 376"/>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Rectangle 377"/>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Rectangle 378"/>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Rectangle 379"/>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Rectangle 380"/>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Rectangle 381"/>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382"/>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5" name="Freeform 384"/>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6" name="Rectangle 386"/>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487" name="Rectangle 387"/>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488" name="Rectangle 388"/>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489" name="Rectangle 389"/>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sp>
        <p:nvSpPr>
          <p:cNvPr id="490" name="Line 390"/>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 name="Line 391"/>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Line 392"/>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Rectangle 393"/>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Rectangle 394"/>
          <p:cNvSpPr/>
          <p:nvPr/>
        </p:nvSpPr>
        <p:spPr>
          <a:xfrm>
            <a:off x="521640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ÓN TRIANGULAR</a:t>
            </a:r>
            <a:endParaRPr b="0" lang="en-US" sz="1500" spc="-1" strike="noStrike">
              <a:solidFill>
                <a:srgbClr val="ffffff"/>
              </a:solidFill>
              <a:latin typeface="Times New Roman"/>
            </a:endParaRPr>
          </a:p>
        </p:txBody>
      </p:sp>
      <p:grpSp>
        <p:nvGrpSpPr>
          <p:cNvPr id="495" name="Group 487"/>
          <p:cNvGrpSpPr/>
          <p:nvPr/>
        </p:nvGrpSpPr>
        <p:grpSpPr>
          <a:xfrm>
            <a:off x="5504040" y="3386160"/>
            <a:ext cx="1319040" cy="733320"/>
            <a:chOff x="5504040" y="3386160"/>
            <a:chExt cx="1319040" cy="733320"/>
          </a:xfrm>
        </p:grpSpPr>
        <p:grpSp>
          <p:nvGrpSpPr>
            <p:cNvPr id="496" name="Group 485"/>
            <p:cNvGrpSpPr/>
            <p:nvPr/>
          </p:nvGrpSpPr>
          <p:grpSpPr>
            <a:xfrm>
              <a:off x="5504040" y="3386160"/>
              <a:ext cx="1319040" cy="733320"/>
              <a:chOff x="5504040" y="3386160"/>
              <a:chExt cx="1319040" cy="733320"/>
            </a:xfrm>
          </p:grpSpPr>
          <p:sp>
            <p:nvSpPr>
              <p:cNvPr id="497" name="Rectangle 395"/>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Rectangle 396"/>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Rectangle 397"/>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Rectangle 398"/>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Rectangle 399"/>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Rectangle 400"/>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Rectangle 401"/>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402"/>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Rectangle 403"/>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Rectangle 404"/>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405"/>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406"/>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407"/>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408"/>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409"/>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Rectangle 410"/>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Rectangle 411"/>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Rectangle 412"/>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Rectangle 413"/>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Rectangle 414"/>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Rectangle 415"/>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Rectangle 416"/>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Rectangle 417"/>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Rectangle 418"/>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Rectangle 419"/>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Rectangle 420"/>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Rectangle 421"/>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Rectangle 422"/>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Rectangle 423"/>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Rectangle 424"/>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Rectangle 425"/>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Rectangle 426"/>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Rectangle 427"/>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Rectangle 428"/>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Rectangle 429"/>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2" name="Rectangle 430"/>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Rectangle 431"/>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Rectangle 432"/>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Rectangle 433"/>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Rectangle 434"/>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Rectangle 435"/>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Rectangle 436"/>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Rectangle 437"/>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Rectangle 438"/>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Rectangle 439"/>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Rectangle 440"/>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Rectangle 441"/>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Rectangle 442"/>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Rectangle 443"/>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Rectangle 444"/>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Rectangle 445"/>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Rectangle 446"/>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Rectangle 447"/>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Rectangle 448"/>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Rectangle 449"/>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Rectangle 450"/>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Rectangle 451"/>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452"/>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Rectangle 453"/>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Rectangle 454"/>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455"/>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456"/>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457"/>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458"/>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459"/>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Rectangle 460"/>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Rectangle 461"/>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Rectangle 462"/>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Rectangle 463"/>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Rectangle 464"/>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Rectangle 465"/>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Rectangle 466"/>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Rectangle 467"/>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Rectangle 468"/>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Rectangle 469"/>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Rectangle 470"/>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Rectangle 471"/>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Rectangle 472"/>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Rectangle 473"/>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Rectangle 474"/>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Rectangle 475"/>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Rectangle 476"/>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Rectangle 477"/>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Rectangle 478"/>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Rectangle 479"/>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Rectangle 480"/>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Rectangle 481"/>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Rectangle 482"/>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Rectangle 483"/>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Rectangle 484"/>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7" name="Freeform 486"/>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8" name="Rectangle 488"/>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589" name="Rectangle 489"/>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590" name="Rectangle 490"/>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591" name="Rectangle 491"/>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592" name="Group 592"/>
          <p:cNvGrpSpPr/>
          <p:nvPr/>
        </p:nvGrpSpPr>
        <p:grpSpPr>
          <a:xfrm>
            <a:off x="4765680" y="5276880"/>
            <a:ext cx="1035000" cy="797040"/>
            <a:chOff x="4765680" y="5276880"/>
            <a:chExt cx="1035000" cy="797040"/>
          </a:xfrm>
        </p:grpSpPr>
        <p:grpSp>
          <p:nvGrpSpPr>
            <p:cNvPr id="593" name="Group 590"/>
            <p:cNvGrpSpPr/>
            <p:nvPr/>
          </p:nvGrpSpPr>
          <p:grpSpPr>
            <a:xfrm>
              <a:off x="4765680" y="5276880"/>
              <a:ext cx="1035000" cy="797040"/>
              <a:chOff x="4765680" y="5276880"/>
              <a:chExt cx="1035000" cy="797040"/>
            </a:xfrm>
          </p:grpSpPr>
          <p:sp>
            <p:nvSpPr>
              <p:cNvPr id="594" name="Rectangle 492"/>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5" name="Rectangle 493"/>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6" name="Rectangle 494"/>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Rectangle 495"/>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Rectangle 496"/>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Rectangle 497"/>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Rectangle 498"/>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Rectangle 499"/>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2" name="Rectangle 500"/>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3" name="Rectangle 501"/>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Rectangle 502"/>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Rectangle 503"/>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Rectangle 504"/>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7" name="Rectangle 505"/>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8" name="Rectangle 506"/>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Rectangle 507"/>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Rectangle 508"/>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Rectangle 509"/>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Rectangle 510"/>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Rectangle 511"/>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Rectangle 512"/>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5" name="Rectangle 513"/>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14"/>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515"/>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Rectangle 516"/>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Rectangle 517"/>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Rectangle 518"/>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Rectangle 519"/>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Rectangle 520"/>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Rectangle 521"/>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Rectangle 522"/>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Rectangle 523"/>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Rectangle 524"/>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Rectangle 525"/>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Rectangle 526"/>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Rectangle 527"/>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Rectangle 528"/>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Rectangle 529"/>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Rectangle 530"/>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Rectangle 531"/>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Rectangle 532"/>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Rectangle 533"/>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Rectangle 534"/>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Rectangle 535"/>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Rectangle 536"/>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Rectangle 537"/>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Rectangle 538"/>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Rectangle 539"/>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Rectangle 540"/>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3" name="Rectangle 541"/>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Rectangle 542"/>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Rectangle 543"/>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Rectangle 544"/>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Rectangle 545"/>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Rectangle 546"/>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Rectangle 547"/>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Rectangle 548"/>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549"/>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Rectangle 550"/>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3" name="Rectangle 551"/>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Rectangle 552"/>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Rectangle 553"/>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Rectangle 554"/>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Rectangle 555"/>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556"/>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Rectangle 557"/>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Rectangle 558"/>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Rectangle 559"/>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Rectangle 560"/>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3" name="Rectangle 561"/>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4" name="Rectangle 562"/>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Rectangle 563"/>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Rectangle 564"/>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7" name="Rectangle 565"/>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566"/>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9" name="Rectangle 567"/>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Rectangle 568"/>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Rectangle 569"/>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Rectangle 570"/>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Rectangle 571"/>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Rectangle 572"/>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Rectangle 573"/>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Rectangle 574"/>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Rectangle 575"/>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Rectangle 576"/>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Rectangle 577"/>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Rectangle 578"/>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Rectangle 579"/>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Rectangle 580"/>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3" name="Rectangle 581"/>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Rectangle 582"/>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Rectangle 583"/>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Rectangle 584"/>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Rectangle 585"/>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586"/>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Rectangle 587"/>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Rectangle 588"/>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589"/>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2" name="Freeform 591"/>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3" name="Rectangle 593"/>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694" name="Rectangle 594"/>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695" name="Rectangle 595"/>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696" name="Group 696"/>
          <p:cNvGrpSpPr/>
          <p:nvPr/>
        </p:nvGrpSpPr>
        <p:grpSpPr>
          <a:xfrm>
            <a:off x="6581880" y="5276880"/>
            <a:ext cx="1092240" cy="797040"/>
            <a:chOff x="6581880" y="5276880"/>
            <a:chExt cx="1092240" cy="797040"/>
          </a:xfrm>
        </p:grpSpPr>
        <p:grpSp>
          <p:nvGrpSpPr>
            <p:cNvPr id="697" name="Group 694"/>
            <p:cNvGrpSpPr/>
            <p:nvPr/>
          </p:nvGrpSpPr>
          <p:grpSpPr>
            <a:xfrm>
              <a:off x="6581880" y="5276880"/>
              <a:ext cx="1092240" cy="797040"/>
              <a:chOff x="6581880" y="5276880"/>
              <a:chExt cx="1092240" cy="797040"/>
            </a:xfrm>
          </p:grpSpPr>
          <p:sp>
            <p:nvSpPr>
              <p:cNvPr id="698" name="Rectangle 596"/>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9" name="Rectangle 597"/>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598"/>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1" name="Rectangle 599"/>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Rectangle 600"/>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601"/>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Rectangle 602"/>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Rectangle 603"/>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604"/>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Rectangle 605"/>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Rectangle 606"/>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607"/>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Rectangle 608"/>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Rectangle 609"/>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610"/>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Rectangle 611"/>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Rectangle 612"/>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613"/>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6" name="Rectangle 614"/>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Rectangle 615"/>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616"/>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Rectangle 617"/>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618"/>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619"/>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Rectangle 620"/>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3" name="Rectangle 621"/>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622"/>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Rectangle 623"/>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Rectangle 624"/>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625"/>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8" name="Rectangle 626"/>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Rectangle 627"/>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628"/>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Rectangle 629"/>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Rectangle 630"/>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31"/>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4" name="Rectangle 632"/>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Rectangle 633"/>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Rectangle 634"/>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Rectangle 635"/>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Rectangle 636"/>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Rectangle 637"/>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Rectangle 638"/>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Rectangle 639"/>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2" name="Rectangle 640"/>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Rectangle 641"/>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Rectangle 642"/>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Rectangle 643"/>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Rectangle 644"/>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Rectangle 645"/>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Rectangle 646"/>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9" name="Rectangle 647"/>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Rectangle 648"/>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Rectangle 649"/>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Rectangle 650"/>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Rectangle 651"/>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Rectangle 652"/>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Rectangle 653"/>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Rectangle 654"/>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Rectangle 655"/>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8" name="Rectangle 656"/>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Rectangle 657"/>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0" name="Rectangle 658"/>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Rectangle 659"/>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Rectangle 660"/>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Rectangle 661"/>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4" name="Rectangle 662"/>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5" name="Rectangle 663"/>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6" name="Rectangle 664"/>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Rectangle 665"/>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Rectangle 666"/>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Rectangle 667"/>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0" name="Rectangle 668"/>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Rectangle 669"/>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2" name="Rectangle 670"/>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3" name="Rectangle 671"/>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Rectangle 672"/>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Rectangle 673"/>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Rectangle 674"/>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Rectangle 675"/>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8" name="Rectangle 676"/>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Rectangle 677"/>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Rectangle 678"/>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Rectangle 679"/>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Rectangle 680"/>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Rectangle 681"/>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Rectangle 682"/>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Rectangle 683"/>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Rectangle 684"/>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Rectangle 685"/>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Rectangle 686"/>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Rectangle 687"/>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0" name="Rectangle 688"/>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Rectangle 689"/>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Rectangle 690"/>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3" name="Rectangle 691"/>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Rectangle 692"/>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Rectangle 693"/>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6" name="Freeform 695"/>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7" name="Rectangle 697"/>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798" name="Rectangle 698"/>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799" name="Rectangle 699"/>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800" name="Rectangle 700"/>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grpSp>
        <p:nvGrpSpPr>
          <p:cNvPr id="801" name="Group 703"/>
          <p:cNvGrpSpPr/>
          <p:nvPr/>
        </p:nvGrpSpPr>
        <p:grpSpPr>
          <a:xfrm>
            <a:off x="2448000" y="2792520"/>
            <a:ext cx="106200" cy="390240"/>
            <a:chOff x="2448000" y="2792520"/>
            <a:chExt cx="106200" cy="390240"/>
          </a:xfrm>
        </p:grpSpPr>
        <p:sp>
          <p:nvSpPr>
            <p:cNvPr id="802" name="Line 701"/>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Freeform 702"/>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04" name="Rectangle 704"/>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Rectangle 705"/>
          <p:cNvSpPr/>
          <p:nvPr/>
        </p:nvSpPr>
        <p:spPr>
          <a:xfrm>
            <a:off x="151308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ON BILATERAL</a:t>
            </a:r>
            <a:endParaRPr b="0" lang="en-US" sz="1500" spc="-1" strike="noStrike">
              <a:solidFill>
                <a:srgbClr val="ffffff"/>
              </a:solidFill>
              <a:latin typeface="Times New Roman"/>
            </a:endParaRPr>
          </a:p>
        </p:txBody>
      </p:sp>
      <p:grpSp>
        <p:nvGrpSpPr>
          <p:cNvPr id="806" name="Group 805"/>
          <p:cNvGrpSpPr/>
          <p:nvPr/>
        </p:nvGrpSpPr>
        <p:grpSpPr>
          <a:xfrm>
            <a:off x="3006720" y="3110040"/>
            <a:ext cx="1092240" cy="790560"/>
            <a:chOff x="3006720" y="3110040"/>
            <a:chExt cx="1092240" cy="790560"/>
          </a:xfrm>
        </p:grpSpPr>
        <p:grpSp>
          <p:nvGrpSpPr>
            <p:cNvPr id="807" name="Group 803"/>
            <p:cNvGrpSpPr/>
            <p:nvPr/>
          </p:nvGrpSpPr>
          <p:grpSpPr>
            <a:xfrm>
              <a:off x="3006720" y="3110040"/>
              <a:ext cx="1092240" cy="790560"/>
              <a:chOff x="3006720" y="3110040"/>
              <a:chExt cx="1092240" cy="790560"/>
            </a:xfrm>
          </p:grpSpPr>
          <p:sp>
            <p:nvSpPr>
              <p:cNvPr id="808" name="Rectangle 706"/>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9" name="Rectangle 707"/>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Rectangle 708"/>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1" name="Rectangle 709"/>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2" name="Rectangle 710"/>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Rectangle 711"/>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Rectangle 712"/>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Rectangle 713"/>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Rectangle 714"/>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Rectangle 715"/>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8" name="Rectangle 716"/>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9" name="Rectangle 717"/>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Rectangle 718"/>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Rectangle 719"/>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Rectangle 720"/>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3" name="Rectangle 721"/>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4" name="Rectangle 722"/>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5" name="Rectangle 723"/>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Rectangle 724"/>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Rectangle 725"/>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Rectangle 726"/>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Rectangle 727"/>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Rectangle 728"/>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1" name="Rectangle 729"/>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Rectangle 730"/>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Rectangle 731"/>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Rectangle 732"/>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Rectangle 733"/>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6" name="Rectangle 734"/>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7" name="Rectangle 735"/>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8" name="Rectangle 736"/>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Rectangle 737"/>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Rectangle 738"/>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1" name="Rectangle 739"/>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740"/>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3" name="Rectangle 741"/>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4" name="Rectangle 742"/>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Rectangle 743"/>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Rectangle 744"/>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7" name="Rectangle 745"/>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8" name="Rectangle 746"/>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9" name="Rectangle 747"/>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0" name="Rectangle 748"/>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1" name="Rectangle 749"/>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Rectangle 750"/>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Rectangle 751"/>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Rectangle 752"/>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5" name="Rectangle 753"/>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6" name="Rectangle 754"/>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7" name="Rectangle 755"/>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Rectangle 756"/>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9" name="Rectangle 757"/>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0" name="Rectangle 758"/>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1" name="Rectangle 759"/>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2" name="Rectangle 760"/>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3" name="Rectangle 761"/>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Rectangle 762"/>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Rectangle 763"/>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6" name="Rectangle 764"/>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Rectangle 765"/>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Rectangle 766"/>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Rectangle 767"/>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Rectangle 768"/>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Rectangle 769"/>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Rectangle 770"/>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Rectangle 771"/>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Rectangle 772"/>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Rectangle 773"/>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Rectangle 774"/>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Rectangle 775"/>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Rectangle 776"/>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Rectangle 777"/>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Rectangle 778"/>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Rectangle 779"/>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Rectangle 780"/>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Rectangle 781"/>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4" name="Rectangle 782"/>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5" name="Rectangle 783"/>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6" name="Rectangle 784"/>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7" name="Rectangle 785"/>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Rectangle 786"/>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9" name="Rectangle 787"/>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0" name="Rectangle 788"/>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Rectangle 789"/>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2" name="Rectangle 790"/>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3" name="Rectangle 791"/>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Rectangle 792"/>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5" name="Rectangle 793"/>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6" name="Rectangle 794"/>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Rectangle 795"/>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Rectangle 796"/>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Rectangle 797"/>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Rectangle 798"/>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Rectangle 799"/>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Rectangle 800"/>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Rectangle 801"/>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Rectangle 802"/>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5" name="Freeform 804"/>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6" name="Rectangle 806"/>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907" name="Rectangle 807"/>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908" name="Rectangle 808"/>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909" name="Group 908"/>
          <p:cNvGrpSpPr/>
          <p:nvPr/>
        </p:nvGrpSpPr>
        <p:grpSpPr>
          <a:xfrm>
            <a:off x="965160" y="3110040"/>
            <a:ext cx="1035000" cy="790560"/>
            <a:chOff x="965160" y="3110040"/>
            <a:chExt cx="1035000" cy="790560"/>
          </a:xfrm>
        </p:grpSpPr>
        <p:grpSp>
          <p:nvGrpSpPr>
            <p:cNvPr id="910" name="Group 906"/>
            <p:cNvGrpSpPr/>
            <p:nvPr/>
          </p:nvGrpSpPr>
          <p:grpSpPr>
            <a:xfrm>
              <a:off x="965160" y="3110040"/>
              <a:ext cx="1035000" cy="790560"/>
              <a:chOff x="965160" y="3110040"/>
              <a:chExt cx="1035000" cy="790560"/>
            </a:xfrm>
          </p:grpSpPr>
          <p:sp>
            <p:nvSpPr>
              <p:cNvPr id="911" name="Rectangle 809"/>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Rectangle 810"/>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Rectangle 811"/>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4" name="Rectangle 812"/>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5" name="Rectangle 813"/>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6" name="Rectangle 814"/>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7" name="Rectangle 815"/>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8" name="Rectangle 816"/>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9" name="Rectangle 817"/>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0" name="Rectangle 818"/>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1" name="Rectangle 819"/>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2" name="Rectangle 820"/>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3" name="Rectangle 821"/>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Rectangle 822"/>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5" name="Rectangle 823"/>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6" name="Rectangle 824"/>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7" name="Rectangle 825"/>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Rectangle 826"/>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9" name="Rectangle 827"/>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Rectangle 828"/>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1" name="Rectangle 829"/>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Rectangle 830"/>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Rectangle 831"/>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4" name="Rectangle 832"/>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5" name="Rectangle 833"/>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Rectangle 834"/>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Rectangle 835"/>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Rectangle 836"/>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Rectangle 837"/>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0" name="Rectangle 838"/>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839"/>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840"/>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Rectangle 841"/>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4" name="Rectangle 842"/>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5" name="Rectangle 843"/>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6" name="Rectangle 844"/>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Rectangle 845"/>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Rectangle 846"/>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9" name="Rectangle 847"/>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0" name="Rectangle 848"/>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1" name="Rectangle 849"/>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2" name="Rectangle 850"/>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3" name="Rectangle 851"/>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Rectangle 852"/>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5" name="Rectangle 853"/>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Rectangle 854"/>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7" name="Rectangle 855"/>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Rectangle 856"/>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Rectangle 857"/>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Rectangle 858"/>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Rectangle 859"/>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2" name="Rectangle 860"/>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3" name="Rectangle 861"/>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Rectangle 862"/>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Rectangle 863"/>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Rectangle 864"/>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7" name="Rectangle 865"/>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8" name="Rectangle 866"/>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9" name="Rectangle 867"/>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Rectangle 868"/>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Rectangle 869"/>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Rectangle 870"/>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Rectangle 871"/>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4" name="Rectangle 872"/>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Rectangle 873"/>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Rectangle 874"/>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Rectangle 875"/>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Rectangle 876"/>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9" name="Rectangle 877"/>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Rectangle 878"/>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Rectangle 879"/>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2" name="Rectangle 880"/>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Rectangle 881"/>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Rectangle 882"/>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Rectangle 883"/>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6" name="Rectangle 884"/>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7" name="Rectangle 885"/>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Rectangle 886"/>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9" name="Rectangle 887"/>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Rectangle 888"/>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1" name="Rectangle 889"/>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Rectangle 890"/>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3" name="Rectangle 891"/>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4" name="Rectangle 892"/>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5" name="Rectangle 893"/>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Rectangle 894"/>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7" name="Rectangle 895"/>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Rectangle 896"/>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Rectangle 897"/>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Rectangle 898"/>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1" name="Rectangle 899"/>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Rectangle 900"/>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Rectangle 901"/>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Rectangle 902"/>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Rectangle 903"/>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Rectangle 904"/>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Rectangle 905"/>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8" name="Freeform 907"/>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9" name="Rectangle 909"/>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010" name="Rectangle 910"/>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011" name="Rectangle 911"/>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012" name="Rectangle 912"/>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13" name="Group 916"/>
          <p:cNvGrpSpPr/>
          <p:nvPr/>
        </p:nvGrpSpPr>
        <p:grpSpPr>
          <a:xfrm>
            <a:off x="1986120" y="3443400"/>
            <a:ext cx="1020600" cy="122040"/>
            <a:chOff x="1986120" y="3443400"/>
            <a:chExt cx="1020600" cy="122040"/>
          </a:xfrm>
        </p:grpSpPr>
        <p:sp>
          <p:nvSpPr>
            <p:cNvPr id="1014" name="Line 913"/>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5" name="Freeform 914"/>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Freeform 915"/>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7" name="Group 1007"/>
          <p:cNvGrpSpPr/>
          <p:nvPr/>
        </p:nvGrpSpPr>
        <p:grpSpPr>
          <a:xfrm>
            <a:off x="2212920" y="5162400"/>
            <a:ext cx="1319400" cy="716040"/>
            <a:chOff x="2212920" y="5162400"/>
            <a:chExt cx="1319400" cy="716040"/>
          </a:xfrm>
        </p:grpSpPr>
        <p:grpSp>
          <p:nvGrpSpPr>
            <p:cNvPr id="1018" name="Group 1005"/>
            <p:cNvGrpSpPr/>
            <p:nvPr/>
          </p:nvGrpSpPr>
          <p:grpSpPr>
            <a:xfrm>
              <a:off x="2212920" y="5162400"/>
              <a:ext cx="1319400" cy="716040"/>
              <a:chOff x="2212920" y="5162400"/>
              <a:chExt cx="1319400" cy="716040"/>
            </a:xfrm>
          </p:grpSpPr>
          <p:sp>
            <p:nvSpPr>
              <p:cNvPr id="1019" name="Rectangle 917"/>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0" name="Rectangle 918"/>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1" name="Rectangle 919"/>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Rectangle 920"/>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3" name="Rectangle 921"/>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4" name="Rectangle 922"/>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5" name="Rectangle 923"/>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Rectangle 924"/>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7" name="Rectangle 925"/>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Rectangle 926"/>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Rectangle 927"/>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Rectangle 928"/>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1" name="Rectangle 929"/>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Rectangle 930"/>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3" name="Rectangle 931"/>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Rectangle 932"/>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5" name="Rectangle 933"/>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Rectangle 934"/>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Rectangle 935"/>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Rectangle 936"/>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Rectangle 937"/>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0" name="Rectangle 938"/>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Rectangle 939"/>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Rectangle 940"/>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Rectangle 941"/>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Rectangle 942"/>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943"/>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Rectangle 944"/>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7" name="Rectangle 945"/>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8" name="Rectangle 946"/>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9" name="Rectangle 947"/>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Rectangle 948"/>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1" name="Rectangle 949"/>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2" name="Rectangle 950"/>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3" name="Rectangle 951"/>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Rectangle 952"/>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5" name="Rectangle 953"/>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6" name="Rectangle 954"/>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Rectangle 955"/>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8" name="Rectangle 956"/>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Rectangle 957"/>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0" name="Rectangle 958"/>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Rectangle 959"/>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2" name="Rectangle 960"/>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3" name="Rectangle 961"/>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4" name="Rectangle 962"/>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5" name="Rectangle 963"/>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6" name="Rectangle 964"/>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Rectangle 965"/>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8" name="Rectangle 966"/>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9" name="Rectangle 967"/>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0" name="Rectangle 968"/>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Rectangle 969"/>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2" name="Rectangle 970"/>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3" name="Rectangle 971"/>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4" name="Rectangle 972"/>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Rectangle 973"/>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6" name="Rectangle 974"/>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Rectangle 975"/>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8" name="Rectangle 976"/>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Rectangle 977"/>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0" name="Rectangle 978"/>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Rectangle 979"/>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2" name="Rectangle 980"/>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Rectangle 981"/>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4" name="Rectangle 982"/>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Rectangle 983"/>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Rectangle 984"/>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Rectangle 985"/>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Rectangle 986"/>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9" name="Rectangle 987"/>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Rectangle 988"/>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1" name="Rectangle 989"/>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2" name="Rectangle 990"/>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3" name="Rectangle 991"/>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Rectangle 992"/>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5" name="Rectangle 993"/>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6" name="Rectangle 994"/>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7" name="Rectangle 995"/>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Rectangle 996"/>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Rectangle 997"/>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0" name="Rectangle 998"/>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1" name="Rectangle 999"/>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Rectangle 1000"/>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3" name="Rectangle 1001"/>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4" name="Rectangle 1002"/>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5" name="Rectangle 1003"/>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Rectangle 1004"/>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7" name="Freeform 1006"/>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8" name="Rectangle 1008"/>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109" name="Rectangle 1009"/>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110" name="Rectangle 1010"/>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111" name="Rectangle 1011"/>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112" name="Rectangle 1012"/>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3" name="Rectangle 1013"/>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114" name="Rectangle 1014"/>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115" name="Rectangle 1015"/>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116" name="Line 1016"/>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7" name="Group 1019"/>
          <p:cNvGrpSpPr/>
          <p:nvPr/>
        </p:nvGrpSpPr>
        <p:grpSpPr>
          <a:xfrm>
            <a:off x="3517920" y="5423040"/>
            <a:ext cx="396720" cy="122040"/>
            <a:chOff x="3517920" y="5423040"/>
            <a:chExt cx="396720" cy="122040"/>
          </a:xfrm>
        </p:grpSpPr>
        <p:sp>
          <p:nvSpPr>
            <p:cNvPr id="1118" name="Line 1017"/>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9" name="Freeform 1018"/>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0" name="Group 1022"/>
          <p:cNvGrpSpPr/>
          <p:nvPr/>
        </p:nvGrpSpPr>
        <p:grpSpPr>
          <a:xfrm>
            <a:off x="2448000" y="2792520"/>
            <a:ext cx="106200" cy="390240"/>
            <a:chOff x="2448000" y="2792520"/>
            <a:chExt cx="106200" cy="390240"/>
          </a:xfrm>
        </p:grpSpPr>
        <p:sp>
          <p:nvSpPr>
            <p:cNvPr id="1121" name="Line 1020"/>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Freeform 1021"/>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23" name="Rectangle 1023"/>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Rectangle 1024"/>
          <p:cNvSpPr/>
          <p:nvPr/>
        </p:nvSpPr>
        <p:spPr>
          <a:xfrm>
            <a:off x="154872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ON BILATERAL</a:t>
            </a:r>
            <a:endParaRPr b="0" lang="en-US" sz="1500" spc="-1" strike="noStrike">
              <a:solidFill>
                <a:srgbClr val="ffffff"/>
              </a:solidFill>
              <a:latin typeface="Times New Roman"/>
            </a:endParaRPr>
          </a:p>
        </p:txBody>
      </p:sp>
      <p:grpSp>
        <p:nvGrpSpPr>
          <p:cNvPr id="1125" name="Group 1124"/>
          <p:cNvGrpSpPr/>
          <p:nvPr/>
        </p:nvGrpSpPr>
        <p:grpSpPr>
          <a:xfrm>
            <a:off x="3006720" y="3110040"/>
            <a:ext cx="1092240" cy="790560"/>
            <a:chOff x="3006720" y="3110040"/>
            <a:chExt cx="1092240" cy="790560"/>
          </a:xfrm>
        </p:grpSpPr>
        <p:grpSp>
          <p:nvGrpSpPr>
            <p:cNvPr id="1126" name="Group 1122"/>
            <p:cNvGrpSpPr/>
            <p:nvPr/>
          </p:nvGrpSpPr>
          <p:grpSpPr>
            <a:xfrm>
              <a:off x="3006720" y="3110040"/>
              <a:ext cx="1092240" cy="790560"/>
              <a:chOff x="3006720" y="3110040"/>
              <a:chExt cx="1092240" cy="790560"/>
            </a:xfrm>
          </p:grpSpPr>
          <p:sp>
            <p:nvSpPr>
              <p:cNvPr id="1127" name="Rectangle 1025"/>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Rectangle 1026"/>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Rectangle 1027"/>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0" name="Rectangle 1028"/>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1" name="Rectangle 1029"/>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2" name="Rectangle 1030"/>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Rectangle 1031"/>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4" name="Rectangle 1032"/>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5" name="Rectangle 1033"/>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6" name="Rectangle 1034"/>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7" name="Rectangle 1035"/>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8" name="Rectangle 1036"/>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Rectangle 1037"/>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0" name="Rectangle 1038"/>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1" name="Rectangle 1039"/>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2" name="Rectangle 1040"/>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3" name="Rectangle 1041"/>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4" name="Rectangle 1042"/>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5" name="Rectangle 1043"/>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6" name="Rectangle 1044"/>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7" name="Rectangle 1045"/>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Rectangle 1046"/>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9" name="Rectangle 1047"/>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0" name="Rectangle 1048"/>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1" name="Rectangle 1049"/>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2" name="Rectangle 1050"/>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3" name="Rectangle 1051"/>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Rectangle 1052"/>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5" name="Rectangle 1053"/>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6" name="Rectangle 1054"/>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7" name="Rectangle 1055"/>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8" name="Rectangle 1056"/>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9" name="Rectangle 1057"/>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0" name="Rectangle 1058"/>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1" name="Rectangle 1059"/>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Rectangle 1060"/>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Rectangle 1061"/>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4" name="Rectangle 1062"/>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5" name="Rectangle 1063"/>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6" name="Rectangle 1064"/>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Rectangle 1065"/>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8" name="Rectangle 1066"/>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Rectangle 1067"/>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Rectangle 1068"/>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Rectangle 1069"/>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2" name="Rectangle 1070"/>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3" name="Rectangle 1071"/>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Rectangle 1072"/>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5" name="Rectangle 1073"/>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6" name="Rectangle 1074"/>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Rectangle 1075"/>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Rectangle 1076"/>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Rectangle 1077"/>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Rectangle 1078"/>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1" name="Rectangle 1079"/>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2" name="Rectangle 1080"/>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3" name="Rectangle 1081"/>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4" name="Rectangle 1082"/>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Rectangle 1083"/>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6" name="Rectangle 1084"/>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7" name="Rectangle 1085"/>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8" name="Rectangle 1086"/>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9" name="Rectangle 1087"/>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0" name="Rectangle 1088"/>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1" name="Rectangle 1089"/>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2" name="Rectangle 1090"/>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3" name="Rectangle 1091"/>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4" name="Rectangle 1092"/>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5" name="Rectangle 1093"/>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6" name="Rectangle 1094"/>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7" name="Rectangle 1095"/>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8" name="Rectangle 1096"/>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9" name="Rectangle 1097"/>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Rectangle 1098"/>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1" name="Rectangle 1099"/>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Rectangle 1100"/>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Rectangle 1101"/>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Rectangle 1102"/>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Rectangle 1103"/>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Rectangle 1104"/>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Rectangle 1105"/>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8" name="Rectangle 1106"/>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9" name="Rectangle 1107"/>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0" name="Rectangle 1108"/>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Rectangle 1109"/>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Rectangle 1110"/>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Rectangle 1111"/>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Rectangle 1112"/>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Rectangle 1113"/>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Rectangle 1114"/>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Rectangle 1115"/>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8" name="Rectangle 1116"/>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9" name="Rectangle 1117"/>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Rectangle 1118"/>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Rectangle 1119"/>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Rectangle 1120"/>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3" name="Rectangle 1121"/>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4" name="Freeform 1123"/>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5" name="Rectangle 1125"/>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1226" name="Rectangle 1126"/>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1227" name="Rectangle 1127"/>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1228" name="Group 1227"/>
          <p:cNvGrpSpPr/>
          <p:nvPr/>
        </p:nvGrpSpPr>
        <p:grpSpPr>
          <a:xfrm>
            <a:off x="965160" y="3110040"/>
            <a:ext cx="1035000" cy="790560"/>
            <a:chOff x="965160" y="3110040"/>
            <a:chExt cx="1035000" cy="790560"/>
          </a:xfrm>
        </p:grpSpPr>
        <p:grpSp>
          <p:nvGrpSpPr>
            <p:cNvPr id="1229" name="Group 1225"/>
            <p:cNvGrpSpPr/>
            <p:nvPr/>
          </p:nvGrpSpPr>
          <p:grpSpPr>
            <a:xfrm>
              <a:off x="965160" y="3110040"/>
              <a:ext cx="1035000" cy="790560"/>
              <a:chOff x="965160" y="3110040"/>
              <a:chExt cx="1035000" cy="790560"/>
            </a:xfrm>
          </p:grpSpPr>
          <p:sp>
            <p:nvSpPr>
              <p:cNvPr id="1230" name="Rectangle 1128"/>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1" name="Rectangle 1129"/>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Rectangle 1130"/>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Rectangle 1131"/>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4" name="Rectangle 1132"/>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5" name="Rectangle 1133"/>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6" name="Rectangle 1134"/>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Rectangle 1135"/>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8" name="Rectangle 1136"/>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9" name="Rectangle 1137"/>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0" name="Rectangle 1138"/>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1" name="Rectangle 1139"/>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Rectangle 1140"/>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Rectangle 1141"/>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Rectangle 1142"/>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Rectangle 1143"/>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6" name="Rectangle 1144"/>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Rectangle 1145"/>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8" name="Rectangle 1146"/>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9" name="Rectangle 1147"/>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0" name="Rectangle 1148"/>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1" name="Rectangle 1149"/>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2" name="Rectangle 1150"/>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3" name="Rectangle 1151"/>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4" name="Rectangle 1152"/>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5" name="Rectangle 1153"/>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Rectangle 1154"/>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7" name="Rectangle 1155"/>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8" name="Rectangle 1156"/>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9" name="Rectangle 1157"/>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0" name="Rectangle 1158"/>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1" name="Rectangle 1159"/>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2" name="Rectangle 1160"/>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3" name="Rectangle 1161"/>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4" name="Rectangle 1162"/>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Rectangle 1163"/>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6" name="Rectangle 1164"/>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7" name="Rectangle 1165"/>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8" name="Rectangle 1166"/>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9" name="Rectangle 1167"/>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0" name="Rectangle 1168"/>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1" name="Rectangle 1169"/>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2" name="Rectangle 1170"/>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3" name="Rectangle 1171"/>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Rectangle 1172"/>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Rectangle 1173"/>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6" name="Rectangle 1174"/>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7" name="Rectangle 1175"/>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8" name="Rectangle 1176"/>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9" name="Rectangle 1177"/>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0" name="Rectangle 1178"/>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1" name="Rectangle 1179"/>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2" name="Rectangle 1180"/>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3" name="Rectangle 1181"/>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4" name="Rectangle 1182"/>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Rectangle 1183"/>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6" name="Rectangle 1184"/>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7" name="Rectangle 1185"/>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8" name="Rectangle 1186"/>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9" name="Rectangle 1187"/>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0" name="Rectangle 1188"/>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1" name="Rectangle 1189"/>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2" name="Rectangle 1190"/>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Rectangle 1191"/>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Rectangle 1192"/>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5" name="Rectangle 1193"/>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6" name="Rectangle 1194"/>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7" name="Rectangle 1195"/>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8" name="Rectangle 1196"/>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9" name="Rectangle 1197"/>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0" name="Rectangle 1198"/>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1" name="Rectangle 1199"/>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2" name="Rectangle 1200"/>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3" name="Rectangle 1201"/>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4" name="Rectangle 1202"/>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5" name="Rectangle 1203"/>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6" name="Rectangle 1204"/>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7" name="Rectangle 1205"/>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8" name="Rectangle 1206"/>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9" name="Rectangle 1207"/>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Rectangle 1208"/>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Rectangle 1209"/>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2" name="Rectangle 1210"/>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3" name="Rectangle 1211"/>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4" name="Rectangle 1212"/>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5" name="Rectangle 1213"/>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Rectangle 1214"/>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7" name="Rectangle 1215"/>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8" name="Rectangle 1216"/>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9" name="Rectangle 1217"/>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0" name="Rectangle 1218"/>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1" name="Rectangle 1219"/>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Rectangle 1220"/>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3" name="Rectangle 1221"/>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4" name="Rectangle 1222"/>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Rectangle 1223"/>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6" name="Rectangle 1224"/>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7" name="Freeform 1226"/>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8" name="Rectangle 1228"/>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329" name="Rectangle 1229"/>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330" name="Rectangle 1230"/>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331" name="Rectangle 1231"/>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32" name="Group 1235"/>
          <p:cNvGrpSpPr/>
          <p:nvPr/>
        </p:nvGrpSpPr>
        <p:grpSpPr>
          <a:xfrm>
            <a:off x="1986120" y="3443400"/>
            <a:ext cx="1020600" cy="122040"/>
            <a:chOff x="1986120" y="3443400"/>
            <a:chExt cx="1020600" cy="122040"/>
          </a:xfrm>
        </p:grpSpPr>
        <p:sp>
          <p:nvSpPr>
            <p:cNvPr id="1333" name="Line 1232"/>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4" name="Freeform 1233"/>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5" name="Freeform 1234"/>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6" name="Group 1326"/>
          <p:cNvGrpSpPr/>
          <p:nvPr/>
        </p:nvGrpSpPr>
        <p:grpSpPr>
          <a:xfrm>
            <a:off x="2212920" y="5162400"/>
            <a:ext cx="1319400" cy="716040"/>
            <a:chOff x="2212920" y="5162400"/>
            <a:chExt cx="1319400" cy="716040"/>
          </a:xfrm>
        </p:grpSpPr>
        <p:grpSp>
          <p:nvGrpSpPr>
            <p:cNvPr id="1337" name="Group 1324"/>
            <p:cNvGrpSpPr/>
            <p:nvPr/>
          </p:nvGrpSpPr>
          <p:grpSpPr>
            <a:xfrm>
              <a:off x="2212920" y="5162400"/>
              <a:ext cx="1319400" cy="716040"/>
              <a:chOff x="2212920" y="5162400"/>
              <a:chExt cx="1319400" cy="716040"/>
            </a:xfrm>
          </p:grpSpPr>
          <p:sp>
            <p:nvSpPr>
              <p:cNvPr id="1338" name="Rectangle 1236"/>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Rectangle 1237"/>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Rectangle 1238"/>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1" name="Rectangle 1239"/>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2" name="Rectangle 1240"/>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3" name="Rectangle 1241"/>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4" name="Rectangle 1242"/>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Rectangle 1243"/>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Rectangle 1244"/>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7" name="Rectangle 1245"/>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8" name="Rectangle 1246"/>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9" name="Rectangle 1247"/>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0" name="Rectangle 1248"/>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1" name="Rectangle 1249"/>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Rectangle 1250"/>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3" name="Rectangle 1251"/>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4" name="Rectangle 1252"/>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Rectangle 1253"/>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6" name="Rectangle 1254"/>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7" name="Rectangle 1255"/>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8" name="Rectangle 1256"/>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9" name="Rectangle 1257"/>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Rectangle 1258"/>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Rectangle 1259"/>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2" name="Rectangle 1260"/>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3" name="Rectangle 1261"/>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4" name="Rectangle 1262"/>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5" name="Rectangle 1263"/>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6" name="Rectangle 1264"/>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7" name="Rectangle 1265"/>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8" name="Rectangle 1266"/>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9" name="Rectangle 1267"/>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0" name="Rectangle 1268"/>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1" name="Rectangle 1269"/>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2" name="Rectangle 1270"/>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3" name="Rectangle 1271"/>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4" name="Rectangle 1272"/>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5" name="Rectangle 1273"/>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Rectangle 1274"/>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Rectangle 1275"/>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Rectangle 1276"/>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9" name="Rectangle 1277"/>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Rectangle 1278"/>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1" name="Rectangle 1279"/>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2" name="Rectangle 1280"/>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3" name="Rectangle 1281"/>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Rectangle 1282"/>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5" name="Rectangle 1283"/>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Rectangle 1284"/>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7" name="Rectangle 1285"/>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8" name="Rectangle 1286"/>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Rectangle 1287"/>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Rectangle 1288"/>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1" name="Rectangle 1289"/>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Rectangle 1290"/>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Rectangle 1291"/>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Rectangle 1292"/>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Rectangle 1293"/>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6" name="Rectangle 1294"/>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7" name="Rectangle 1295"/>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8" name="Rectangle 1296"/>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9" name="Rectangle 1297"/>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0" name="Rectangle 1298"/>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1" name="Rectangle 1299"/>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2" name="Rectangle 1300"/>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3" name="Rectangle 1301"/>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4" name="Rectangle 1302"/>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5" name="Rectangle 1303"/>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6" name="Rectangle 1304"/>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Rectangle 1305"/>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Rectangle 1306"/>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9" name="Rectangle 1307"/>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0" name="Rectangle 1308"/>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1" name="Rectangle 1309"/>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2" name="Rectangle 1310"/>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3" name="Rectangle 1311"/>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4" name="Rectangle 1312"/>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5" name="Rectangle 1313"/>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6" name="Rectangle 1314"/>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7" name="Rectangle 1315"/>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8" name="Rectangle 1316"/>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9" name="Rectangle 1317"/>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0" name="Rectangle 1318"/>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Rectangle 1319"/>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2" name="Rectangle 1320"/>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3" name="Rectangle 1321"/>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4" name="Rectangle 1322"/>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5" name="Rectangle 1323"/>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6" name="Freeform 1325"/>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7" name="Rectangle 1327"/>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428" name="Rectangle 1328"/>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429" name="Rectangle 1329"/>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430" name="Rectangle 1330"/>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431" name="Rectangle 1331"/>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2" name="Rectangle 1332"/>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433" name="Rectangle 1333"/>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434" name="Rectangle 1334"/>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435" name="Line 1335"/>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36" name="Group 1338"/>
          <p:cNvGrpSpPr/>
          <p:nvPr/>
        </p:nvGrpSpPr>
        <p:grpSpPr>
          <a:xfrm>
            <a:off x="3517920" y="5423040"/>
            <a:ext cx="396720" cy="122040"/>
            <a:chOff x="3517920" y="5423040"/>
            <a:chExt cx="396720" cy="122040"/>
          </a:xfrm>
        </p:grpSpPr>
        <p:sp>
          <p:nvSpPr>
            <p:cNvPr id="1437" name="Line 1336"/>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8" name="Freeform 1337"/>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39" name="Rectangle 1339"/>
          <p:cNvSpPr/>
          <p:nvPr/>
        </p:nvSpPr>
        <p:spPr>
          <a:xfrm>
            <a:off x="1928880" y="3151080"/>
            <a:ext cx="965160" cy="26028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0" name="Rectangle 1340"/>
          <p:cNvSpPr/>
          <p:nvPr/>
        </p:nvSpPr>
        <p:spPr>
          <a:xfrm>
            <a:off x="2084400" y="327348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uerdo</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441" name="Rectangle 1341"/>
          <p:cNvSpPr/>
          <p:nvPr/>
        </p:nvSpPr>
        <p:spPr>
          <a:xfrm>
            <a:off x="1988280" y="34844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ual</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6F4FF356-8CA0-46B4-8069-80ECF78E39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a:t>
            </a:r>
            <a:endParaRPr b="0" lang="en-US" sz="2800" spc="-1" strike="noStrike">
              <a:solidFill>
                <a:srgbClr val="ffff00"/>
              </a:solidFill>
              <a:latin typeface="Times New Roman"/>
            </a:endParaRPr>
          </a:p>
        </p:txBody>
      </p:sp>
      <p:sp>
        <p:nvSpPr>
          <p:cNvPr id="1443" name="PlaceHolder 2"/>
          <p:cNvSpPr>
            <a:spLocks noGrp="1"/>
          </p:cNvSpPr>
          <p:nvPr>
            <p:ph/>
          </p:nvPr>
        </p:nvSpPr>
        <p:spPr>
          <a:xfrm>
            <a:off x="684360" y="191592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bcontratación: En la ley sólo existían dos normas dentro de la protección de las remuneraciones (arts. 64 y 64 bis Código del Trabajo, hoy derogado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transitorio suministrado: Al margen de la ley. Sancionado por Arts. 7, 8 y 478 del Código del Trabaj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9A130F9-9454-4F00-AAD2-0CF1795FC6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 en materia de subcontratación</a:t>
            </a:r>
            <a:endParaRPr b="0" lang="en-US" sz="2800" spc="-1" strike="noStrike">
              <a:solidFill>
                <a:srgbClr val="ffff00"/>
              </a:solidFill>
              <a:latin typeface="Times New Roman"/>
            </a:endParaRPr>
          </a:p>
        </p:txBody>
      </p:sp>
      <p:sp>
        <p:nvSpPr>
          <p:cNvPr id="144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rtículos 64 y 64 bis del Código del Trabajo </a:t>
            </a:r>
            <a:r>
              <a:rPr b="0" lang="es-CL" sz="2400" spc="-1" strike="noStrike" u="sng">
                <a:solidFill>
                  <a:srgbClr val="ffffff"/>
                </a:solidFill>
                <a:uFillTx/>
                <a:latin typeface="Times New Roman"/>
              </a:rPr>
              <a:t>acogía</a:t>
            </a:r>
            <a:r>
              <a:rPr b="0" lang="es-CL" sz="2400" spc="-1" strike="noStrike">
                <a:solidFill>
                  <a:srgbClr val="ffffff"/>
                </a:solidFill>
                <a:latin typeface="Times New Roman"/>
              </a:rPr>
              <a:t> la procedencia de la subcontratación laboral.</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cía la responsabilidad </a:t>
            </a:r>
            <a:r>
              <a:rPr b="0" lang="es-CL" sz="2400" spc="-1" strike="noStrike" u="sng">
                <a:solidFill>
                  <a:srgbClr val="ffffff"/>
                </a:solidFill>
                <a:uFillTx/>
                <a:latin typeface="Times New Roman"/>
              </a:rPr>
              <a:t>subsidiaria</a:t>
            </a:r>
            <a:r>
              <a:rPr b="0" lang="es-CL" sz="2400" spc="-1" strike="noStrike">
                <a:solidFill>
                  <a:srgbClr val="ffffff"/>
                </a:solidFill>
                <a:latin typeface="Times New Roman"/>
              </a:rPr>
              <a:t> de la empresa principal, o dueña de la obra, empresa o faen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xtensión: las </a:t>
            </a:r>
            <a:r>
              <a:rPr b="0" lang="es-CL" sz="2400" spc="-1" strike="noStrike" u="sng">
                <a:solidFill>
                  <a:srgbClr val="ffffff"/>
                </a:solidFill>
                <a:uFillTx/>
                <a:latin typeface="Times New Roman"/>
              </a:rPr>
              <a:t>obligaciones laborales y previsionales</a:t>
            </a:r>
            <a:r>
              <a:rPr b="0" lang="es-CL" sz="2400" spc="-1" strike="noStrike">
                <a:solidFill>
                  <a:srgbClr val="ffffff"/>
                </a:solidFill>
                <a:latin typeface="Times New Roman"/>
              </a:rPr>
              <a:t> de la contratista o subcontratista con sus trabajadore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templaba </a:t>
            </a:r>
            <a:r>
              <a:rPr b="0" lang="es-CL" sz="2400" spc="-1" strike="noStrike" u="sng">
                <a:solidFill>
                  <a:srgbClr val="ffffff"/>
                </a:solidFill>
                <a:uFillTx/>
                <a:latin typeface="Times New Roman"/>
              </a:rPr>
              <a:t>instrumentos</a:t>
            </a:r>
            <a:r>
              <a:rPr b="0" lang="es-CL" sz="2400" spc="-1" strike="noStrike">
                <a:solidFill>
                  <a:srgbClr val="ffffff"/>
                </a:solidFill>
                <a:latin typeface="Times New Roman"/>
              </a:rPr>
              <a:t> para que la empresa principal pudiera resguardarse de la responsabilidad subsidiaria: </a:t>
            </a:r>
            <a:endParaRPr b="0" lang="en-US" sz="24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informa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reten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pago por subrogació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04C520A-748C-4C17-9BA5-26E763F01F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br>
              <a:rPr sz="3600"/>
            </a:br>
            <a:br>
              <a:rPr sz="3600"/>
            </a:br>
            <a:r>
              <a:rPr b="1" lang="es-ES_tradnl" sz="2000" spc="-1" strike="noStrike">
                <a:solidFill>
                  <a:srgbClr val="ffffff"/>
                </a:solidFill>
                <a:latin typeface="Times New Roman"/>
              </a:rPr>
              <a:t>.</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34CF1AE6-36BD-4342-901C-54E34D1581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Normativa sobre Subcontratación.</a:t>
            </a:r>
            <a:endParaRPr b="0" lang="en-US" sz="3600" spc="-1" strike="noStrike">
              <a:solidFill>
                <a:srgbClr val="ffff00"/>
              </a:solidFill>
              <a:latin typeface="Times New Roman"/>
            </a:endParaRPr>
          </a:p>
        </p:txBody>
      </p:sp>
      <p:sp>
        <p:nvSpPr>
          <p:cNvPr id="14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Conceptualiza</a:t>
            </a:r>
            <a:r>
              <a:rPr b="0" lang="en-US" sz="2800" spc="-1" strike="noStrike">
                <a:solidFill>
                  <a:srgbClr val="ffffff"/>
                </a:solidFill>
                <a:latin typeface="Times New Roman"/>
                <a:ea typeface="Arial"/>
              </a:rPr>
              <a:t> qué es el trabajo en régimen de subcontratación.  </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Precisa la responsabilidad</a:t>
            </a:r>
            <a:r>
              <a:rPr b="0" lang="en-US" sz="2800" spc="-1" strike="noStrike">
                <a:solidFill>
                  <a:srgbClr val="ffffff"/>
                </a:solidFill>
                <a:latin typeface="Times New Roman"/>
                <a:ea typeface="Arial"/>
              </a:rPr>
              <a:t> de la empresa principal en las obligaciones laborales y previsionales de dar.</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I.</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Establece </a:t>
            </a:r>
            <a:r>
              <a:rPr b="1" lang="en-US" sz="2800" spc="-1" strike="noStrike">
                <a:solidFill>
                  <a:srgbClr val="ffff00"/>
                </a:solidFill>
                <a:latin typeface="Times New Roman"/>
                <a:ea typeface="Arial"/>
              </a:rPr>
              <a:t>obligaciones</a:t>
            </a:r>
            <a:r>
              <a:rPr b="0" lang="en-US" sz="2800" spc="-1" strike="noStrike">
                <a:solidFill>
                  <a:srgbClr val="ffffff"/>
                </a:solidFill>
                <a:latin typeface="Times New Roman"/>
                <a:ea typeface="Arial"/>
              </a:rPr>
              <a:t> en materia de </a:t>
            </a:r>
            <a:r>
              <a:rPr b="1" lang="en-US" sz="2800" spc="-1" strike="noStrike">
                <a:solidFill>
                  <a:srgbClr val="ffff00"/>
                </a:solidFill>
                <a:latin typeface="Times New Roman"/>
                <a:ea typeface="Arial"/>
              </a:rPr>
              <a:t>protección a la vida y salud</a:t>
            </a:r>
            <a:r>
              <a:rPr b="0" lang="en-US" sz="2800" spc="-1" strike="noStrike">
                <a:solidFill>
                  <a:srgbClr val="ffffff"/>
                </a:solidFill>
                <a:latin typeface="Times New Roman"/>
                <a:ea typeface="Arial"/>
              </a:rPr>
              <a:t> de todos quiénes participen en una misma obra, empresa o faena.</a:t>
            </a: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F0B58E1-08AB-452A-98AF-FB9B2087D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I - Concepto de trabajo en régimen de subcontratación</a:t>
            </a:r>
            <a:endParaRPr b="0" lang="en-US" sz="3200" spc="-1" strike="noStrike">
              <a:solidFill>
                <a:srgbClr val="ffff00"/>
              </a:solidFill>
              <a:latin typeface="Times New Roman"/>
            </a:endParaRPr>
          </a:p>
        </p:txBody>
      </p:sp>
      <p:sp>
        <p:nvSpPr>
          <p:cNvPr id="14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Aquél realizado en virtud de un contrato de trabajo por</a:t>
            </a:r>
            <a:r>
              <a:rPr b="0" lang="es-CL" sz="2400" spc="-1" strike="noStrike" u="sng">
                <a:solidFill>
                  <a:srgbClr val="ffffff"/>
                </a:solidFill>
                <a:uFillTx/>
                <a:latin typeface="Times New Roman"/>
              </a:rPr>
              <a:t> un trabajador</a:t>
            </a:r>
            <a:r>
              <a:rPr b="0" lang="es-CL" sz="2400" spc="-1" strike="noStrike">
                <a:solidFill>
                  <a:srgbClr val="ffffff"/>
                </a:solidFill>
                <a:latin typeface="Times New Roman"/>
              </a:rPr>
              <a:t> para un empleador, denominado </a:t>
            </a:r>
            <a:r>
              <a:rPr b="0" lang="es-CL" sz="2400" spc="-1" strike="noStrike" u="sng">
                <a:solidFill>
                  <a:srgbClr val="ffffff"/>
                </a:solidFill>
                <a:uFillTx/>
                <a:latin typeface="Times New Roman"/>
              </a:rPr>
              <a:t>contratista o subcontratista</a:t>
            </a:r>
            <a:r>
              <a:rPr b="0" lang="es-CL" sz="2400" spc="-1" strike="noStrike">
                <a:solidFill>
                  <a:srgbClr val="ffffff"/>
                </a:solidFill>
                <a:latin typeface="Times New Roman"/>
              </a:rPr>
              <a:t>, cuando éste, en razón de un acuerdo contractual se encarga de ejecutar </a:t>
            </a:r>
            <a:r>
              <a:rPr b="0" lang="es-CL" sz="2400" spc="-1" strike="noStrike" u="sng">
                <a:solidFill>
                  <a:srgbClr val="ffffff"/>
                </a:solidFill>
                <a:uFillTx/>
                <a:latin typeface="Times New Roman"/>
              </a:rPr>
              <a:t>obras o servicios</a:t>
            </a:r>
            <a:r>
              <a:rPr b="0" lang="es-CL" sz="2400" spc="-1" strike="noStrike">
                <a:solidFill>
                  <a:srgbClr val="ffffff"/>
                </a:solidFill>
                <a:latin typeface="Times New Roman"/>
              </a:rPr>
              <a:t>, </a:t>
            </a:r>
            <a:r>
              <a:rPr b="0" lang="es-CL" sz="2400" spc="-1" strike="noStrike" u="sng">
                <a:solidFill>
                  <a:srgbClr val="ffffff"/>
                </a:solidFill>
                <a:uFillTx/>
                <a:latin typeface="Times New Roman"/>
              </a:rPr>
              <a:t>por su cuenta y riesgo</a:t>
            </a:r>
            <a:r>
              <a:rPr b="0" lang="es-CL" sz="2400" spc="-1" strike="noStrike">
                <a:solidFill>
                  <a:srgbClr val="ffffff"/>
                </a:solidFill>
                <a:latin typeface="Times New Roman"/>
              </a:rPr>
              <a:t> y con trabajadores bajo su dependencia, para una tercera persona natural o jurídica </a:t>
            </a:r>
            <a:r>
              <a:rPr b="0" lang="es-CL" sz="2400" spc="-1" strike="noStrike" u="sng">
                <a:solidFill>
                  <a:srgbClr val="ffffff"/>
                </a:solidFill>
                <a:uFillTx/>
                <a:latin typeface="Times New Roman"/>
              </a:rPr>
              <a:t>dueña de la obra, empresa o faena, denominada principal</a:t>
            </a:r>
            <a:r>
              <a:rPr b="0" lang="es-CL" sz="2400" spc="-1" strike="noStrike">
                <a:solidFill>
                  <a:srgbClr val="ffffff"/>
                </a:solidFill>
                <a:latin typeface="Times New Roman"/>
              </a:rPr>
              <a:t>, en la que se desarrollan los servicios o ejecutan las obras contratadas. Con todo, no quedarán sujetos a las normas de este párrafo las obras o los servicios que se ejecutan o prestan de manera </a:t>
            </a:r>
            <a:r>
              <a:rPr b="0" lang="es-CL" sz="2400" spc="-1" strike="noStrike" u="sng">
                <a:solidFill>
                  <a:srgbClr val="ffffff"/>
                </a:solidFill>
                <a:uFillTx/>
                <a:latin typeface="Times New Roman"/>
              </a:rPr>
              <a:t>discontinua o esporádica</a:t>
            </a:r>
            <a:r>
              <a:rPr b="0" lang="es-CL" sz="2400" spc="-1" strike="noStrike">
                <a:solidFill>
                  <a:srgbClr val="ffffff"/>
                </a:solidFill>
                <a:latin typeface="Times New Roman"/>
              </a:rPr>
              <a:t>.” (art. 183-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ermite mayores grados de </a:t>
            </a:r>
            <a:r>
              <a:rPr b="0" lang="es-CL" sz="2400" spc="-1" strike="noStrike" u="sng">
                <a:solidFill>
                  <a:srgbClr val="ffffff"/>
                </a:solidFill>
                <a:uFillTx/>
                <a:latin typeface="Times New Roman"/>
              </a:rPr>
              <a:t>certeza jurídica</a:t>
            </a:r>
            <a:r>
              <a:rPr b="0" lang="es-CL" sz="2400" spc="-1" strike="noStrike">
                <a:solidFill>
                  <a:srgbClr val="ffffff"/>
                </a:solidFill>
                <a:latin typeface="Times New Roman"/>
              </a:rPr>
              <a:t> para precisar el trabajo en régimen de subcontratación.</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A1571E3-9508-4487-9A8F-FBE56BD023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0T18:03:37Z</dcterms:modified>
  <cp:revision>55</cp:revision>
  <dc:subject/>
  <dc:title>Ley Nº 20.123</dc:title>
</cp:coreProperties>
</file>