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move the slide</a:t>
            </a:r>
            <a:endParaRPr b="0" lang="en-US" sz="4000" spc="-1" strike="noStrike">
              <a:solidFill>
                <a:srgbClr val="ff0000"/>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1CBE-9341-4790-8C32-5EC68AC8C1E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552D-3CFB-47DC-A9D1-D733B2D24F2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A07B-4F67-4FD5-8F5D-328C1B685B4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77FB-82BC-4575-97A9-4061AF9A3BE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A86C-042D-46CD-98D4-18ACED7F45F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1167-DB05-480E-9AAA-7083A739D10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8153-303E-46F2-AAE2-E4DD2C60BF8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36BF-095E-4090-813A-73635703334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AB53-0B91-49B9-9EB1-637E519BDC9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5E76-7C4F-4522-9556-57463072E8E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0A3A5-87CC-4F62-927F-080C7E29BE2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A1B1D-40B5-49B7-B3C2-AFCF0FC5B06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FF0E-AB60-402A-AFAB-A0F5C2CD3E6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407C-080A-465D-8231-857A924FC5B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CE47-2267-406C-95C6-A1AE3EC7C8C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3FF3-5DF0-4B7A-AB6E-5F44E612E00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A014-8255-4984-B491-00730106C62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1A5C9-2C6E-4B14-BCFD-904D981FBF5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0FAC-6536-4BF6-88C6-C7389FE3490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162D-2366-42E4-ABEA-EC7CCE11874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9B28B-A6D6-4B7D-A757-6E48608BEEC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BA97-5C08-4979-BED5-703FA013160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A31D-AAA0-4C56-AC06-85DE4EB411C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BD36-DD34-45D2-AF66-33224C5996F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F5655-055D-4F44-8C73-916C0BDD45C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9DB5-36CD-41C5-A3BA-7B7218764F4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0A5F6-71F7-4C04-A9DB-51FE896204E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BC9C-8F4D-43F8-9012-3899FAD615F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ACEC-CD2B-4C79-AAB5-D513E423E69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3E77-4285-4463-9E1D-055E5825BBB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0553-75AA-4AAA-A80A-972AE9362A6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B026-7EEC-4BDE-B2BB-304C6F62279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E162-2665-47FA-8BB0-21828FE3716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E165-6AC3-423D-878C-D6C5E60C737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1F63-C694-4B3A-92CB-35CA2FFFCA9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BEF48-15AB-4B76-81D1-2AF9AC5293A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7975-7AD6-4BAB-B84C-31CCF2E2218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7ADB-22F2-4A06-8755-548F7AEE08E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125CB-9E63-424F-B036-A407C1CB6E7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2B6E-1C16-419F-B9AA-3F9A1FF3096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31BE7-96D9-427F-9069-1BBB63148AA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4C17-2C41-4701-B2EF-226B74AAABA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97FA-9504-4D78-8AD5-FF8199EE89B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D9C7-BBFF-4E4D-9D35-9116E9F48F6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0820-BD3A-4490-BA95-9A09BCC9298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7A6F-6D40-472B-90CE-EC7C0F05530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2001-06BA-4B3E-9CA0-E0D139AE4AB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A058-EBF2-48E2-925C-D706535DAA8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4709-688E-474D-BAC2-8EB52C897A8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51CE-5CC9-4936-ACA0-F88D7C31B02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454E6-7511-4E58-B0DB-E1B8A795D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59CF4-122E-4C25-B19E-677DD214F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3A15F-516E-405B-A5B0-6C8353F34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D668F-59C1-4034-BDDE-413B4C57B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03F83-5D70-42D5-A55A-C9A181F8F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23CA8-532A-4217-9965-99EE37ABF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723A0-A09D-4537-9722-8EEA5D842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9AE29-457C-4031-923E-7C95ED099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75B86-07A4-46F2-BF5B-B223D441F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605FB-D923-4864-83BC-250DD7FD5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8E6FB-2672-4D68-B44E-A79A29209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7008F-7382-4860-A011-5E225DD92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15648-E0DE-4546-884A-BD70C4626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C9EEE-DE31-41C2-88ED-71D14917C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EB659-4350-4FBC-BB9A-613E9B034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1CE6A-B279-4998-8F5B-D51BDC4D5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8EB810-1448-4A66-A6DD-D74B148A9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ACA71-613D-447C-B4AA-4DA7902451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00FCE-80AC-4A5F-AF61-F7648DA50B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1016FD-43AD-43BE-807E-9DD9A3077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5F894-BC8B-4915-A5E0-C2EEA4C2E6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BE60E-D2C6-4BA0-8FE8-FCE4A87307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3C858-E3E3-4A5E-9651-B04C5D44A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C53BD7-D320-4E6C-8775-C1D86F51B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08AE2-3382-4D81-83F4-6673D1E75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78D5E-BDDD-4956-A79D-F5A564C6B7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6FBFB8-A69E-4606-BA9B-4DDCC9B71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80537-5020-45CE-BC1E-05C62912F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79E1DF-8957-41EE-A52E-5C8EB4CF6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CEEEA2-0D45-4E29-887B-AED73EA334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616D3E-DC73-4D0E-9B39-D508ABEAA3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3C0CA-620F-4B0C-94F7-A6CE8DF0A6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094DC5-B0AC-4098-BFCB-852D1639F0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FE9B-9073-42BD-B4DF-BDC6C6B2B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156D6-97E2-4A96-B512-59EC367521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496B44-FB32-4717-AB35-595DB9CAE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54E1D6-C86E-467E-B83B-6DB00AD71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B0A9DE-1828-4340-8CC9-8F67A9DE7B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F7221-B2A6-489B-8DF1-6A9DBBC7B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11056F-AFB3-455D-A375-5A2679BD2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4E059-20A2-4B8E-8C39-56CA15504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A8031E-DAE5-434A-9547-A14E55BF2F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94D86C-9D81-4D49-AEB2-4895243F26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C8B89-E95E-49EA-93C5-1FCCBA359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52A5-E111-4EF0-A5A4-A715D939B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FFFCD-EF2B-4C81-8240-0DA39EB9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2ADE7-0220-4574-880D-2DADD270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A4D6-257E-4FC9-B54B-D49AC25D4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2"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B723-445D-4F05-9F42-6A27F264BE61}"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8AEC7-E5A6-4D31-A1CF-5606CFCFBDE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nvGrpSpPr>
          <p:cNvPr id="42" name="7 Rectángulo redondeado"/>
          <p:cNvGrpSpPr/>
          <p:nvPr/>
        </p:nvGrpSpPr>
        <p:grpSpPr>
          <a:xfrm>
            <a:off x="60480" y="60480"/>
            <a:ext cx="9028080" cy="6711840"/>
            <a:chOff x="60480" y="60480"/>
            <a:chExt cx="9028080" cy="6711840"/>
          </a:xfrm>
        </p:grpSpPr>
        <p:pic>
          <p:nvPicPr>
            <p:cNvPr id="43" name="7 Rectángulo redondeado" descr=""/>
            <p:cNvPicPr/>
            <p:nvPr/>
          </p:nvPicPr>
          <p:blipFill>
            <a:blip r:embed="rId3"/>
            <a:stretch/>
          </p:blipFill>
          <p:spPr>
            <a:xfrm>
              <a:off x="60480" y="60480"/>
              <a:ext cx="9028080" cy="6711840"/>
            </a:xfrm>
            <a:prstGeom prst="rect">
              <a:avLst/>
            </a:prstGeom>
            <a:ln w="0">
              <a:noFill/>
            </a:ln>
          </p:spPr>
        </p:pic>
        <p:sp>
          <p:nvSpPr>
            <p:cNvPr id="4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45" name="8 Rectángulo"/>
          <p:cNvSpPr/>
          <p:nvPr/>
        </p:nvSpPr>
        <p:spPr>
          <a:xfrm flipV="1">
            <a:off x="69840" y="2376000"/>
            <a:ext cx="9013680" cy="92160"/>
          </a:xfrm>
          <a:prstGeom prst="rect">
            <a:avLst/>
          </a:prstGeom>
          <a:solidFill>
            <a:srgbClr val="00008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6" name="9 Rectángulo"/>
          <p:cNvSpPr/>
          <p:nvPr/>
        </p:nvSpPr>
        <p:spPr>
          <a:xfrm>
            <a:off x="69840" y="2341440"/>
            <a:ext cx="901368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7" name="10 Rectángulo"/>
          <p:cNvSpPr/>
          <p:nvPr/>
        </p:nvSpPr>
        <p:spPr>
          <a:xfrm>
            <a:off x="68400" y="2468520"/>
            <a:ext cx="9015120" cy="4608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3074-8CD6-4A07-AD03-B756BC7360A7}"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7B7C-266F-47DF-A44C-2ADED055EFD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0"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2" name="9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97E1E-CCC2-4BB5-81F8-0F4A720628FE}"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213120" y="62773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AD9C-0991-43A6-9A73-A718CB5C8A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5"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6" name="8 Rectángulo"/>
          <p:cNvSpPr/>
          <p:nvPr/>
        </p:nvSpPr>
        <p:spPr>
          <a:xfrm flipV="1">
            <a:off x="68400" y="4682160"/>
            <a:ext cx="9007200" cy="91800"/>
          </a:xfrm>
          <a:prstGeom prst="rect">
            <a:avLst/>
          </a:prstGeom>
          <a:solidFill>
            <a:srgbClr val="000082"/>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7" name="9 Rectángulo"/>
          <p:cNvSpPr/>
          <p:nvPr/>
        </p:nvSpPr>
        <p:spPr>
          <a:xfrm>
            <a:off x="68400" y="4649760"/>
            <a:ext cx="900720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8" name="10 Rectángulo"/>
          <p:cNvSpPr/>
          <p:nvPr/>
        </p:nvSpPr>
        <p:spPr>
          <a:xfrm>
            <a:off x="68400" y="4773600"/>
            <a:ext cx="9007200" cy="4752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A3ECF-88D8-4950-8A00-635944E82FE1}"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AE03-563E-4B3E-B5DC-3473C1DBB9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397C-267E-4239-99B3-0C64C15441D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88" name="PlaceHolder 1"/>
          <p:cNvSpPr>
            <a:spLocks noGrp="1"/>
          </p:cNvSpPr>
          <p:nvPr>
            <p:ph type="title"/>
          </p:nvPr>
        </p:nvSpPr>
        <p:spPr>
          <a:xfrm>
            <a:off x="685800" y="2130120"/>
            <a:ext cx="7772400" cy="1469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Franklin Gothic Book"/>
              </a:rPr>
              <a:t>JORNADA DE TRABAJO </a:t>
            </a:r>
            <a:br>
              <a:rPr sz="3600"/>
            </a:br>
            <a:r>
              <a:rPr b="0" lang="es-CL" sz="3600" spc="-1" strike="noStrike">
                <a:solidFill>
                  <a:srgbClr val="ff0000"/>
                </a:solidFill>
                <a:latin typeface="Franklin Gothic Book"/>
              </a:rPr>
              <a:t>Y </a:t>
            </a:r>
            <a:br>
              <a:rPr sz="3600"/>
            </a:br>
            <a:r>
              <a:rPr b="0" lang="es-CL" sz="3600" spc="-1" strike="noStrike">
                <a:solidFill>
                  <a:srgbClr val="ff0000"/>
                </a:solidFill>
                <a:latin typeface="Franklin Gothic Book"/>
              </a:rPr>
              <a:t>DESCANSOS</a:t>
            </a:r>
            <a:br>
              <a:rPr sz="3600"/>
            </a:br>
            <a:r>
              <a:rPr b="0" lang="es-C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99"/>
                </a:solidFill>
                <a:latin typeface="Perpetua"/>
              </a:rPr>
              <a:t>Andrés Aylwin Chiorrini</a:t>
            </a:r>
            <a:endParaRPr b="0" lang="en-US" sz="2600" spc="-1" strike="noStrike">
              <a:solidFill>
                <a:srgbClr val="000099"/>
              </a:solidFill>
              <a:latin typeface="Arial"/>
            </a:endParaRPr>
          </a:p>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Mayo 2010</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BE2D-7EB6-4C75-A1E7-4F9FF9E94EC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23"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Perpetua"/>
                <a:ea typeface="Tahoma"/>
              </a:rPr>
              <a:t>	</a:t>
            </a:r>
            <a:r>
              <a:rPr b="0" lang="es-MX" sz="2400" spc="-1" strike="noStrike">
                <a:solidFill>
                  <a:srgbClr val="000099"/>
                </a:solidFill>
                <a:latin typeface="Perpetua"/>
                <a:ea typeface="Tahoma"/>
              </a:rPr>
              <a:t>S</a:t>
            </a:r>
            <a:r>
              <a:rPr b="0" lang="es-ES" sz="2400" spc="-1" strike="noStrike">
                <a:solidFill>
                  <a:srgbClr val="000099"/>
                </a:solidFill>
                <a:latin typeface="Perpetua"/>
                <a:ea typeface="Tahoma"/>
              </a:rPr>
              <a:t>i los </a:t>
            </a:r>
            <a:r>
              <a:rPr b="0" lang="es-ES" sz="2400" spc="-1" strike="noStrike" u="sng">
                <a:solidFill>
                  <a:srgbClr val="000099"/>
                </a:solidFill>
                <a:uFillTx/>
                <a:latin typeface="Perpetua"/>
                <a:ea typeface="Tahoma"/>
              </a:rPr>
              <a:t>traslados</a:t>
            </a:r>
            <a:r>
              <a:rPr b="0" lang="es-ES" sz="2400" spc="-1" strike="noStrike">
                <a:solidFill>
                  <a:srgbClr val="000099"/>
                </a:solidFill>
                <a:latin typeface="Perpetua"/>
                <a:ea typeface="Tahoma"/>
              </a:rPr>
              <a:t> a que se refiere la presente consulta, se efectúan </a:t>
            </a:r>
            <a:r>
              <a:rPr b="0" lang="es-ES" sz="2400" spc="-1" strike="noStrike" u="sng">
                <a:solidFill>
                  <a:srgbClr val="000099"/>
                </a:solidFill>
                <a:uFillTx/>
                <a:latin typeface="Perpetua"/>
                <a:ea typeface="Tahoma"/>
              </a:rPr>
              <a:t>con anterioridad al inicio de la jornada de trabajo y con posterioridad a la conclusión de la misma</a:t>
            </a:r>
            <a:r>
              <a:rPr b="0" lang="es-ES" sz="2400" spc="-1" strike="noStrike">
                <a:solidFill>
                  <a:srgbClr val="000099"/>
                </a:solidFill>
                <a:latin typeface="Perpetua"/>
                <a:ea typeface="Tahoma"/>
              </a:rPr>
              <a:t>, es decir, fuera de la jornada laboral pactada por los dependientes de que se trata, en opinión de este Servicio, el tiempo que éstos comprenden </a:t>
            </a:r>
            <a:r>
              <a:rPr b="0" lang="es-ES" sz="2400" spc="-1" strike="noStrike" u="sng">
                <a:solidFill>
                  <a:srgbClr val="000099"/>
                </a:solidFill>
                <a:uFillTx/>
                <a:latin typeface="Perpetua"/>
                <a:ea typeface="Tahoma"/>
              </a:rPr>
              <a:t>no constituye jornada</a:t>
            </a:r>
            <a:r>
              <a:rPr b="0" lang="es-ES" sz="2400" spc="-1" strike="noStrike">
                <a:solidFill>
                  <a:srgbClr val="000099"/>
                </a:solidFill>
                <a:latin typeface="Perpetua"/>
                <a:ea typeface="Tahoma"/>
              </a:rPr>
              <a:t> de trabajo, dado que en ese intertanto no existe una efectiva prestación de servicios por parte de dichos dependientes y no es dable por lo mismo, considerar tales períodos como tiempo de inactividad laboral en los términos previstos en el inciso 2º del artículo 21 del Código del Trabajo. (</a:t>
            </a:r>
            <a:r>
              <a:rPr b="0" lang="es-MX" sz="2400" spc="-1" strike="noStrike">
                <a:solidFill>
                  <a:srgbClr val="000099"/>
                </a:solidFill>
                <a:latin typeface="Perpetua"/>
                <a:ea typeface="Tahoma"/>
              </a:rPr>
              <a:t>Dictamen DDT </a:t>
            </a:r>
            <a:r>
              <a:rPr b="0" lang="es-ES" sz="2400" spc="-1" strike="noStrike">
                <a:solidFill>
                  <a:srgbClr val="000099"/>
                </a:solidFill>
                <a:latin typeface="Perpetua"/>
                <a:ea typeface="Tahoma"/>
              </a:rPr>
              <a:t>Nº 4655/176 09.11.2004</a:t>
            </a:r>
            <a:r>
              <a:rPr b="0" lang="es-MX" sz="2400" spc="-1" strike="noStrike">
                <a:solidFill>
                  <a:srgbClr val="000099"/>
                </a:solidFill>
                <a:latin typeface="Perpetua"/>
                <a:ea typeface="Tahoma"/>
              </a:rPr>
              <a:t>)</a:t>
            </a:r>
            <a:endParaRPr b="0" lang="en-US" sz="24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p:txBody>
      </p:sp>
      <p:sp>
        <p:nvSpPr>
          <p:cNvPr id="22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1987-B5BB-4620-BF57-7CF2BB9A791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Jornada de trabajo convencional o pactada</a:t>
            </a:r>
            <a:endParaRPr b="0" lang="en-US" sz="2800" spc="-1" strike="noStrike">
              <a:solidFill>
                <a:srgbClr val="ff0000"/>
              </a:solidFill>
              <a:latin typeface="Arial"/>
            </a:endParaRPr>
          </a:p>
        </p:txBody>
      </p:sp>
      <p:sp>
        <p:nvSpPr>
          <p:cNvPr id="227"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 jornada de trabajo es uno de los requisitos que debe contener el contrato de trabajo.</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l art. 10 Nº5 establece que el contrato debe contener: </a:t>
            </a:r>
            <a:endParaRPr b="0" lang="en-US" sz="20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5. duración y distribución de la jornada de trabajo, salvo que en la empresa existiere el sistema de trabajo por turno, caso en el cual se estará a lo dispuesto en el reglamento interno.” (ART.10 C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s partes no son libres para pactar la jornada que deseen, pues la ley establece normas sobre duración y distribución de jornada ordinaria de trabajo que deben respetarse, son </a:t>
            </a:r>
            <a:r>
              <a:rPr b="1" lang="es-CL" sz="2000" spc="-1" strike="noStrike">
                <a:solidFill>
                  <a:srgbClr val="000099"/>
                </a:solidFill>
                <a:latin typeface="Perpetua"/>
              </a:rPr>
              <a:t>Derechos Irrenunciables,</a:t>
            </a:r>
            <a:r>
              <a:rPr b="0" lang="es-CL" sz="2000" spc="-1" strike="noStrike">
                <a:solidFill>
                  <a:srgbClr val="000099"/>
                </a:solidFill>
                <a:latin typeface="Perpetua"/>
              </a:rPr>
              <a:t> pudiendo modificarse solamente estableciendo una regulación más favorable para el trabaj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4CF5-D8C3-4511-ACF9-0E8870A2897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ff0000"/>
                </a:solidFill>
                <a:latin typeface="Franklin Gothic Book"/>
              </a:rPr>
              <a:t>Estipulación contractual sobre jornada</a:t>
            </a:r>
            <a:endParaRPr b="0" lang="en-US" sz="3000" spc="-1" strike="noStrike">
              <a:solidFill>
                <a:srgbClr val="ff0000"/>
              </a:solidFill>
              <a:latin typeface="Arial"/>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	</a:t>
            </a:r>
            <a:endParaRPr b="0" lang="en-US" sz="24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200" spc="-1" strike="noStrike">
                <a:solidFill>
                  <a:srgbClr val="000099"/>
                </a:solidFill>
                <a:latin typeface="Perpetua"/>
              </a:rPr>
              <a:t>"Duración y distribución de la jornada de trabajo </a:t>
            </a:r>
            <a:r>
              <a:rPr b="0" lang="es-ES" sz="2200" spc="-1" strike="noStrike" u="sng">
                <a:solidFill>
                  <a:srgbClr val="000099"/>
                </a:solidFill>
                <a:uFillTx/>
                <a:latin typeface="Perpetua"/>
              </a:rPr>
              <a:t>debe estar estipulada en el contrato, salvo que existiera en la empresa el sistema de trabajo por turno regulado en el reglamento interno</a:t>
            </a:r>
            <a:r>
              <a:rPr b="0" lang="es-ES" sz="2200" spc="-1" strike="noStrike">
                <a:solidFill>
                  <a:srgbClr val="000099"/>
                </a:solidFill>
                <a:latin typeface="Perpetua"/>
              </a:rPr>
              <a:t>, el cual, a su vez, debe contener, por lo menos, las disposiciones acerca de las horas en que empieza y termina el trabajo de cada turno, si las labores se efectúan por equipos.  La intención del legislador ha quedado claramente manifestada en el sentido de que el dependiente conozca con </a:t>
            </a:r>
            <a:r>
              <a:rPr b="1" lang="es-ES" sz="2200" spc="-1" strike="noStrike">
                <a:solidFill>
                  <a:srgbClr val="000099"/>
                </a:solidFill>
                <a:latin typeface="Perpetua"/>
              </a:rPr>
              <a:t>certeza su horario de trabajo</a:t>
            </a:r>
            <a:r>
              <a:rPr b="0" lang="es-ES" sz="2200" spc="-1" strike="noStrike">
                <a:solidFill>
                  <a:srgbClr val="000099"/>
                </a:solidFill>
                <a:latin typeface="Perpetua"/>
              </a:rPr>
              <a:t>, evitando así quedar al arbitrio del empleador". </a:t>
            </a:r>
            <a:r>
              <a:rPr b="0" lang="es-MX" sz="2200" spc="-1" strike="noStrike">
                <a:solidFill>
                  <a:srgbClr val="000099"/>
                </a:solidFill>
                <a:latin typeface="Perpetua"/>
              </a:rPr>
              <a:t>(Dictamen DDT</a:t>
            </a:r>
            <a:r>
              <a:rPr b="0" lang="es-ES" sz="2200" spc="-1" strike="noStrike">
                <a:solidFill>
                  <a:srgbClr val="000099"/>
                </a:solidFill>
                <a:latin typeface="Perpetua"/>
              </a:rPr>
              <a:t> N° 4100/0233, de 12.08.1999</a:t>
            </a:r>
            <a:r>
              <a:rPr b="0" lang="es-MX" sz="2200" spc="-1" strike="noStrike">
                <a:solidFill>
                  <a:srgbClr val="000099"/>
                </a:solidFill>
                <a:latin typeface="Perpetua"/>
              </a:rPr>
              <a:t>)</a:t>
            </a:r>
            <a:endParaRPr b="0" lang="en-US" sz="22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p:txBody>
      </p:sp>
      <p:sp>
        <p:nvSpPr>
          <p:cNvPr id="23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965D-83E5-462F-BA3A-C825CC5378C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Estipulación contractual sobre jornada </a:t>
            </a:r>
            <a:endParaRPr b="0" lang="en-US" sz="2800" spc="-1" strike="noStrike">
              <a:solidFill>
                <a:srgbClr val="ff0000"/>
              </a:solidFill>
              <a:latin typeface="Arial"/>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endParaRPr b="0" lang="en-US" sz="28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200" spc="-1" strike="noStrike">
                <a:solidFill>
                  <a:srgbClr val="000099"/>
                </a:solidFill>
                <a:latin typeface="Perpetua"/>
                <a:ea typeface="Times New Roman"/>
              </a:rPr>
              <a:t>"En el evento que en la Empresa exista un sistema de trabajo por turnos y este se encuentre establecido en el Reglamento Interno, no existe inconveniente en que el empleador modifique dicha disposición reglamentaria siempre que </a:t>
            </a:r>
            <a:r>
              <a:rPr b="0" lang="es-ES" sz="2200" spc="-1" strike="noStrike" u="sng">
                <a:solidFill>
                  <a:srgbClr val="000099"/>
                </a:solidFill>
                <a:uFillTx/>
                <a:latin typeface="Perpetua"/>
                <a:ea typeface="Times New Roman"/>
              </a:rPr>
              <a:t>ponga en conocimiento de los trabajadores tales modificaciones con quince días</a:t>
            </a:r>
            <a:r>
              <a:rPr b="0" lang="es-MX" sz="2200" spc="-1" strike="noStrike" u="sng">
                <a:solidFill>
                  <a:srgbClr val="000099"/>
                </a:solidFill>
                <a:uFillTx/>
                <a:latin typeface="Perpetua"/>
                <a:ea typeface="Times New Roman"/>
              </a:rPr>
              <a:t> (30 días actualmente)</a:t>
            </a:r>
            <a:r>
              <a:rPr b="0" lang="es-ES" sz="2200" spc="-1" strike="noStrike">
                <a:solidFill>
                  <a:srgbClr val="000099"/>
                </a:solidFill>
                <a:latin typeface="Perpetua"/>
                <a:ea typeface="Times New Roman"/>
              </a:rPr>
              <a:t> de anticipación contados desde la fecha en que comiencen a regir y las fijare en dos sitios visibles, a lo menos, del lugar de las faenas con la misma antelación". </a:t>
            </a:r>
            <a:r>
              <a:rPr b="0" lang="es-MX" sz="2200" spc="-1" strike="noStrike">
                <a:solidFill>
                  <a:srgbClr val="000099"/>
                </a:solidFill>
                <a:latin typeface="Perpetua"/>
                <a:ea typeface="Times New Roman"/>
              </a:rPr>
              <a:t>(Dictamen DDT</a:t>
            </a:r>
            <a:r>
              <a:rPr b="0" lang="es-ES" sz="2200" spc="-1" strike="noStrike">
                <a:solidFill>
                  <a:srgbClr val="000099"/>
                </a:solidFill>
                <a:latin typeface="Perpetua"/>
                <a:ea typeface="Times New Roman"/>
              </a:rPr>
              <a:t> N° 306/025, de 18.01.1994</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3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CCE2-A7C7-4379-BCF8-AE281F213BA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Franklin Gothic Book"/>
              </a:rPr>
              <a:t>1. Jornada ordinaria de trabajo</a:t>
            </a:r>
            <a:br>
              <a:rPr sz="3200"/>
            </a:br>
            <a:endParaRPr b="0" lang="en-US" sz="3200" spc="-1" strike="noStrike">
              <a:solidFill>
                <a:srgbClr val="ff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fontScale="85000"/>
          </a:bodyPr>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ímite semanal de la jornada de trabajo (inciso 1º art. 22): </a:t>
            </a:r>
            <a:r>
              <a:rPr b="0" lang="es-CL" sz="2000" spc="-1" strike="noStrike" u="sng">
                <a:solidFill>
                  <a:srgbClr val="000099"/>
                </a:solidFill>
                <a:uFillTx/>
                <a:latin typeface="Perpetua"/>
              </a:rPr>
              <a:t>máximo de 45 horas semanales</a:t>
            </a:r>
            <a:r>
              <a:rPr b="0" lang="es-CL" sz="2000" spc="-1" strike="noStrike">
                <a:solidFill>
                  <a:srgbClr val="000099"/>
                </a:solidFill>
                <a:latin typeface="Perpetua"/>
              </a:rPr>
              <a:t>. Este límite máximo es un derecho irrenunciable del trabajador, no pudiendo pactar condiciones más gravos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istribución máxima semanal (art. 28): el máximo ordinario de 45 horas semanales, </a:t>
            </a:r>
            <a:r>
              <a:rPr b="0" lang="es-ES" sz="2000" spc="-1" strike="noStrike" u="sng">
                <a:solidFill>
                  <a:srgbClr val="000099"/>
                </a:solidFill>
                <a:uFillTx/>
                <a:latin typeface="Perpetua"/>
              </a:rPr>
              <a:t>no podrá distribuirse en más de seis ni en menos de cinco dí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Extensión máxima diaria (art. 28): </a:t>
            </a:r>
            <a:r>
              <a:rPr b="0" lang="es-ES" sz="2000" spc="-1" strike="noStrike" u="sng">
                <a:solidFill>
                  <a:srgbClr val="000099"/>
                </a:solidFill>
                <a:uFillTx/>
                <a:latin typeface="Perpetua"/>
              </a:rPr>
              <a:t>no puede exceder de diez horas diarias</a:t>
            </a:r>
            <a:r>
              <a:rPr b="0" lang="es-ES" sz="2000" spc="-1" strike="noStrike">
                <a:solidFill>
                  <a:srgbClr val="000099"/>
                </a:solidFill>
                <a:latin typeface="Perpetua"/>
              </a:rPr>
              <a:t>.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jornada ordinaria de trabajo no se puede distribuir en forma que incluya el día domingo y festivos, salvo que se trate de empresas o faenas exceptuadas del descanso de tales días o de fuerza mayor (art. 37).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rPr>
              <a:t>Concepto de Semana: aquella que dura un período continuo de siete días, sin que sea menester que se extienda de lunes a domingo, de suerte que resulta como tal la que va de jueves a viernes. (Dictamen DDT N°3.781 de 06.10.1981)</a:t>
            </a:r>
            <a:endParaRPr b="0" lang="en-US" sz="2000" spc="-1" strike="noStrike">
              <a:solidFill>
                <a:srgbClr val="000099"/>
              </a:solidFill>
              <a:latin typeface="Arial"/>
            </a:endParaRPr>
          </a:p>
          <a:p>
            <a:pPr marL="231840" indent="-2318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C354-F88A-4CDC-B19C-D2AA23EBE7F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Arial"/>
              </a:rPr>
              <a:t>Facultad del empleador para alterar la  distribución de la jornada diaria de trabajo</a:t>
            </a:r>
            <a:br>
              <a:rPr sz="2800"/>
            </a:br>
            <a:r>
              <a:rPr b="1" lang="es-ES" sz="2800" spc="-1" strike="noStrike">
                <a:solidFill>
                  <a:srgbClr val="ff0000"/>
                </a:solidFill>
                <a:latin typeface="Franklin Gothic Book"/>
                <a:ea typeface="Arial"/>
              </a:rPr>
              <a:t>(Ius Variandi)</a:t>
            </a:r>
            <a:endParaRPr b="0" lang="en-US" sz="2800" spc="-1" strike="noStrike">
              <a:solidFill>
                <a:srgbClr val="ff0000"/>
              </a:solidFill>
              <a:latin typeface="Arial"/>
            </a:endParaRPr>
          </a:p>
        </p:txBody>
      </p:sp>
      <p:sp>
        <p:nvSpPr>
          <p:cNvPr id="243" name=""/>
          <p:cNvSpPr txBox="1"/>
          <p:nvPr/>
        </p:nvSpPr>
        <p:spPr>
          <a:xfrm>
            <a:off x="914400" y="1447920"/>
            <a:ext cx="7772400" cy="4572000"/>
          </a:xfrm>
          <a:prstGeom prst="rect">
            <a:avLst/>
          </a:prstGeom>
          <a:noFill/>
          <a:ln w="0">
            <a:noFill/>
          </a:ln>
        </p:spPr>
        <p:txBody>
          <a:bodyPr anchor="t">
            <a:normAutofit fontScale="94000"/>
          </a:bodyPr>
          <a:p>
            <a:pPr marL="256320" indent="-2563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Arial"/>
              </a:rPr>
              <a:t>	</a:t>
            </a:r>
            <a:r>
              <a:rPr b="0" lang="es-ES" sz="2000" spc="-1" strike="noStrike">
                <a:solidFill>
                  <a:srgbClr val="000099"/>
                </a:solidFill>
                <a:latin typeface="Perpetua"/>
                <a:ea typeface="Arial"/>
              </a:rPr>
              <a:t>Art. 12: Por circunstancias que afecten a todo el proceso de la empresa o establecimiento o a alguna de sus unidades o conjuntos operativos, podrá el empleador alterar la distribución de la jornada de trabajo convenida hasta en sesenta minutos, sea anticipando o postergando la hora de ingreso al trabajo, debiendo dar el aviso correspondiente al trabajador con treinta días de anticipación a lo menos.</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r>
              <a:rPr b="0" lang="es-CL" sz="2000" spc="-1" strike="noStrike">
                <a:solidFill>
                  <a:srgbClr val="000099"/>
                </a:solidFill>
                <a:latin typeface="Perpetua"/>
                <a:ea typeface="Arial"/>
              </a:rPr>
              <a:t>Art. 29: Podrá extenderse la jornada ordinaria, pero en la medida indispensable para evitar perjuicios en la marcha normal de la empresa, cuando sobrevenga caso fortuito o fuerza mayor, o cuando deban impedirse accidentes o efectuarse arreglos o reparaciones impostergables en las maquinarias o instalaciones. Las horas trabajadas en exceso se pagan como extraordinarias. </a:t>
            </a:r>
            <a:r>
              <a:rPr b="1" lang="es-CL" sz="2000" spc="-1" strike="noStrike">
                <a:solidFill>
                  <a:srgbClr val="000099"/>
                </a:solidFill>
                <a:latin typeface="Perpetua"/>
                <a:ea typeface="Arial"/>
              </a:rPr>
              <a:t>Jornada prolongada o jornada ampliada.</a:t>
            </a:r>
            <a:r>
              <a:rPr b="0" lang="es-CL" sz="2000" spc="-1" strike="noStrike">
                <a:solidFill>
                  <a:srgbClr val="000099"/>
                </a:solidFill>
                <a:latin typeface="Perpetua"/>
                <a:ea typeface="Arial"/>
              </a:rPr>
              <a:t> </a:t>
            </a:r>
            <a:endParaRPr b="0" lang="en-US" sz="2000" spc="-1" strike="noStrike">
              <a:solidFill>
                <a:srgbClr val="000099"/>
              </a:solidFill>
              <a:latin typeface="Arial"/>
            </a:endParaRPr>
          </a:p>
        </p:txBody>
      </p:sp>
      <p:sp>
        <p:nvSpPr>
          <p:cNvPr id="24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BC37-B337-487D-B48A-C5B091A7EB3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Personal excluido de la limitación de jornada </a:t>
            </a:r>
            <a:br>
              <a:rPr sz="2800"/>
            </a:br>
            <a:r>
              <a:rPr b="1" lang="es-CL" sz="2800" spc="-1" strike="noStrike">
                <a:solidFill>
                  <a:srgbClr val="ff0000"/>
                </a:solidFill>
                <a:latin typeface="Franklin Gothic Book"/>
              </a:rPr>
              <a:t>(art. 22 inc. 2, 3, 4, 5 y 6)</a:t>
            </a:r>
            <a:endParaRPr b="0" lang="en-US" sz="2800" spc="-1" strike="noStrike">
              <a:solidFill>
                <a:srgbClr val="ff0000"/>
              </a:solidFill>
              <a:latin typeface="Arial"/>
            </a:endParaRPr>
          </a:p>
        </p:txBody>
      </p:sp>
      <p:sp>
        <p:nvSpPr>
          <p:cNvPr id="247" name=""/>
          <p:cNvSpPr txBox="1"/>
          <p:nvPr/>
        </p:nvSpPr>
        <p:spPr>
          <a:xfrm>
            <a:off x="914400" y="1447920"/>
            <a:ext cx="7772400" cy="4572000"/>
          </a:xfrm>
          <a:prstGeom prst="rect">
            <a:avLst/>
          </a:prstGeom>
          <a:noFill/>
          <a:ln w="0">
            <a:noFill/>
          </a:ln>
        </p:spPr>
        <p:txBody>
          <a:bodyPr anchor="t">
            <a:normAutofit fontScale="86000"/>
          </a:bodyPr>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que presten servicios a distintos empleadores,</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gerentes, administradores, apoderados con facultades de administración y todos aquellos  que laboren sin fiscalización superior inmediata,</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Los contratados de acuerdo con el Código del Trabajo para prestar servicios en su propio hogar o en un lugar libremente elegido por ellos, </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os agentes comisionistas o de seguros, vendedores viajantes, cobradores y demás similares que no ejerzan sus funciones en el local del establecimient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os que se desempeñen a bordo de naves pesqueras y</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quellos contratados para prestar servicios preferentemente fuera del lugar o sitio de funcionamiento de la empresa, mediante la utilización de medios informáticos o de telecomunicaciones. </a:t>
            </a:r>
            <a:r>
              <a:rPr b="1" lang="es-CL" sz="2000" spc="-1" strike="noStrike">
                <a:solidFill>
                  <a:srgbClr val="000099"/>
                </a:solidFill>
                <a:latin typeface="Perpetua"/>
              </a:rPr>
              <a:t>Teletrabaj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Los deportistas profesionales y trabajadores que desarrollen actividades conexas.</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4D01-E31A-45E5-877F-A8AE7B7CA5E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Sin fiscalización superior inmediata …</a:t>
            </a:r>
            <a:br>
              <a:rPr sz="2800"/>
            </a:br>
            <a:r>
              <a:rPr b="1" lang="es-CL" sz="2800" spc="-1" strike="noStrike">
                <a:solidFill>
                  <a:srgbClr val="ff0000"/>
                </a:solidFill>
                <a:latin typeface="Franklin Gothic Book"/>
              </a:rPr>
              <a:t>(</a:t>
            </a:r>
            <a:r>
              <a:rPr b="1" lang="es-ES" sz="2800" spc="-1" strike="noStrike">
                <a:solidFill>
                  <a:srgbClr val="ff0000"/>
                </a:solidFill>
                <a:latin typeface="Franklin Gothic Book"/>
              </a:rPr>
              <a:t>Dictamen Nº 323/22, de 24.01.2000)</a:t>
            </a:r>
            <a:br>
              <a:rPr sz="2800"/>
            </a:br>
            <a:endParaRPr b="0" lang="en-US" sz="2800" spc="-1" strike="noStrike">
              <a:solidFill>
                <a:srgbClr val="ff0000"/>
              </a:solidFill>
              <a:latin typeface="Arial"/>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existe fiscalización superior inmediata cuando concurren los siguientes requisitos copulativamente:</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 Crítica o enjuiciamiento de la labor desarrollada, lo que significa, en otros términos, una supervisión o control de los servicios prestados;</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b) Que esta supervisión o control sea efectuada por personas de mayor rango o jerarquía dentro de la empresa o establecimiento, y</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c) Que la misma sea ejercida en forma contigua o cercana, requisito éste que debe entenderse en el sentido de proximidad funcional entre quien supervisa o fiscaliza y quien ejecuta la labor.</a:t>
            </a:r>
            <a:r>
              <a:rPr b="0" lang="es-ES" sz="2000" spc="-1" strike="noStrike">
                <a:solidFill>
                  <a:srgbClr val="000099"/>
                </a:solidFill>
                <a:latin typeface="Perpetua"/>
              </a:rPr>
              <a: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2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BA80-81D9-43D3-9BF5-D4B287DC684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secuencias de estar excluido de la limitación horaria</a:t>
            </a:r>
            <a:endParaRPr b="0" lang="en-US" sz="2800" spc="-1" strike="noStrike">
              <a:solidFill>
                <a:srgbClr val="ff0000"/>
              </a:solidFill>
              <a:latin typeface="Arial"/>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jornada de trabaj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derecho a sobresueld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rige sobre ellos el control de asistencia. </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La duración de su presencia en el lugar de trabajo está determinada por la actividad a desarrollar.</a:t>
            </a:r>
            <a:endParaRPr b="0" lang="en-US" sz="2400" spc="-1" strike="noStrike">
              <a:solidFill>
                <a:srgbClr val="000099"/>
              </a:solidFill>
              <a:latin typeface="Arial"/>
            </a:endParaRPr>
          </a:p>
        </p:txBody>
      </p:sp>
      <p:sp>
        <p:nvSpPr>
          <p:cNvPr id="2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FCF39-B43D-4F2B-9497-2075CD906D1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Presunción de estar afecto a jornada (42 letra a)</a:t>
            </a:r>
            <a:r>
              <a:rPr b="1" lang="es-ES_tradn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53440" indent="-2534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Perpetua"/>
              </a:rPr>
              <a:t>	</a:t>
            </a:r>
            <a:r>
              <a:rPr b="0" i="1" lang="es-ES" sz="2400" spc="-1" strike="noStrike">
                <a:solidFill>
                  <a:srgbClr val="000099"/>
                </a:solidFill>
                <a:latin typeface="Perpetua"/>
              </a:rPr>
              <a:t>“</a:t>
            </a:r>
            <a:r>
              <a:rPr b="0" i="1" lang="es-ES" sz="2400" spc="-1" strike="noStrike">
                <a:solidFill>
                  <a:srgbClr val="000099"/>
                </a:solidFill>
                <a:latin typeface="Perpetua"/>
              </a:rPr>
              <a:t>Sin perjuicio de lo dispuesto en el inciso segundo del artículo 22, se presumirá que el trabajador está afecto a cumplimiento de jornada cuando debiere </a:t>
            </a:r>
            <a:r>
              <a:rPr b="0" i="1" lang="es-ES" sz="2400" spc="-1" strike="noStrike" u="sng">
                <a:solidFill>
                  <a:srgbClr val="000099"/>
                </a:solidFill>
                <a:uFillTx/>
                <a:latin typeface="Perpetua"/>
              </a:rPr>
              <a:t>registrar</a:t>
            </a:r>
            <a:r>
              <a:rPr b="0" i="1" lang="es-ES" sz="2400" spc="-1" strike="noStrike">
                <a:solidFill>
                  <a:srgbClr val="000099"/>
                </a:solidFill>
                <a:latin typeface="Perpetua"/>
              </a:rPr>
              <a:t> por cualquier medio y en cualquier momento del día </a:t>
            </a:r>
            <a:r>
              <a:rPr b="0" i="1" lang="es-ES" sz="2400" spc="-1" strike="noStrike" u="sng">
                <a:solidFill>
                  <a:srgbClr val="000099"/>
                </a:solidFill>
                <a:uFillTx/>
                <a:latin typeface="Perpetua"/>
              </a:rPr>
              <a:t>el ingreso o egreso a sus labores</a:t>
            </a:r>
            <a:r>
              <a:rPr b="0" i="1" lang="es-ES" sz="2400" spc="-1" strike="noStrike">
                <a:solidFill>
                  <a:srgbClr val="000099"/>
                </a:solidFill>
                <a:latin typeface="Perpetua"/>
              </a:rPr>
              <a:t>, o bien cuando el empleador efectuare </a:t>
            </a:r>
            <a:r>
              <a:rPr b="0" i="1" lang="es-ES" sz="2400" spc="-1" strike="noStrike" u="sng">
                <a:solidFill>
                  <a:srgbClr val="000099"/>
                </a:solidFill>
                <a:uFillTx/>
                <a:latin typeface="Perpetua"/>
              </a:rPr>
              <a:t>descuentos por atrasos</a:t>
            </a:r>
            <a:r>
              <a:rPr b="0" i="1" lang="es-ES" sz="2400" spc="-1" strike="noStrike">
                <a:solidFill>
                  <a:srgbClr val="000099"/>
                </a:solidFill>
                <a:latin typeface="Perpetua"/>
              </a:rPr>
              <a:t> en que incurriere el trabajador. Asimismo, se presumirá que el trabajador está afecto a la jornada ordinaria, cuando el empleador, por intermedio de un superior jerárquico, ejerciere una </a:t>
            </a:r>
            <a:r>
              <a:rPr b="0" i="1" lang="es-ES" sz="2400" spc="-1" strike="noStrike" u="sng">
                <a:solidFill>
                  <a:srgbClr val="000099"/>
                </a:solidFill>
                <a:uFillTx/>
                <a:latin typeface="Perpetua"/>
              </a:rPr>
              <a:t>supervisión o control funcional y directo sobre la forma y oportunidad en que se desarrollen las labores</a:t>
            </a:r>
            <a:r>
              <a:rPr b="0" i="1" lang="es-ES" sz="2400" spc="-1" strike="noStrike">
                <a:solidFill>
                  <a:srgbClr val="000099"/>
                </a:solidFill>
                <a:latin typeface="Perpetua"/>
              </a:rPr>
              <a:t>, entendiéndose que no existe tal funcionalidad cuando el trabajador sólo entrega resultados de sus gestiones y se reporta esporádicamente, especialmente en el caso de desarrollar sus labores en Regiones diferentes de la del domicilio del empleador.” (</a:t>
            </a:r>
            <a:r>
              <a:rPr b="0" i="1" lang="es-ES" sz="2400" spc="-1" strike="noStrike">
                <a:solidFill>
                  <a:srgbClr val="000099"/>
                </a:solidFill>
                <a:latin typeface="Perpetua"/>
                <a:ea typeface="Times New Roman"/>
              </a:rPr>
              <a:t>incorporado por Ley Nº 20.281)</a:t>
            </a:r>
            <a:endParaRPr b="0" lang="en-US" sz="2400" spc="-1" strike="noStrike">
              <a:solidFill>
                <a:srgbClr val="000099"/>
              </a:solidFill>
              <a:latin typeface="Arial"/>
            </a:endParaRPr>
          </a:p>
        </p:txBody>
      </p:sp>
      <p:sp>
        <p:nvSpPr>
          <p:cNvPr id="2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FBB92-68A7-4C1E-87F2-433ED227765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cepto de Jornada de Trabajo (art. 21)</a:t>
            </a:r>
            <a:endParaRPr b="0" lang="en-US" sz="2800" spc="-1" strike="noStrike">
              <a:solidFill>
                <a:srgbClr val="ff0000"/>
              </a:solidFill>
              <a:latin typeface="Arial"/>
            </a:endParaRPr>
          </a:p>
        </p:txBody>
      </p:sp>
      <p:sp>
        <p:nvSpPr>
          <p:cNvPr id="192" name=""/>
          <p:cNvSpPr txBox="1"/>
          <p:nvPr/>
        </p:nvSpPr>
        <p:spPr>
          <a:xfrm>
            <a:off x="914400" y="1447920"/>
            <a:ext cx="7772400" cy="4572000"/>
          </a:xfrm>
          <a:prstGeom prst="rect">
            <a:avLst/>
          </a:prstGeom>
          <a:noFill/>
          <a:ln w="0">
            <a:noFill/>
          </a:ln>
        </p:spPr>
        <p:txBody>
          <a:bodyPr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Jornada de trabajo es el tiempo durante el cual el trabajador debe prestar efectivamente sus servicios en conformidad del contrato.</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Se considerará también jornada de trabajo el tiempo en que el trabajador se encuentra a disposición del empleador sin realizar labor, por causas que no le sean imputables.”</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De la definición legal se desprende que existen dos tipos de jornada:</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Activa</a:t>
            </a:r>
            <a:r>
              <a:rPr b="0" lang="es-ES" sz="2000" spc="-1" strike="noStrike">
                <a:solidFill>
                  <a:srgbClr val="000099"/>
                </a:solidFill>
                <a:latin typeface="Perpetua"/>
              </a:rPr>
              <a:t> </a:t>
            </a:r>
            <a:r>
              <a:rPr b="0" lang="es-CL" sz="2000" spc="-1" strike="noStrike">
                <a:solidFill>
                  <a:srgbClr val="000099"/>
                </a:solidFill>
                <a:latin typeface="Perpetua"/>
              </a:rPr>
              <a:t>(inciso 1), </a:t>
            </a:r>
            <a:r>
              <a:rPr b="0" lang="es-ES" sz="2000" spc="-1" strike="noStrike">
                <a:solidFill>
                  <a:srgbClr val="000099"/>
                </a:solidFill>
                <a:latin typeface="Perpetua"/>
              </a:rPr>
              <a:t>que es </a:t>
            </a:r>
            <a:r>
              <a:rPr b="0" lang="es-CL" sz="2000" spc="-1" strike="noStrike">
                <a:solidFill>
                  <a:srgbClr val="000099"/>
                </a:solidFill>
                <a:latin typeface="Perpetua"/>
              </a:rPr>
              <a:t>aquel tiempo durante el cual el trabajador debe prestar </a:t>
            </a:r>
            <a:r>
              <a:rPr b="0" lang="es-CL" sz="2000" spc="-1" strike="noStrike" u="sng">
                <a:solidFill>
                  <a:srgbClr val="000099"/>
                </a:solidFill>
                <a:uFillTx/>
                <a:latin typeface="Perpetua"/>
              </a:rPr>
              <a:t>efectivamente</a:t>
            </a:r>
            <a:r>
              <a:rPr b="0" lang="es-CL" sz="2000" spc="-1" strike="noStrike">
                <a:solidFill>
                  <a:srgbClr val="000099"/>
                </a:solidFill>
                <a:latin typeface="Perpetua"/>
              </a:rPr>
              <a:t> sus servicios en conformidad al contrato.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Pasiva</a:t>
            </a:r>
            <a:r>
              <a:rPr b="0" lang="es-ES" sz="2000" spc="-1" strike="noStrike">
                <a:solidFill>
                  <a:srgbClr val="000099"/>
                </a:solidFill>
                <a:latin typeface="Perpetua"/>
              </a:rPr>
              <a:t> </a:t>
            </a:r>
            <a:r>
              <a:rPr b="0" lang="es-CL" sz="2000" spc="-1" strike="noStrike">
                <a:solidFill>
                  <a:srgbClr val="000099"/>
                </a:solidFill>
                <a:latin typeface="Perpetua"/>
              </a:rPr>
              <a:t>(inciso 2), </a:t>
            </a:r>
            <a:r>
              <a:rPr b="0" lang="es-ES" sz="2000" spc="-1" strike="noStrike">
                <a:solidFill>
                  <a:srgbClr val="000099"/>
                </a:solidFill>
                <a:latin typeface="Perpetua"/>
              </a:rPr>
              <a:t>que </a:t>
            </a:r>
            <a:r>
              <a:rPr b="0" lang="es-CL" sz="2000" spc="-1" strike="noStrike">
                <a:solidFill>
                  <a:srgbClr val="000099"/>
                </a:solidFill>
                <a:latin typeface="Perpetua"/>
              </a:rPr>
              <a:t>corresponde al tiempo en que el trabajador </a:t>
            </a:r>
            <a:r>
              <a:rPr b="0" lang="es-CL" sz="2000" spc="-1" strike="noStrike" u="sng">
                <a:solidFill>
                  <a:srgbClr val="000099"/>
                </a:solidFill>
                <a:uFillTx/>
                <a:latin typeface="Perpetua"/>
              </a:rPr>
              <a:t>permanece a disposición</a:t>
            </a:r>
            <a:r>
              <a:rPr b="0" lang="es-CL" sz="2000" spc="-1" strike="noStrike">
                <a:solidFill>
                  <a:srgbClr val="000099"/>
                </a:solidFill>
                <a:latin typeface="Perpetua"/>
              </a:rPr>
              <a:t>  del empleador, sin realizar labor, por causas que no le sean imputable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91B9-F102-4D20-B83C-3B0224C2EA4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Franklin Gothic Book"/>
              </a:rPr>
              <a:t>2. Jornadas Especiales</a:t>
            </a:r>
            <a:r>
              <a:rPr b="1" lang="es-ES_tradnl" sz="3200" spc="-1" strike="noStrike">
                <a:solidFill>
                  <a:srgbClr val="ff0000"/>
                </a:solidFill>
                <a:latin typeface="Franklin Gothic Book"/>
              </a:rPr>
              <a:t> </a:t>
            </a:r>
            <a:endParaRPr b="0" lang="en-US" sz="3200" spc="-1" strike="noStrike">
              <a:solidFill>
                <a:srgbClr val="ff0000"/>
              </a:solidFill>
              <a:latin typeface="Arial"/>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1. Jornada mayor o extendid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2. Jornada de trabajadores del comercio.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3. Jornada de trabajadores del transporte.</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4. Jornada de trabajadores de casa particular.</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5. Jornada de trabajadores agrícol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6. </a:t>
            </a:r>
            <a:r>
              <a:rPr b="0" lang="es-MX" sz="2200" spc="-1" strike="noStrike">
                <a:solidFill>
                  <a:srgbClr val="000099"/>
                </a:solidFill>
                <a:latin typeface="Perpetua"/>
                <a:ea typeface="Tahoma"/>
              </a:rPr>
              <a:t>Jornada de personal del cuerpo de Bomberos.</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Unicode MS"/>
              </a:rPr>
              <a:t>7. Jornada de</a:t>
            </a:r>
            <a:r>
              <a:rPr b="0" lang="es-MX" sz="2200" spc="-1" strike="noStrike">
                <a:solidFill>
                  <a:srgbClr val="000099"/>
                </a:solidFill>
                <a:latin typeface="Arial Unicode MS"/>
                <a:ea typeface="Arial Unicode MS"/>
              </a:rPr>
              <a:t> </a:t>
            </a:r>
            <a:r>
              <a:rPr b="0" lang="es-MX" sz="2200" spc="-1" strike="noStrike">
                <a:solidFill>
                  <a:srgbClr val="000099"/>
                </a:solidFill>
                <a:latin typeface="Perpetua"/>
                <a:ea typeface="Tahoma"/>
              </a:rPr>
              <a:t>deportistas profesionales ….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8. Jornada de tripulantes de vuelo ….</a:t>
            </a:r>
            <a:endParaRPr b="0" lang="en-US" sz="2200" spc="-1" strike="noStrike">
              <a:solidFill>
                <a:srgbClr val="000099"/>
              </a:solidFill>
              <a:latin typeface="Arial"/>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570D-9C7D-4B0B-9A09-BD369169612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2.1. Jornada Mayor o Extendida (art. 27)</a:t>
            </a:r>
            <a:endParaRPr b="0" lang="en-US" sz="2800" spc="-1" strike="noStrike">
              <a:solidFill>
                <a:srgbClr val="ff0000"/>
              </a:solidFill>
              <a:latin typeface="Arial"/>
            </a:endParaRPr>
          </a:p>
        </p:txBody>
      </p:sp>
      <p:sp>
        <p:nvSpPr>
          <p:cNvPr id="267" name=""/>
          <p:cNvSpPr txBox="1"/>
          <p:nvPr/>
        </p:nvSpPr>
        <p:spPr>
          <a:xfrm>
            <a:off x="914400" y="1447920"/>
            <a:ext cx="7772400" cy="4572000"/>
          </a:xfrm>
          <a:prstGeom prst="rect">
            <a:avLst/>
          </a:prstGeom>
          <a:noFill/>
          <a:ln w="0">
            <a:noFill/>
          </a:ln>
        </p:spPr>
        <p:txBody>
          <a:bodyPr anchor="t">
            <a:normAutofit fontScale="80000"/>
          </a:bodyPr>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plicable al personal de hoteles, restaurantes o clubes, con excepción de aquél, que en dichos establecimientos, desempeñe labores administrativas, de lavandería, lencería y cocina. Quedan sujetos a una jornada </a:t>
            </a:r>
            <a:r>
              <a:rPr b="1" lang="es-CL" sz="2000" spc="-1" strike="noStrike">
                <a:solidFill>
                  <a:srgbClr val="000099"/>
                </a:solidFill>
                <a:latin typeface="Perpetua"/>
              </a:rPr>
              <a:t>de hasta 12 horas diarias</a:t>
            </a:r>
            <a:r>
              <a:rPr b="0" lang="es-CL" sz="2000" spc="-1" strike="noStrike">
                <a:solidFill>
                  <a:srgbClr val="000099"/>
                </a:solidFill>
                <a:latin typeface="Perpetua"/>
              </a:rPr>
              <a:t>, con un descanso no inferior a 1 hora imputable a la misma, siempre que:</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Que el movimiento diario sea “notoriamente escas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Que los trabajadores deban mantenerse constantemente a disposición del </a:t>
            </a:r>
            <a:r>
              <a:rPr b="0" lang="es-CL" sz="2000" spc="-1" strike="noStrike">
                <a:solidFill>
                  <a:srgbClr val="000099"/>
                </a:solidFill>
                <a:latin typeface="Perpetua"/>
              </a:rPr>
              <a:t>	</a:t>
            </a:r>
            <a:r>
              <a:rPr b="0" lang="es-CL" sz="2000" spc="-1" strike="noStrike">
                <a:solidFill>
                  <a:srgbClr val="000099"/>
                </a:solidFill>
                <a:latin typeface="Perpetua"/>
              </a:rPr>
              <a:t>públic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stos requisitos son </a:t>
            </a:r>
            <a:r>
              <a:rPr b="0" lang="es-ES" sz="2000" spc="-1" strike="noStrike" u="sng">
                <a:solidFill>
                  <a:srgbClr val="000099"/>
                </a:solidFill>
                <a:uFillTx/>
                <a:latin typeface="Perpetua"/>
              </a:rPr>
              <a:t>copulativos</a:t>
            </a:r>
            <a:r>
              <a:rPr b="0" lang="es-ES" sz="2000" spc="-1" strike="noStrike">
                <a:solidFill>
                  <a:srgbClr val="000099"/>
                </a:solidFill>
                <a:latin typeface="Perpetua"/>
              </a:rPr>
              <a:t>; si falta uno, el personal quedará afecto a la   jornada  ordinaria  normal de 45 horas semanales.</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a expresión ”movimiento notoriamente escaso”, “</a:t>
            </a:r>
            <a:r>
              <a:rPr b="0" i="1" lang="es-ES" sz="2000" spc="-1" strike="noStrike">
                <a:solidFill>
                  <a:srgbClr val="000099"/>
                </a:solidFill>
                <a:latin typeface="Perpetua"/>
              </a:rPr>
              <a:t>supone una carga de trabajo que a la vista de todos y sin necesidad de realizar un esfuerzo especial de percepción, aparece de manifiesto que es reducida, calificación que debe practicarse en cada caso en particular, previa visita inspectiva e informe circunstanciado sobre flujo de trabajo en la empresa o establecimiento de que se trate.” (Ord. 8006/324, de 11 diciembre 1995)</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2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8441-1A5C-4215-852F-494517EF491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br>
              <a:rPr sz="2600"/>
            </a:br>
            <a:r>
              <a:rPr b="1" lang="es-ES" sz="2600" spc="-1" strike="noStrike">
                <a:solidFill>
                  <a:srgbClr val="ff0000"/>
                </a:solidFill>
                <a:latin typeface="Franklin Gothic Book"/>
              </a:rPr>
              <a:t>2.2. Jornada Prolongada de los trabajadores del comercio (art. 24)</a:t>
            </a:r>
            <a:br>
              <a:rPr sz="2600"/>
            </a:br>
            <a:endParaRPr b="0" lang="en-US" sz="2600" spc="-1" strike="noStrike">
              <a:solidFill>
                <a:srgbClr val="ff0000"/>
              </a:solidFill>
              <a:latin typeface="Arial"/>
            </a:endParaRPr>
          </a:p>
        </p:txBody>
      </p:sp>
      <p:sp>
        <p:nvSpPr>
          <p:cNvPr id="271"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l empleador podrá extender la jornada ordinaria de los dependientes del comercio hasta en dos horas diarias </a:t>
            </a:r>
            <a:r>
              <a:rPr b="1" lang="es-CL" sz="2000" spc="-1" strike="noStrike">
                <a:solidFill>
                  <a:srgbClr val="000099"/>
                </a:solidFill>
                <a:latin typeface="Perpetua"/>
              </a:rPr>
              <a:t>durante 9 días anteriores a navidad, distribuidos dentro de los últimos 15 días previos a esta festividad</a:t>
            </a:r>
            <a:r>
              <a:rPr b="0" lang="es-CL" sz="2000" spc="-1" strike="noStrike">
                <a:solidFill>
                  <a:srgbClr val="000099"/>
                </a:solidFill>
                <a:latin typeface="Perpetua"/>
              </a:rPr>
              <a:t>. En este caso las horas que excedan de 45 horas semanales, o la jornada convenida, si fuere menor se pagarán como extraordinarias. Cuando el empleador ejerciere esta facultad, no procederá pactar horas extraordinarias.</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n todo caso, los trabajadores referidos, en ningún caso, trabajarán más allá de las 23 horas, durante los nueve días en los que se extienda la jornada ordinaria. Asimismo, bajo ninguna circunstancia, lo harán más allá de las 20 horas del día inmediatamente anterior a dicha festividad, como además el día inmediatamente anterior al 1 de enero de cada año.</a:t>
            </a:r>
            <a:endParaRPr b="0" lang="en-US" sz="2000" spc="-1" strike="noStrike">
              <a:solidFill>
                <a:srgbClr val="000099"/>
              </a:solidFill>
              <a:latin typeface="Arial"/>
            </a:endParaRPr>
          </a:p>
        </p:txBody>
      </p:sp>
      <p:sp>
        <p:nvSpPr>
          <p:cNvPr id="2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BF78-5B66-477A-B477-DC1DD899850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3. Jornada ordinaria especial personal de transportes </a:t>
            </a:r>
            <a:br>
              <a:rPr sz="2400"/>
            </a:br>
            <a:r>
              <a:rPr b="1" lang="es-ES" sz="2400" spc="-1" strike="noStrike">
                <a:solidFill>
                  <a:srgbClr val="ff0000"/>
                </a:solidFill>
                <a:latin typeface="Franklin Gothic Book"/>
              </a:rPr>
              <a:t>(art. 25 , 25 bis y 26 bis)</a:t>
            </a:r>
            <a:br>
              <a:rPr sz="2400"/>
            </a:br>
            <a:endParaRPr b="0" lang="en-US" sz="2400" spc="-1" strike="noStrike">
              <a:solidFill>
                <a:srgbClr val="ff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encuentran afectos a una jornada ordinaria </a:t>
            </a:r>
            <a:r>
              <a:rPr b="1" lang="es-ES" sz="2000" spc="-1" strike="noStrike">
                <a:solidFill>
                  <a:srgbClr val="000099"/>
                </a:solidFill>
                <a:latin typeface="Perpetua"/>
              </a:rPr>
              <a:t>de hasta 180 horas mensuales</a:t>
            </a:r>
            <a:r>
              <a:rPr b="0" lang="es-ES" sz="2000" spc="-1" strike="noStrike">
                <a:solidFill>
                  <a:srgbClr val="000099"/>
                </a:solidFill>
                <a:latin typeface="Perpetua"/>
              </a:rPr>
              <a:t>, los siguientes trabajadores: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la locomoción colectiva interurbana.</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servicios  interurbanos de transporte de pasajer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de vehículos de carga terrestre interurbana y</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Personal que se desempeña a bordo de ferrocarriles.</a:t>
            </a:r>
            <a:endParaRPr b="0" lang="en-US" sz="2000" spc="-1" strike="noStrike">
              <a:solidFill>
                <a:srgbClr val="000099"/>
              </a:solidFill>
              <a:latin typeface="Arial"/>
            </a:endParaRPr>
          </a:p>
        </p:txBody>
      </p:sp>
      <p:sp>
        <p:nvSpPr>
          <p:cNvPr id="2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9CB7-A0CE-406C-8307-CAB6C7F126C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4.Jornada de trabajadores de casa particular (art. 149)</a:t>
            </a:r>
            <a:endParaRPr b="0" lang="en-US" sz="2400" spc="-1" strike="noStrike">
              <a:solidFill>
                <a:srgbClr val="ff0000"/>
              </a:solidFill>
              <a:latin typeface="Arial"/>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distinguen dos tipos de jornada, dependiendo si el trabajador de casa particular vive o no en la casa del emple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n el caso que el trabajador no viva en la casa del empleador, se señala que en ningún caso la jornada podrá exceder de 12 horas diarias, más un descanso dentro de la jornada que no será inferior a una hora. En el caso que el trabajador viva en la casa de su empleador, se señala que no estará sujeto a horario, sino que éste será determinado por la naturaleza de su labor, debiendo tener normalmente un descaso absoluto mínimo de 12 horas diarias. Agrega que entre el término de la jornada diaria y el inicio de la siguiente, el descanso será ininterrumpido y, normalmente de un mínimo de 9 horas.</a:t>
            </a:r>
            <a:endParaRPr b="0" lang="en-US" sz="2000" spc="-1" strike="noStrike">
              <a:solidFill>
                <a:srgbClr val="000099"/>
              </a:solidFill>
              <a:latin typeface="Arial"/>
            </a:endParaRPr>
          </a:p>
        </p:txBody>
      </p:sp>
      <p:sp>
        <p:nvSpPr>
          <p:cNvPr id="2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A5DC7-98D2-4F7F-A962-C0919A00C19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5. Jornada de los trabajadores agrícolas (art. 88)</a:t>
            </a:r>
            <a:endParaRPr b="0" lang="en-US" sz="2400" spc="-1" strike="noStrike">
              <a:solidFill>
                <a:srgbClr val="ff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os trabajadores agrícolas están sujetos a la jornada ordinaria de trabajo de 45 horas semanales, con las modalidades que señalen las disposiciones reglamentarias de acuerdo con las condiciones y características de la zona o región, condiciones climáticas y demás circunstancias propias de la agricultura.</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l reglamento que se dicte al efecto deberá considerar las modalidades que, dentro de un promedio anual no exceda 7,5 horas diarias, y permitan la variación diaria o semanal, según alguna de las causas que se señalan precedentemente. Asimismo, señalará dicho reglamento la forma y procedencia del pago de las horas extraordinarias con el respectivo recargo legal.</a:t>
            </a:r>
            <a:endParaRPr b="0" lang="en-US" sz="2000" spc="-1" strike="noStrike">
              <a:solidFill>
                <a:srgbClr val="000099"/>
              </a:solidFill>
              <a:latin typeface="Arial"/>
            </a:endParaRPr>
          </a:p>
        </p:txBody>
      </p:sp>
      <p:sp>
        <p:nvSpPr>
          <p:cNvPr id="2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D90F-13E7-4FF5-85A0-D4EDFEAF38F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Franklin Gothic Book"/>
              </a:rPr>
              <a:t>2.6. Jornada de los trabajadores de los Cuerpos de Bomberos (art. 152 bis)</a:t>
            </a:r>
            <a:br>
              <a:rPr sz="2400"/>
            </a:br>
            <a:endParaRPr b="0" lang="en-US" sz="2400" spc="-1" strike="noStrike">
              <a:solidFill>
                <a:srgbClr val="ff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Se distingue entre aquellos que vivan en dependencias de su empleador y los que vivan fuera de éstas. </a:t>
            </a: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A los que vivan den el cuartel se les hace aplicable la norma contenida en el inciso segundo del art 149 (inserto en el Capítulo “Del Contrato de Trabajadores de Casa Particular”), de manera los trabajadores no están sujetos a horario, debiendo tener un descanso mínimo de 12 horas diarias. Entre el término de la jornada diaria y el inicio de la siguiente, el descanso deberá ser ininterrumpido y normalmente, de un mínimo de 9 horas.</a:t>
            </a:r>
            <a:endParaRPr b="0" lang="en-US" sz="2400" spc="-1" strike="noStrike">
              <a:solidFill>
                <a:srgbClr val="000099"/>
              </a:solidFill>
              <a:latin typeface="Arial"/>
            </a:endParaRPr>
          </a:p>
        </p:txBody>
      </p:sp>
      <p:sp>
        <p:nvSpPr>
          <p:cNvPr id="2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80A7B-FC4C-42D2-B5B7-A864CC3A187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s-CL" sz="2400" spc="-1" strike="noStrike">
                <a:solidFill>
                  <a:srgbClr val="ff0000"/>
                </a:solidFill>
                <a:latin typeface="Franklin Gothic Book"/>
              </a:rPr>
              <a:t>2.7- </a:t>
            </a:r>
            <a:r>
              <a:rPr b="1" lang="es-CL" sz="2600" spc="-1" strike="noStrike">
                <a:solidFill>
                  <a:srgbClr val="ff0000"/>
                </a:solidFill>
                <a:latin typeface="Franklin Gothic Book"/>
              </a:rPr>
              <a:t>Jornada de los deportistas profesionales y trabajadores de actividades conexas (inciso final art.22)</a:t>
            </a:r>
            <a:br>
              <a:rPr sz="2600"/>
            </a:br>
            <a:endParaRPr b="0" lang="en-US" sz="2600" spc="-1" strike="noStrike">
              <a:solidFill>
                <a:srgbClr val="ff0000"/>
              </a:solidFill>
              <a:latin typeface="Arial"/>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stán excluidos de la jornada ordinaria máxima semanal de 45 horas que establece el inciso 1º del art. 22.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ornada de estos trabajadores se organizará por el cuerpo técnico y la entidad deportiva profesional correspondiente, de acuerdo a la naturaleza de la actividad deportiva y a límites con la salud de los mism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Contrato especial incorporado por la Ley Nº 20.178, con vigencia a partir del 1º de Junio de 2007.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6797-E5E8-4B6B-A9FB-35AA107062C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600"/>
            </a:br>
            <a:r>
              <a:rPr b="1" lang="en-GB" sz="2600" spc="-1" strike="noStrike">
                <a:solidFill>
                  <a:srgbClr val="ff0000"/>
                </a:solidFill>
                <a:latin typeface="Franklin Gothic Book"/>
              </a:rPr>
              <a:t>2.8. Jornada de trabajo de los tripulantes de vuelo y tripulantes de aeronaves comerciales de pasajeros y carga (art. 152 ter)</a:t>
            </a:r>
            <a:br>
              <a:rPr sz="2600"/>
            </a:br>
            <a:endParaRPr b="0" lang="en-US" sz="2600" spc="-1" strike="noStrike">
              <a:solidFill>
                <a:srgbClr val="ff0000"/>
              </a:solidFill>
              <a:latin typeface="Arial"/>
            </a:endParaRPr>
          </a:p>
        </p:txBody>
      </p:sp>
      <p:sp>
        <p:nvSpPr>
          <p:cNvPr id="295" name=""/>
          <p:cNvSpPr txBox="1"/>
          <p:nvPr/>
        </p:nvSpPr>
        <p:spPr>
          <a:xfrm>
            <a:off x="914400" y="2276640"/>
            <a:ext cx="7618320" cy="3743280"/>
          </a:xfrm>
          <a:prstGeom prst="rect">
            <a:avLst/>
          </a:prstGeom>
          <a:noFill/>
          <a:ln w="0">
            <a:noFill/>
          </a:ln>
        </p:spPr>
        <p:txBody>
          <a:bodyPr anchor="t">
            <a:normAutofit fontScale="87000"/>
          </a:bodyPr>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Se distingue entre jornada ordinaria desarrollada en vuelo y en tierra.</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Contrato especial incorporado por la Ley Nº 20.321 (Diario Oficial de 5 de   febrero de 2009), que agregó un nuevo capítulo VII en el Título II del Libro I del Código del Trabajo, denominado “Del Contrato de Tripulantes de Vuelo y de Tripulantes de Cabina de Aeronaves Comerciales de Pasajeros de Carga”,  incorporando al texto de dicho cuerpo  legal los artículos 152 ter a 152 ter M. </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09FDF-E9F6-4D2C-888A-8B40C2DA4D5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Franklin Gothic Book"/>
              </a:rPr>
              <a:t>3. Jornada extraordinaria (art. 30 y ss.)</a:t>
            </a:r>
            <a:endParaRPr b="0" lang="en-US" sz="3200" spc="-1" strike="noStrike">
              <a:solidFill>
                <a:srgbClr val="ff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400" spc="-1" strike="noStrike">
                <a:solidFill>
                  <a:srgbClr val="000099"/>
                </a:solidFill>
                <a:latin typeface="Perpetua"/>
              </a:rPr>
              <a:t>Es jornada extraordinaria “</a:t>
            </a:r>
            <a:r>
              <a:rPr b="0" i="1" lang="es-ES_tradnl" sz="2400" spc="-1" strike="noStrike">
                <a:solidFill>
                  <a:srgbClr val="000099"/>
                </a:solidFill>
                <a:latin typeface="Perpetua"/>
              </a:rPr>
              <a:t>la que excede del máximo legal o de la pactada contractualmente, si esta última fuese menor”.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r>
              <a:rPr b="0" lang="es-ES_tradnl" sz="2400" spc="-1" strike="noStrike">
                <a:solidFill>
                  <a:srgbClr val="000099"/>
                </a:solidFill>
                <a:latin typeface="Perpetua"/>
              </a:rPr>
              <a:t>El límite para el cálculo de las horas extraordinarias debe ser </a:t>
            </a:r>
            <a:r>
              <a:rPr b="0" i="1" lang="es-ES_tradnl" sz="2400" spc="-1" strike="noStrike">
                <a:solidFill>
                  <a:srgbClr val="000099"/>
                </a:solidFill>
                <a:latin typeface="Perpetua"/>
              </a:rPr>
              <a:t>semanal</a:t>
            </a:r>
            <a:r>
              <a:rPr b="0" lang="es-ES_tradnl" sz="2400" spc="-1" strike="noStrike">
                <a:solidFill>
                  <a:srgbClr val="000099"/>
                </a:solidFill>
                <a:latin typeface="Perpetua"/>
              </a:rPr>
              <a:t>, esto quiere decir que las horas que deben ser consideradas como extraordinarias son las que sobrepasan la jornada semanal convenida, debiendo pagarse éstas como s</a:t>
            </a:r>
            <a:r>
              <a:rPr b="0" i="1" lang="es-ES_tradnl" sz="2400" spc="-1" strike="noStrike">
                <a:solidFill>
                  <a:srgbClr val="000099"/>
                </a:solidFill>
                <a:latin typeface="Perpetua"/>
              </a:rPr>
              <a:t>obresueldo</a:t>
            </a:r>
            <a:r>
              <a:rPr b="0" lang="es-ES_tradnl" sz="2400" spc="-1" strike="noStrike">
                <a:solidFill>
                  <a:srgbClr val="000099"/>
                </a:solidFill>
                <a:latin typeface="Perpetua"/>
              </a:rPr>
              <a:t> o s</a:t>
            </a:r>
            <a:r>
              <a:rPr b="0" i="1" lang="es-ES_tradnl" sz="2400" spc="-1" strike="noStrike">
                <a:solidFill>
                  <a:srgbClr val="000099"/>
                </a:solidFill>
                <a:latin typeface="Perpetua"/>
              </a:rPr>
              <a:t>obretiempo</a:t>
            </a:r>
            <a:r>
              <a:rPr b="0" lang="es-ES_tradnl" sz="2400" spc="-1" strike="noStrike">
                <a:solidFill>
                  <a:srgbClr val="000099"/>
                </a:solidFill>
                <a:latin typeface="Perpetua"/>
              </a:rPr>
              <a:t>.</a:t>
            </a:r>
            <a:endParaRPr b="0" lang="en-US" sz="2400" spc="-1" strike="noStrike">
              <a:solidFill>
                <a:srgbClr val="000099"/>
              </a:solidFill>
              <a:latin typeface="Arial"/>
            </a:endParaRPr>
          </a:p>
        </p:txBody>
      </p:sp>
      <p:sp>
        <p:nvSpPr>
          <p:cNvPr id="3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FB72-922B-4B6A-88EF-EA66222CCDF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0000"/>
                </a:solidFill>
                <a:latin typeface="Franklin Gothic Book"/>
              </a:rPr>
              <a:t>Requisitos copulativos de la jornada pasiva</a:t>
            </a:r>
            <a:br>
              <a:rPr sz="2800"/>
            </a:br>
            <a:endParaRPr b="0" lang="en-US" sz="2800" spc="-1" strike="noStrike">
              <a:solidFill>
                <a:srgbClr val="ff0000"/>
              </a:solidFill>
              <a:latin typeface="Arial"/>
            </a:endParaRPr>
          </a:p>
        </p:txBody>
      </p:sp>
      <p:sp>
        <p:nvSpPr>
          <p:cNvPr id="195"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el trabajador se encuentre a disposición  del empleador</a:t>
            </a:r>
            <a:r>
              <a:rPr b="0" lang="es-CL" sz="2000" spc="-1" strike="noStrike">
                <a:solidFill>
                  <a:srgbClr val="000099"/>
                </a:solidFill>
                <a:latin typeface="Perpetua"/>
              </a:rPr>
              <a:t>, situación que ocurrirá cuando el trabajador esté vinculado al empleador por un contrato de trabajo, se encuentre en el lugar de trabajo, y cuando el empleador tenga la posibilidad de ejercer material y concretamente los actos que le faculta la potestad de mand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Que su inactividad provenga de causas que no le sean imputables</a:t>
            </a:r>
            <a:r>
              <a:rPr b="0" lang="es-ES" sz="2000" spc="-1" strike="noStrike">
                <a:solidFill>
                  <a:srgbClr val="000099"/>
                </a:solidFill>
                <a:latin typeface="Perpetua"/>
              </a:rPr>
              <a:t>, esto es cuando el trabajador se encuentra sin prestar labor por situaciones ajenas a su voluntad. Si la causa de la inactividad son imputables (dolo o culpa) al trabajador, éste estará en una situación de incumplimient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dicha inactividad se produzca durante o dentro de la jornada  de trabajo (no antes ni después)</a:t>
            </a:r>
            <a:r>
              <a:rPr b="0" lang="es-CL" sz="2000" spc="-1" strike="noStrike">
                <a:solidFill>
                  <a:srgbClr val="000099"/>
                </a:solidFill>
                <a:latin typeface="Perpetua"/>
              </a:rPr>
              <a:t>.</a:t>
            </a:r>
            <a:endParaRPr b="0" lang="en-US" sz="2000" spc="-1" strike="noStrike">
              <a:solidFill>
                <a:srgbClr val="000099"/>
              </a:solidFill>
              <a:latin typeface="Arial"/>
            </a:endParaRPr>
          </a:p>
        </p:txBody>
      </p:sp>
      <p:sp>
        <p:nvSpPr>
          <p:cNvPr id="1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6B5E-23AF-4983-B1BD-4494A64DB4A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r>
              <a:rPr b="0" lang="es-ES_tradnl" sz="2000" spc="-1" strike="noStrike">
                <a:solidFill>
                  <a:srgbClr val="000099"/>
                </a:solidFill>
                <a:latin typeface="Perpetua"/>
              </a:rPr>
              <a:t>1. La jornada extraordinaria solo puede pactarse para atender necesidades o situaciones temporales de la empresa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2. El pacto de jornada extraordinaria debe constar por escrito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3. El pacto debe tener vigencia transitoria, no superior a 3 meses (art.32). No obstante lo anterior el pacto podrá renovarse por acuerdo de las partes, sin embargo, la Dirección del Trabajo establece que el límite a dicha renovación estará limitada por la permanencia de las circunstancias que le dieron origen y no podrá afectar en caso alguno su carácter ocasional.</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3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CE6BF-4E1B-48C5-9474-9BE1A0063F5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4. Solo pueden pactarse horas extraordinarias en las faenas que, por su naturaleza, no perjudiquen la salud del trabajador (art.31).</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5. Podrán pactarse horas extraordinarias hasta una máximo de dos por día (art.31)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6. Las horas extraordinarias deberán pagarse con un recargo del 50% sobre el sueldo convenido para la jornada ordinaria y deberán liquidarse y pagarse conjuntamente con las remuneraciones ordinarias del respectivo periodo (art.32 inciso 3)</a:t>
            </a: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3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1079-D1DD-4018-B7D2-91497CF4912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os trabajadores cuyo sistema remuneracional esté conformado por un sueldo de </a:t>
            </a:r>
            <a:r>
              <a:rPr b="0" lang="es-ES" sz="2200" spc="-1" strike="noStrike" u="sng">
                <a:solidFill>
                  <a:srgbClr val="000099"/>
                </a:solidFill>
                <a:uFillTx/>
                <a:latin typeface="Perpetua"/>
                <a:ea typeface="Tahoma"/>
              </a:rPr>
              <a:t>monto inferior</a:t>
            </a:r>
            <a:r>
              <a:rPr b="0" lang="es-ES" sz="2200" spc="-1" strike="noStrike">
                <a:solidFill>
                  <a:srgbClr val="000099"/>
                </a:solidFill>
                <a:latin typeface="Perpetua"/>
                <a:ea typeface="Tahoma"/>
              </a:rPr>
              <a:t> al ingreso mínimo mensual y estipendios variables, o por remuneraciones exclusivamente variables, tienen derecho a que las </a:t>
            </a:r>
            <a:r>
              <a:rPr b="0" lang="es-ES" sz="2200" spc="-1" strike="noStrike" u="sng">
                <a:solidFill>
                  <a:srgbClr val="000099"/>
                </a:solidFill>
                <a:uFillTx/>
                <a:latin typeface="Perpetua"/>
                <a:ea typeface="Tahoma"/>
              </a:rPr>
              <a:t>horas extraordinarias laboradas</a:t>
            </a:r>
            <a:r>
              <a:rPr b="0" lang="es-ES" sz="2200" spc="-1" strike="noStrike">
                <a:solidFill>
                  <a:srgbClr val="000099"/>
                </a:solidFill>
                <a:latin typeface="Perpetua"/>
                <a:ea typeface="Tahoma"/>
              </a:rPr>
              <a:t> les sean calculadas considerando el valor asignado por ley a dicho </a:t>
            </a:r>
            <a:r>
              <a:rPr b="0" lang="es-ES" sz="2200" spc="-1" strike="noStrike" u="sng">
                <a:solidFill>
                  <a:srgbClr val="000099"/>
                </a:solidFill>
                <a:uFillTx/>
                <a:latin typeface="Perpetua"/>
                <a:ea typeface="Tahoma"/>
              </a:rPr>
              <a:t>ingreso mínimo.</a:t>
            </a:r>
            <a:r>
              <a:rPr b="0" lang="es-ES"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 (Ley Nª 19.988, Diario Oficial  </a:t>
            </a:r>
            <a:r>
              <a:rPr b="0" lang="es-ES" sz="2200" spc="-1" strike="noStrike">
                <a:solidFill>
                  <a:srgbClr val="000099"/>
                </a:solidFill>
                <a:latin typeface="Perpetua"/>
                <a:ea typeface="Tahoma"/>
              </a:rPr>
              <a:t>18.12.04) </a:t>
            </a: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a base de cálculo de las horas extraordinarias de los trabajadores remunerados con </a:t>
            </a:r>
            <a:r>
              <a:rPr b="0" lang="es-ES" sz="2200" spc="-1" strike="noStrike" u="sng">
                <a:solidFill>
                  <a:srgbClr val="000099"/>
                </a:solidFill>
                <a:uFillTx/>
                <a:latin typeface="Perpetua"/>
                <a:ea typeface="Tahoma"/>
              </a:rPr>
              <a:t>sueldo diario</a:t>
            </a:r>
            <a:r>
              <a:rPr b="0" lang="es-ES" sz="2200" spc="-1" strike="noStrike">
                <a:solidFill>
                  <a:srgbClr val="000099"/>
                </a:solidFill>
                <a:latin typeface="Perpetua"/>
                <a:ea typeface="Tahoma"/>
              </a:rPr>
              <a:t>, no puede ser inferior al valor del </a:t>
            </a:r>
            <a:r>
              <a:rPr b="0" lang="es-ES" sz="2200" spc="-1" strike="noStrike" u="sng">
                <a:solidFill>
                  <a:srgbClr val="000099"/>
                </a:solidFill>
                <a:uFillTx/>
                <a:latin typeface="Perpetua"/>
                <a:ea typeface="Tahoma"/>
              </a:rPr>
              <a:t>ingreso mínimo mensual</a:t>
            </a:r>
            <a:r>
              <a:rPr b="0" lang="es-ES" sz="2200" spc="-1" strike="noStrike">
                <a:solidFill>
                  <a:srgbClr val="000099"/>
                </a:solidFill>
                <a:latin typeface="Perpetua"/>
                <a:ea typeface="Tahoma"/>
              </a:rPr>
              <a:t>, debiendo tenerse por no escrita toda estipulación que establezca una base de cálculo inferior para tales efectos</a:t>
            </a:r>
            <a:endParaRPr b="0" lang="en-US" sz="22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1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99C02-5AEF-49B8-8D4F-142C5ABD373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94FB9-30D9-4E37-A18B-C43ECC49293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6"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Existe “sueldo” cuand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Se verifica la existencia de un estipendio fi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Pagadero en dinero por períodos iguales determinado en el contrato de </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traba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Que tenga por causa la prestación de servicios contratados.</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La Dirección del Trabajo ha sostenido que: </a:t>
            </a:r>
            <a:r>
              <a:rPr b="0" i="1" lang="es-ES" sz="2000" spc="-1" strike="noStrike">
                <a:solidFill>
                  <a:srgbClr val="000099"/>
                </a:solidFill>
                <a:latin typeface="Perpetua"/>
                <a:ea typeface="바탕"/>
              </a:rPr>
              <a:t>“</a:t>
            </a:r>
            <a:r>
              <a:rPr b="0" lang="es-ES" sz="2000" spc="-1" strike="noStrike">
                <a:solidFill>
                  <a:srgbClr val="000099"/>
                </a:solidFill>
                <a:latin typeface="Perpetua"/>
                <a:ea typeface="바탕"/>
              </a:rPr>
              <a:t>El legislador ha establecido un límite para la jornada ordinaria de trabajo, límite éste que es semanal, de suerte tal que no resulta jurídicamente procedente compensar las horas no trabajadas en una semana con aquellas que se laboren en exceso en la semana siguiente.”</a:t>
            </a:r>
            <a:r>
              <a:rPr b="0" i="1" lang="es-ES" sz="2000" spc="-1" strike="noStrike">
                <a:solidFill>
                  <a:srgbClr val="000099"/>
                </a:solidFill>
                <a:latin typeface="Perpetua"/>
                <a:ea typeface="바탕"/>
              </a:rPr>
              <a:t> </a:t>
            </a:r>
            <a:r>
              <a:rPr b="0" lang="es-ES" sz="2000" spc="-1" strike="noStrike">
                <a:solidFill>
                  <a:srgbClr val="000099"/>
                </a:solidFill>
                <a:latin typeface="Perpetua"/>
                <a:ea typeface="바탕"/>
              </a:rPr>
              <a:t>“Por el contrario, en el evento de que en una semana los trabajadores laboren por sobre la jornada ordinaria de trabajo, este exceso debe ser pagado como horas extraordinarias, con el recargo legal correspondiente, sin que sea viable establecer ningún mecanismo de compensación que exonere de su pago como tal”. </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DCFA-ADC1-40E1-9134-7EA0EC8AAC8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2085-C3F4-4627-A50D-CF5463813DC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extraordinaria</a:t>
            </a:r>
            <a:endParaRPr b="0" lang="en-US" sz="3200" spc="-1" strike="noStrike">
              <a:solidFill>
                <a:srgbClr val="ff0000"/>
              </a:solidFill>
              <a:latin typeface="Arial"/>
            </a:endParaRPr>
          </a:p>
        </p:txBody>
      </p:sp>
      <p:sp>
        <p:nvSpPr>
          <p:cNvPr id="32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Perpetua"/>
                <a:ea typeface="바탕"/>
              </a:rPr>
              <a:t>Horas trabajadas en compensación de permisos:  </a:t>
            </a:r>
            <a:r>
              <a:rPr b="0" lang="es-ES" sz="2200" spc="-1" strike="noStrike">
                <a:solidFill>
                  <a:srgbClr val="000099"/>
                </a:solidFill>
                <a:latin typeface="Perpetua"/>
                <a:ea typeface="바탕"/>
              </a:rPr>
              <a:t>Estas horas no se consideran extraordinarias, en la medida que la compensación haya sido solicitada por escrito por el trabajador y autorizadas por el empleador.</a:t>
            </a: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99"/>
                </a:solidFill>
                <a:latin typeface="Perpetua"/>
                <a:ea typeface="Arial Unicode MS"/>
              </a:rPr>
              <a:t>Pacto de horas extraordinarias</a:t>
            </a:r>
            <a:r>
              <a:rPr b="0" lang="es-CL" sz="2200" spc="-1" strike="noStrike">
                <a:solidFill>
                  <a:srgbClr val="000099"/>
                </a:solidFill>
                <a:latin typeface="Perpetua"/>
                <a:ea typeface="Arial Unicode MS"/>
              </a:rPr>
              <a:t>: Las partes deben celebrar el pacto ante cada evento de ejecución de obras extraordinarias, esto es en las oportunidades precisas en que surjan las situaciones o necesidades temporales; no obstante la Dirección del Trabajo autoriza el pacto de acuerdo genérico de horas extraordinarias, siempre que el pacto especifique las condiciones que la genera y siempre que respete el máximo de tres meses. Ord. N° 332/23 de 30 enero de 2002.</a:t>
            </a:r>
            <a:endParaRPr b="0" lang="en-US" sz="2200" spc="-1" strike="noStrike">
              <a:solidFill>
                <a:srgbClr val="000099"/>
              </a:solidFill>
              <a:latin typeface="Arial"/>
            </a:endParaRPr>
          </a:p>
          <a:p>
            <a:pPr marL="250920" indent="-25092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6F61-4377-4A56-B982-529F39102F7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14D0-5F71-455D-BF79-5A839A04BCF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26" name=""/>
          <p:cNvSpPr txBox="1"/>
          <p:nvPr/>
        </p:nvSpPr>
        <p:spPr>
          <a:xfrm>
            <a:off x="914400" y="1447920"/>
            <a:ext cx="7772400" cy="4572000"/>
          </a:xfrm>
          <a:prstGeom prst="rect">
            <a:avLst/>
          </a:prstGeom>
          <a:noFill/>
          <a:ln w="0">
            <a:noFill/>
          </a:ln>
        </p:spPr>
        <p:txBody>
          <a:bodyPr anchor="t">
            <a:normAutofit fontScale="82000"/>
          </a:bodyPr>
          <a:p>
            <a:pPr marL="223560" indent="-2235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El empleador debe llevar un </a:t>
            </a:r>
            <a:r>
              <a:rPr b="0" lang="es-ES" sz="2000" spc="-1" strike="noStrike" u="sng">
                <a:solidFill>
                  <a:srgbClr val="000099"/>
                </a:solidFill>
                <a:uFillTx/>
                <a:latin typeface="Perpetua"/>
                <a:ea typeface="바탕"/>
              </a:rPr>
              <a:t>registro</a:t>
            </a:r>
            <a:r>
              <a:rPr b="0" lang="es-ES" sz="2000" spc="-1" strike="noStrike">
                <a:solidFill>
                  <a:srgbClr val="000099"/>
                </a:solidFill>
                <a:latin typeface="Perpetua"/>
                <a:ea typeface="바탕"/>
              </a:rPr>
              <a:t> que consistirá en un</a:t>
            </a:r>
            <a:r>
              <a:rPr b="0" lang="es-ES" sz="2000" spc="-1" strike="noStrike" u="sng">
                <a:solidFill>
                  <a:srgbClr val="000099"/>
                </a:solidFill>
                <a:uFillTx/>
                <a:latin typeface="Perpetua"/>
                <a:ea typeface="바탕"/>
              </a:rPr>
              <a:t> libro de asistencia del persona</a:t>
            </a:r>
            <a:r>
              <a:rPr b="0" lang="es-ES" sz="2000" spc="-1" strike="noStrike">
                <a:solidFill>
                  <a:srgbClr val="000099"/>
                </a:solidFill>
                <a:latin typeface="Perpetua"/>
                <a:ea typeface="바탕"/>
              </a:rPr>
              <a:t>l o en un </a:t>
            </a:r>
            <a:r>
              <a:rPr b="0" lang="es-ES" sz="2000" spc="-1" strike="noStrike" u="sng">
                <a:solidFill>
                  <a:srgbClr val="000099"/>
                </a:solidFill>
                <a:uFillTx/>
                <a:latin typeface="Perpetua"/>
                <a:ea typeface="바탕"/>
              </a:rPr>
              <a:t>reloj control con tarjetas de registro.</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No resulta conforme a derecho que la empresa </a:t>
            </a:r>
            <a:r>
              <a:rPr b="0" lang="es-MX" sz="2000" spc="-1" strike="noStrike">
                <a:solidFill>
                  <a:srgbClr val="000099"/>
                </a:solidFill>
                <a:latin typeface="Perpetua"/>
                <a:ea typeface="Tahoma"/>
              </a:rPr>
              <a:t>…</a:t>
            </a:r>
            <a:r>
              <a:rPr b="0" lang="es-ES" sz="2000" spc="-1" strike="noStrike">
                <a:solidFill>
                  <a:srgbClr val="000099"/>
                </a:solidFill>
                <a:latin typeface="Perpetua"/>
                <a:ea typeface="Tahoma"/>
              </a:rPr>
              <a:t> mantenga el reloj control de registro de asistencia y jornada del personal del establecimiento de calle …, en vitrina con llave, que se abre según instrucciones a las 7:50 hrs. y se cierra a las 18:30 cada día de lunes a viernes, debiendo establecerse en el Reglamento Interno los sistemas destinados a verificar que los trabajadores utilicen dicho mecanismo cuando efectivamente inicien o concluyan su jornada laboral.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2034/56, de 10.05.2005</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Cuando no fuere posible aplicar las normas previstas en el inciso precedente, o cuando su aplicación importare una difícil fiscalización, la Dirección del Trabajo, de oficio o a petición de parte, podrá establecer y regular, mediante resolución fundada, un sistema especial de control de las horas de trabajo y de la determinación de las remuneraciones correspondientes al servicio prestado. Este sistema deberá ser uniforme para una misma actividad.</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23560" indent="-2235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p:txBody>
      </p:sp>
      <p:sp>
        <p:nvSpPr>
          <p:cNvPr id="32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80FBD-B654-41EF-8FE9-ACEA422702F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6F6A-2C49-41C1-830F-F984727BD1B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바탕"/>
              </a:rPr>
              <a:t>	</a:t>
            </a:r>
            <a:r>
              <a:rPr b="0" lang="es-MX" sz="2000" spc="-1" strike="noStrike">
                <a:solidFill>
                  <a:srgbClr val="000099"/>
                </a:solidFill>
                <a:latin typeface="Perpetua"/>
                <a:ea typeface="바탕"/>
              </a:rPr>
              <a:t>La DT </a:t>
            </a:r>
            <a:r>
              <a:rPr b="0" lang="es-ES" sz="2000" spc="-1" strike="noStrike">
                <a:solidFill>
                  <a:srgbClr val="000099"/>
                </a:solidFill>
                <a:latin typeface="Perpetua"/>
                <a:ea typeface="Tahoma"/>
              </a:rPr>
              <a:t>fijó mediante dictamen N° 696/27, de 24 de enero de 1996, las características o modalidades básicas que debe reunir un sistema de tipo electrónico-computacional para considerar que el mismo constituye un sistema de control de asistencia y de determinación de las horas de trabajo de acuerdo al ordenamiento jurídico laboral vigente.</a:t>
            </a:r>
            <a:endParaRPr b="0" lang="en-US" sz="2000" spc="-1" strike="noStrike">
              <a:solidFill>
                <a:srgbClr val="000099"/>
              </a:solidFill>
              <a:latin typeface="Arial"/>
            </a:endParaRPr>
          </a:p>
          <a:p>
            <a:pPr marL="250920" indent="-2509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	</a:t>
            </a:r>
            <a:r>
              <a:rPr b="0" lang="es-ES" sz="2000" spc="-1" strike="noStrike">
                <a:solidFill>
                  <a:srgbClr val="000099"/>
                </a:solidFill>
                <a:latin typeface="Perpetua"/>
                <a:ea typeface="Tahoma"/>
              </a:rPr>
              <a:t>Básicamente, las exigencias contempladas por el dictamen precedentemente citado, dicen relación con la identidad del trabajador, el registro automático de la misma, de la fecha, hora y minutos en que se inicia y termina la jornada de trabajo, la entrega de reportes semanales que contengan la suma total de las horas trabajadas, la entrega diaria al trabajador del estado de su asistencia registrada automáticamente y con que el elemento computacional utilizado para el procesamiento directo de la información registrada asegure la inviolabilidad de los datos, requisitos todos que, como puede apreciarse, se ajustan en definitiva, a los objetivos actualizados tenidos en vista por el legislador al establecer los sistemas de registros de asistencia.</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BFB9-892D-4F04-AC6D-7FA629AD40B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E880-50BF-4F3C-B71A-8D4E287477F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rPr>
              <a:t>4. Jornada de Trabajo Bisemanal (art. 39)</a:t>
            </a:r>
            <a:endParaRPr b="0" lang="en-US" sz="3200" spc="-1" strike="noStrike">
              <a:solidFill>
                <a:srgbClr val="ff0000"/>
              </a:solidFill>
              <a:latin typeface="Arial"/>
            </a:endParaRPr>
          </a:p>
        </p:txBody>
      </p:sp>
      <p:sp>
        <p:nvSpPr>
          <p:cNvPr id="336" name=""/>
          <p:cNvSpPr txBox="1"/>
          <p:nvPr/>
        </p:nvSpPr>
        <p:spPr>
          <a:xfrm>
            <a:off x="914400" y="157176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p:txBody>
      </p:sp>
      <p:sp>
        <p:nvSpPr>
          <p:cNvPr id="33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38" name="Rectangle 3"/>
          <p:cNvSpPr/>
          <p:nvPr/>
        </p:nvSpPr>
        <p:spPr>
          <a:xfrm>
            <a:off x="1130400" y="166356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p:txBody>
      </p:sp>
      <p:sp>
        <p:nvSpPr>
          <p:cNvPr id="339" name="Rectangle 3"/>
          <p:cNvSpPr/>
          <p:nvPr/>
        </p:nvSpPr>
        <p:spPr>
          <a:xfrm>
            <a:off x="826920" y="1773360"/>
            <a:ext cx="7848720" cy="464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CL" sz="2000" spc="-1" strike="noStrike">
                <a:solidFill>
                  <a:srgbClr val="000099"/>
                </a:solidFill>
                <a:latin typeface="Perpetua"/>
              </a:rPr>
              <a:t>En aquellos casos en que la prestación de servicios deba efectuarse en lugares apartados de los centros urbanos,  la ley faculta a las partes para pactar jornadas ordinarias de trabajo de hasta dos semanas ininterrumpidas, al término de las cuales deberán otorgarse los días de descanso compensatorio de los días domingo o festivos que hayan tenido lugar en dicho período semanal, aumentados en uno.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Se consideran lugares apartados de centros urbanos</a:t>
            </a:r>
            <a:r>
              <a:rPr b="0" i="1" lang="es-CL" sz="2000" spc="-1" strike="noStrike">
                <a:solidFill>
                  <a:srgbClr val="000099"/>
                </a:solidFill>
                <a:latin typeface="Perpetua"/>
              </a:rPr>
              <a:t> “aquellos distantes, alejados o remotos de ciudades, consideradas éstas en su sentido natural y obvio, como básicamente, un conjunto de edificios o calles dotadas  de  una  población  densa y  numerosa</a:t>
            </a:r>
            <a:r>
              <a:rPr b="0" lang="es-CL" sz="2000" spc="-1" strike="noStrike">
                <a:solidFill>
                  <a:srgbClr val="000099"/>
                </a:solidFill>
                <a:latin typeface="Perpetua"/>
              </a:rPr>
              <a:t>” (Dictamen   Nº 2022/123, de 1.07.02).</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4547-7257-4D82-925D-3820DE09A75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de trabajo bisemanal</a:t>
            </a:r>
            <a:endParaRPr b="0" lang="en-US" sz="3200" spc="-1" strike="noStrike">
              <a:solidFill>
                <a:srgbClr val="ff0000"/>
              </a:solidFill>
              <a:latin typeface="Arial"/>
            </a:endParaRPr>
          </a:p>
        </p:txBody>
      </p:sp>
      <p:sp>
        <p:nvSpPr>
          <p:cNvPr id="342"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ea typeface="Tahoma"/>
              </a:rPr>
              <a:t>	</a:t>
            </a:r>
            <a:r>
              <a:rPr b="0" lang="es-MX" sz="2000" spc="-1" strike="noStrike">
                <a:solidFill>
                  <a:srgbClr val="000099"/>
                </a:solidFill>
                <a:latin typeface="Perpetua"/>
                <a:ea typeface="Tahoma"/>
              </a:rPr>
              <a:t>E</a:t>
            </a:r>
            <a:r>
              <a:rPr b="0" lang="es-ES" sz="2000" spc="-1" strike="noStrike">
                <a:solidFill>
                  <a:srgbClr val="000099"/>
                </a:solidFill>
                <a:latin typeface="Perpetua"/>
                <a:ea typeface="Tahoma"/>
              </a:rPr>
              <a:t>l referido artículo no puede entenderse aisladamente de las demás disposiciones del Código del Trabajo, de manera que, "si se considera por una parte que de los artículos 22 y 28 del citado Código se infiere que la jornada máxima de 48 horas puede distribuirse a lo más en 6 días, debiendo otorgarse el descanso semanal al 7º día, y si se tiene presente, por otra, que el artículo 39 no afecta las normas sobre limitación de jornada, forzoso es concluir que una jornada bisemanal comprenderá sólo hasta 12 días de labor efectiva, lo que determina una jornada bisemanal ordinaria máxima de 96 horas, al término de la cual deberán concederse los correspondientes descansos compensatorios más el día adicional que otorga la ley".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5264/305</a:t>
            </a:r>
            <a:r>
              <a:rPr b="0" lang="es-MX" sz="2000" spc="-1" strike="noStrike">
                <a:solidFill>
                  <a:srgbClr val="000099"/>
                </a:solidFill>
                <a:latin typeface="Perpetua"/>
                <a:ea typeface="Tahoma"/>
              </a:rPr>
              <a:t> </a:t>
            </a:r>
            <a:r>
              <a:rPr b="0" lang="es-ES" sz="2000" spc="-1" strike="noStrike">
                <a:solidFill>
                  <a:srgbClr val="000099"/>
                </a:solidFill>
                <a:latin typeface="Perpetua"/>
                <a:ea typeface="Tahoma"/>
              </a:rPr>
              <a:t>18/10/1999</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Teniendo presente lo anterior y considerando que a contar del 1º.01.2005, el máximo semanal ordinario no podrá ser superior a 45 horas, forzoso es concluir, que a partir de dicha fecha,  l</a:t>
            </a:r>
            <a:r>
              <a:rPr b="0" lang="es-ES" sz="2000" spc="-1" strike="noStrike" u="sng">
                <a:solidFill>
                  <a:srgbClr val="000099"/>
                </a:solidFill>
                <a:uFillTx/>
                <a:latin typeface="Perpetua"/>
                <a:ea typeface="Times New Roman"/>
              </a:rPr>
              <a:t>a jornada máxima ordinaria que se podrá laborar en un sistema bisemanal será de 90 horas, distribuidas hasta en 12 días</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Arial"/>
              </a:rPr>
              <a:t>(</a:t>
            </a:r>
            <a:r>
              <a:rPr b="0" lang="es-MX" sz="2000" spc="-1" strike="noStrike">
                <a:solidFill>
                  <a:srgbClr val="000099"/>
                </a:solidFill>
                <a:latin typeface="Perpetua"/>
              </a:rPr>
              <a:t>Dictamen  DDT N° 4338/168, de 22.09.2004)</a:t>
            </a:r>
            <a:endParaRPr b="0" lang="en-US" sz="2000" spc="-1" strike="noStrike">
              <a:solidFill>
                <a:srgbClr val="000099"/>
              </a:solidFill>
              <a:latin typeface="Arial"/>
            </a:endParaRPr>
          </a:p>
        </p:txBody>
      </p:sp>
      <p:sp>
        <p:nvSpPr>
          <p:cNvPr id="34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39B5-ADD1-45AB-86A6-C52367926A3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5" name="PlaceHolder 1"/>
          <p:cNvSpPr>
            <a:spLocks noGrp="1"/>
          </p:cNvSpPr>
          <p:nvPr>
            <p:ph type="title"/>
          </p:nvPr>
        </p:nvSpPr>
        <p:spPr>
          <a:xfrm>
            <a:off x="9288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5. Jornada Parcial (40 bis)</a:t>
            </a:r>
            <a:endParaRPr b="0" lang="en-US" sz="2800" spc="-1" strike="noStrike">
              <a:solidFill>
                <a:srgbClr val="ff0000"/>
              </a:solidFill>
              <a:latin typeface="Arial"/>
            </a:endParaRPr>
          </a:p>
        </p:txBody>
      </p:sp>
      <p:sp>
        <p:nvSpPr>
          <p:cNvPr id="346"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ES" sz="2000" spc="-1" strike="noStrike">
                <a:solidFill>
                  <a:srgbClr val="000099"/>
                </a:solidFill>
                <a:latin typeface="Perpetua"/>
              </a:rPr>
              <a:t>Se entiende por jornada parcial la que no excede de los dos tercios de la jornada ordinaria  contemplada en el inciso 1° artículo 22 del  Código el Trabajo, de manera que no puede superar las 30 horas a la semana.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r>
              <a:rPr b="0" lang="en-GB" sz="2000" spc="-1" strike="noStrike">
                <a:solidFill>
                  <a:srgbClr val="000099"/>
                </a:solidFill>
                <a:latin typeface="Perpetua"/>
              </a:rPr>
              <a:t>Duración diaria y continuidad de la jornada parcial: En los contratos con jornada a tiempo parcial la jornada diaria debe ser continua con un límite máximo de 10 horas, jornada que puede ser interrumpida para efectos de la colación, por un lapso no inferior a media hora ni superior a una hora.</a:t>
            </a: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000" spc="-1" strike="noStrike">
                <a:solidFill>
                  <a:srgbClr val="000099"/>
                </a:solidFill>
                <a:latin typeface="Perpetua"/>
                <a:ea typeface="바탕"/>
              </a:rPr>
              <a:t>Las partes podrán pactar alternativas de distribución de jornada. En este caso, el empleador, con una antelación mínima de una semana, estará facultado para determinar entre una de las alternativas pactadas, la que regirá en la semana o período superior siguiente</a:t>
            </a:r>
            <a:r>
              <a:rPr b="0" lang="es-MX" sz="2000" spc="-1" strike="noStrike">
                <a:solidFill>
                  <a:srgbClr val="000099"/>
                </a:solidFill>
                <a:latin typeface="Perpetua"/>
                <a:ea typeface="Arial Unicode MS"/>
              </a:rPr>
              <a:t>.</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1FAD-2424-4675-98E8-5D802F08EF3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19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E</a:t>
            </a:r>
            <a:r>
              <a:rPr b="0" i="1" lang="es-CL" sz="2000" spc="-1" strike="noStrike">
                <a:solidFill>
                  <a:srgbClr val="000099"/>
                </a:solidFill>
                <a:latin typeface="Perpetua"/>
              </a:rPr>
              <a:t>l tiempo destinado a las </a:t>
            </a:r>
            <a:r>
              <a:rPr b="0" i="1" lang="es-CL" sz="2000" spc="-1" strike="noStrike" u="sng">
                <a:solidFill>
                  <a:srgbClr val="000099"/>
                </a:solidFill>
                <a:uFillTx/>
                <a:latin typeface="Perpetua"/>
              </a:rPr>
              <a:t>actividades de cambio de vestuario, uso de elementos de protección y/o aseo personal</a:t>
            </a:r>
            <a:r>
              <a:rPr b="0" i="1" lang="es-CL" sz="2000" spc="-1" strike="noStrike">
                <a:solidFill>
                  <a:srgbClr val="000099"/>
                </a:solidFill>
                <a:latin typeface="Perpetua"/>
              </a:rPr>
              <a:t> constituirá jornada de trabajo cuando el desarrollo de la labor convenida requiera necesariamente la realización de las mismas </a:t>
            </a:r>
            <a:r>
              <a:rPr b="0" i="1" lang="es-CL" sz="2000" spc="-1" strike="noStrike" u="sng">
                <a:solidFill>
                  <a:srgbClr val="000099"/>
                </a:solidFill>
                <a:uFillTx/>
                <a:latin typeface="Perpetua"/>
              </a:rPr>
              <a:t>por razones de higiene y seguridad </a:t>
            </a:r>
            <a:r>
              <a:rPr b="0" i="1" lang="es-CL" sz="2000" spc="-1" strike="noStrike">
                <a:solidFill>
                  <a:srgbClr val="000099"/>
                </a:solidFill>
                <a:latin typeface="Perpetua"/>
              </a:rPr>
              <a:t>independientemente de si ellas se encuentran consignadas como obligaciones del trabajador en el respectivo reglamento interno.</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Igualmente deberá ser calificado como tal, el lapso utilizado por los trabajadores en cambio de vestuario, cuando dicho cambio sea requerido por el empleador por razones de </a:t>
            </a:r>
            <a:r>
              <a:rPr b="0" i="1" lang="es-CL" sz="2000" spc="-1" strike="noStrike" u="sng">
                <a:solidFill>
                  <a:srgbClr val="000099"/>
                </a:solidFill>
                <a:uFillTx/>
                <a:latin typeface="Perpetua"/>
              </a:rPr>
              <a:t>imagen corporativa, atención al público, requerimiento de clientes o por otras similares</a:t>
            </a:r>
            <a:r>
              <a:rPr b="0" i="1" lang="es-CL" sz="2000" spc="-1" strike="noStrike">
                <a:solidFill>
                  <a:srgbClr val="000099"/>
                </a:solidFill>
                <a:latin typeface="Perpetua"/>
              </a:rPr>
              <a:t>, consignadas en el citado reglamento.” </a:t>
            </a:r>
            <a:r>
              <a:rPr b="0" lang="es-CL" sz="2000" spc="-1" strike="noStrike">
                <a:solidFill>
                  <a:srgbClr val="000099"/>
                </a:solidFill>
                <a:latin typeface="Perpetua"/>
              </a:rPr>
              <a:t>(Dictamen N° 2936/225 de 14 de julio de 2000)</a:t>
            </a:r>
            <a:endParaRPr b="0" lang="en-US" sz="2000" spc="-1" strike="noStrike">
              <a:solidFill>
                <a:srgbClr val="000099"/>
              </a:solidFill>
              <a:latin typeface="Arial"/>
            </a:endParaRPr>
          </a:p>
        </p:txBody>
      </p:sp>
      <p:sp>
        <p:nvSpPr>
          <p:cNvPr id="2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27B0-49EF-4A34-8A39-F90A8009605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ea typeface="바탕"/>
              </a:rPr>
              <a:t>Jornada parcial …</a:t>
            </a:r>
            <a:r>
              <a:rPr b="1" lang="es-ES" sz="3600" spc="-1" strike="noStrike">
                <a:solidFill>
                  <a:srgbClr val="ff0000"/>
                </a:solidFill>
                <a:latin typeface="Franklin Gothic Book"/>
                <a:ea typeface="바탕"/>
              </a:rPr>
              <a:t> </a:t>
            </a:r>
            <a:endParaRPr b="0" lang="en-US" sz="3600" spc="-1" strike="noStrike">
              <a:solidFill>
                <a:srgbClr val="ff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200" spc="-1" strike="noStrike">
                <a:solidFill>
                  <a:srgbClr val="000099"/>
                </a:solidFill>
                <a:latin typeface="Perpetua"/>
                <a:ea typeface="바탕"/>
              </a:rPr>
              <a:t>Para los efectos del cálculo de la indemnización que pudiere corresponderle al trabajador al momento del término de sus servicios, se entenderá por última remuneración el promedio de las remuneraciones percibidas por el trabajador durante la vigencia de su contrato o de los últimos once años del mismo.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r>
              <a:rPr b="0" lang="es-ES" sz="2200" spc="-1" strike="noStrike">
                <a:solidFill>
                  <a:srgbClr val="000099"/>
                </a:solidFill>
                <a:latin typeface="Perpetua"/>
                <a:ea typeface="Tahoma"/>
              </a:rPr>
              <a:t>Los trabajadores afectos a una jornada parcial de trabajo en los términos de los artículos 40 bis y siguientes del Código del Trabajo, tienen derecho a que las horas extraordinarias les sean pagadas considerando el valor del ingreso mínimo mensual, calculado proporcionalmente al número de horas convenidas como jornada ordinaria, sea que se trate de dependientes afectos a un sueldo que es inferior a dicha proporción o a una remuneración exclusivamente variable. </a:t>
            </a:r>
            <a:r>
              <a:rPr b="0" lang="es-MX" sz="2200" spc="-1" strike="noStrike">
                <a:solidFill>
                  <a:srgbClr val="000099"/>
                </a:solidFill>
                <a:latin typeface="Perpetua"/>
                <a:ea typeface="Tahoma"/>
              </a:rPr>
              <a:t>(Dictamen DDT </a:t>
            </a:r>
            <a:r>
              <a:rPr b="0" lang="es-ES" sz="2200" spc="-1" strike="noStrike">
                <a:solidFill>
                  <a:srgbClr val="000099"/>
                </a:solidFill>
                <a:latin typeface="Perpetua"/>
                <a:ea typeface="Tahoma"/>
              </a:rPr>
              <a:t>Nº 244/3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51"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FCF0-0C5C-4C8C-BDCB-4B63EDD43A7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B72E-79A4-4D2C-B113-8F0C6FA81F9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s o Interrupciones de la jornada</a:t>
            </a:r>
            <a:endParaRPr b="0" lang="en-US" sz="2800" spc="-1" strike="noStrike">
              <a:solidFill>
                <a:srgbClr val="ff0000"/>
              </a:solidFill>
              <a:latin typeface="Arial"/>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800" spc="-1" strike="noStrike">
                <a:solidFill>
                  <a:srgbClr val="000099"/>
                </a:solidFill>
                <a:latin typeface="Perpetua"/>
              </a:rPr>
              <a:t>1. Descanso diario o dentro de la jornada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r>
              <a:rPr b="0" lang="es-ES" sz="2800" spc="-1" strike="noStrike">
                <a:solidFill>
                  <a:srgbClr val="000099"/>
                </a:solidFill>
                <a:latin typeface="Perpetua"/>
              </a:rPr>
              <a:t>2. Descanso semanal  y en días festivos</a:t>
            </a:r>
            <a:endParaRPr b="0" lang="en-US" sz="2800" spc="-1" strike="noStrike">
              <a:solidFill>
                <a:srgbClr val="000099"/>
              </a:solidFill>
              <a:latin typeface="Arial"/>
            </a:endParaRPr>
          </a:p>
          <a:p>
            <a:pPr lvl="1" marL="547560" indent="-22860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tividades exceptuadas del descanso dominical y en días festivos, pero no del descanso semanal. </a:t>
            </a:r>
            <a:endParaRPr b="0" lang="en-US" sz="24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3. Descanso anual  pagado (vacación anual o feriado legal anual)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155E-9FCC-4269-B087-12A41C87358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diario (art. 34)</a:t>
            </a:r>
            <a:endParaRPr b="0" lang="en-US" sz="2800" spc="-1" strike="noStrike">
              <a:solidFill>
                <a:srgbClr val="ff0000"/>
              </a:solidFill>
              <a:latin typeface="Arial"/>
            </a:endParaRPr>
          </a:p>
        </p:txBody>
      </p:sp>
      <p:sp>
        <p:nvSpPr>
          <p:cNvPr id="359" name=""/>
          <p:cNvSpPr txBox="1"/>
          <p:nvPr/>
        </p:nvSpPr>
        <p:spPr>
          <a:xfrm>
            <a:off x="914400" y="1447920"/>
            <a:ext cx="7772400" cy="4572000"/>
          </a:xfrm>
          <a:prstGeom prst="rect">
            <a:avLst/>
          </a:prstGeom>
          <a:noFill/>
          <a:ln w="0">
            <a:noFill/>
          </a:ln>
        </p:spPr>
        <p:txBody>
          <a:bodyPr anchor="t">
            <a:normAutofit fontScale="70000"/>
          </a:bodyPr>
          <a:p>
            <a:pPr marL="190800" indent="-19080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jornada se divide en dos partes, dejando entre ellas, como mínimo, 30 minutos para colación. </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ste tiempo no se considera trabajado para computar la jornada diaria de trabajo.</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cepción: trabajos de procesos continuos no tiene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tensión máxima del descanso diario está determinado por la finalidad precisa de la interrupción: tiempo para colación, por lo tanto debe ser prudencial para cumplir ese fi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Ausencia de regulación legal:</a:t>
            </a:r>
            <a:endParaRPr b="0" lang="en-US" sz="26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Período mínimo de descanso entre jornadas diarias</a:t>
            </a:r>
            <a:endParaRPr b="0" lang="en-US" sz="20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No hay limitación para realizar trabajo nocturno, ni obligación de pagarlo con recargo</a:t>
            </a:r>
            <a:endParaRPr b="0" lang="en-US" sz="20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Perpetua"/>
              </a:rPr>
              <a:t>	</a:t>
            </a:r>
            <a:endParaRPr b="0" lang="en-US" sz="2400" spc="-1" strike="noStrike">
              <a:solidFill>
                <a:srgbClr val="000099"/>
              </a:solidFill>
              <a:latin typeface="Arial"/>
            </a:endParaRPr>
          </a:p>
        </p:txBody>
      </p:sp>
      <p:sp>
        <p:nvSpPr>
          <p:cNvPr id="3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C77F-347B-4B7B-89D9-92DB96D8813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y en días festivos (art. 35 a 38)</a:t>
            </a:r>
            <a:endParaRPr b="0" lang="en-US" sz="2800" spc="-1" strike="noStrike">
              <a:solidFill>
                <a:srgbClr val="ff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fontScale="83000"/>
          </a:bodyPr>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Domingos y festivos son de descanso.  </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istema de descanso semanal:  mínimo 1 día a la semana y este corresponde al Domingo. Puede aumentar hasta 2 días según si la distribución de la jornada semanal es de 5 o 6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empresa no puede distribuir la jornada ordinaria en forma que incluya el día domingo o festivo, salvo en caso de fuerza mayor o que se encuentre exceptuada del descanso en tales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Inicio y término del descanso semanal: 21 hrs. del día anterior al domingo o festivo y hasta las 6  hrs. del día siguiente. Salvo alteraciones horarias que se produzcan por rotación de los turnos de trabajo, pues en este caso pueden comprender tiempo entre 21 a 24 hrs. y 0 a 6 hrs.  </a:t>
            </a:r>
            <a:endParaRPr b="0" lang="en-US" sz="2400" spc="-1" strike="noStrike">
              <a:solidFill>
                <a:srgbClr val="000099"/>
              </a:solidFill>
              <a:latin typeface="Arial"/>
            </a:endParaRPr>
          </a:p>
        </p:txBody>
      </p:sp>
      <p:sp>
        <p:nvSpPr>
          <p:cNvPr id="3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B72E-715C-426C-A956-B8C1CBCFF42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67"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Pacto por escrito de descanso del día laboral entre dos feriados o entre un día feriado y un día sábado o d, con goce de remuneraciones. Compensación de las horas no trabajadas mediante el trabajo antes o después del día hábil pactado como descanso, y las horas trabajadas en compensación no son extraordinarias.  No puede acordarse de que la compensación se realice en domingo. </a:t>
            </a: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ías 18 septiembre. 25 diciembre y 1 enero son feriados obligatorios e irrenunciables para trabajadores que laboran en centros comerciales o mall.</a:t>
            </a:r>
            <a:endParaRPr b="0" lang="en-US" sz="2400" spc="-1" strike="noStrike">
              <a:solidFill>
                <a:srgbClr val="000099"/>
              </a:solidFill>
              <a:latin typeface="Arial"/>
            </a:endParaRPr>
          </a:p>
        </p:txBody>
      </p:sp>
      <p:sp>
        <p:nvSpPr>
          <p:cNvPr id="3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9D1B-7392-4505-B804-45BC7B694D0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1" name=""/>
          <p:cNvSpPr txBox="1"/>
          <p:nvPr/>
        </p:nvSpPr>
        <p:spPr>
          <a:xfrm>
            <a:off x="914400" y="1447920"/>
            <a:ext cx="7772400" cy="4572000"/>
          </a:xfrm>
          <a:prstGeom prst="rect">
            <a:avLst/>
          </a:prstGeom>
          <a:noFill/>
          <a:ln w="0">
            <a:noFill/>
          </a:ln>
        </p:spPr>
        <p:txBody>
          <a:bodyPr anchor="t">
            <a:normAutofit fontScale="88000"/>
          </a:bodyPr>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1" lang="es-ES" sz="2400" spc="-1" strike="noStrike">
                <a:solidFill>
                  <a:srgbClr val="000099"/>
                </a:solidFill>
                <a:latin typeface="Perpetua"/>
              </a:rPr>
              <a:t>Actividades exceptuadas del descanso dominical y en días festivos, pero no del descanso semanal. Pueden distribuir la jornada de trabajo en forma que incluya los domingos y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upuestos: art. 38.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Guardan relación con las faenas de una empresa, de manera que una misma empresa puede tener faenas exceptuadas y no exceptuada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ºs 2 y 7: actividades de carácter permanente exceptuadas del descanso dominical y en días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o requiere autorización administrativa, pero Dirección del Trabajo puede determinar si una actividad se encuentra en supuestos art. 38</a:t>
            </a:r>
            <a:endParaRPr b="0" lang="en-US" sz="2400" spc="-1" strike="noStrike">
              <a:solidFill>
                <a:srgbClr val="000099"/>
              </a:solidFill>
              <a:latin typeface="Arial"/>
            </a:endParaRPr>
          </a:p>
        </p:txBody>
      </p:sp>
      <p:sp>
        <p:nvSpPr>
          <p:cNvPr id="3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7DEA-7656-4A9C-9B1A-170308D492F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5"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mpresas exceptuadas deben otorgar descanso compensatorio por los días domingo y festivos trabajados. ¡No se encuentras exceptuadas del descanso semanal!</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l descanso compensatorio: </a:t>
            </a:r>
            <a:endParaRPr b="0" lang="en-US" sz="24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domingo: al 7º día (después de 6 días seguidos de trabajo) </a:t>
            </a:r>
            <a:endParaRPr b="0" lang="en-US" sz="20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Festivo: dentro siete días siguientes al respectivo festivo</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uerdo de las partes sobre otra forma de distribución o remuneración del día de descanso adicional en la semana.</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Casos Nºs 2 y 7: al menos 2 de los días de descanso en el respectivo mes calendario deberán necesariamente otorgarse en domingo</a:t>
            </a:r>
            <a:endParaRPr b="0" lang="en-US" sz="2400" spc="-1" strike="noStrike">
              <a:solidFill>
                <a:srgbClr val="000099"/>
              </a:solidFill>
              <a:latin typeface="Arial"/>
            </a:endParaRPr>
          </a:p>
        </p:txBody>
      </p:sp>
      <p:sp>
        <p:nvSpPr>
          <p:cNvPr id="3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925E-7D0A-44EF-B3E9-0B70640FECB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Sistemas Excepcionales de Distribución de la Jornada de Trabajo y Descansos (art. 38 incisos penúltimo y final)</a:t>
            </a:r>
            <a:br>
              <a:rPr sz="2400"/>
            </a:br>
            <a:endParaRPr b="0" lang="en-US" sz="2400" spc="-1" strike="noStrike">
              <a:solidFill>
                <a:srgbClr val="ff0000"/>
              </a:solidFill>
              <a:latin typeface="Arial"/>
            </a:endParaRPr>
          </a:p>
        </p:txBody>
      </p:sp>
      <p:sp>
        <p:nvSpPr>
          <p:cNvPr id="379"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on aquellos autorizados por el Director del Trabajo mediante resolución fundada, en uso de las facultades que al efecto le confiere  la ley.</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Requisit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Que no fuere posible aplicar la normativa general sobre jornada y descanso establecida en el artículo 38, atendidas las especiales características de la prestación de servici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cuerdo expreso de los trabajadores involucrados, y</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Condiciones de higiene y seguridad compatibles con el sistema solicitado, constatadas mediante fiscalización. </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regla general es que la vigencia de éstas  será de  4 años. Se exceptúa de esta vigencia de 4 años aquellas que se autoricen para la ejecución de una obra o faena determinada,  cuya vigencia, por regla general, queda determinada por el período de ejecución de las mismas, con un máximo de 4 años.</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27E8-CED2-40DB-A614-4490A2FC3DC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o Vacaciones pagadas (art. 67 a 76)</a:t>
            </a:r>
            <a:endParaRPr b="0" lang="en-US" sz="2800" spc="-1" strike="noStrike">
              <a:solidFill>
                <a:srgbClr val="ff0000"/>
              </a:solidFill>
              <a:latin typeface="Arial"/>
            </a:endParaRPr>
          </a:p>
        </p:txBody>
      </p:sp>
      <p:sp>
        <p:nvSpPr>
          <p:cNvPr id="383" name=""/>
          <p:cNvSpPr txBox="1"/>
          <p:nvPr/>
        </p:nvSpPr>
        <p:spPr>
          <a:xfrm>
            <a:off x="914400" y="1447920"/>
            <a:ext cx="7772400" cy="4572000"/>
          </a:xfrm>
          <a:prstGeom prst="rect">
            <a:avLst/>
          </a:prstGeom>
          <a:noFill/>
          <a:ln w="0">
            <a:noFill/>
          </a:ln>
        </p:spPr>
        <p:txBody>
          <a:bodyPr anchor="t">
            <a:normAutofit fontScale="85000"/>
          </a:bodyPr>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Derecho a vacaciones de 15 días hábiles, con remuneración integra, para los trabajadores con más de 1 año de servicio.</a:t>
            </a:r>
            <a:endParaRPr b="0" lang="en-US" sz="2600" spc="-1" strike="noStrike">
              <a:solidFill>
                <a:srgbClr val="000099"/>
              </a:solidFill>
              <a:latin typeface="Arial"/>
            </a:endParaRPr>
          </a:p>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Requisitos básicos:</a:t>
            </a:r>
            <a:endParaRPr b="0" lang="en-US" sz="26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Un año de servicios. Basta subsistencia del contrato, no requiere prestación de servicios efectivos. Las vacaciones se suspenden por enfermedad acreditada con licencia médica</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Tiempo mínimo de vacaciones. 15 días hábiles, y el día sábado es siempre inhábil. 20 días para algunas Regiones.</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erecho a remuneración íntegra: 72</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 preferencia en primavera o verano, según necesidades del servicio.</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8619-3168-4638-8AC9-D0C733835CB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87" name=""/>
          <p:cNvSpPr txBox="1"/>
          <p:nvPr/>
        </p:nvSpPr>
        <p:spPr>
          <a:xfrm>
            <a:off x="914400" y="1447920"/>
            <a:ext cx="7772400" cy="4572000"/>
          </a:xfrm>
          <a:prstGeom prst="rect">
            <a:avLst/>
          </a:prstGeom>
          <a:noFill/>
          <a:ln w="0">
            <a:noFill/>
          </a:ln>
        </p:spPr>
        <p:txBody>
          <a:bodyPr anchor="t">
            <a:normAutofit fontScale="87000"/>
          </a:bodyPr>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deben ser continuas, sin interrupciones. Pero el exceso sobre 10 días puede fraccionarse.</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pueden acumularse, pero sólo hasta por 2 períodos continuos. Art. 70</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no pueden compensarse en dinero, salvo los 2 casos del art. 73 que contemplan una indemnización por vacaciones proporcionales. </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Feriado progresivo (68): el período básico de vacaciones se aumenta en función de la antigüedad o años de servicios. </a:t>
            </a:r>
            <a:endParaRPr b="0" lang="en-US" sz="24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Un día adicional por cada 3 nuevos años trabajados sobre 10 años de trabajo. Los 10 años pueden ser para uno o más empleadores, pero sólo se puede hacer valer hasta 10 años  de trabajos prestados e empleadores anteriores</a:t>
            </a:r>
            <a:endParaRPr b="0" lang="en-US" sz="20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A308-B9F9-4E10-B213-326104AE9BB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urisprudencia laboral administrativa ha precisado que los </a:t>
            </a:r>
            <a:r>
              <a:rPr b="0" lang="es-CL" sz="2000" spc="-1" strike="noStrike" u="sng">
                <a:solidFill>
                  <a:srgbClr val="000099"/>
                </a:solidFill>
                <a:uFillTx/>
                <a:latin typeface="Perpetua"/>
              </a:rPr>
              <a:t>tiempos de trayecto</a:t>
            </a:r>
            <a:r>
              <a:rPr b="0" lang="es-CL" sz="2000" spc="-1" strike="noStrike">
                <a:solidFill>
                  <a:srgbClr val="000099"/>
                </a:solidFill>
                <a:latin typeface="Perpetua"/>
              </a:rPr>
              <a:t> </a:t>
            </a:r>
            <a:r>
              <a:rPr b="0" lang="es-CL" sz="2000" spc="-1" strike="noStrike" u="sng">
                <a:solidFill>
                  <a:srgbClr val="000099"/>
                </a:solidFill>
                <a:uFillTx/>
                <a:latin typeface="Perpetua"/>
              </a:rPr>
              <a:t>no constituyen jornada pasiva</a:t>
            </a:r>
            <a:r>
              <a:rPr b="0" lang="es-CL" sz="2000" spc="-1" strike="noStrike">
                <a:solidFill>
                  <a:srgbClr val="000099"/>
                </a:solidFill>
                <a:latin typeface="Perpetua"/>
              </a:rPr>
              <a:t>, salvo que estos trayectos se desarrollen o verifiquen </a:t>
            </a:r>
            <a:r>
              <a:rPr b="0" lang="es-CL" sz="2000" spc="-1" strike="noStrike" u="sng">
                <a:solidFill>
                  <a:srgbClr val="000099"/>
                </a:solidFill>
                <a:uFillTx/>
                <a:latin typeface="Perpetua"/>
              </a:rPr>
              <a:t>dentro de la jornada de trabajo</a:t>
            </a:r>
            <a:r>
              <a:rPr b="0" lang="es-CL" sz="2000" spc="-1" strike="noStrike">
                <a:solidFill>
                  <a:srgbClr val="000099"/>
                </a:solidFill>
                <a:latin typeface="Perpetua"/>
              </a:rPr>
              <a:t>, aplicándose de dicha forma el criterio “in itinere”.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El tiempo empleado por el personal transitorio de CONAF contratado para el combate de incendios forestales, en desplazarse a otras Regiones con el fin de prestar apoyo a las brigadas locales, ante un incendio de grandes magnitudes, no puede ser considerado jornada de trabajo, aún cuando el referido trayecto se haga en un medio proporcionado por la empresa, si dichos traslados se efectúan con anterioridad al inicio de la jornada de trabajo y con posterioridad a la conclusión de la misma, es decir, fuera de la jornada laboral pactada por los dependientes de que se trata.</a:t>
            </a:r>
            <a:r>
              <a:rPr b="0" lang="es-CL" sz="2000" spc="-1" strike="noStrike">
                <a:solidFill>
                  <a:srgbClr val="000099"/>
                </a:solidFill>
                <a:latin typeface="Perpetua"/>
              </a:rPr>
              <a:t>” (Ord, N° 4655/176 de 9 de noviembre de 2004).</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ABD6-3BB9-4E11-82CB-175284A7842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91"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Feriado legal anual especial en empresas que por la naturaleza de actividad que desarrollan, dejan de funcionar durante ciertos períodos del año (74)</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colectivas: cierre temporal de la empresa dispuesto por el empleador, y durante tal período se otorga vacaciones a todos los trabajadores de la empresa o sección.</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del personal docente de establecimientos de educación básica y media (75)</a:t>
            </a:r>
            <a:endParaRPr b="0" lang="en-US" sz="2600" spc="-1" strike="noStrike">
              <a:solidFill>
                <a:srgbClr val="000099"/>
              </a:solidFill>
              <a:latin typeface="Arial"/>
            </a:endParaRPr>
          </a:p>
        </p:txBody>
      </p:sp>
      <p:sp>
        <p:nvSpPr>
          <p:cNvPr id="3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715BD-BA45-4DEF-80C8-C6F227B4DD1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7"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Corte Suprema (</a:t>
            </a:r>
            <a:r>
              <a:rPr b="1" lang="es-CL" sz="2000" spc="-1" strike="noStrike">
                <a:solidFill>
                  <a:srgbClr val="000099"/>
                </a:solidFill>
                <a:latin typeface="Perpetua"/>
              </a:rPr>
              <a:t>S</a:t>
            </a:r>
            <a:r>
              <a:rPr b="1" i="1" lang="es-CL" sz="2000" spc="-1" strike="noStrike">
                <a:solidFill>
                  <a:srgbClr val="000099"/>
                </a:solidFill>
                <a:latin typeface="Perpetua"/>
              </a:rPr>
              <a:t>entencia de 7 de abril de 2009, ROL 580-09)</a:t>
            </a: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claramente la ley ha previsto que el tiempo en que el trabajador no desempeña realmente sus labores, por causa que no le sea imputable, pero se encuentra a disposición del empleador, se entienda como lapso trabajado. Esta norma regula la jornada conocida como nominal o pasiva, distinguiéndola nítidamente de aquélla en que el trabajador se encuentra produciendo para el empleador, pero ni ella ni la definición de la jornada activa obstan, en caso alguno, a que esta última pueda comprender actividades que, si bien, en estricto rigor, no son productivas, resultan indispensables para que el trabajador de cumplimiento a las obligaciones contraídas mediante la suscripción de su contrato de trabajo. </a:t>
            </a:r>
            <a:br>
              <a:rPr sz="2000"/>
            </a:br>
            <a:br>
              <a:rPr sz="2000"/>
            </a:br>
            <a:endParaRPr b="0" lang="en-US" sz="2000" spc="-1" strike="noStrike">
              <a:solidFill>
                <a:srgbClr val="000099"/>
              </a:solidFill>
              <a:latin typeface="Arial"/>
            </a:endParaRPr>
          </a:p>
        </p:txBody>
      </p:sp>
      <p:sp>
        <p:nvSpPr>
          <p:cNvPr id="2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B987-BE2A-4BB6-B9E7-01152F45CA7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11"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 Que en el caso de la faena minera lo anterior se hace más patente, desde que, dada su naturaleza y el lugar donde se desarrolla y, tal como lo señalan los recurrentes, ella requiere del uso de un vestuario especial e implementos de seguridad, sin los cuales no puede efectuarse. Ello no sólo es predeterminado por la contratista y la dueña de la obra, respecto de cuáles son la indumentaria y equipo necesarios, sino que también explica la existencia de recorridos fijos al interior de las instalaciones de la mina, entre el lugar específico de labor y otro adaptado para servir a dichos cambios de indumentaria y equipamiento con elementos de protección. Precisamente por lo reflexionado, resulta impensable que los empleados lleguen desde sus domicilios preparados para ingresar a la mina o que se retiren de las instalaciones de ésta usando la ropa de trabajo, lámpara, casco, autorescatador y los otros implementos de seguridad obligatorios.</a:t>
            </a: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br>
              <a:rPr sz="2000"/>
            </a:br>
            <a:endParaRPr b="0" lang="en-US" sz="2000" spc="-1" strike="noStrike">
              <a:solidFill>
                <a:srgbClr val="000099"/>
              </a:solidFill>
              <a:latin typeface="Arial"/>
            </a:endParaRPr>
          </a:p>
        </p:txBody>
      </p:sp>
      <p:sp>
        <p:nvSpPr>
          <p:cNvPr id="21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4B13-9DCB-4636-B58D-094D9333837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5"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Perpetua"/>
                <a:ea typeface="Times New Roman"/>
              </a:rPr>
              <a:t>	</a:t>
            </a:r>
            <a:r>
              <a:rPr b="0" lang="es-ES" sz="2200" spc="-1" strike="noStrike">
                <a:solidFill>
                  <a:srgbClr val="000099"/>
                </a:solidFill>
                <a:latin typeface="Perpetua"/>
                <a:ea typeface="Times New Roman"/>
              </a:rPr>
              <a:t>Las </a:t>
            </a:r>
            <a:r>
              <a:rPr b="0" lang="es-ES" sz="2200" spc="-1" strike="noStrike" u="sng">
                <a:solidFill>
                  <a:srgbClr val="000099"/>
                </a:solidFill>
                <a:uFillTx/>
                <a:latin typeface="Perpetua"/>
                <a:ea typeface="Times New Roman"/>
              </a:rPr>
              <a:t>acciones o actividades de capacitación</a:t>
            </a:r>
            <a:r>
              <a:rPr b="0" lang="es-ES" sz="2200" spc="-1" strike="noStrike">
                <a:solidFill>
                  <a:srgbClr val="000099"/>
                </a:solidFill>
                <a:latin typeface="Perpetua"/>
                <a:ea typeface="Times New Roman"/>
              </a:rPr>
              <a:t> programadas por la empresa para realizarse </a:t>
            </a:r>
            <a:r>
              <a:rPr b="0" lang="es-ES" sz="2200" spc="-1" strike="noStrike" u="sng">
                <a:solidFill>
                  <a:srgbClr val="000099"/>
                </a:solidFill>
                <a:uFillTx/>
                <a:latin typeface="Perpetua"/>
                <a:ea typeface="Times New Roman"/>
              </a:rPr>
              <a:t>durante el descanso semanal</a:t>
            </a:r>
            <a:r>
              <a:rPr b="0" lang="es-ES" sz="2200" spc="-1" strike="noStrike">
                <a:solidFill>
                  <a:srgbClr val="000099"/>
                </a:solidFill>
                <a:latin typeface="Perpetua"/>
                <a:ea typeface="Times New Roman"/>
              </a:rPr>
              <a:t> de sus trabajadores, no constituye jornada de trabajo, por lo que estos últimos no están obligados a asistir a las mismas, salvo que individual o colectivamente se acordare su asistencia. </a:t>
            </a:r>
            <a:r>
              <a:rPr b="0" lang="es-MX" sz="2200" spc="-1" strike="noStrike">
                <a:solidFill>
                  <a:srgbClr val="000099"/>
                </a:solidFill>
                <a:latin typeface="Perpetua"/>
                <a:ea typeface="Times New Roman"/>
              </a:rPr>
              <a:t>(Dictamen N°</a:t>
            </a:r>
            <a:r>
              <a:rPr b="0" lang="es-ES" sz="2200" spc="-1" strike="noStrike">
                <a:solidFill>
                  <a:srgbClr val="000099"/>
                </a:solidFill>
                <a:latin typeface="Perpetua"/>
                <a:ea typeface="Times New Roman"/>
              </a:rPr>
              <a:t>1429/0079</a:t>
            </a:r>
            <a:r>
              <a:rPr b="0" lang="es-MX" sz="2200" spc="-1" strike="noStrike">
                <a:solidFill>
                  <a:srgbClr val="000099"/>
                </a:solidFill>
                <a:latin typeface="Perpetua"/>
                <a:ea typeface="Times New Roman"/>
              </a:rPr>
              <a:t>, de fecha </a:t>
            </a:r>
            <a:r>
              <a:rPr b="0" lang="es-ES" sz="2200" spc="-1" strike="noStrike">
                <a:solidFill>
                  <a:srgbClr val="000099"/>
                </a:solidFill>
                <a:latin typeface="Perpetua"/>
                <a:ea typeface="Times New Roman"/>
              </a:rPr>
              <a:t>09.05.2002</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r>
              <a:rPr b="0" lang="es-ES" sz="2200" spc="-1" strike="noStrike">
                <a:solidFill>
                  <a:srgbClr val="000099"/>
                </a:solidFill>
                <a:latin typeface="Perpetua"/>
                <a:ea typeface="Times New Roman"/>
              </a:rPr>
              <a:t>De los antecedentes recopilados en torno a este asunto se ha podido establecer que el tiempo por el cual se consulta corresponde a un </a:t>
            </a:r>
            <a:r>
              <a:rPr b="0" lang="es-ES" sz="2200" spc="-1" strike="noStrike" u="sng">
                <a:solidFill>
                  <a:srgbClr val="000099"/>
                </a:solidFill>
                <a:uFillTx/>
                <a:latin typeface="Perpetua"/>
                <a:ea typeface="Times New Roman"/>
              </a:rPr>
              <a:t>lapso anterior al inicio de la jornada pactada y posterior a la conclusión de la misma</a:t>
            </a:r>
            <a:r>
              <a:rPr b="0" lang="es-ES" sz="2200" spc="-1" strike="noStrike">
                <a:solidFill>
                  <a:srgbClr val="000099"/>
                </a:solidFill>
                <a:latin typeface="Perpetua"/>
                <a:ea typeface="Times New Roman"/>
              </a:rPr>
              <a:t>, en que los trabajadores permanecen en dependencias de la empresa sin realizar labores, con motivo del </a:t>
            </a:r>
            <a:r>
              <a:rPr b="0" lang="es-ES" sz="2200" spc="-1" strike="noStrike" u="sng">
                <a:solidFill>
                  <a:srgbClr val="000099"/>
                </a:solidFill>
                <a:uFillTx/>
                <a:latin typeface="Perpetua"/>
                <a:ea typeface="Times New Roman"/>
              </a:rPr>
              <a:t>horario de llegada y salida de los buses que los transportan hasta y desde la faena</a:t>
            </a:r>
            <a:r>
              <a:rPr b="0" lang="es-ES" sz="2200" spc="-1" strike="noStrike">
                <a:solidFill>
                  <a:srgbClr val="000099"/>
                </a:solidFill>
                <a:latin typeface="Perpetua"/>
                <a:ea typeface="Times New Roman"/>
              </a:rPr>
              <a:t>. </a:t>
            </a:r>
            <a:r>
              <a:rPr b="0" lang="es-MX" sz="2200" spc="-1" strike="noStrike">
                <a:solidFill>
                  <a:srgbClr val="000099"/>
                </a:solidFill>
                <a:latin typeface="Perpetua"/>
                <a:ea typeface="Times New Roman"/>
              </a:rPr>
              <a:t>(Dictamen DDT N°</a:t>
            </a:r>
            <a:r>
              <a:rPr b="0" lang="es-ES" sz="2200" spc="-1" strike="noStrike">
                <a:solidFill>
                  <a:srgbClr val="000099"/>
                </a:solidFill>
                <a:latin typeface="Perpetua"/>
                <a:ea typeface="Times New Roman"/>
              </a:rPr>
              <a:t> 3536/0261</a:t>
            </a:r>
            <a:r>
              <a:rPr b="0" lang="es-MX" sz="2200" spc="-1" strike="noStrike">
                <a:solidFill>
                  <a:srgbClr val="000099"/>
                </a:solidFill>
                <a:latin typeface="Perpetua"/>
                <a:ea typeface="Times New Roman"/>
              </a:rPr>
              <a:t>, de fecha</a:t>
            </a:r>
            <a:r>
              <a:rPr b="0" lang="es-ES" sz="2200" spc="-1" strike="noStrike">
                <a:solidFill>
                  <a:srgbClr val="000099"/>
                </a:solidFill>
                <a:latin typeface="Perpetua"/>
                <a:ea typeface="Times New Roman"/>
              </a:rPr>
              <a:t> 24.08.2000</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94A5-DD89-442D-86DB-152FB770EB2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9" name=""/>
          <p:cNvSpPr txBox="1"/>
          <p:nvPr/>
        </p:nvSpPr>
        <p:spPr>
          <a:xfrm>
            <a:off x="914400" y="1447920"/>
            <a:ext cx="7772400" cy="4572000"/>
          </a:xfrm>
          <a:prstGeom prst="rect">
            <a:avLst/>
          </a:prstGeom>
          <a:noFill/>
          <a:ln w="0">
            <a:noFill/>
          </a:ln>
        </p:spPr>
        <p:txBody>
          <a:bodyPr anchor="t">
            <a:normAutofit fontScale="95000"/>
          </a:bodyPr>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800" spc="-1" strike="noStrike">
                <a:solidFill>
                  <a:srgbClr val="000099"/>
                </a:solidFill>
                <a:latin typeface="Perpetua"/>
                <a:ea typeface="Times New Roman"/>
              </a:rPr>
              <a:t>“</a:t>
            </a:r>
            <a:r>
              <a:rPr b="0" lang="es-ES" sz="2000" spc="-1" strike="noStrike">
                <a:solidFill>
                  <a:srgbClr val="000099"/>
                </a:solidFill>
                <a:latin typeface="Perpetua"/>
                <a:ea typeface="Times New Roman"/>
              </a:rPr>
              <a:t>Como es dable apreciar, en tal caso, la mayor permanencia de los trabajadores en los recintos de la empresa no tiene por origen una medida del empleador en orden a anticipar o postergar el inicio y término de la respectiva jornada laboral, sin</a:t>
            </a:r>
            <a:r>
              <a:rPr b="0" lang="es-MX" sz="2000" spc="-1" strike="noStrike">
                <a:solidFill>
                  <a:srgbClr val="000099"/>
                </a:solidFill>
                <a:latin typeface="Perpetua"/>
                <a:ea typeface="Times New Roman"/>
              </a:rPr>
              <a:t>o</a:t>
            </a:r>
            <a:r>
              <a:rPr b="0" lang="es-ES" sz="2000" spc="-1" strike="noStrike">
                <a:solidFill>
                  <a:srgbClr val="000099"/>
                </a:solidFill>
                <a:latin typeface="Perpetua"/>
                <a:ea typeface="Times New Roman"/>
              </a:rPr>
              <a:t> que es una consecuencia de la utilización por parte de estos de los </a:t>
            </a:r>
            <a:r>
              <a:rPr b="0" lang="es-ES" sz="2000" spc="-1" strike="noStrike" u="sng">
                <a:solidFill>
                  <a:srgbClr val="000099"/>
                </a:solidFill>
                <a:uFillTx/>
                <a:latin typeface="Perpetua"/>
                <a:ea typeface="Times New Roman"/>
              </a:rPr>
              <a:t>medios de transporte dispuestos por la empresa para su traslado hasta y desde el lugar de la faena</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 3536/0261</a:t>
            </a:r>
            <a:r>
              <a:rPr b="0" lang="es-MX" sz="2000" spc="-1" strike="noStrike">
                <a:solidFill>
                  <a:srgbClr val="000099"/>
                </a:solidFill>
                <a:latin typeface="Perpetua"/>
                <a:ea typeface="Times New Roman"/>
              </a:rPr>
              <a:t>, de fecha</a:t>
            </a:r>
            <a:r>
              <a:rPr b="0" lang="es-ES" sz="2000" spc="-1" strike="noStrike">
                <a:solidFill>
                  <a:srgbClr val="000099"/>
                </a:solidFill>
                <a:latin typeface="Perpetua"/>
                <a:ea typeface="Times New Roman"/>
              </a:rPr>
              <a:t> 24.08.2000</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a:t>
            </a:r>
            <a:r>
              <a:rPr b="0" lang="es-ES" sz="2000" spc="-1" strike="noStrike">
                <a:solidFill>
                  <a:srgbClr val="000099"/>
                </a:solidFill>
                <a:latin typeface="Perpetua"/>
                <a:ea typeface="Times New Roman"/>
              </a:rPr>
              <a:t>Precisado lo anterior, cabe referirse así el tiempo empleado en actividades de cambio de ropa, uso de elementos de protección y/o aseo personal, que </a:t>
            </a:r>
            <a:r>
              <a:rPr b="0" lang="es-ES" sz="2000" spc="-1" strike="noStrike" u="sng">
                <a:solidFill>
                  <a:srgbClr val="000099"/>
                </a:solidFill>
                <a:uFillTx/>
                <a:latin typeface="Perpetua"/>
                <a:ea typeface="Times New Roman"/>
              </a:rPr>
              <a:t>no se realizan en recintos especialmente destinados para ello</a:t>
            </a:r>
            <a:r>
              <a:rPr b="0" lang="es-ES" sz="2000" spc="-1" strike="noStrike">
                <a:solidFill>
                  <a:srgbClr val="000099"/>
                </a:solidFill>
                <a:latin typeface="Perpetua"/>
                <a:ea typeface="Times New Roman"/>
              </a:rPr>
              <a:t>, sino </a:t>
            </a:r>
            <a:r>
              <a:rPr b="0" lang="es-ES" sz="2000" spc="-1" strike="noStrike" u="sng">
                <a:solidFill>
                  <a:srgbClr val="000099"/>
                </a:solidFill>
                <a:uFillTx/>
                <a:latin typeface="Perpetua"/>
                <a:ea typeface="Times New Roman"/>
              </a:rPr>
              <a:t>en los campamentos </a:t>
            </a:r>
            <a:r>
              <a:rPr b="0" lang="es-ES" sz="2000" spc="-1" strike="noStrike">
                <a:solidFill>
                  <a:srgbClr val="000099"/>
                </a:solidFill>
                <a:latin typeface="Perpetua"/>
                <a:ea typeface="Times New Roman"/>
              </a:rPr>
              <a:t>que sirven de morada a los respectivos trabajadores deben ser calificados como parte integrante de la jornada laboral de los mismos”.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2243/0107</a:t>
            </a:r>
            <a:r>
              <a:rPr b="0" lang="es-MX" sz="2000" spc="-1" strike="noStrike">
                <a:solidFill>
                  <a:srgbClr val="000099"/>
                </a:solidFill>
                <a:latin typeface="Perpetua"/>
                <a:ea typeface="Times New Roman"/>
              </a:rPr>
              <a:t>, de </a:t>
            </a:r>
            <a:r>
              <a:rPr b="0" lang="es-ES" sz="2000" spc="-1" strike="noStrike">
                <a:solidFill>
                  <a:srgbClr val="000099"/>
                </a:solidFill>
                <a:latin typeface="Perpetua"/>
                <a:ea typeface="Times New Roman"/>
              </a:rPr>
              <a:t>18.06.2001</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20:13:48Z</dcterms:created>
  <dc:creator>Cesar Toledo</dc:creator>
  <dc:description/>
  <dc:language>en-US</dc:language>
  <cp:lastModifiedBy>Andres Aylwin Chiorrini</cp:lastModifiedBy>
  <dcterms:modified xsi:type="dcterms:W3CDTF">2010-05-31T13:30:19Z</dcterms:modified>
  <cp:revision>247</cp:revision>
  <dc:subject/>
  <dc:title>Sin título de diapositiva</dc:title>
</cp:coreProperties>
</file>