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9AFA1-E204-42A7-BD1F-0AFB83230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8B653-C5ED-4DFC-B53D-C8135CD47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62772-E02C-43B9-B8A8-1ECFE53CA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AAEED-C197-43DE-A291-1915D8183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86A1-0AD4-4897-A4F0-A9983AA8D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7A58B-B834-44C6-8831-CDA7A316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1456D-B41F-4D71-9111-217580163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94BC3-053C-478A-B636-963E41DA4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605FC-BD9D-4DAA-9F59-EA632C602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0A79-D46E-4DCB-8C6E-348224310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EB868-7654-44EB-A7A9-D3A872A33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82EA-ABE0-442C-991B-3054C5C0B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51CF-D4A4-4F7D-A111-C9D4C53F951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3880"/>
            <a:ext cx="784872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LOS GRUPOS DE EMPRESAS EN EL DERECHO DEL TRABAJO </a:t>
            </a:r>
            <a:br>
              <a:rPr sz="4000"/>
            </a:b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Septiembre 2008</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301C18C-9811-46A2-8ED5-14CD54A0A0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99920"/>
            <a:ext cx="7988400" cy="4608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66"/>
                </a:solidFill>
                <a:latin typeface="Times New Roman"/>
              </a:rPr>
              <a:t>	</a:t>
            </a:r>
            <a:r>
              <a:rPr b="1" lang="es-CL" sz="1600" spc="-1" strike="noStrike">
                <a:solidFill>
                  <a:srgbClr val="ffff66"/>
                </a:solidFill>
                <a:latin typeface="Times New Roman"/>
              </a:rPr>
              <a:t>Corte Suprema, Rol 4005-02, de 13.08.2003, Riaños con Conditex</a:t>
            </a:r>
            <a:r>
              <a:rPr b="1"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r>
              <a:rPr b="0" lang="es-MX" sz="2000" spc="-1" strike="noStrike">
                <a:solidFill>
                  <a:srgbClr val="ffff66"/>
                </a:solidFill>
                <a:latin typeface="Times New Roman"/>
              </a:rPr>
              <a:t>“</a:t>
            </a:r>
            <a:r>
              <a:rPr b="0" lang="es-CL" sz="2000" spc="-1" strike="noStrike">
                <a:solidFill>
                  <a:srgbClr val="ffff66"/>
                </a:solidFill>
                <a:latin typeface="Times New Roman"/>
              </a:rPr>
              <a:t>Que el  artículo 3º del Código del Trabajo, contiene el concepto de empresa y al efecto señala “se entiende por empresa (…) dotada de una individualidad legal determinada (…), el último requisito establecido en la norma citada, según lo ha resuelto esta Corte, no debe entenderse el atributo de la personalidad jurídica. Basta un ser jurídico”.</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grega la sentencia que “es un derecho del ser humano producir y tal derecho emana de su naturaleza. La ley sólo tiene que reconocerlo y ampararlo. Tal facultad del ser humano ha ido variando, en cuanto a su forma de ejercicio y ha ido adoptando evolucionados y diferentes modelos. Uno de ellos es el denominado "holding" o conjunto de empresas relacionadas, las que en general presentan un patrimonio común o parte de éste es compartido.”</a:t>
            </a:r>
            <a:endParaRPr b="0" lang="en-US" sz="2000" spc="-1" strike="noStrike">
              <a:solidFill>
                <a:srgbClr val="000000"/>
              </a:solidFill>
              <a:latin typeface="Times New Roman"/>
            </a:endParaRPr>
          </a:p>
        </p:txBody>
      </p:sp>
      <p:sp>
        <p:nvSpPr>
          <p:cNvPr id="59"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60" name=""/>
          <p:cNvSpPr/>
          <p:nvPr/>
        </p:nvSpPr>
        <p:spPr>
          <a:xfrm>
            <a:off x="901800" y="825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3542EF8-AC1A-437E-AF8A-29E7084296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1916280"/>
            <a:ext cx="7988400" cy="4176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ento a tales cambios, en la especie, ha de hacerse primar el principio de la realidad, esto es, la verdad o autenticidad en las relaciones laborales, aquello que son y no lo que las partes han querido que sean (…) en la confrontación de los hechos de esta causa con las normas previstas en los artículos 3 y 4 del Código del Trabajo en examen y lo razonado, se evidencia que en el caso de autos se está en presencia de un ‘holding’.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
            </a:r>
            <a:r>
              <a:rPr b="0" lang="es-CL" sz="2000" spc="-1" strike="noStrike">
                <a:solidFill>
                  <a:srgbClr val="ffff66"/>
                </a:solidFill>
                <a:latin typeface="Times New Roman"/>
              </a:rPr>
              <a:t>En efecto, ya está dicho que las empresas individualizadas, aparte de tener la calidad de relacionadas, se ordenan bajo una misma dirección, lo que las hace actuar ante los trabajadores y terceros como unidad económica”</a:t>
            </a:r>
            <a:r>
              <a:rPr b="0" lang="es-MX"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62" name=""/>
          <p:cNvSpPr/>
          <p:nvPr/>
        </p:nvSpPr>
        <p:spPr>
          <a:xfrm>
            <a:off x="539640" y="476280"/>
            <a:ext cx="784548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826920" y="825480"/>
            <a:ext cx="77774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CAF3733D-6978-4A79-A6A8-6C592268DC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10920" y="1413000"/>
            <a:ext cx="7848360" cy="496872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66"/>
                </a:solidFill>
                <a:latin typeface="Times New Roman"/>
              </a:rPr>
              <a:t>	</a:t>
            </a:r>
            <a:r>
              <a:rPr b="1" lang="es-ES" sz="1600" spc="-1" strike="noStrike">
                <a:solidFill>
                  <a:srgbClr val="ffff66"/>
                </a:solidFill>
                <a:latin typeface="Times New Roman"/>
              </a:rPr>
              <a:t>Rol N° 7.031-2006, C. de Apelaciones de Santiago.</a:t>
            </a: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rimero: Que habiéndose determinado por la sentenciadora que las empresas demandadas constituyen un holding de sociedades que la actora identifica por su nombre de fantasía como empresa “Village” publicitada abiertamente en los medios de comunicación y de público conocimiento, esta Corte estima que todas ellas son indistintamente responsables del pago de las prestaciones de origen legal y contractual que se derivan del despido injustificado de la demandante.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Segundo: Que, en consecuencia, no es posible eludir la responsabilidad en el cumplimiento de las obligaciones legales y contractuales emanadas de la relación laboral existente con la parte demandada por el hecho de crearse nuevas sociedades, todas ellas  relacionadas, con una gestión común, donde sus trabajadores son traspasados de una empresa a otra y participan de los mismos activos, siendo determinante para estos efectos la aplicación de los Principios de la Realidad y de la Continuidad que rigen en materia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p:txBody>
      </p:sp>
      <p:sp>
        <p:nvSpPr>
          <p:cNvPr id="65"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55640" y="620640"/>
            <a:ext cx="7920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EFD2807D-B341-419D-A1E1-F6878F06A5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9640" y="1844640"/>
            <a:ext cx="8064720" cy="4464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Tercero: Que, dada la función social que se le reconoce al trabajo, la ley ampara situaciones de esta naturaleza en el artículo 3º y 4º del Código del Ramo, entendiéndose en el concepto de empresa y por ende, para los efectos del caso de marras la concurrencia de varias sociedades, como integrantes  de un grupo empresarial –Holding- siendo determinante, además en el caso sub lite, que este conjunto de empresas relacionadas se benefician del trabajo de la actora y que conforme al principio de la realidad representan  una sola entidad, debiendo, entonces, responder indistintamente por las prestaciones respectivas.”</a:t>
            </a:r>
            <a:endParaRPr b="0" lang="en-US" sz="2000" spc="-1" strike="noStrike">
              <a:solidFill>
                <a:srgbClr val="000000"/>
              </a:solidFill>
              <a:latin typeface="Times New Roman"/>
            </a:endParaRPr>
          </a:p>
        </p:txBody>
      </p:sp>
      <p:sp>
        <p:nvSpPr>
          <p:cNvPr id="68" name=""/>
          <p:cNvSpPr/>
          <p:nvPr/>
        </p:nvSpPr>
        <p:spPr>
          <a:xfrm>
            <a:off x="901800" y="404640"/>
            <a:ext cx="79898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61074B4F-AE87-4AF8-93C9-62FACC6D46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9280" y="1412640"/>
            <a:ext cx="7993080" cy="54450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66"/>
                </a:solidFill>
                <a:latin typeface="Times New Roman"/>
              </a:rPr>
              <a:t>      </a:t>
            </a:r>
            <a:r>
              <a:rPr b="1" lang="es-ES" sz="1600" spc="-1" strike="noStrike">
                <a:solidFill>
                  <a:srgbClr val="ffff66"/>
                </a:solidFill>
                <a:latin typeface="Times New Roman"/>
              </a:rPr>
              <a:t>Rol 5898-2007, C. de Apelaciones de Santiago.</a:t>
            </a:r>
            <a:endParaRPr b="0" lang="en-US" sz="16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mbas empresas son una misma entidad u organización comercial, para la cual laboraba en definitiva el actor. En primer lugar, citada a absolver posiciones a fojas 52, doña xxxxxx, en representación de la demandada, reconoce que las empresas Pan D’Or S.A. y Dispan Ltda., pertenecen a su familia, incluida la absolvente y que una y otra tienen giro dedicado a la panificac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Que, en consecuencia, cualquiera sea la constitución societaria formal de ambas empresas, resulta evidente que ambas forman parte de una misma organización familiar, cuentan con los mismos medios o recursos materiales, están ordenadas bajo una misma dirección y persiguen el logro de fines comunes, lo que, desde la perspectiva  del actor, significa que ambas empresas demandadas deben responder como  co empleadoras de las obligaciones que se adeuden al trabajador.”</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     </a:t>
            </a:r>
            <a:endParaRPr b="0" lang="en-US" sz="1800" spc="-1" strike="noStrike">
              <a:solidFill>
                <a:srgbClr val="000000"/>
              </a:solidFill>
              <a:latin typeface="Times New Roman"/>
            </a:endParaRPr>
          </a:p>
        </p:txBody>
      </p:sp>
      <p:sp>
        <p:nvSpPr>
          <p:cNvPr id="70" name=""/>
          <p:cNvSpPr/>
          <p:nvPr/>
        </p:nvSpPr>
        <p:spPr>
          <a:xfrm>
            <a:off x="611280" y="260280"/>
            <a:ext cx="798984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901800" y="825480"/>
            <a:ext cx="763092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330E49CC-3655-478E-936B-9B50B06679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000" y="1412640"/>
            <a:ext cx="8064360" cy="5040360"/>
          </a:xfrm>
          <a:prstGeom prst="rect">
            <a:avLst/>
          </a:prstGeom>
          <a:noFill/>
          <a:ln w="0">
            <a:noFill/>
          </a:ln>
        </p:spPr>
        <p:txBody>
          <a:bodyPr lIns="90000" rIns="90000" tIns="46800" bIns="46800" anchor="t">
            <a:normAutofit/>
          </a:bodyPr>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66"/>
                </a:solidFill>
                <a:latin typeface="Times New Roman"/>
              </a:rPr>
              <a:t>     </a:t>
            </a:r>
            <a:endParaRPr b="0" lang="en-US" sz="600" spc="-1" strike="noStrike">
              <a:solidFill>
                <a:srgbClr val="000000"/>
              </a:solidFill>
              <a:latin typeface="Times New Roman"/>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r>
              <a:rPr b="1" lang="es-ES" sz="1600" spc="-1" strike="noStrike">
                <a:solidFill>
                  <a:srgbClr val="ffff66"/>
                </a:solidFill>
                <a:latin typeface="Times New Roman"/>
              </a:rPr>
              <a:t>Rol 6888-2005, C. de Apelaciones de Santiago</a:t>
            </a:r>
            <a:endParaRPr b="0" lang="en-US" sz="16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orque en realidad ambas Sociedades son la división de una misma empresa integrada en términos verticales en un mismo giro de comercialización y distribución de alimentos congelados, con el mismo domicilio social y el mismo representante.”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Esta Corte coincide con el apelante cuando afirma que es cierto que en el ámbito del derecho es perfectamente legítima la creación de identidades sociales y la división del patrimonio, mas, en ele campo del derecho  laboral, ello tiene una limitación, contenida en el artículo 478 del Código del Trabajo, norma que impide se produzca en perjuicio de los trabajadores la disminución o pérdida  de derechos laborales individuales o  colectivos, en especial las gratificaciones e indemnizaciones. En consecuencia, ambas se hallan obligadas como co-empleadoras.”</a:t>
            </a:r>
            <a:endParaRPr b="0" lang="en-US" sz="2000" spc="-1" strike="noStrike">
              <a:solidFill>
                <a:srgbClr val="000000"/>
              </a:solidFill>
              <a:latin typeface="Times New Roman"/>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1900" spc="-1" strike="noStrike">
                <a:solidFill>
                  <a:srgbClr val="ffff66"/>
                </a:solidFill>
                <a:latin typeface="Times New Roman"/>
              </a:rPr>
              <a:t>	</a:t>
            </a:r>
            <a:endParaRPr b="0" lang="en-US" sz="1900" spc="-1" strike="noStrike">
              <a:solidFill>
                <a:srgbClr val="000000"/>
              </a:solidFill>
              <a:latin typeface="Times New Roman"/>
            </a:endParaRPr>
          </a:p>
        </p:txBody>
      </p:sp>
      <p:sp>
        <p:nvSpPr>
          <p:cNvPr id="73"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7D97E4EB-C71E-47B9-B9AD-71539B62CB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699920"/>
            <a:ext cx="8064360" cy="4753080"/>
          </a:xfrm>
          <a:prstGeom prst="rect">
            <a:avLst/>
          </a:prstGeom>
          <a:no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66"/>
                </a:solidFill>
                <a:latin typeface="Times New Roman"/>
              </a:rPr>
              <a:t>     </a:t>
            </a:r>
            <a:endParaRPr b="0" lang="en-US" sz="11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Los giros de las dos sociedades confirman lo planteado por el actor, en orden a la complementariedad de las Sociedades, al ejercer una la comercialización de productos agropecuarios y la otra el transporte de los productos comercializados, existiendo entre ambas una integración vertical que las presenta como una sola empresa dividida en dos sociedades distintas.”</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76"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25DA18E5-4ED2-4E5F-A29A-AF4B545341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9640" y="1844280"/>
            <a:ext cx="7920000" cy="475308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1" lang="es-ES" sz="1600" spc="-1" strike="noStrike">
                <a:solidFill>
                  <a:srgbClr val="ffff66"/>
                </a:solidFill>
                <a:latin typeface="Times New Roman"/>
              </a:rPr>
              <a:t>Rol 827-2006, C. de Apelaciones de Santiago.</a:t>
            </a:r>
            <a:endParaRPr b="0" lang="en-US" sz="16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u="sng">
                <a:solidFill>
                  <a:srgbClr val="ffff66"/>
                </a:solidFill>
                <a:uFillTx/>
                <a:latin typeface="Times New Roman"/>
              </a:rPr>
              <a:t>Segundo</a:t>
            </a:r>
            <a:r>
              <a:rPr b="0" lang="es-ES" sz="2000" spc="-1" strike="noStrike">
                <a:solidFill>
                  <a:srgbClr val="ffff66"/>
                </a:solidFill>
                <a:latin typeface="Times New Roman"/>
              </a:rPr>
              <a:t>: Que por su parte se argumenta por las demandantes la existencia de obligaciones laborales emanadas de una vinculación con las demandadas Inverlinks S.A., Inverlink Corredores de Bolsa S.A., Inverlink Holding de Inversiones S.A., Inverlink Consultores S.A. e Inverlink Capitales S.A., fundada en que dichas demandadas constituirían una unidad económica, las que constituirán parte del Holding Inverlink.</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Tercero</a:t>
            </a:r>
            <a:r>
              <a:rPr b="0" lang="es-ES" sz="2000" spc="-1" strike="noStrike">
                <a:solidFill>
                  <a:srgbClr val="ffff66"/>
                </a:solidFill>
                <a:latin typeface="Times New Roman"/>
              </a:rPr>
              <a:t>: Que para comprender el sentido de la “unidad económica”, en los términos descritos en el artículo 3º del Código laboral, en forma reiterada la Excma. Corte Suprema ha señalado que, en aquellos casos en que las empresas tienen diversidad de rubros, personalidad jurídica distinta y un rut diferenciado, aún cuando funcionen en la misma propiedad o inmueble, no procederá considerarlas como una unidad económica (C. Suprema, 16.11.1999, Lexis Nexis 16.373).</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66"/>
                </a:solidFill>
                <a:latin typeface="Times New Roman"/>
              </a:rPr>
              <a:t>     </a:t>
            </a:r>
            <a:endParaRPr b="0" lang="en-US" sz="1200" spc="-1" strike="noStrike">
              <a:solidFill>
                <a:srgbClr val="000000"/>
              </a:solidFill>
              <a:latin typeface="Times New Roman"/>
            </a:endParaRPr>
          </a:p>
          <a:p>
            <a:pPr marL="343080"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66"/>
                </a:solidFill>
                <a:latin typeface="Times New Roman"/>
              </a:rPr>
              <a:t>      </a:t>
            </a:r>
            <a:endParaRPr b="0" lang="en-US" sz="500" spc="-1" strike="noStrike">
              <a:solidFill>
                <a:srgbClr val="000000"/>
              </a:solidFill>
              <a:latin typeface="Times New Roman"/>
            </a:endParaRPr>
          </a:p>
        </p:txBody>
      </p:sp>
      <p:sp>
        <p:nvSpPr>
          <p:cNvPr id="79"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A862173F-C8BC-4A4B-AD13-AC1F465FB0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9640" y="1844640"/>
            <a:ext cx="7920000" cy="4680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Quinto</a:t>
            </a:r>
            <a:r>
              <a:rPr b="0" lang="es-ES" sz="2000" spc="-1" strike="noStrike">
                <a:solidFill>
                  <a:srgbClr val="ffff66"/>
                </a:solidFill>
                <a:latin typeface="Times New Roman"/>
              </a:rPr>
              <a:t>: Que, además, consta de autos y apreciando la prueba rendida conforme a la regla de la sana crítica y teniendo presente que, en materia laboral prima el Principio de la Realidad,  llevan a estos sentenciadores a establecer que en autos no estamos en presencia de una unidad económica, tomando en consideración que si bien existió un conjunto de empresas interrelacionadas, cuyos fines  las llevaron incluso a la quiebra, el sólo hecho que distintos síndicos debieran representar, administrar y llevar adelante los procesos concursales, llevan a la conclusión a  estos jueces que operaban las empresas en forma independiente e individual, para los efectos lega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endParaRPr b="0" lang="en-US" sz="16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66"/>
                </a:solidFill>
                <a:latin typeface="Times New Roman"/>
              </a:rPr>
              <a:t>      </a:t>
            </a:r>
            <a:endParaRPr b="0" lang="en-US" sz="700" spc="-1" strike="noStrike">
              <a:solidFill>
                <a:srgbClr val="000000"/>
              </a:solidFill>
              <a:latin typeface="Times New Roman"/>
            </a:endParaRPr>
          </a:p>
        </p:txBody>
      </p:sp>
      <p:sp>
        <p:nvSpPr>
          <p:cNvPr id="81"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6A1E7658-C8EB-4F00-BA93-0D4F8F6BEC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3"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Doctrina consolidada. </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Consecuencia: un solo centro de imputación normativa. Responsabilidad indistinta o solidaria.</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econocimiento bajo diversas denominaciones:</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rupo de empresas o Holding: existiendo elementos comunes, se entiende como una sola empresa a las diversas entidade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Unidad económica: giros o funcionamientos o complementario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empleador o empleador múltiple, es decir, empleador único para todos los trabajadores de las empresas relacionadas, cuando un trabajador presta servicios para un tercero que no es su contratante, bajo el poder de dirección de aquél.</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023938-0D40-467E-B612-720BEDAF61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1. Configuración de Grupo de Empresas y sus efectos </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3"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iguración del GE</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ntegrado por diversas entidades (personas naturales, jurídicas, comunidades, ...), cada una formalmente independiente y con personalidad jurídica propia y diferenciada, pero que, sin embargo, todas actúan bajo una dirección unitaria, lo que les proporciona una cierta unidad económica.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el centro del debate: noción de personalidad jurídic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 distintivo: la dirección unitaria (una sola organización que le da sentido).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tenido mínimo (más relevante) de la dirección unitaria: atribución a la empresa dominante de la competencia para decidir sobre el ordenamiento fundamental de una empres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principio, responsabilidad es de la entidad que dirige la empresa; cambio de criterio cuando la dirección no corresponde a esa entidad sino que a otra. Lo esencial es cómo se ejecutan las facultades de organización y administración de las diversas entidad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8F5B32-367F-43E8-8EFA-9984CD56EC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5"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es forma lícita de organización empresari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 jurídica empresarial y la institución de la personalidad jurídica no puede significar vulneración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cindencia de la personalidad jurídica es excepcional, sólo tiene por fin asegurar el cumplimiento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efectúan interpretación amplia y no formal del concepto legal de empresa (art. 3 inciso 3° CT), particularmente del elemento “individualidad legal determinada”. Empresa no es equivalente a persona jurídica</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licación del principio de primacía de la realidad. Relevante indagar qué ocurre en la práctica, cómo se desenvuelve la relación laboral. Objetiviza al GE, desligándolo de la pura perspectiva del fraude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5B2AD0-86C1-4F0B-81C1-09A7B5659A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Jurisprudencia de indicios: notas indicativas </a:t>
            </a:r>
            <a:br>
              <a:rPr sz="2600"/>
            </a:br>
            <a:r>
              <a:rPr b="1" lang="es-CL" sz="2600" spc="-1" strike="noStrike">
                <a:solidFill>
                  <a:srgbClr val="ffff66"/>
                </a:solidFill>
                <a:latin typeface="Times New Roman"/>
              </a:rPr>
              <a:t>de la existencia de un GE</a:t>
            </a:r>
            <a:r>
              <a:rPr b="1" lang="es-CL"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s comunes que se comparten, significativament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usión, identidad o relación de patrimonios entre sociedades del grup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mpresas comparten representantes, o directores, o ejecutivos</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omicilio común, funcionamiento en el mismo inmuebl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ariencia externa de unidad empresarial</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stión común, dirección o administración de alguna o algunas de las sociedades por otra</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tación de servicios simultánea o sucesiva en las empresas del grupo (personal indiferenciad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jercicio del mismo rubro o giros complementari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12A14C-4A4F-4BFF-A9EE-C46E58E16D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8640"/>
            <a:ext cx="7772400" cy="15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judicial es parcial o limitado</a:t>
            </a:r>
            <a:endParaRPr b="0" lang="en-US" sz="2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s individuales específicos con motivo de la terminación del contrato de trabajo</a:t>
            </a:r>
            <a:endParaRPr b="0" lang="en-US" sz="2000" spc="-1" strike="noStrike">
              <a:solidFill>
                <a:srgbClr val="000000"/>
              </a:solidFill>
              <a:latin typeface="Times New Roman"/>
            </a:endParaRPr>
          </a:p>
          <a:p>
            <a:pPr lvl="2" marL="1143000" indent="-228600" algn="just">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ndemnización por años de servicio y sustitutiva aviso previo, vacaciones, remuneraciones. Doctrina consolidada en esta materia solamente.</a:t>
            </a:r>
            <a:endParaRPr b="0" lang="en-US" sz="1800" spc="-1" strike="noStrike">
              <a:solidFill>
                <a:srgbClr val="000000"/>
              </a:solidFill>
              <a:latin typeface="Times New Roman"/>
            </a:endParaRPr>
          </a:p>
          <a:p>
            <a:pPr lvl="2" marL="1143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individuales cuya vigencia dependen del tamaño de la empresa (sala cuna, reglamento interno de orden, higiene y seguridad, comité pari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colectiv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82316A-18F3-4072-A457-BB1D22376A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189000"/>
            <a:ext cx="8423280" cy="135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L" sz="2600" spc="-1" strike="noStrike">
                <a:solidFill>
                  <a:srgbClr val="ffff66"/>
                </a:solidFill>
                <a:latin typeface="Times New Roman"/>
              </a:rPr>
              <a:t>5. Distinción relevante: el Grupo de Empresas propiamente tal y el abuso de la personalidad jurídica</a:t>
            </a:r>
            <a:br>
              <a:rPr sz="2800"/>
            </a:br>
            <a:endParaRPr b="0" lang="en-US" sz="2600" spc="-1" strike="noStrike">
              <a:solidFill>
                <a:srgbClr val="000000"/>
              </a:solidFill>
              <a:latin typeface="Times New Roman"/>
            </a:endParaRPr>
          </a:p>
        </p:txBody>
      </p:sp>
      <p:sp>
        <p:nvSpPr>
          <p:cNvPr id="91" name="PlaceHolder 2"/>
          <p:cNvSpPr>
            <a:spLocks noGrp="1"/>
          </p:cNvSpPr>
          <p:nvPr>
            <p:ph/>
          </p:nvPr>
        </p:nvSpPr>
        <p:spPr>
          <a:xfrm>
            <a:off x="684360" y="2060280"/>
            <a:ext cx="7920000" cy="4608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ecesidad de clarificar conceptos</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GE propiamente tal (grupo real o lícito) o GE “fisi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luralidad de formas asociativas con dirección económica unitaria, en que cada entidad jurídica tiene su propio poder de mando laboral</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No hay problema de encubrimiento del empleador</a:t>
            </a:r>
            <a:endParaRPr b="0" lang="en-US" sz="1800" spc="-1" strike="noStrike">
              <a:solidFill>
                <a:srgbClr val="000000"/>
              </a:solidFill>
              <a:latin typeface="Times New Roman"/>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l abuso de la personalidad jurídica o “GE pat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Coempleador o empleador único de todos los trabajadores de las empresas relacionadas. Problema del empleador aparente.</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Las diversas</a:t>
            </a:r>
            <a:r>
              <a:rPr b="1" lang="es-ES" sz="1800" spc="-1" strike="noStrike">
                <a:solidFill>
                  <a:srgbClr val="ffff66"/>
                </a:solidFill>
                <a:latin typeface="Times New Roman"/>
              </a:rPr>
              <a:t> </a:t>
            </a:r>
            <a:r>
              <a:rPr b="0" lang="es-CL" sz="1800" spc="-1" strike="noStrike">
                <a:solidFill>
                  <a:srgbClr val="ffff66"/>
                </a:solidFill>
                <a:latin typeface="Times New Roman"/>
              </a:rPr>
              <a:t>entidades que integra el grupo tiene un mismo poder de mando respecto de los trabajadores, es decir, pluralidad de formas asociativas con poder de dirección laboral único.</a:t>
            </a:r>
            <a:endParaRPr b="0" lang="en-US" sz="1800" spc="-1" strike="noStrike">
              <a:solidFill>
                <a:srgbClr val="000000"/>
              </a:solidFill>
              <a:latin typeface="Times New Roman"/>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1751117-C09B-48F5-80E4-FC36639423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66"/>
                </a:solidFill>
                <a:latin typeface="Times New Roman"/>
              </a:rPr>
              <a:t>A MODO DE CONCLUSION</a:t>
            </a:r>
            <a:endParaRPr b="0" lang="en-US" sz="2600" spc="-1" strike="noStrike">
              <a:solidFill>
                <a:srgbClr val="000000"/>
              </a:solidFill>
              <a:latin typeface="Times New Roman"/>
            </a:endParaRPr>
          </a:p>
        </p:txBody>
      </p:sp>
      <p:sp>
        <p:nvSpPr>
          <p:cNvPr id="93" name="PlaceHolder 2"/>
          <p:cNvSpPr>
            <a:spLocks noGrp="1"/>
          </p:cNvSpPr>
          <p:nvPr>
            <p:ph/>
          </p:nvPr>
        </p:nvSpPr>
        <p:spPr>
          <a:xfrm>
            <a:off x="323640" y="1981080"/>
            <a:ext cx="8134200" cy="4114800"/>
          </a:xfrm>
          <a:prstGeom prst="rect">
            <a:avLst/>
          </a:prstGeom>
          <a:noFill/>
          <a:ln w="0">
            <a:noFill/>
          </a:ln>
        </p:spPr>
        <p:txBody>
          <a:bodyPr lIns="90000" rIns="90000" tIns="46800" bIns="46800" anchor="t">
            <a:normAutofit/>
          </a:bodyPr>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La respuesta judicial en el caso del </a:t>
            </a:r>
            <a:r>
              <a:rPr b="0" lang="es-CL" sz="2000" spc="-1" strike="noStrike">
                <a:solidFill>
                  <a:srgbClr val="ffff66"/>
                </a:solidFill>
                <a:latin typeface="Times New Roman"/>
              </a:rPr>
              <a:t>GE propiamente tal (Holding o unidad económica) ha otorgado tutela adecuada cuando están en juego derechos individuales indemnizatorios con ocasión de la terminación del contrato de trabajo.  No hay jurisprudencia judicial en materia de relaciones colectivas, y la solución en este ámbito pasa más por abordar el modelo normativo de negociación colectiva que por construir un tipo autónoma “grupo de empresas”. </a:t>
            </a:r>
            <a:endParaRPr b="0" lang="en-US" sz="2000" spc="-1" strike="noStrike">
              <a:solidFill>
                <a:srgbClr val="000000"/>
              </a:solidFill>
              <a:latin typeface="Times New Roman"/>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reacción judicial al supuesto de abuso de la personalidad jurídica o “GE patológico” es insuficiente para asegurar tutela. La solución pasa por abordar el concepto de empresa del art. 3°, vinculando empresa con la noción de empleador.</a:t>
            </a:r>
            <a:r>
              <a:rPr b="1" lang="es-CL" sz="2000" spc="-1" strike="noStrike">
                <a:solidFill>
                  <a:srgbClr val="ffff66"/>
                </a:solidFill>
                <a:latin typeface="Times New Roman"/>
              </a:rPr>
              <a:t> </a:t>
            </a: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E9A9B7-7BBB-40E2-A4B5-D399AD0A281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5"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se verifica por la existencia de empresas relacionadas entre sí, es una forma de organización deliberada, descentralización “decidida”: programada, estructurada e implementada por el empresario.</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No las relaciones de propiedad o de otra clase de dominación, pues el control es consustancial al GE.</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Motivaciones: económicas, impositivas, ¿laborales?</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s de grupos:</a:t>
            </a:r>
            <a:endParaRPr b="0" lang="en-US" sz="20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Subordinación o de estructura jerárquica</a:t>
            </a:r>
            <a:r>
              <a:rPr b="0" lang="es-CL" sz="1800" spc="-1" strike="noStrike">
                <a:solidFill>
                  <a:srgbClr val="ffff66"/>
                </a:solidFill>
                <a:latin typeface="Times New Roman"/>
              </a:rPr>
              <a:t>: además de la dirección unitaria, concurre el control. La empresa dominante influye decisivamente, directa o indirectamente, en el proceso de formación y ejecución de la voluntad de las empresas relacionadas controladas.</a:t>
            </a:r>
            <a:endParaRPr b="0" lang="en-US" sz="18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Coordinación o de estructura paritaria</a:t>
            </a:r>
            <a:r>
              <a:rPr b="0" lang="es-CL" sz="1800" spc="-1" strike="noStrike">
                <a:solidFill>
                  <a:srgbClr val="ffff66"/>
                </a:solidFill>
                <a:latin typeface="Times New Roman"/>
              </a:rPr>
              <a:t>: concurre sólo la dirección unitaria como resultado de un acuerdo libremente adoptado por todas las empresas.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C7E8ED6-E2A1-4DF6-BE16-146E1EE717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7"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Los efectos: </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empresa: punto de referencia para el ejercicio de los derechos laborales. Bajo un esquema clásico de relaciones de producción “empleador” y “empresa” coinciden en una persona natural o jurídica, éste está organizado como empresa y ejerce poder de dirección respecto el trabajador.  </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 “problema jurídico” del GE: varias entidades cada una con personalidad jurídica propia, y puede suceder que la entidad que figura como empleador en el contrato de trabajo no sea tal, sino que sean todas las entidades que conforman el grupo. Específicamente: </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dentificación del empleador (¿quién es el empleador?)</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Ambito y dimensión de la empresa como entidad en que se ejercen los derechos laborales (¿qué empres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7E91C0C-D3B8-44F0-A27E-07EB18988F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9"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iesgo: vigencia y ejercicio de los derechos laborales. </a:t>
            </a:r>
            <a:endParaRPr b="0" lang="en-US" sz="24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 quién se puede imputar el cumplimiento de los </a:t>
            </a:r>
            <a:r>
              <a:rPr b="0" lang="es-CL" sz="2000" spc="-1" strike="noStrike" u="sng">
                <a:solidFill>
                  <a:srgbClr val="ffff66"/>
                </a:solidFill>
                <a:uFillTx/>
                <a:latin typeface="Times New Roman"/>
              </a:rPr>
              <a:t>derechos individuales:</a:t>
            </a:r>
            <a:r>
              <a:rPr b="0" lang="es-CL" sz="2000" spc="-1" strike="noStrike">
                <a:solidFill>
                  <a:srgbClr val="ffff66"/>
                </a:solidFill>
                <a:latin typeface="Times New Roman"/>
              </a:rPr>
              <a:t> derechos de contenido económico, de higiene y seguridad, derechos que dependen del tamaño de la empresa (sala cuna, reglamento interno, comité paritario), derechos fundamentales en el trabajo.</a:t>
            </a:r>
            <a:endParaRPr b="0" lang="en-US" sz="20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Qué se entenderá por empresa para efectos de ejercer los </a:t>
            </a:r>
            <a:r>
              <a:rPr b="0" lang="es-CL" sz="2000" spc="-1" strike="noStrike" u="sng">
                <a:solidFill>
                  <a:srgbClr val="ffff66"/>
                </a:solidFill>
                <a:uFillTx/>
                <a:latin typeface="Times New Roman"/>
              </a:rPr>
              <a:t>derechos colectivos</a:t>
            </a:r>
            <a:r>
              <a:rPr b="0" lang="es-CL" sz="2000" spc="-1" strike="noStrike">
                <a:solidFill>
                  <a:srgbClr val="ffff66"/>
                </a:solidFill>
                <a:latin typeface="Times New Roman"/>
              </a:rPr>
              <a:t> de sindicalización y de negociación colectiva</a:t>
            </a:r>
            <a:endParaRPr b="0" lang="en-US" sz="20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Definición del ámbito o unidades de ejercicio de esos derechos podría quedar entregada a los intereses de empresario</a:t>
            </a:r>
            <a:endParaRPr b="0" lang="en-US" sz="18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articularidad del modelo normativo de relaciones colectivas chileno: deber empresarial de negociar en la empresa y sindicato de empresa titular del derecho de negociación colectiva</a:t>
            </a:r>
            <a:endParaRPr b="0" lang="en-US" sz="1800" spc="-1" strike="noStrike">
              <a:solidFill>
                <a:srgbClr val="000000"/>
              </a:solidFill>
              <a:latin typeface="Times New Roman"/>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77DE17F-2128-4880-9CEE-B29E8AE831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549000"/>
            <a:ext cx="72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2. Los Grupos de Empresas en el Derecho Chileno</a:t>
            </a:r>
            <a:br>
              <a:rPr sz="2600"/>
            </a:br>
            <a:br>
              <a:rPr sz="2600"/>
            </a:br>
            <a:endParaRPr b="0" lang="en-US" sz="2600" spc="-1" strike="noStrike">
              <a:solidFill>
                <a:srgbClr val="000000"/>
              </a:solidFill>
              <a:latin typeface="Times New Roman"/>
            </a:endParaRPr>
          </a:p>
        </p:txBody>
      </p:sp>
      <p:sp>
        <p:nvSpPr>
          <p:cNvPr id="51" name="PlaceHolder 2"/>
          <p:cNvSpPr>
            <a:spLocks noGrp="1"/>
          </p:cNvSpPr>
          <p:nvPr>
            <p:ph/>
          </p:nvPr>
        </p:nvSpPr>
        <p:spPr>
          <a:xfrm>
            <a:off x="611280" y="1196640"/>
            <a:ext cx="7772400" cy="5040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Comercial. Tutela transparencia mercados y actividad comercial.</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 </a:t>
            </a:r>
            <a:r>
              <a:rPr b="0" lang="es-CL" sz="1700" spc="-1" strike="noStrike">
                <a:solidFill>
                  <a:srgbClr val="ffff66"/>
                </a:solidFill>
                <a:latin typeface="Times New Roman"/>
              </a:rPr>
              <a:t>Ley N° 18.045 de 1981, sobre Mercado de Valores (art.96 y ss): grupo empresarial es conjunto de entidades con vínculos de tal naturaleza en su propiedad, administración o responsabilidad crediticia, que hacen presumir que la actuación económica y financiera de sus integrantes está guiada por los intereses comunes del grupo o subordinada a éstos.</a:t>
            </a:r>
            <a:endParaRPr b="0" lang="en-US" sz="17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N° 18.046 de 1981, sobre Sociedades Anónimas (art. 86 y 87): reconoce relación entre empresas en razón del grado de control que una ejerce sobre la otra: sociedad matriz y filial (mayor control) y sociedad coligante y coligada (control menor).  </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Tributario: tutela recaudación y evasión de impuestos.</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de Impuesto a la Renta (DL 824 de 1974): considera al grupo de empresas como una unidad para efecto de tributación, con el objeto de evitar evasión.</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iman criterios de realidad. Empresa no es entidad jurídica sino económica.  Varias sociedades sometidas a dirección unitaria y/o con vínculos de propiedad, pueden formar una unidad económica en sí misma.</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50967B-53B3-470E-BC7F-6936EA320D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Los Grupos de Empresas </a:t>
            </a:r>
            <a:br>
              <a:rPr sz="2600"/>
            </a:br>
            <a:r>
              <a:rPr b="1" lang="es-CL" sz="2600" spc="-1" strike="noStrike">
                <a:solidFill>
                  <a:srgbClr val="ffff66"/>
                </a:solidFill>
                <a:latin typeface="Times New Roman"/>
              </a:rPr>
              <a:t>en el Derecho Chileno del Trabajo</a:t>
            </a:r>
            <a:br>
              <a:rPr sz="2600"/>
            </a:br>
            <a:endParaRPr b="0" lang="en-US" sz="2600" spc="-1" strike="noStrike">
              <a:solidFill>
                <a:srgbClr val="000000"/>
              </a:solidFill>
              <a:latin typeface="Times New Roman"/>
            </a:endParaRPr>
          </a:p>
        </p:txBody>
      </p:sp>
      <p:sp>
        <p:nvSpPr>
          <p:cNvPr id="53"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reconocimiento legal expreso.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de “hech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por la Dirección del Trabajo: lo relevante es para quién se prestan servicios efectivamente bajo subordinación y dependencia, bajo criterios de realidad.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de Justicia, principal fuente de reconocimiento del GE: “</a:t>
            </a:r>
            <a:r>
              <a:rPr b="0" i="1" lang="es-CL" sz="2000" spc="-1" strike="noStrike">
                <a:solidFill>
                  <a:srgbClr val="ffff66"/>
                </a:solidFill>
                <a:latin typeface="Times New Roman"/>
              </a:rPr>
              <a:t>empresa no es identificable con la forma jurídica de su titular, basta con un sujeto de derecho con capacidad para ser titular de derechos y obligaciones”</a:t>
            </a: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0FFB03-8F3E-4074-B10F-3E0D5C038E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br>
              <a:rPr sz="2600"/>
            </a:br>
            <a:endParaRPr b="0" lang="en-US" sz="2600" spc="-1" strike="noStrike">
              <a:solidFill>
                <a:srgbClr val="000000"/>
              </a:solidFill>
              <a:latin typeface="Times New Roman"/>
            </a:endParaRPr>
          </a:p>
        </p:txBody>
      </p:sp>
      <p:sp>
        <p:nvSpPr>
          <p:cNvPr id="55" name="PlaceHolder 2"/>
          <p:cNvSpPr>
            <a:spLocks noGrp="1"/>
          </p:cNvSpPr>
          <p:nvPr>
            <p:ph/>
          </p:nvPr>
        </p:nvSpPr>
        <p:spPr>
          <a:xfrm>
            <a:off x="468000" y="1412640"/>
            <a:ext cx="8064360" cy="4824360"/>
          </a:xfrm>
          <a:prstGeom prst="rect">
            <a:avLst/>
          </a:prstGeom>
          <a:noFill/>
          <a:ln w="0">
            <a:noFill/>
          </a:ln>
        </p:spPr>
        <p:txBody>
          <a:bodyPr lIns="90000" rIns="90000" tIns="46800" bIns="46800" anchor="t">
            <a:normAutofit fontScale="94000"/>
          </a:bodyPr>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Afiliación sindical en proceso de fragmentación empresarial (división y filialización)</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El sindicato de empresa no es una prolongación del empleador, sino que es un ente autónomo constituido e integrado por trabajadores vinculados por una realidad factual – que es la organización de medios para un fin determinado- creado por y para los trabajadores, los que, mientras continúe vigente su relación laboral, mantienen su derecho a permanecer en el sindicato</a:t>
            </a:r>
            <a:r>
              <a:rPr b="0" lang="es-ES" sz="2000" spc="-1" strike="noStrike">
                <a:solidFill>
                  <a:srgbClr val="ffff66"/>
                </a:solidFill>
                <a:latin typeface="Times New Roman"/>
              </a:rPr>
              <a:t>”. Ord. N°2.059/175 de 22/5/2000 (reconsidera toda doctrina contraria e incompatible con la expuesta).</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jercicio del derecho de sindicación</a:t>
            </a:r>
            <a:endParaRPr b="0" lang="en-US" sz="2000" spc="-1" strike="noStrike">
              <a:solidFill>
                <a:srgbClr val="000000"/>
              </a:solidFill>
              <a:latin typeface="Times New Roman"/>
            </a:endParaRPr>
          </a:p>
          <a:p>
            <a:pPr marL="32220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formalmente contratados por las sociedades COPESA Producciones e Impresiones S.A. (PROSA), Promoservice S.A., Distribución y Servicios META S.A. y COPESA Impresores S.A., prestan servicios efectivamente bajo subordinación y dependencia de la Empresa COPESA S.A., por lo que no existe impedimento jurídico para que se afilien al sindicato constituido en esta última.”</a:t>
            </a:r>
            <a:r>
              <a:rPr b="0" lang="es-ES" sz="2000" spc="-1" strike="noStrike">
                <a:solidFill>
                  <a:srgbClr val="ffff66"/>
                </a:solidFill>
                <a:latin typeface="Times New Roman"/>
              </a:rPr>
              <a:t> </a:t>
            </a:r>
            <a:r>
              <a:rPr b="0" lang="es-CL" sz="2000" spc="-1" strike="noStrike">
                <a:solidFill>
                  <a:srgbClr val="ffff66"/>
                </a:solidFill>
                <a:latin typeface="Times New Roman"/>
              </a:rPr>
              <a:t>Ord N° 0373/010 de 24/1/07. En el mismo sentido, Ord. 2376/65 de 2/6/05.</a:t>
            </a:r>
            <a:endParaRPr b="0" lang="en-US" sz="2000" spc="-1" strike="noStrike">
              <a:solidFill>
                <a:srgbClr val="000000"/>
              </a:solidFill>
              <a:latin typeface="Times New Roman"/>
            </a:endParaRPr>
          </a:p>
          <a:p>
            <a:pPr lvl="1" marL="716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78D474-482E-4EC3-81DE-9B2B81F546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endParaRPr b="0" lang="en-US" sz="2600" spc="-1" strike="noStrike">
              <a:solidFill>
                <a:srgbClr val="000000"/>
              </a:solidFill>
              <a:latin typeface="Times New Roman"/>
            </a:endParaRPr>
          </a:p>
        </p:txBody>
      </p:sp>
      <p:sp>
        <p:nvSpPr>
          <p:cNvPr id="57"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dentificación del empleador de trabajadores contratados por distintas sociedad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que se desempeñan en las sociedades Créditos Comerciales S.A., Normalizadora de Créditos del Comercio S.A y Evaluadora de Créditos Lesel Ltda. prestan servicios efectivamente bajo subordinación y dependencia de la empresa Multitiendas Corona S.A., debiendo ser ésta considerada su empleador para los efectos laborales que corresponda.”</a:t>
            </a:r>
            <a:r>
              <a:rPr b="0" lang="es-ES" sz="2000" spc="-1" strike="noStrike">
                <a:solidFill>
                  <a:srgbClr val="ffff66"/>
                </a:solidFill>
                <a:latin typeface="Times New Roman"/>
              </a:rPr>
              <a:t> </a:t>
            </a:r>
            <a:r>
              <a:rPr b="0" lang="es-CL" sz="2000" spc="-1" strike="noStrike">
                <a:solidFill>
                  <a:srgbClr val="ffff66"/>
                </a:solidFill>
                <a:latin typeface="Times New Roman"/>
              </a:rPr>
              <a:t>Ord. N°1171/025 de 29/3/07</a:t>
            </a:r>
            <a:r>
              <a:rPr b="0" lang="es-CL" sz="2800" spc="-1" strike="noStrike">
                <a:solidFill>
                  <a:srgbClr val="ffff66"/>
                </a:solidFill>
                <a:latin typeface="Times New Roman"/>
              </a:rPr>
              <a:t>.</a:t>
            </a:r>
            <a:endParaRPr b="0" lang="en-US" sz="28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699DBF-B99C-472F-85B1-B9B82D175D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23:11:14Z</dcterms:created>
  <dc:creator>Andrés Aylwin Chiorrini</dc:creator>
  <dc:description/>
  <dc:language>en-US</dc:language>
  <cp:lastModifiedBy>Andres Aylwin Chiorrini</cp:lastModifiedBy>
  <dcterms:modified xsi:type="dcterms:W3CDTF">2010-05-10T18:04:12Z</dcterms:modified>
  <cp:revision>307</cp:revision>
  <dc:subject/>
  <dc:title>Presentación de PowerPoint</dc:title>
</cp:coreProperties>
</file>