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1C9FA-4EB1-4BB0-A9B0-DC721D58B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65FC9-DB2F-4E5C-BAAC-D3DE7A278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FBAC8-E4A8-4F0C-8126-0680E0387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AB68D-BDC6-4A65-BFE5-3162A5FC0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F74AC2-17B4-478F-BF9B-45EA879D28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7D8A3-BC5B-4BC2-AB5A-5854EAA62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685986-2206-4D80-AF60-60FE8B32A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17FD8-0ACA-42EB-B36F-21129DD06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888F2-945D-453A-9A19-62838795A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A56A6-011A-4A44-A5EE-1D42A392EF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6B075-DE36-4170-AFC4-469D605C0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40B72-E9FC-4A23-9313-C3F04D01B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8244C-3BBE-45F5-9790-9BC097920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4ED00-0820-43B0-AFAE-4782C92F8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6242C-E7E7-4914-91FB-EC58E0953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0D9F3C-4885-4B7D-9F48-FB65B8C099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48D5C4-458D-4E0E-B50F-336DABF23F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D08E8-7955-4F83-8BB3-DD9340845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C4616-2E8A-44D5-AE24-E40B65EB1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40292-AF20-49CC-AC94-3599A0302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10BA9-6D00-4055-8429-14C88E4B7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7B0C0-E427-4DD6-A47E-477B0B1DC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69CD3-4B7A-40CA-B20C-B685E040F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19A66-7CD2-4ABB-9C58-AA692DE788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446B1-B324-438E-BE6E-B9BC1000E81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CB594-BC8C-4340-B369-6BD69FED175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MUNERACIONES</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so Básico 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bresueldo</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 entiende por jornada extraordinaria aquella que excede del máximo legal semanal (45 horas), o la pactada contractualmente si esta fuese menor.</a:t>
            </a:r>
            <a:endParaRPr b="0" lang="en-US" sz="2200" spc="-1" strike="noStrike">
              <a:solidFill>
                <a:srgbClr val="000000"/>
              </a:solidFill>
              <a:latin typeface="Verdana"/>
            </a:endParaRPr>
          </a:p>
          <a:p>
            <a:pPr lvl="1" marL="90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as horas extraordinarias deberán constar por pacto escrito. Proceden sólo ante existencia de situaciones o necesidades temporales de la empresa, vigencia de máximo 3 meses, renovable por acuerdo entre las partes. Trabajadores a jornada parcial, no requieren dicho pacto. Sólo se podrá trabajar un máximo de dos horas extraordinarias por día.</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bresueldo: Base de Cálculo</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l límite que sirve de base para establecer la existencia de horas extraordinarias es de carácter semanal y se pagaran con un recargo del 50% sobre el sueldo base convenido para la jornada ordinaria, debiendo liquidarse conjuntamente con las remuneraciones ordinarias del respectivo periodo.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obresueldo: Base de Cálculo</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bajador con jornada completa y remunerado con sueldo mensual:</a:t>
            </a:r>
            <a:endParaRPr b="0" lang="en-US" sz="2000" spc="-1" strike="noStrike">
              <a:solidFill>
                <a:srgbClr val="000000"/>
              </a:solidFill>
              <a:latin typeface="Verdana"/>
            </a:endParaRPr>
          </a:p>
          <a:p>
            <a:pPr lvl="1" marL="90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305000" indent="-395280">
              <a:lnSpc>
                <a:spcPct val="9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 divide el sueldo mensual por 30, para obtener el monto del sueldo diario.</a:t>
            </a:r>
            <a:endParaRPr b="0" lang="en-US" sz="1800" spc="-1" strike="noStrike">
              <a:solidFill>
                <a:srgbClr val="000000"/>
              </a:solidFill>
              <a:latin typeface="Verdana"/>
            </a:endParaRPr>
          </a:p>
          <a:p>
            <a:pPr lvl="2" marL="1305000" indent="-395280">
              <a:lnSpc>
                <a:spcPct val="9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l resultado obtenido se multiplica por 7, determinándose así el valor del sueldo convenido para la jornada ordinaria semanal.</a:t>
            </a:r>
            <a:endParaRPr b="0" lang="en-US" sz="1800" spc="-1" strike="noStrike">
              <a:solidFill>
                <a:srgbClr val="000000"/>
              </a:solidFill>
              <a:latin typeface="Verdana"/>
            </a:endParaRPr>
          </a:p>
          <a:p>
            <a:pPr lvl="2" marL="1305000" indent="-395280">
              <a:lnSpc>
                <a:spcPct val="9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l producto obtenido se divide por la cantidad de horas pactadas para la jornada ordinaria semanal.</a:t>
            </a:r>
            <a:endParaRPr b="0" lang="en-US" sz="1800" spc="-1" strike="noStrike">
              <a:solidFill>
                <a:srgbClr val="000000"/>
              </a:solidFill>
              <a:latin typeface="Verdana"/>
            </a:endParaRPr>
          </a:p>
          <a:p>
            <a:pPr lvl="2" marL="1305000" indent="-395280">
              <a:lnSpc>
                <a:spcPct val="9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nalmente la cifra resultante, equivalente al valor de la hora ordinaria que se incrementa en el 50%.</a:t>
            </a:r>
            <a:endParaRPr b="0" lang="en-US" sz="1800" spc="-1" strike="noStrike">
              <a:solidFill>
                <a:srgbClr val="000000"/>
              </a:solidFill>
              <a:latin typeface="Verdana"/>
            </a:endParaRPr>
          </a:p>
          <a:p>
            <a:pPr lvl="2" marL="1305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bresueldo: Base de Cálculo</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bajador remunerado con sueldo diario con jornada de 45 horas semanales con una distribución de 6 días a la semana:</a:t>
            </a:r>
            <a:endParaRPr b="0" lang="en-US" sz="2200" spc="-1" strike="noStrike">
              <a:solidFill>
                <a:srgbClr val="000000"/>
              </a:solidFill>
              <a:latin typeface="Verdana"/>
            </a:endParaRPr>
          </a:p>
          <a:p>
            <a:pPr lvl="1" marL="9079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2" marL="1305000" indent="-39528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alor del sueldo diario multiplicado por 6.</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 resultado obtenido, sumar el valor de la semana corrida.</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l resultado se divide por 45 (horas semanales).</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a cifra obtenida se multiplica por 1.5, obteniéndose el valor de la hora extraordinari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bresueldo: Base de Cálculo</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ra trabajadores con sistema de remuneración con sueldo menor al ingreso mínimo legal, trabajadores con jornada parcial y aquellos con sueldo diario cuyos ingresos sean también menores al IML, el valor de la hora extra se calculará en base al valor del IML vigente, ($165.000).</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sión</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s el porcentaje sobre el precio de las ventas o compras o sobre el monto de otras operaciones, que el empleador efectúa con la colaboración del trabajador.</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rticipación</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s la proporción en las utilidades de un negocio determinado o de una empresa o solo de una o más secciones o sucursales de la misma.</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Características de la Participación</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Es una forma de participación en las utilidades.</a:t>
            </a:r>
            <a:endParaRPr b="0" lang="en-US" sz="26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Tiene origen exclusivamente contractual.</a:t>
            </a:r>
            <a:endParaRPr b="0" lang="en-US" sz="26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Pude pactarse sobre utilidades líquidas o brutas de un negocio determinad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Gratificación Legal</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Las normas sobre gratificación legal están contenidas en los Arts. 46 a 52 del Código y en ellos se establecen las entidades empleadoras obligadas a gratificar, las dos opciones que tiene el empleador para pagarla, el concepto de utilidad y la forma de calcular la utilidad líquida, las deducciones permitidas y el derecho a gratificación proporcional de los trabajadores con menos de un año en la empresa.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presas obligadas a gratificar</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l Art. 47 del Código establece que tienen obligación de gratificar anualmente a sus trabajadores las entidades que están obligadas a llevar los libros de contabilidad y que obtengan utilidades o excedentes líquidos en sus giros y que son las siguientes: </a:t>
            </a:r>
            <a:endParaRPr b="0" lang="en-US" sz="2200" spc="-1" strike="noStrike">
              <a:solidFill>
                <a:srgbClr val="000000"/>
              </a:solidFill>
              <a:latin typeface="Verdana"/>
            </a:endParaRPr>
          </a:p>
          <a:p>
            <a:pPr lvl="2" marL="1305000" indent="-395280">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mpresas o establecimientos mineros, industriales, comerciales o agrícolas que persigan fines de lucro. Empresas o establecimientos de cualquier otra actividad que persigan fines de lucro, y las cooperativa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mpresas obligadas a pagar gratificación lega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presencia de tres requisitos exige la citada disposición legal a las empresas o establecimiento obligados a pagar gratificación:</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 persigan fines de lucro.</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 estén obligados a llevar libros de contabilidad.</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 obtengan utilidades o excedentes líquidos en sus giros. </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Concepto</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a:t>
            </a:r>
            <a:r>
              <a:rPr b="0" i="1" lang="es-ES" sz="2600" spc="-1" strike="noStrike">
                <a:solidFill>
                  <a:srgbClr val="000000"/>
                </a:solidFill>
                <a:latin typeface="Verdana"/>
              </a:rPr>
              <a:t>Artículo 41. Se entiende por remuneración las contraprestaciones en dinero y las adicionales en especie avaluables en dinero que debe percibir el trabajador del empleador por causa del contrato de trabajo</a:t>
            </a:r>
            <a:r>
              <a:rPr b="0" lang="es-ES"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12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mpresas obligadas a pagar gratificación legal</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 el caso de la Cooperativas, están exentas de cumplir el primer requisito, porque es de la esencia de su constitución y de sus objetivos no perseguir fines de lucro. Sin embargo, les son aplicables los otros dos requisitos porque deben llevar contabilidad y pueden obtener excedentes líquido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mpresas o empleadores no obligados a pagar gratificación legal</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esar de que la ley no indica quienes están exentos de la obligación de pagar gratificación legal, creemos convenientes especificar que de la norma establecida en el Art. 46 se desprende claramente que no corresponde gratificar a los trabajadores que se desempeñan e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12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presas o empleadores no obligados a pagar gratificación legal</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Sin tener obligación de hacerlo, no persiguen fines de lucro, y empresas o establecimientos que persiguen fines de lucro, que llevan contabilidad en forma obligatoria y que no obtienen utilidades en sus giros durante el ejercicio financiero correspondiente. En este caso la exención es temporal por cuanto si al año siguiente obtienen utilidades líquidas deben pagar la gratificación legal sin descontar las pérdidas o los ejercicios anterior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1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stema de gratificación legal. Derecho opcional del Empleador</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ley establece dos sistemas para el cumplimiento de la obligación que corresponde a las entidades que deben otorgar gratificación legal y les concede un derecho opcional y discrecional para elegir cualquiera de los siguient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13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stema de gratificación legal. Derecho opcional del Empleador</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stribución de una proporción no inferior al 30%</a:t>
            </a:r>
            <a:r>
              <a:rPr b="0" lang="en-US" sz="2000" spc="-1" strike="noStrike">
                <a:solidFill>
                  <a:srgbClr val="000000"/>
                </a:solidFill>
                <a:latin typeface="Verdana"/>
              </a:rPr>
              <a:t> de la utilidad líquida a todos los trabajadores de la empresa en forma proporcional al monto de las remuneraciones devengadas por cada uno, incluidos los que no tengan derecho a gratificación legal, o </a:t>
            </a:r>
            <a:r>
              <a:rPr b="1" lang="en-US" sz="2000" spc="-1" strike="noStrike">
                <a:solidFill>
                  <a:srgbClr val="000000"/>
                </a:solidFill>
                <a:latin typeface="Verdana"/>
              </a:rPr>
              <a:t>Abono o pago del 25%</a:t>
            </a:r>
            <a:r>
              <a:rPr b="0" lang="en-US" sz="2000" spc="-1" strike="noStrike">
                <a:solidFill>
                  <a:srgbClr val="000000"/>
                </a:solidFill>
                <a:latin typeface="Verdana"/>
              </a:rPr>
              <a:t> de lo devengado por cada trabajador en el respectivo ejercicio comercial por concepto de remuneraciones mensuales, con un tope de </a:t>
            </a:r>
            <a:r>
              <a:rPr b="1" lang="en-US" sz="2000" spc="-1" strike="noStrike">
                <a:solidFill>
                  <a:srgbClr val="000000"/>
                </a:solidFill>
                <a:latin typeface="Verdana"/>
              </a:rPr>
              <a:t>4,75 ingresos mínimos mensuales</a:t>
            </a:r>
            <a:r>
              <a:rPr b="0" lang="en-US" sz="2000" spc="-1" strike="noStrike">
                <a:solidFill>
                  <a:srgbClr val="000000"/>
                </a:solidFill>
                <a:latin typeface="Verdana"/>
              </a:rPr>
              <a:t>. La elección de cualquiera de los dos sistemas reseñados dependerá del monto de la utilidad líquida y de la dotación del personal de la empres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stema de gratificación legal. Derecho opcional del Empleador</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 conformidad al Dictamen 5.146 de 14/08/85, la expresión “incluidos los que no tengan derecho “ debe entenderse referida a aquellos trabajadores que no están afectos a la gratificación legal, como por ejemplo a quienes han convenido la gratificación con su empleador.</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cepto de Utilidad para el cálculo de la gratificación legal </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 utilidad debe considerarse aquella que resulta de la liquidación que practique el SII para la determinación del impuesto a la renta sin deducir las pérdidas de ejercicios anteriores y por utilidad líquida la que arroje de dicha liquidación, deducido el 10% del valor del capital propio del empleador, por interés de dicho capital.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Obligaciones del SII relacionadas con la gratificación legal</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Los Arts. 48 y 49 establecen las siguientes obligaciones del SII relacionadas con la base para el pago de la gratificación leg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1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bligaciones del SII relacionadas con la gratificación legal</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terminar, en la liquidación efectuada para el impuesto a la renta de cada empresa o en la de los empleadores exceptuados de dicho impuesto, el capital propio del empleador invertido en la empresa y descontar el 10% por interés de dicho capital para determinar el monto de la utilidad líquida que debe servir del base para el pago de gratificacion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14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bligaciones del SII relacionadas con la gratificación legal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unicar el monto de la utilidad líquida base para el pago de la gratificación legal a los Tribunales de Justicia o a la Dirección del Trabajo, cuando estos soliciten este antecedente, 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Característica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Verdana"/>
              </a:rPr>
              <a:t>Contraprestación</a:t>
            </a:r>
            <a:r>
              <a:rPr b="0" lang="es-ES" sz="2200" spc="-1" strike="noStrike">
                <a:solidFill>
                  <a:srgbClr val="000000"/>
                </a:solidFill>
                <a:latin typeface="Verdana"/>
              </a:rPr>
              <a:t>: Tal característica aflora del hecho que el trabajador ejecuta un trabajo o servicio.</a:t>
            </a:r>
            <a:endParaRPr b="0" lang="en-US" sz="2200" spc="-1" strike="noStrike">
              <a:solidFill>
                <a:srgbClr val="000000"/>
              </a:solidFill>
              <a:latin typeface="Verdana"/>
            </a:endParaRPr>
          </a:p>
          <a:p>
            <a:pPr lvl="1" marL="9079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Verdana"/>
              </a:rPr>
              <a:t>Pecuniaria</a:t>
            </a:r>
            <a:r>
              <a:rPr b="0" lang="es-ES" sz="2200" spc="-1" strike="noStrike">
                <a:solidFill>
                  <a:srgbClr val="000000"/>
                </a:solidFill>
                <a:latin typeface="Verdana"/>
              </a:rPr>
              <a:t>: Esta representada por dinero, sin perjuicio que se contemplen prestaciones en especies avaluables en dinero.</a:t>
            </a:r>
            <a:endParaRPr b="0" lang="en-US" sz="2200" spc="-1" strike="noStrike">
              <a:solidFill>
                <a:srgbClr val="000000"/>
              </a:solidFill>
              <a:latin typeface="Verdana"/>
            </a:endParaRPr>
          </a:p>
          <a:p>
            <a:pPr lvl="1" marL="9079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Verdana"/>
              </a:rPr>
              <a:t>Se paga por causa del contrato</a:t>
            </a:r>
            <a:r>
              <a:rPr b="0" lang="es-ES" sz="2200" spc="-1" strike="noStrike">
                <a:solidFill>
                  <a:srgbClr val="000000"/>
                </a:solidFill>
                <a:latin typeface="Verdana"/>
              </a:rPr>
              <a:t>: Ello significa que la fuente de la obligación es el Contrato de Trabaj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14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bligaciones del SII relacionadas con la gratificación legal</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torgar certificaciones de la mencionada utilidad líquida a los empleadores o sindicatos de trabajadores, delegados de personal, cuando ellos lo requieran, dentro del plazo de 30 días hábiles, contados desde que el empleador haya entregado todos los antecedentes para la determinación de la utilida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1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go de la gratificación legal por el  25 % de la remuneración anual con tope de 4,75 ingresos mínimos mensuales</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l Art. 50 del Código establece que cualquiera que sea la utilidad líquida que obtuviere la empresa, se eximirá de la obligación de distribuir el 30% de dicha utilidad.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1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o de la gratificación legal por el  25 % de la remuneración anual con tope de 4,75 ingresos mínimos mensuales</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l mismo Art. 50 agrega que para determinar el referido 25% deben ajustarse las remuneraciones mensuales percibidas durante el ejercicio comercial, conforme los porcentajes de variación que hayan experimentado tales remuneraciones dentro del mismo ejercicio a quienes corresponda una gratificación legal a los 4,75 ingresos mínimos mensual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1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stema de Gratificación Proporcional</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l Art. 52 establece que los trabajadores que no alcanzaren a completar un año de servicio, tendrán derecho a la gratificación en proporción a los meses trabajados, está no procede en los contratos de una duración no superior a 30 días, si existe prórroga que no exceda los 60 día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1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atificación y Licencia Médica</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 caso de trabajadores con descanso maternal, licencia por enfermedad común o por cualquier causa la gratificación legal debe calcularse considerando el subsidio percibido por el Dependient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1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Ingreso Mínimo Mensual</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Es un piso de remuneración destinado a asegurar a todo trabajador, un ingreso para la satisfacción de sus necesidades.</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Se aplica a todos los trabajadores independiente de su sistema remuneracion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Situaciones de Excepción I.M.M.</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Trabajadores menores de 18 año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Trabajadores mayores de 65 año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Trabajadores de casa particular</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Trabajadores sujetos a contrato de aprendizaje, salvo que el empleador haga uso de la bonificación prevista en el Art. 57.</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1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Beneficios no imputables al I.M.M.</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Horas Extraordinaria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Asignación Legal Familiar</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Asignación de Movilización</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Asignación de Colación</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Asignación Desgaste de Herramienta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Asignación perdida de caja</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Aquellos que en general, no se paguen mes a 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tección de las Remuneraciones</a:t>
            </a:r>
            <a:endParaRPr b="0" lang="en-US" sz="3400" spc="-1" strike="noStrike">
              <a:solidFill>
                <a:srgbClr val="000000"/>
              </a:solidFill>
              <a:latin typeface="Verdana"/>
            </a:endParaRPr>
          </a:p>
        </p:txBody>
      </p:sp>
      <p:sp>
        <p:nvSpPr>
          <p:cNvPr id="16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 relación con el pago</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be pagarse en moneda de curso legal.</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 puede la periodicidad exceder de un me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be pagar de lunes a viernes en el lugar de trabajo, dentro de la hora siguiente de concluida la jornada.</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a remuneración es una estipulación del contrato de trabajo y una mención mínima de carácter obligatorio del Reglamento Intern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tección de las Remuneraciones </a:t>
            </a:r>
            <a:endParaRPr b="0" lang="en-US" sz="3400" spc="-1" strike="noStrike">
              <a:solidFill>
                <a:srgbClr val="000000"/>
              </a:solidFill>
              <a:latin typeface="Verdana"/>
            </a:endParaRPr>
          </a:p>
        </p:txBody>
      </p:sp>
      <p:sp>
        <p:nvSpPr>
          <p:cNvPr id="1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arantías frente al empleador</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Descuentos</a:t>
            </a: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Obligatorio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3" marL="1693800" indent="-387360">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uesto Único al Trabajo</a:t>
            </a:r>
            <a:endParaRPr b="0" lang="en-US" sz="2000" spc="-1" strike="noStrike">
              <a:solidFill>
                <a:srgbClr val="000000"/>
              </a:solidFill>
              <a:latin typeface="Verdana"/>
            </a:endParaRPr>
          </a:p>
          <a:p>
            <a:pPr lvl="3" marL="1693800" indent="-387360">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tizaciones de Seguridad Social</a:t>
            </a:r>
            <a:endParaRPr b="0" lang="en-US" sz="2000" spc="-1" strike="noStrike">
              <a:solidFill>
                <a:srgbClr val="000000"/>
              </a:solidFill>
              <a:latin typeface="Verdana"/>
            </a:endParaRPr>
          </a:p>
          <a:p>
            <a:pPr lvl="3" marL="1693800" indent="-387360">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otas Sindical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gresos que constituyen remuneración</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ueldo: Es el estipendio fijo, en dinero, pagado por periodos iguales, determinados en el contrato, que recibe el trabajador por la prestación de sus servicio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stipendio,</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jo,</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n dinero,</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gado por periodos iguales,</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eterminados en el contrato,</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e recibe el trabajador por la prestación de sus servicio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tección de las Remuneraciones</a:t>
            </a:r>
            <a:endParaRPr b="0" lang="en-US" sz="3400" spc="-1" strike="noStrike">
              <a:solidFill>
                <a:srgbClr val="000000"/>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arantías frente al empleador</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scuentos obligatorios a solicitud escrita del trabajador</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 pueden exceder del 30% de la remuneración.</a:t>
            </a:r>
            <a:endParaRPr b="0" lang="en-US" sz="23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horros para la vivienda, institución financiera o una cooperativa para la vivienda.</a:t>
            </a:r>
            <a:endParaRPr b="0" lang="en-US" sz="23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uotas de dividendos hipotecario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tección de las Remuneraciones</a:t>
            </a:r>
            <a:endParaRPr b="0" lang="en-US" sz="3400" spc="-1" strike="noStrike">
              <a:solidFill>
                <a:srgbClr val="000000"/>
              </a:solidFill>
              <a:latin typeface="Verdana"/>
            </a:endParaRPr>
          </a:p>
        </p:txBody>
      </p:sp>
      <p:sp>
        <p:nvSpPr>
          <p:cNvPr id="16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arantías frente al empleador</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scuentos por ley, voluntarios o permitidos</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ope 15% de la remuneración mensual</a:t>
            </a:r>
            <a:endParaRPr b="0" lang="en-US" sz="23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stinados a pagos de cualquier naturaleza</a:t>
            </a:r>
            <a:endParaRPr b="0" lang="en-US" sz="23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jemplo: Obligaciones contraídas con tiendas comerciales, préstamos con instituciones financiera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tección de las Remuneraciones</a:t>
            </a:r>
            <a:endParaRPr b="0" lang="en-US" sz="3400" spc="-1" strike="noStrike">
              <a:solidFill>
                <a:srgbClr val="000000"/>
              </a:solidFill>
              <a:latin typeface="Verdana"/>
            </a:endParaRPr>
          </a:p>
        </p:txBody>
      </p:sp>
      <p:sp>
        <p:nvSpPr>
          <p:cNvPr id="1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arantías frente al empleador</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ublicidad</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stá referido a que el empleador que cuente con 5 o más trabajadores debe llevar un libro auxiliar de remuneraciones, timbrado por el SII.</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tección de las Remuneraciones</a:t>
            </a:r>
            <a:endParaRPr b="0" lang="en-US" sz="3400" spc="-1" strike="noStrike">
              <a:solidFill>
                <a:srgbClr val="000000"/>
              </a:solidFill>
              <a:latin typeface="Verdana"/>
            </a:endParaRPr>
          </a:p>
        </p:txBody>
      </p:sp>
      <p:sp>
        <p:nvSpPr>
          <p:cNvPr id="17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arantías frente al empleador</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ajustabilidad</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a sumas que los empleadores adeuden por concepto de remuneraciones, beneficios, indemnizaciones o cualquiera otra, deben pagarse reajustadas conforme al IPC y devengan el máximo interés permitido para operaciones reajustables Art. 63 CT.</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tección de las Remuneraciones</a:t>
            </a:r>
            <a:endParaRPr b="0" lang="en-US" sz="3400" spc="-1" strike="noStrike">
              <a:solidFill>
                <a:srgbClr val="000000"/>
              </a:solidFill>
              <a:latin typeface="Verdana"/>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 relación con los acreedores del empleador</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te varios acreedores del empleador, se aplica el Art. 2470 y siguientes del Código Civil. Conforme a dicha norma, las remuneraciones, así como las indemnizaciones, tanto legales como convencionales, constituyen un crédito privilegiado quedando comprendido en la primera cl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tección de las Remuneraciones</a:t>
            </a:r>
            <a:endParaRPr b="0" lang="en-US" sz="3400" spc="-1" strike="noStrike">
              <a:solidFill>
                <a:srgbClr val="000000"/>
              </a:solidFill>
              <a:latin typeface="Verdana"/>
            </a:endParaRPr>
          </a:p>
        </p:txBody>
      </p:sp>
      <p:sp>
        <p:nvSpPr>
          <p:cNvPr id="17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ente a Tercero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sta garantía dice relación con la inembargabilidad de las remuneraciones y de las cotizaciones de seguridad socia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cotizaciones de seguridad social son inembargables absolutamente, no existiendo al respecto excepción algun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tección de las Remuneraciones</a:t>
            </a:r>
            <a:endParaRPr b="0" lang="en-US" sz="3400" spc="-1" strike="noStrike">
              <a:solidFill>
                <a:srgbClr val="000000"/>
              </a:solidFill>
              <a:latin typeface="Verdana"/>
            </a:endParaRPr>
          </a:p>
        </p:txBody>
      </p:sp>
      <p:sp>
        <p:nvSpPr>
          <p:cNvPr id="17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rente a Tercero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cepcione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 permite hasta el 50% de las remuneraciones en los casos establecidos en el Art. 57 del Código del Trabajo.</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ensiones alimenticias debidas por ley y decretadas judicialment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muneraciones adeudadas por el trabajador a dependientes que hayan estado a sus servicios, 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efraudaciones, robos o hurtos cometidos por el trabajador en contra del empleador en el ejercicio de sus funcione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tección de las Remuneraciones</a:t>
            </a:r>
            <a:endParaRPr b="0" lang="en-US" sz="3400" spc="-1" strike="noStrike">
              <a:solidFill>
                <a:srgbClr val="000000"/>
              </a:solidFill>
              <a:latin typeface="Verdana"/>
            </a:endParaRPr>
          </a:p>
        </p:txBody>
      </p:sp>
      <p:sp>
        <p:nvSpPr>
          <p:cNvPr id="1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ecto de la Familia del Trabajador</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l trabajador se encuentra facultado para solicitar a su empleador, los descuentos que decida asignar a la mantención de su familia.</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mujer casada tiene el derecho de percibir hasta el 50% de la remuneración de su marido declarado vicios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tección de las Remuneraciones</a:t>
            </a:r>
            <a:endParaRPr b="0" lang="en-US" sz="3400" spc="-1" strike="noStrike">
              <a:solidFill>
                <a:srgbClr val="000000"/>
              </a:solidFill>
              <a:latin typeface="Verdana"/>
            </a:endParaRPr>
          </a:p>
        </p:txBody>
      </p:sp>
      <p:sp>
        <p:nvSpPr>
          <p:cNvPr id="1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 relación a la muerte del Trabajador</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 caso de fallecimiento del trabajador y en caso de existir remuneraciones adeudadas serán pagadas por el empleador a la persona que se hizo cargo de sus funerales hasta concurrencia del costo de los mismo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l saldo si lo hubiere y demás prestaciones pendientes a la fecha del fallecimiento se pagarán al cónyuge, a los hijos y a los padres, unos a falta de otros, en caso de no superar las 5 UTA.</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bresueldo: Es la remuneración de horas extraordinarias de trabajo.</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misión: Es el porcentaje sobre el precio de la ventas o compras, o sobre el monto de otras operaciones, que el empleador efectúa con la colaboración del trabajador.</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cipación: Es la proporción en la utilidades de un negocio determinado o de una empresa, o sólo de una o más secciones o sucursales de la misma.</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tificación: Corresponde a la parte de la utilidades con que el empleador beneficia el sueldo del trabajado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ebe considerarse que no obstante esta definición, existe un sistema alternativo de pago.</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a ley permite el pacto de otro sistema siempre y cuando no sea contrario a la ley, el que se denomina Gratificación Convencional, para distinguirla de la legal.</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neficios y prestaciones que no constituyen remuneración</a:t>
            </a:r>
            <a:endParaRPr b="0" lang="en-US" sz="3000" spc="-1" strike="noStrike">
              <a:solidFill>
                <a:srgbClr val="000000"/>
              </a:solidFill>
              <a:latin typeface="Verdana"/>
            </a:endParaRPr>
          </a:p>
          <a:p>
            <a:pPr lvl="1" marL="898560" indent="-4316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ignación de movilización o locomoción.</a:t>
            </a:r>
            <a:endParaRPr b="0" lang="en-US" sz="2600" spc="-1" strike="noStrike">
              <a:solidFill>
                <a:srgbClr val="000000"/>
              </a:solidFill>
              <a:latin typeface="Verdana"/>
            </a:endParaRPr>
          </a:p>
          <a:p>
            <a:pPr lvl="1" marL="898560" indent="-4316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ignación de colación o alimentación.</a:t>
            </a:r>
            <a:endParaRPr b="0" lang="en-US" sz="2600" spc="-1" strike="noStrike">
              <a:solidFill>
                <a:srgbClr val="000000"/>
              </a:solidFill>
              <a:latin typeface="Verdana"/>
            </a:endParaRPr>
          </a:p>
          <a:p>
            <a:pPr lvl="1" marL="898560" indent="-4316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ignación de perdida de caja.</a:t>
            </a:r>
            <a:endParaRPr b="0" lang="en-US" sz="2600" spc="-1" strike="noStrike">
              <a:solidFill>
                <a:srgbClr val="000000"/>
              </a:solidFill>
              <a:latin typeface="Verdana"/>
            </a:endParaRPr>
          </a:p>
          <a:p>
            <a:pPr lvl="1" marL="898560" indent="-4316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áticos.</a:t>
            </a:r>
            <a:endParaRPr b="0" lang="en-US" sz="2600" spc="-1" strike="noStrike">
              <a:solidFill>
                <a:srgbClr val="000000"/>
              </a:solidFill>
              <a:latin typeface="Verdana"/>
            </a:endParaRPr>
          </a:p>
          <a:p>
            <a:pPr lvl="1" marL="898560" indent="-4316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s prestaciones familiares otorgadas en conformidad a la ley.</a:t>
            </a:r>
            <a:endParaRPr b="0" lang="en-US" sz="2600" spc="-1" strike="noStrike">
              <a:solidFill>
                <a:srgbClr val="000000"/>
              </a:solidFill>
              <a:latin typeface="Verdana"/>
            </a:endParaRPr>
          </a:p>
          <a:p>
            <a:pPr lvl="1" marL="898560" indent="-4316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emnización legal por años de servici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Excepción para el cálculo de indemnizació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Conforme a la Jurisprudencia Administrativa </a:t>
            </a:r>
            <a:r>
              <a:rPr b="1" lang="es-ES" sz="2200" spc="-1" strike="noStrike">
                <a:solidFill>
                  <a:srgbClr val="000000"/>
                </a:solidFill>
                <a:latin typeface="Verdana"/>
              </a:rPr>
              <a:t>(Dictamen 4466/308, de 21/9/98)</a:t>
            </a:r>
            <a:r>
              <a:rPr b="0" lang="es-ES" sz="2200" spc="-1" strike="noStrike">
                <a:solidFill>
                  <a:srgbClr val="000000"/>
                </a:solidFill>
                <a:latin typeface="Verdana"/>
              </a:rPr>
              <a:t> y Judicial </a:t>
            </a:r>
            <a:r>
              <a:rPr b="1" lang="es-ES" sz="2200" spc="-1" strike="noStrike">
                <a:solidFill>
                  <a:srgbClr val="000000"/>
                </a:solidFill>
                <a:latin typeface="Verdana"/>
              </a:rPr>
              <a:t>(Sentencia de 17/9/96 de la Excelentísima Corte Suprema),</a:t>
            </a:r>
            <a:r>
              <a:rPr b="0" lang="es-ES" sz="2200" spc="-1" strike="noStrike">
                <a:solidFill>
                  <a:srgbClr val="000000"/>
                </a:solidFill>
                <a:latin typeface="Verdana"/>
              </a:rPr>
              <a:t> </a:t>
            </a:r>
            <a:r>
              <a:rPr b="0" lang="es-ES_tradnl" sz="2200" spc="-1" strike="noStrike">
                <a:solidFill>
                  <a:srgbClr val="000000"/>
                </a:solidFill>
                <a:latin typeface="Verdana"/>
              </a:rPr>
              <a:t>la Dirección del Trabajo ha concluido que "Para los efectos de calcular la indemnización legal por años de servicio y la sustitutiva del aviso previo, procede incluir las asignaciones de movilización y colación percibidas en forma mensual". Ello por considerar que dichos beneficios, aún careciendo del carácter de remuneración, son estipendios que bien pudiere estar percibiendo el trabajador del empleador al momento del término de la respectiva relación laboral.</a:t>
            </a:r>
            <a:endParaRPr b="0" lang="en-US" sz="2200" spc="-1" strike="noStrike">
              <a:solidFill>
                <a:srgbClr val="000000"/>
              </a:solidFill>
              <a:latin typeface="Verdana"/>
            </a:endParaRPr>
          </a:p>
          <a:p>
            <a:pPr lvl="1" marL="9079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neficios y prestaciones que no constituyen remuneració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s devoluciones de gastos en que se incurra por causa del trabaj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muneraciones</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bresueldo</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iste en la remuneración de las horas extraordinarias de trabajo.</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l sobresueldo se utiliza para determinar los siguientes beneficio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bsidio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signación Familia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signación Maternal</a:t>
            </a:r>
            <a:endParaRPr b="0" lang="en-US" sz="2100" spc="-1" strike="noStrike">
              <a:solidFill>
                <a:srgbClr val="000000"/>
              </a:solidFill>
              <a:latin typeface="Verdana"/>
            </a:endParaRPr>
          </a:p>
          <a:p>
            <a:pPr lvl="2" marL="130500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2" marL="130500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 excluye para calcula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emnización legal por años de servicio</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emnización por feriado</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muneración por feriado</a:t>
            </a:r>
            <a:endParaRPr b="0" lang="en-US" sz="2100" spc="-1" strike="noStrike">
              <a:solidFill>
                <a:srgbClr val="000000"/>
              </a:solidFill>
              <a:latin typeface="Verdana"/>
            </a:endParaRPr>
          </a:p>
          <a:p>
            <a:pPr lvl="2" marL="130500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2" marL="130500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1T22:41:25Z</dcterms:created>
  <dc:creator>*/</dc:creator>
  <dc:description/>
  <dc:language>en-US</dc:language>
  <cp:lastModifiedBy>Equipo</cp:lastModifiedBy>
  <dcterms:modified xsi:type="dcterms:W3CDTF">2010-06-04T02:30:23Z</dcterms:modified>
  <cp:revision>39</cp:revision>
  <dc:subject/>
  <dc:title>Modelo </dc:title>
</cp:coreProperties>
</file>