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68EE9D-EDCC-42F6-B72F-506D05A370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D203C-F8DC-4924-B0F6-847D4B9E6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760525-4623-471C-9978-908903F695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367861-986E-40E1-984D-E646FB3B2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9C696-E2FE-4F3D-A01F-C478A93C4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3FA46-C404-4A2E-9A44-0502AA1D1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A2044-36EF-44E3-BBF6-3F7E156BC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5C35F-07E1-4275-94D0-B3CEC9EB0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C484B-058A-48EF-8DFC-0E9C4C2AD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8F9B9-6C66-4D7B-AB6C-5B854C4E2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D03EC-9333-4E9D-8B44-E4418CE96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E7336-C96E-4C14-A395-4591A9EBFE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F6C48-EF47-4103-893B-1A8E7E30AD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zpo1.ask.com/r?t=a&amp;d=mys&amp;s=ads&amp;c=p&amp;ti=1&amp;ai=30751&amp;l=dis&amp;o=15757&amp;sv=0a5c4254&amp;ip=c868c1c7&amp;u=http%3A%2F%2Fwww.daywestinc.com%2Fassets%2Fimages%2Fcheckmark-1.jpg" TargetMode="External"/><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47"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116000" y="2994120"/>
            <a:ext cx="5256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56" name="" descr=""/>
          <p:cNvPicPr/>
          <p:nvPr/>
        </p:nvPicPr>
        <p:blipFill>
          <a:blip r:embed="rId1"/>
          <a:stretch/>
        </p:blipFill>
        <p:spPr>
          <a:xfrm>
            <a:off x="7130880" y="6053040"/>
            <a:ext cx="1689120" cy="400320"/>
          </a:xfrm>
          <a:prstGeom prst="rect">
            <a:avLst/>
          </a:prstGeom>
          <a:ln w="0">
            <a:noFill/>
          </a:ln>
        </p:spPr>
      </p:pic>
      <p:sp>
        <p:nvSpPr>
          <p:cNvPr id="57" name=""/>
          <p:cNvSpPr/>
          <p:nvPr/>
        </p:nvSpPr>
        <p:spPr>
          <a:xfrm>
            <a:off x="592200" y="5229360"/>
            <a:ext cx="27334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urso Derecho Comercial 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1er semestre 201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ofesor Octavio Bofill Genzsc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 mail obofill@bm-ahj.cl</a:t>
            </a:r>
            <a:endParaRPr b="0" lang="en-US" sz="1400" spc="-1" strike="noStrike">
              <a:solidFill>
                <a:srgbClr val="000000"/>
              </a:solidFill>
              <a:latin typeface="Times New Roman"/>
            </a:endParaRPr>
          </a:p>
        </p:txBody>
      </p:sp>
      <p:sp>
        <p:nvSpPr>
          <p:cNvPr id="58" name=""/>
          <p:cNvSpPr/>
          <p:nvPr/>
        </p:nvSpPr>
        <p:spPr>
          <a:xfrm>
            <a:off x="2139480" y="766800"/>
            <a:ext cx="4542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recho Comercial I</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 name=""/>
          <p:cNvSpPr/>
          <p:nvPr/>
        </p:nvSpPr>
        <p:spPr>
          <a:xfrm>
            <a:off x="2359440" y="3286080"/>
            <a:ext cx="4117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Actos de comercio</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22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52360" y="1700280"/>
            <a:ext cx="864072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sta denominación no describe el acto, sino la calificación para una y otra parte interviniente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puede aplicar a todo acto de comercio, salvo para los actos mercantiles formales, que asumen que lo son para ambas partes en forma inmutable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t 3Nº10 letras pagarés cheques a la orden </a:t>
            </a:r>
            <a:r>
              <a:rPr b="0" i="1" lang="es-CL" sz="2000" spc="-1" strike="noStrike">
                <a:solidFill>
                  <a:srgbClr val="000000"/>
                </a:solidFill>
                <a:latin typeface="Arial"/>
              </a:rPr>
              <a:t>sin importar las personas que intervengan en ellos</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Nºs 11 y 12 operaciones de banco, bolsa, cambio, corretaje, el acto mixto sí tiene aplicación</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iertamente tiene gran aplicación en el comienzo de la intermediación (adquisición al productor) y en el fin de la misma (venta a consumidore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tiene que ver con la unilateralidad o bilateralidad del acto o contrato, aplica en todos los caso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35" name="" descr=""/>
          <p:cNvPicPr/>
          <p:nvPr/>
        </p:nvPicPr>
        <p:blipFill>
          <a:blip r:embed="rId1"/>
          <a:stretch/>
        </p:blipFill>
        <p:spPr>
          <a:xfrm>
            <a:off x="7130880" y="6053040"/>
            <a:ext cx="1689120" cy="400320"/>
          </a:xfrm>
          <a:prstGeom prst="rect">
            <a:avLst/>
          </a:prstGeom>
          <a:ln w="0">
            <a:noFill/>
          </a:ln>
        </p:spPr>
      </p:pic>
      <p:sp>
        <p:nvSpPr>
          <p:cNvPr id="236"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205092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o de doble caráct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245"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24000" y="2077920"/>
            <a:ext cx="8640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onocida la posibilidad de que un acto sea mercantil para una y civil para otra parte, queda por resolver las consecuencias de la tesi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 relevante es qué derecho aplicar, ¿el comercial o el civil? en materias de legislación de fondo, procesal y orgánico en su caso, medios de prueba y prueb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posibilidades que se han dado históricamente son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 la ley del obligado,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i) el tipo de acción que se impetre, si civil o mercantil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ii) se aplica la ley del comerciante / no comerciante que lo elija (se da prioridad a uno u otro)</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54" name="" descr=""/>
          <p:cNvPicPr/>
          <p:nvPr/>
        </p:nvPicPr>
        <p:blipFill>
          <a:blip r:embed="rId1"/>
          <a:stretch/>
        </p:blipFill>
        <p:spPr>
          <a:xfrm>
            <a:off x="7130880" y="6053040"/>
            <a:ext cx="1689120" cy="400320"/>
          </a:xfrm>
          <a:prstGeom prst="rect">
            <a:avLst/>
          </a:prstGeom>
          <a:ln w="0">
            <a:noFill/>
          </a:ln>
        </p:spPr>
      </p:pic>
      <p:sp>
        <p:nvSpPr>
          <p:cNvPr id="255"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1979640" y="816120"/>
            <a:ext cx="646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o de doble caráct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264"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79280" y="1989000"/>
            <a:ext cx="864072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onocimiento positivo expreso?</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t 3, en su encabezado “Son actos de comercio, ya de parte de ambos contratantes, ya de parte de uno de ellos”</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obre esta tesis se cimenta la ley de protección al consumidor</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Y no existe ley de protección al productor con efectos generales</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Art 8 CdeC: el no comerciante queda sujeto a las leyes de comercio en cuanto a los efectos del acto</a:t>
            </a:r>
            <a:endParaRPr b="0" lang="en-US" sz="20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uestra las dudas del codificador</a:t>
            </a:r>
            <a:endParaRPr b="0" lang="en-US" sz="2000" spc="-1" strike="noStrike">
              <a:solidFill>
                <a:srgbClr val="000000"/>
              </a:solidFill>
              <a:latin typeface="Times New Roman"/>
            </a:endParaRPr>
          </a:p>
        </p:txBody>
      </p:sp>
      <p:pic>
        <p:nvPicPr>
          <p:cNvPr id="273" name="" descr=""/>
          <p:cNvPicPr/>
          <p:nvPr/>
        </p:nvPicPr>
        <p:blipFill>
          <a:blip r:embed="rId1"/>
          <a:stretch/>
        </p:blipFill>
        <p:spPr>
          <a:xfrm>
            <a:off x="7130880" y="6053040"/>
            <a:ext cx="1689120" cy="400320"/>
          </a:xfrm>
          <a:prstGeom prst="rect">
            <a:avLst/>
          </a:prstGeom>
          <a:ln w="0">
            <a:noFill/>
          </a:ln>
        </p:spPr>
      </p:pic>
      <p:sp>
        <p:nvSpPr>
          <p:cNvPr id="274"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1979640" y="816120"/>
            <a:ext cx="646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o de doble caráct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283"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24000" y="1916280"/>
            <a:ext cx="864072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manera que la Teoría de lo Accesorio juega ampliando o reduciendo el ámbito de lo comercial, en función de la conexión de un acto o contrato con un sujeto que lo celebra, con la actividad principal, habitual, de sustento principal, del que lo celebra.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Acto Mixto reconoce que lo comercial no contamina a todos quienes intervienen en ellos: soluciona la problemática del derecho aplicable una vez que el mismo acto se regula en leyes distintas para una y otra parte.</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Ni una ni otra invaden los actos de comercio per se: letras pagarés cheques a la orden</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 accesorio pasa a ser un sustento del acto mixto, mientras más amplia es la accesoriedad, más amplia la posibilidad de aplicar lo mixt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92" name="" descr=""/>
          <p:cNvPicPr/>
          <p:nvPr/>
        </p:nvPicPr>
        <p:blipFill>
          <a:blip r:embed="rId1"/>
          <a:stretch/>
        </p:blipFill>
        <p:spPr>
          <a:xfrm>
            <a:off x="7130880" y="6053040"/>
            <a:ext cx="1689120" cy="400320"/>
          </a:xfrm>
          <a:prstGeom prst="rect">
            <a:avLst/>
          </a:prstGeom>
          <a:ln w="0">
            <a:noFill/>
          </a:ln>
        </p:spPr>
      </p:pic>
      <p:sp>
        <p:nvSpPr>
          <p:cNvPr id="293"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154764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y 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302"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24000" y="1916280"/>
            <a:ext cx="8640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lgunos criterios jurisprudenciale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p Santiago 1957, no todas las obligaciones de los comerciantes están regidas por el CdeC pues su art. 1 exige además que se refieran a operaciones mercantiles </a:t>
            </a:r>
            <a:r>
              <a:rPr b="0" lang="es-CL" sz="2000" spc="-1" strike="noStrike">
                <a:solidFill>
                  <a:srgbClr val="000000"/>
                </a:solidFill>
                <a:latin typeface="Arial"/>
              </a:rPr>
              <a:t>	</a:t>
            </a:r>
            <a:r>
              <a:rPr b="0" i="1" lang="es-CL" sz="2000" spc="-1" strike="noStrike">
                <a:solidFill>
                  <a:srgbClr val="000000"/>
                </a:solidFill>
                <a:latin typeface="Arial"/>
              </a:rPr>
              <a:t>no reconoce aplicación ilimitada de lo accesor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S 1917, Bolsa de Comercio conserva carácter mercantil desde que su giro son las operaciones de bolsa, de manera que la contribución de seguridad social debe calcularse de acuerdo al valor de las acciones de las sociedades anónimas que transan en ella </a:t>
            </a:r>
            <a:r>
              <a:rPr b="0" lang="es-CL" sz="2000" spc="-1" strike="noStrike">
                <a:solidFill>
                  <a:srgbClr val="000000"/>
                </a:solidFill>
                <a:latin typeface="Arial"/>
              </a:rPr>
              <a:t>	</a:t>
            </a:r>
            <a:r>
              <a:rPr b="0" lang="es-CL" sz="2000" spc="-1" strike="noStrike">
                <a:solidFill>
                  <a:srgbClr val="000000"/>
                </a:solidFill>
                <a:latin typeface="Arial"/>
              </a:rPr>
              <a:t>	</a:t>
            </a:r>
            <a:r>
              <a:rPr b="0" i="1" lang="es-CL" sz="2000" spc="-1" strike="noStrike">
                <a:solidFill>
                  <a:srgbClr val="000000"/>
                </a:solidFill>
                <a:latin typeface="Arial"/>
              </a:rPr>
              <a:t>aplica lo accesorio: el quantum de la obligación, originalmente civil, se determina en función de su actividad mercantil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11" name="" descr=""/>
          <p:cNvPicPr/>
          <p:nvPr/>
        </p:nvPicPr>
        <p:blipFill>
          <a:blip r:embed="rId1"/>
          <a:stretch/>
        </p:blipFill>
        <p:spPr>
          <a:xfrm>
            <a:off x="7130880" y="6053040"/>
            <a:ext cx="1689120" cy="400320"/>
          </a:xfrm>
          <a:prstGeom prst="rect">
            <a:avLst/>
          </a:prstGeom>
          <a:ln w="0">
            <a:noFill/>
          </a:ln>
        </p:spPr>
      </p:pic>
      <p:sp>
        <p:nvSpPr>
          <p:cNvPr id="312"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154764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y 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5" name=""/>
          <p:cNvSpPr/>
          <p:nvPr/>
        </p:nvSpPr>
        <p:spPr>
          <a:xfrm>
            <a:off x="3492360" y="3357720"/>
            <a:ext cx="35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938920" y="515772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323"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24000" y="1916280"/>
            <a:ext cx="86407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Cap Stgo 1917, el contrato de mutuo no es por su naturaleza un acto de comercio pero </a:t>
            </a:r>
            <a:r>
              <a:rPr b="0" i="1" lang="es-CL" sz="2000" spc="-1" strike="noStrike">
                <a:solidFill>
                  <a:srgbClr val="000000"/>
                </a:solidFill>
                <a:latin typeface="Arial"/>
              </a:rPr>
              <a:t>se convierte</a:t>
            </a:r>
            <a:r>
              <a:rPr b="0" lang="es-CL" sz="2000" spc="-1" strike="noStrike">
                <a:solidFill>
                  <a:srgbClr val="000000"/>
                </a:solidFill>
                <a:latin typeface="Arial"/>
              </a:rPr>
              <a:t> en tal cuando se celebra entre comerciantes y se refiere a operaciones mercantiles</a:t>
            </a:r>
            <a:r>
              <a:rPr b="0" lang="es-CL" sz="2000" spc="-1" strike="noStrike">
                <a:solidFill>
                  <a:srgbClr val="000000"/>
                </a:solidFill>
                <a:latin typeface="Arial"/>
              </a:rPr>
              <a:t>	</a:t>
            </a:r>
            <a:r>
              <a:rPr b="0" i="1" lang="es-CL" sz="2000" spc="-1" strike="noStrike">
                <a:solidFill>
                  <a:srgbClr val="000000"/>
                </a:solidFill>
                <a:latin typeface="Arial"/>
              </a:rPr>
              <a:t>curioso que exija que se refiera a operaciones comerciales, el mutuo es una operación en sí misma; lo hace accesorio de dos comerciantes, qué ocurre cuándo hay participación mixta?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p La Serena 1959, el local en que funciona un establecimiento de comercio no forma parte de él; sin embargo, nada impide considerarlo parte de él cuando se trata de la venta del establecimiento de comercio y su dueño es a la vez dueño del local </a:t>
            </a:r>
            <a:r>
              <a:rPr b="0" lang="es-CL" sz="2000" spc="-1" strike="noStrike">
                <a:solidFill>
                  <a:srgbClr val="000000"/>
                </a:solidFill>
                <a:latin typeface="Arial"/>
              </a:rPr>
              <a:t>	</a:t>
            </a:r>
            <a:r>
              <a:rPr b="0" lang="es-CL" sz="2000" spc="-1" strike="noStrike">
                <a:solidFill>
                  <a:srgbClr val="000000"/>
                </a:solidFill>
                <a:latin typeface="Arial"/>
              </a:rPr>
              <a:t> </a:t>
            </a:r>
            <a:r>
              <a:rPr b="0" i="1" lang="es-CL" sz="2000" spc="-1" strike="noStrike">
                <a:solidFill>
                  <a:srgbClr val="000000"/>
                </a:solidFill>
                <a:latin typeface="Arial"/>
              </a:rPr>
              <a:t>venta de establecimiento de comercio es mercantil (Art. 3 Nº 2 compra de EM); pero lo mercantil no es inmueble; por accesión se mercantiliza el inmueble en que funciona el establecimiento mercantil cuando se trata de su venta</a:t>
            </a:r>
            <a:endParaRPr b="0" lang="en-US" sz="2000" spc="-1" strike="noStrike">
              <a:solidFill>
                <a:srgbClr val="000000"/>
              </a:solidFill>
              <a:latin typeface="Times New Roman"/>
            </a:endParaRPr>
          </a:p>
        </p:txBody>
      </p:sp>
      <p:pic>
        <p:nvPicPr>
          <p:cNvPr id="332" name="" descr=""/>
          <p:cNvPicPr/>
          <p:nvPr/>
        </p:nvPicPr>
        <p:blipFill>
          <a:blip r:embed="rId1"/>
          <a:stretch/>
        </p:blipFill>
        <p:spPr>
          <a:xfrm>
            <a:off x="7130880" y="6053040"/>
            <a:ext cx="1689120" cy="400320"/>
          </a:xfrm>
          <a:prstGeom prst="rect">
            <a:avLst/>
          </a:prstGeom>
          <a:ln w="0">
            <a:noFill/>
          </a:ln>
        </p:spPr>
      </p:pic>
      <p:sp>
        <p:nvSpPr>
          <p:cNvPr id="333"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1476360" y="816120"/>
            <a:ext cx="646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y 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6" name=""/>
          <p:cNvSpPr/>
          <p:nvPr/>
        </p:nvSpPr>
        <p:spPr>
          <a:xfrm>
            <a:off x="4643280" y="2781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572000" y="5157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344"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24000" y="1916280"/>
            <a:ext cx="8640720" cy="438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eresante doctrina de la Excma. Corte Suprema (2008), (publicada en U Curs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función de legislación de fondo aplicable discurre acerca de la aplicación de la norma mercantil o comú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Doctri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I. El artículo 1º del Código de Comercio entrega tres reglas diferentes mientras señala su ámbito de aplicación: a) rige las obligaciones de los comerciantes que se refieran a operaciones comerciales; b) rige las obligaciones que contraigan personas no comerciantes para asegurar el cumplimiento de obligaciones comerciales, es decir, alude a los contratos accesorios; y c) rige las obligaciones que resulten de contratos exclusivamente mercantiles, no pudiendo soslayarse que, por un lado, existen actos regidos tanto por el Código Civil como por el Código de Comercio y, por otro, actos conocidos como mixtos o de doble carácter, que pueden ser mercantiles para uno de los contratantes y civil para el otro, quedando regido únicamente su aspecto mercantil por el estatuto del ramo. Por su parte, el artículo 3º del Código de Comercio determina cuáles son los actos mercantiles, limitándose a enumerar aquéllos a los que se atribuye tal naturaleza</a:t>
            </a:r>
            <a:br>
              <a:rPr sz="1400"/>
            </a:br>
            <a:br>
              <a:rPr sz="1400"/>
            </a:br>
            <a:endParaRPr b="0" lang="en-US" sz="1400" spc="-1" strike="noStrike">
              <a:solidFill>
                <a:srgbClr val="000000"/>
              </a:solidFill>
              <a:latin typeface="Times New Roman"/>
            </a:endParaRPr>
          </a:p>
        </p:txBody>
      </p:sp>
      <p:pic>
        <p:nvPicPr>
          <p:cNvPr id="353" name="" descr=""/>
          <p:cNvPicPr/>
          <p:nvPr/>
        </p:nvPicPr>
        <p:blipFill>
          <a:blip r:embed="rId1"/>
          <a:stretch/>
        </p:blipFill>
        <p:spPr>
          <a:xfrm>
            <a:off x="7130880" y="6053040"/>
            <a:ext cx="1689120" cy="400320"/>
          </a:xfrm>
          <a:prstGeom prst="rect">
            <a:avLst/>
          </a:prstGeom>
          <a:ln w="0">
            <a:noFill/>
          </a:ln>
        </p:spPr>
      </p:pic>
      <p:sp>
        <p:nvSpPr>
          <p:cNvPr id="354"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1476360" y="816120"/>
            <a:ext cx="646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y 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363"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24000" y="2103480"/>
            <a:ext cx="8640720" cy="41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De lo dicho, y considerando que el artículo 4º del Código Civil establece que las disposiciones contenidas en el Código de Comercio deben aplicarse preferentemente, se colige que este último cuerpo legal constituye una legislación especial, que se aplica con preferencia de la general o común, a los sujetos que se denomina comerciantes, que está llamada a ser considerada de no existir legislación especial que rija la materia o existiendo, no regula un aspecto concreto, por lo que corresponde tenerla presente en forma subsidiaria, y que el Código de Comercio regula directamente ciertos actos y sus efectos (considerando 6º, sentencia de casación)</a:t>
            </a:r>
            <a:br>
              <a:rPr sz="1400"/>
            </a:br>
            <a:br>
              <a:rPr sz="1400"/>
            </a:br>
            <a:r>
              <a:rPr b="1" i="1" lang="es-ES" sz="1400" spc="-1" strike="noStrike">
                <a:solidFill>
                  <a:srgbClr val="000000"/>
                </a:solidFill>
                <a:latin typeface="Arial"/>
              </a:rPr>
              <a:t>II. Las operaciones bancarias son actividades mercantiles en sí mismas, y todos los actos y contratos que el banco celebre para el desarrollo de ellas constituyen actos de comercio –artículo 3º Nº 11 del Código de Comercio–, en el sentido de actividad mercantil, toda vez que la ley ha considerado las operaciones de banco, miradas en conjunto, unas con otras, en relación con la función que desempeña económicamente una empresa bancaria y, es así como para las empresas bancarias todas sus operaciones serán siempre y necesariamente mercantiles y siempre habrá una verdadera empresa puesto que se necesitará un negocio organizado. En todo caso, la actividad bancaria sólo puede ejercerse por sociedades anónimas, las cuales son siempre mercantiles (considerando 8º, sentencia de casación)</a:t>
            </a:r>
            <a:br>
              <a:rPr sz="1400"/>
            </a:br>
            <a:br>
              <a:rPr sz="1400"/>
            </a:br>
            <a:endParaRPr b="0" lang="en-US" sz="1400" spc="-1" strike="noStrike">
              <a:solidFill>
                <a:srgbClr val="000000"/>
              </a:solidFill>
              <a:latin typeface="Times New Roman"/>
            </a:endParaRPr>
          </a:p>
        </p:txBody>
      </p:sp>
      <p:pic>
        <p:nvPicPr>
          <p:cNvPr id="372" name="" descr=""/>
          <p:cNvPicPr/>
          <p:nvPr/>
        </p:nvPicPr>
        <p:blipFill>
          <a:blip r:embed="rId1"/>
          <a:stretch/>
        </p:blipFill>
        <p:spPr>
          <a:xfrm>
            <a:off x="7130880" y="6053040"/>
            <a:ext cx="1689120" cy="400320"/>
          </a:xfrm>
          <a:prstGeom prst="rect">
            <a:avLst/>
          </a:prstGeom>
          <a:ln w="0">
            <a:noFill/>
          </a:ln>
        </p:spPr>
      </p:pic>
      <p:sp>
        <p:nvSpPr>
          <p:cNvPr id="373"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1476360" y="816120"/>
            <a:ext cx="646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y 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382"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324000" y="1700280"/>
            <a:ext cx="8640720" cy="456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III. El deudor principal del mutuo hipotecario, cuyo cobro se demanda en autos, siendo una sociedad de responsabilidad limitada de giro comercial, se rige por la Ley Nº 3.918, de manera que en lo no previsto por dicha Ley o por la escritura social, queda sujeta a las reglas establecidas para las sociedades colectivas, cuyas normas están en los párrafos 1º a 6º del Título VII del Libro Segundo del Código de Comercio. Así, la operación de crédito constituida por la sociedad deudora con el banco y que se demanda en autos, tiene el carácter absoluto de mercantil. Concurriendo a la celebración del crédito mercantil una sociedad de igual naturaleza, como lo es el deudor principal, dicho acto de obligación queda comprendido dentro de aquellos que permite su liberación por la prescripción liberatoria del artículo 822 del Código de Comercio, de cuatro años, por lo que habiendo transcurrido dicho plazo entre el momento en que el banco manifestó su voluntad de hacer exigible el total del saldo de la deuda contenida en el mutuo celebrado entre las partes, y aquél en que se notificó la presente demanda, la acción se encuentra irremediablemente prescrita en relación con la sociedad demandada (considerando 9º, sentencia de casación)</a:t>
            </a:r>
            <a:br>
              <a:rPr sz="1400"/>
            </a:br>
            <a:br>
              <a:rPr sz="1400"/>
            </a:br>
            <a:r>
              <a:rPr b="1" i="1" lang="es-ES" sz="1400" spc="-1" strike="noStrike">
                <a:solidFill>
                  <a:srgbClr val="000000"/>
                </a:solidFill>
                <a:latin typeface="Arial"/>
              </a:rPr>
              <a:t>A su vez, respecto de los otros obligados al pago, personas naturales que concurren como fiadores y deudores solidarios, si bien no son comerciantes, como se obligaron para asegurar el cumplimiento de obligaciones comerciales, se les aplican las normas del Código de Comercio. En tales condiciones, y atendiendo a que las obligaciones accesorias se extinguen por la extinción de la obligación natural, extinguida la acción deducida en contra del deudor principal por la prescripción liberatoria del artículo 822 del Código de Comercio, la acción también se extinguió respecto de fiadores y codeudores solidarios (considerandos 10º a 13º, sentencia de casación).</a:t>
            </a:r>
            <a:r>
              <a:rPr b="0" lang="es-ES" sz="1400" spc="-1" strike="noStrike">
                <a:solidFill>
                  <a:srgbClr val="000000"/>
                </a:solidFill>
                <a:latin typeface="Arial"/>
              </a:rPr>
              <a:t> </a:t>
            </a:r>
            <a:endParaRPr b="0" lang="en-US" sz="1400" spc="-1" strike="noStrike">
              <a:solidFill>
                <a:srgbClr val="000000"/>
              </a:solidFill>
              <a:latin typeface="Times New Roman"/>
            </a:endParaRPr>
          </a:p>
        </p:txBody>
      </p:sp>
      <p:pic>
        <p:nvPicPr>
          <p:cNvPr id="391" name="" descr=""/>
          <p:cNvPicPr/>
          <p:nvPr/>
        </p:nvPicPr>
        <p:blipFill>
          <a:blip r:embed="rId1"/>
          <a:stretch/>
        </p:blipFill>
        <p:spPr>
          <a:xfrm>
            <a:off x="7130880" y="6053040"/>
            <a:ext cx="1689120" cy="400320"/>
          </a:xfrm>
          <a:prstGeom prst="rect">
            <a:avLst/>
          </a:prstGeom>
          <a:ln w="0">
            <a:noFill/>
          </a:ln>
        </p:spPr>
      </p:pic>
      <p:sp>
        <p:nvSpPr>
          <p:cNvPr id="392"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1476360" y="816120"/>
            <a:ext cx="646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y 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401"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539640" y="1844640"/>
            <a:ext cx="7345440" cy="524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ortancia de la determinación de los actos de comercio (del derecho mercantil)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n</a:t>
            </a:r>
            <a:r>
              <a:rPr b="0" i="1" lang="es-CL" sz="2000" spc="-1" strike="noStrike">
                <a:solidFill>
                  <a:srgbClr val="000000"/>
                </a:solidFill>
                <a:latin typeface="Arial"/>
              </a:rPr>
              <a:t> Presentación del curs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eoría de lo accesor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os mixtos o de doble carác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ificaciones y análisis de los Actos de Comerc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1" lang="es-ES" sz="1400" spc="-1" strike="noStrike">
                <a:solidFill>
                  <a:srgbClr val="000000"/>
                </a:solidFill>
                <a:latin typeface="Arial"/>
                <a:ea typeface="Times New Roman"/>
              </a:rPr>
              <a:t>El acto de comercio, crítica a la teoría tradicional, Juan Esteban Puga V. </a:t>
            </a: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Editorial Jurídica de Chile, 200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Derecho Comercial, apuntes de clases. Tomos I y II. Gabriel Palma R. </a:t>
            </a: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Santiago, 193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Manual de Derecho Comercial, Julio Olavarría. Tercera Edición, </a:t>
            </a: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Barcelona, 197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10" name="" descr=""/>
          <p:cNvPicPr/>
          <p:nvPr/>
        </p:nvPicPr>
        <p:blipFill>
          <a:blip r:embed="rId1"/>
          <a:stretch/>
        </p:blipFill>
        <p:spPr>
          <a:xfrm>
            <a:off x="7130880" y="6053040"/>
            <a:ext cx="1689120" cy="400320"/>
          </a:xfrm>
          <a:prstGeom prst="rect">
            <a:avLst/>
          </a:prstGeom>
          <a:ln w="0">
            <a:noFill/>
          </a:ln>
        </p:spPr>
      </p:pic>
      <p:sp>
        <p:nvSpPr>
          <p:cNvPr id="411"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1220760" y="819000"/>
            <a:ext cx="67964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Actos de comercio, plan de trabajo</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4" name=""/>
          <p:cNvSpPr/>
          <p:nvPr/>
        </p:nvSpPr>
        <p:spPr>
          <a:xfrm>
            <a:off x="3276720" y="2349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15" name="" descr="checkmark-1.jpg">
            <a:hlinkClick r:id="rId2"/>
          </p:cNvPr>
          <p:cNvPicPr/>
          <p:nvPr/>
        </p:nvPicPr>
        <p:blipFill>
          <a:blip r:embed="rId3"/>
          <a:stretch/>
        </p:blipFill>
        <p:spPr>
          <a:xfrm>
            <a:off x="6093000" y="2646360"/>
            <a:ext cx="350640" cy="351000"/>
          </a:xfrm>
          <a:prstGeom prst="rect">
            <a:avLst/>
          </a:prstGeom>
          <a:ln w="0">
            <a:noFill/>
          </a:ln>
        </p:spPr>
      </p:pic>
      <p:pic>
        <p:nvPicPr>
          <p:cNvPr id="416" name="" descr="checkmark-1.jpg"/>
          <p:cNvPicPr/>
          <p:nvPr/>
        </p:nvPicPr>
        <p:blipFill>
          <a:blip r:embed="rId4"/>
          <a:stretch/>
        </p:blipFill>
        <p:spPr>
          <a:xfrm>
            <a:off x="7821720" y="2060640"/>
            <a:ext cx="350640" cy="350640"/>
          </a:xfrm>
          <a:prstGeom prst="rect">
            <a:avLst/>
          </a:prstGeom>
          <a:ln w="0">
            <a:noFill/>
          </a:ln>
        </p:spPr>
      </p:pic>
      <p:pic>
        <p:nvPicPr>
          <p:cNvPr id="417" name="" descr="checkmark-1.jpg"/>
          <p:cNvPicPr/>
          <p:nvPr/>
        </p:nvPicPr>
        <p:blipFill>
          <a:blip r:embed="rId5"/>
          <a:stretch/>
        </p:blipFill>
        <p:spPr>
          <a:xfrm>
            <a:off x="6093000" y="3365640"/>
            <a:ext cx="350640" cy="350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6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539640" y="1844640"/>
            <a:ext cx="734544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ortancia de la determinación de los actos de comercio (del derecho mercantil)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n</a:t>
            </a:r>
            <a:r>
              <a:rPr b="0" i="1" lang="es-CL" sz="2000" spc="-1" strike="noStrike">
                <a:solidFill>
                  <a:srgbClr val="000000"/>
                </a:solidFill>
                <a:latin typeface="Arial"/>
              </a:rPr>
              <a:t> presentación del cur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eoría de lo accesor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Manual de Derecho Comercial, Julio Olavarría. Tercera </a:t>
            </a: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Edición, Barcelona, 197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Curso de Derecho Mercantil, Joaquín Garrigues, </a:t>
            </a:r>
            <a:r>
              <a:rPr b="0" lang="es-CL" sz="2000" spc="-1" strike="noStrike">
                <a:solidFill>
                  <a:srgbClr val="000000"/>
                </a:solidFill>
                <a:latin typeface="Arial"/>
              </a:rPr>
              <a:t>	</a:t>
            </a:r>
            <a:r>
              <a:rPr b="0" lang="es-CL" sz="2000" spc="-1" strike="noStrike">
                <a:solidFill>
                  <a:srgbClr val="000000"/>
                </a:solidFill>
                <a:latin typeface="Arial"/>
              </a:rPr>
              <a:t>Bogotá, 198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os mixtos o de doble carác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ificaciones y análisis de los Actos de Comerc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5" name="" descr=""/>
          <p:cNvPicPr/>
          <p:nvPr/>
        </p:nvPicPr>
        <p:blipFill>
          <a:blip r:embed="rId1"/>
          <a:stretch/>
        </p:blipFill>
        <p:spPr>
          <a:xfrm>
            <a:off x="7130880" y="6053040"/>
            <a:ext cx="1689120" cy="400320"/>
          </a:xfrm>
          <a:prstGeom prst="rect">
            <a:avLst/>
          </a:prstGeom>
          <a:ln w="0">
            <a:noFill/>
          </a:ln>
        </p:spPr>
      </p:pic>
      <p:sp>
        <p:nvSpPr>
          <p:cNvPr id="76"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690840" y="766800"/>
            <a:ext cx="7614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Actos de comercio, plan de trabajo</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 name=""/>
          <p:cNvSpPr/>
          <p:nvPr/>
        </p:nvSpPr>
        <p:spPr>
          <a:xfrm>
            <a:off x="3276720" y="2349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424"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39640" y="1700280"/>
            <a:ext cx="84250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egalidad y taxatividad de los Actos de Comerci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odo esto es discutible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sostiene que hay principio legal para lo comercial</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n embargo se sostiene la presunción de los actos de comercio, lo que es antitético con el sistema objetivo del código chilen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uera del art. 3º encontramos otros actos de comercio</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tratos de sociedad, prenda y fianza mercantil</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eyes especiales y contratos especiales modernos</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mismo art 3 acepta la existencia de analogía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taxatividad del art. 3 tiene buen sustento en la historia del C de C y tiene sentido cuando la enumeración es de 20 número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Algunos lo aceptan con matices (el art 3 fija el ámbito de lo comercial pero no los actos de comerci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sta discusión es </a:t>
            </a:r>
            <a:r>
              <a:rPr b="0" i="1" lang="es-CL" sz="2000" spc="-1" strike="noStrike">
                <a:solidFill>
                  <a:srgbClr val="000000"/>
                </a:solidFill>
                <a:latin typeface="Arial"/>
              </a:rPr>
              <a:t>ceteris paribus</a:t>
            </a:r>
            <a:r>
              <a:rPr b="0" lang="es-CL" sz="2000" spc="-1" strike="noStrike">
                <a:solidFill>
                  <a:srgbClr val="000000"/>
                </a:solidFill>
                <a:latin typeface="Arial"/>
              </a:rPr>
              <a:t> la misma que frente al sistema subjetivo u objetivo</a:t>
            </a:r>
            <a:endParaRPr b="0" lang="en-US" sz="2000" spc="-1" strike="noStrike">
              <a:solidFill>
                <a:srgbClr val="000000"/>
              </a:solidFill>
              <a:latin typeface="Times New Roman"/>
            </a:endParaRPr>
          </a:p>
        </p:txBody>
      </p:sp>
      <p:pic>
        <p:nvPicPr>
          <p:cNvPr id="433" name="" descr=""/>
          <p:cNvPicPr/>
          <p:nvPr/>
        </p:nvPicPr>
        <p:blipFill>
          <a:blip r:embed="rId1"/>
          <a:stretch/>
        </p:blipFill>
        <p:spPr>
          <a:xfrm>
            <a:off x="7130880" y="6053040"/>
            <a:ext cx="1689120" cy="400320"/>
          </a:xfrm>
          <a:prstGeom prst="rect">
            <a:avLst/>
          </a:prstGeom>
          <a:ln w="0">
            <a:noFill/>
          </a:ln>
        </p:spPr>
      </p:pic>
      <p:sp>
        <p:nvSpPr>
          <p:cNvPr id="434"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1400760" y="819000"/>
            <a:ext cx="7106040" cy="1008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Actos de comercio, </a:t>
            </a:r>
            <a:r>
              <a:rPr b="0" i="1" lang="es-CL" sz="3200" spc="-1" strike="noStrike">
                <a:solidFill>
                  <a:srgbClr val="000099"/>
                </a:solidFill>
                <a:latin typeface="Tahoma"/>
              </a:rPr>
              <a:t>numerus clausus</a:t>
            </a:r>
            <a:r>
              <a:rPr b="0" lang="es-CL" sz="2800" spc="-1" strike="noStrike">
                <a:solidFill>
                  <a:srgbClr val="000099"/>
                </a:solidFill>
                <a:latin typeface="Tahoma"/>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443"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971640" y="1844640"/>
            <a:ext cx="691344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ificaciones de los Actos de Comerc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errestres (1 al 12 y 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rítimos (13 al 1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empre son mercantiles (10 al 1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Hay que mirar la intención de los contratantes (1 al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atienen al elemento empresa de quien los celebra (lo son si los ejecuta una empresa) (los restant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52" name="" descr=""/>
          <p:cNvPicPr/>
          <p:nvPr/>
        </p:nvPicPr>
        <p:blipFill>
          <a:blip r:embed="rId1"/>
          <a:stretch/>
        </p:blipFill>
        <p:spPr>
          <a:xfrm>
            <a:off x="7130880" y="6053040"/>
            <a:ext cx="1689120" cy="400320"/>
          </a:xfrm>
          <a:prstGeom prst="rect">
            <a:avLst/>
          </a:prstGeom>
          <a:ln w="0">
            <a:noFill/>
          </a:ln>
        </p:spPr>
      </p:pic>
      <p:sp>
        <p:nvSpPr>
          <p:cNvPr id="453"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
          <p:cNvSpPr/>
          <p:nvPr/>
        </p:nvSpPr>
        <p:spPr>
          <a:xfrm>
            <a:off x="1317960" y="819000"/>
            <a:ext cx="66196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Actos de comercio, clasificacione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6" name=""/>
          <p:cNvSpPr/>
          <p:nvPr/>
        </p:nvSpPr>
        <p:spPr>
          <a:xfrm>
            <a:off x="826920" y="2421000"/>
            <a:ext cx="73080" cy="720720"/>
          </a:xfrm>
          <a:custGeom>
            <a:avLst/>
            <a:gdLst>
              <a:gd name="textAreaLeft" fmla="*/ 46800 w 73080"/>
              <a:gd name="textAreaRight" fmla="*/ 73440 w 7308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826920" y="3429000"/>
            <a:ext cx="73080" cy="1224000"/>
          </a:xfrm>
          <a:custGeom>
            <a:avLst/>
            <a:gdLst>
              <a:gd name="textAreaLeft" fmla="*/ 46800 w 73080"/>
              <a:gd name="textAreaRight" fmla="*/ 73440 w 730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464"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68360" y="1773360"/>
            <a:ext cx="8675640" cy="527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os de Comercio en anális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Art. 3° Son actos de comercio, ya de parte de ambos contratantes, ya de parte de uno de ell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1° La compra y permuta de cosas muebles, hecha con ánimo de venderlas, permutarlas o arrendarlas en la misma forma o en otra distinta, y la venta, permuta o arrendamiento de estas mismas cosas. Sin embargo, no son actos de comercio la compra o permuta de objetos destinados a complementar accesoriamente las operaciones principales de una industria no comerci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2° La compra de un establecimiento de comerc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3° El arrendamiento de cosas muebles hecho con ánimo de subarrendarl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4° La comisión o mandato comerci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5° Las empresas de fábricas, manufacturas, almacenes, tiendas, bazares, fondas, cafés y otros establecimientos semejant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6° Las empresas de transporte por tierra, ríos o canales navegabl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7° Las empresas de depósito de mercaderías, provisiones o suministros, las agencias de negocios y los martill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8° Las empresas de espectáculos públicos, sin perjuicio de las medidas de policía que corresponda tomar a la autoridad administrativ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9° Las empresas de seguros terrestres a prima, inclusas aquellas que aseguran mercaderías transportadas por canales o rí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73" name="" descr=""/>
          <p:cNvPicPr/>
          <p:nvPr/>
        </p:nvPicPr>
        <p:blipFill>
          <a:blip r:embed="rId1"/>
          <a:stretch/>
        </p:blipFill>
        <p:spPr>
          <a:xfrm>
            <a:off x="7130880" y="6053040"/>
            <a:ext cx="1689120" cy="400320"/>
          </a:xfrm>
          <a:prstGeom prst="rect">
            <a:avLst/>
          </a:prstGeom>
          <a:ln w="0">
            <a:noFill/>
          </a:ln>
        </p:spPr>
      </p:pic>
      <p:sp>
        <p:nvSpPr>
          <p:cNvPr id="474"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
          <p:cNvSpPr/>
          <p:nvPr/>
        </p:nvSpPr>
        <p:spPr>
          <a:xfrm>
            <a:off x="1691280" y="819000"/>
            <a:ext cx="53121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Actos de comercio, análisi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483"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68360" y="1773360"/>
            <a:ext cx="8424720" cy="548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os de Comercio en anális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Art. 3° Son actos de comercio, ya de parte de ambos contratantes, ya de parte de uno de ell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10. Las operaciones sobre letras de cambio, pagarés y cheques sobre documentos a la orden, cualesquiera que sean su causa y objeto y las personas que en ella intervengan, y las remesas de dinero de una plaza a otra hechas en virtud de un contrato de camb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11. Las operaciones de banco, las de cambio y corretaj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12. Las operaciones de bols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3. Las empresas de construcción, carena, compra y venta de naves, sus aparejos y vituall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4. Las asociaciones de armado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5. Las expediciones, transportes, depósitos o consignaciones marítim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6. Los fletamentos, seguros y demás contratos concernientes al comercio marítim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7. Los hechos que producen obligaciones en los casos de averías, naufragios y salvamento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8. Las convenciones relativas a los salarios del sobrecargo, capitán, oficiales y tripulació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9. Los contratos de los corredores marítimos, pilotos lemanes y gente de mar para el servicio de las nav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20. Las empresas de construcción de bienes inmuebles por adherencia, como edificios, camino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puentes, canales, desagües, instalaciones industriales y de otros similares de la misma naturalez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92" name="" descr=""/>
          <p:cNvPicPr/>
          <p:nvPr/>
        </p:nvPicPr>
        <p:blipFill>
          <a:blip r:embed="rId1"/>
          <a:stretch/>
        </p:blipFill>
        <p:spPr>
          <a:xfrm>
            <a:off x="7130880" y="6053040"/>
            <a:ext cx="1689120" cy="400320"/>
          </a:xfrm>
          <a:prstGeom prst="rect">
            <a:avLst/>
          </a:prstGeom>
          <a:ln w="0">
            <a:noFill/>
          </a:ln>
        </p:spPr>
      </p:pic>
      <p:sp>
        <p:nvSpPr>
          <p:cNvPr id="493"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
          <p:cNvSpPr/>
          <p:nvPr/>
        </p:nvSpPr>
        <p:spPr>
          <a:xfrm>
            <a:off x="1691280" y="819000"/>
            <a:ext cx="53121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Actos de comercio, análisi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502"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179280" y="1892160"/>
            <a:ext cx="878544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rt 3º Nº 1: Se refiere a la posición del comprador y a su posterior posición de vendedor, permutante o arrendador</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Título oneroso en la adquisición</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Bienes muebles (mismo concepto del CC)</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Intencionalidad al comprar, resalta carácter intermediador del comerci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suerte, a futuro, del acto </a:t>
            </a:r>
            <a:r>
              <a:rPr b="0" i="1" lang="es-CL" sz="1800" spc="-1" strike="noStrike">
                <a:solidFill>
                  <a:srgbClr val="000000"/>
                </a:solidFill>
                <a:latin typeface="Arial"/>
              </a:rPr>
              <a:t>intentado </a:t>
            </a:r>
            <a:r>
              <a:rPr b="0" lang="es-CL" sz="1800" spc="-1" strike="noStrike">
                <a:solidFill>
                  <a:srgbClr val="000000"/>
                </a:solidFill>
                <a:latin typeface="Arial"/>
              </a:rPr>
              <a:t>es irrelevante</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explica situación de activos fijos (la contabilidad prueba que no hay compra para vender sino para guardar)</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posición posterior de vendedor, permutante o arrendador sólo exige la </a:t>
            </a:r>
            <a:r>
              <a:rPr b="0" i="1" lang="es-CL" sz="1800" spc="-1" strike="noStrike">
                <a:solidFill>
                  <a:srgbClr val="000000"/>
                </a:solidFill>
                <a:latin typeface="Arial"/>
              </a:rPr>
              <a:t>compra comercial previa</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cluye los bienes que han sufrido transformaciones o son parte del acto posterior</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ay hipótesis similar para el contrato de arrendamiento comercial (art 3 Nº3)</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se ejecutan por no comerciantes no serán comerciales (inciso segundo, Tª de lo accesori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11" name="" descr=""/>
          <p:cNvPicPr/>
          <p:nvPr/>
        </p:nvPicPr>
        <p:blipFill>
          <a:blip r:embed="rId1"/>
          <a:stretch/>
        </p:blipFill>
        <p:spPr>
          <a:xfrm>
            <a:off x="7130880" y="6053040"/>
            <a:ext cx="1689120" cy="400320"/>
          </a:xfrm>
          <a:prstGeom prst="rect">
            <a:avLst/>
          </a:prstGeom>
          <a:ln w="0">
            <a:noFill/>
          </a:ln>
        </p:spPr>
      </p:pic>
      <p:sp>
        <p:nvSpPr>
          <p:cNvPr id="512"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a:off x="468360" y="749160"/>
            <a:ext cx="806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521"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79280" y="2111400"/>
            <a:ext cx="8785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gulación de la compraventa mercantil</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egislación de fondo aplicable: C de C, y el CC en forma supletoria</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ay regulación de compras especiales en leyes especiales que priman (las que forman parte de las operaciones mercantiles, como las de bolsa)</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regula la naturaleza jurídica de la cosa vendida: muebles</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alidades de la cosa vendida: a la vista, al gusto, orden y muestra</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cio supletorio: el precio corriente en plaza (ej. en mercados transparentes como las bolsas de comercio) </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hay presunción de determinabilidad del precio</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fectos del contrato encuentran especificaciones de los principios del CC (tradición por medios propios de comerciantes y según sea la costumbre)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n algunos casos hay modificaciones: prescripción de acción </a:t>
            </a:r>
            <a:r>
              <a:rPr b="0" i="1" lang="es-CL" sz="1800" spc="-1" strike="noStrike">
                <a:solidFill>
                  <a:srgbClr val="000000"/>
                </a:solidFill>
                <a:latin typeface="Arial"/>
              </a:rPr>
              <a:t>quanti minoris </a:t>
            </a:r>
            <a:r>
              <a:rPr b="0" lang="es-CL" sz="1800" spc="-1" strike="noStrike">
                <a:solidFill>
                  <a:srgbClr val="000000"/>
                </a:solidFill>
                <a:latin typeface="Arial"/>
              </a:rPr>
              <a:t>en vicios redhibitorios es de 6 meses</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30" name="" descr=""/>
          <p:cNvPicPr/>
          <p:nvPr/>
        </p:nvPicPr>
        <p:blipFill>
          <a:blip r:embed="rId1"/>
          <a:stretch/>
        </p:blipFill>
        <p:spPr>
          <a:xfrm>
            <a:off x="7130880" y="6053040"/>
            <a:ext cx="1689120" cy="400320"/>
          </a:xfrm>
          <a:prstGeom prst="rect">
            <a:avLst/>
          </a:prstGeom>
          <a:ln w="0">
            <a:noFill/>
          </a:ln>
        </p:spPr>
      </p:pic>
      <p:sp>
        <p:nvSpPr>
          <p:cNvPr id="531"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
          <p:cNvSpPr/>
          <p:nvPr/>
        </p:nvSpPr>
        <p:spPr>
          <a:xfrm>
            <a:off x="468360" y="749160"/>
            <a:ext cx="806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a:t>
            </a:r>
            <a:endParaRPr b="0" lang="en-US" sz="2800" spc="-1" strike="noStrike">
              <a:solidFill>
                <a:srgbClr val="000000"/>
              </a:solidFill>
              <a:latin typeface="Times New Roman"/>
            </a:endParaRPr>
          </a:p>
        </p:txBody>
      </p:sp>
      <p:sp>
        <p:nvSpPr>
          <p:cNvPr id="534" name=""/>
          <p:cNvSpPr/>
          <p:nvPr/>
        </p:nvSpPr>
        <p:spPr>
          <a:xfrm>
            <a:off x="2843280" y="4149720"/>
            <a:ext cx="865080" cy="142920"/>
          </a:xfrm>
          <a:prstGeom prst="rightArrow">
            <a:avLst>
              <a:gd name="adj1" fmla="val 50000"/>
              <a:gd name="adj2" fmla="val 151322"/>
            </a:avLst>
          </a:prstGeom>
          <a:solidFill>
            <a:srgbClr val="ccccff"/>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541"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179280" y="1892160"/>
            <a:ext cx="87854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sión de créditos mercantiles</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C, 1901 ss sólo regula cesión de créditos nominativos </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Regula cesiones de obligaciones mercantiles de todo tipo: nominativos, a la orden y al portador</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e vincula a regulación de títulos de crédito, al endoso, a documentos al portador</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sión de créditos nominativos mercantiles: </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62 inciso 3º deja la impresión que puede requerirse (notificarse) sin decreto judicial previo. </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ecto en cesiones para financiamientos con </a:t>
            </a:r>
            <a:r>
              <a:rPr b="0" i="1" lang="es-CL" sz="1800" spc="-1" strike="noStrike">
                <a:solidFill>
                  <a:srgbClr val="000000"/>
                </a:solidFill>
                <a:latin typeface="Arial"/>
              </a:rPr>
              <a:t>pool </a:t>
            </a:r>
            <a:r>
              <a:rPr b="0" lang="es-CL" sz="1800" spc="-1" strike="noStrike">
                <a:solidFill>
                  <a:srgbClr val="000000"/>
                </a:solidFill>
                <a:latin typeface="Arial"/>
              </a:rPr>
              <a:t>de créditos.</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163 Excepciones personales contra el cedente / todas las ocultas: sólo se pueden oponer hasta tercero día desde el requerimiento (gran importancia práctica)</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ay responsabilidad de derecho (de hecho sólo si se expresa y excepcionalmente)</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50" name="" descr=""/>
          <p:cNvPicPr/>
          <p:nvPr/>
        </p:nvPicPr>
        <p:blipFill>
          <a:blip r:embed="rId1"/>
          <a:stretch/>
        </p:blipFill>
        <p:spPr>
          <a:xfrm>
            <a:off x="7130880" y="6053040"/>
            <a:ext cx="1689120" cy="400320"/>
          </a:xfrm>
          <a:prstGeom prst="rect">
            <a:avLst/>
          </a:prstGeom>
          <a:ln w="0">
            <a:noFill/>
          </a:ln>
        </p:spPr>
      </p:pic>
      <p:sp>
        <p:nvSpPr>
          <p:cNvPr id="551"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
          <p:cNvSpPr/>
          <p:nvPr/>
        </p:nvSpPr>
        <p:spPr>
          <a:xfrm>
            <a:off x="468360" y="749160"/>
            <a:ext cx="806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560"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79280" y="1892160"/>
            <a:ext cx="878544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sión de créditos mercantiles</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sión de créditos a la orden</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doso, regulado en ley de letras de cambio y pagarés</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tendido a todo título a la orden por ley 18.552 / 86</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doso en dominio garantiza solidariamente la responsabilidad de hecho</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tros tipos de endosos</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éditos al portador</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ólo hay responsabilidad de derech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irculación y pago al legítimo portador</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ena de endosos</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69" name="" descr=""/>
          <p:cNvPicPr/>
          <p:nvPr/>
        </p:nvPicPr>
        <p:blipFill>
          <a:blip r:embed="rId1"/>
          <a:stretch/>
        </p:blipFill>
        <p:spPr>
          <a:xfrm>
            <a:off x="7130880" y="6053040"/>
            <a:ext cx="1689120" cy="400320"/>
          </a:xfrm>
          <a:prstGeom prst="rect">
            <a:avLst/>
          </a:prstGeom>
          <a:ln w="0">
            <a:noFill/>
          </a:ln>
        </p:spPr>
      </p:pic>
      <p:sp>
        <p:nvSpPr>
          <p:cNvPr id="570"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
          <p:cNvSpPr/>
          <p:nvPr/>
        </p:nvSpPr>
        <p:spPr>
          <a:xfrm>
            <a:off x="468360" y="749160"/>
            <a:ext cx="806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579"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179280" y="1778040"/>
            <a:ext cx="864072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rt 3º Nº 2: Compra de un establecimiento de comerci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s actividad más que acto de comerci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No exige la intención (diferencia con la CV), ella es irrelevante (pq se asume)</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venta es acto de comercio? JP: Sí!</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trato de CV de establecimiento no está regulado en la ley</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one la venta de una universalidad de hech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quiere actos de cesión según la naturaleza jurídica de cada componente</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 esencial que los componentes relevantes se cedan en el conjunto, o no habrá venta de establecimiento de comercio: Rótulo y clientela, instalaciones, contrato de arrendamiento.</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tección a través de cláusulas de no competencia</a:t>
            </a:r>
            <a:endParaRPr b="0" lang="en-US" sz="1800" spc="-1" strike="noStrike">
              <a:solidFill>
                <a:srgbClr val="000000"/>
              </a:solidFill>
              <a:latin typeface="Times New Roman"/>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tensión </a:t>
            </a:r>
            <a:endParaRPr b="0" lang="en-US" sz="1800" spc="-1" strike="noStrike">
              <a:solidFill>
                <a:srgbClr val="000000"/>
              </a:solidFill>
              <a:latin typeface="Times New Roman"/>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stricciones constitucionales y del ámbito de la libre competencia</a:t>
            </a:r>
            <a:endParaRPr b="0" lang="en-US" sz="1800" spc="-1" strike="noStrike">
              <a:solidFill>
                <a:srgbClr val="000000"/>
              </a:solidFill>
              <a:latin typeface="Times New Roman"/>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plicación de la buena fe contractual</a:t>
            </a:r>
            <a:r>
              <a:rPr b="0" lang="es-CL"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88" name="" descr=""/>
          <p:cNvPicPr/>
          <p:nvPr/>
        </p:nvPicPr>
        <p:blipFill>
          <a:blip r:embed="rId1"/>
          <a:stretch/>
        </p:blipFill>
        <p:spPr>
          <a:xfrm>
            <a:off x="7130880" y="6053040"/>
            <a:ext cx="1689120" cy="400320"/>
          </a:xfrm>
          <a:prstGeom prst="rect">
            <a:avLst/>
          </a:prstGeom>
          <a:ln w="0">
            <a:noFill/>
          </a:ln>
        </p:spPr>
      </p:pic>
      <p:sp>
        <p:nvSpPr>
          <p:cNvPr id="589"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a:off x="468360" y="749160"/>
            <a:ext cx="8064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 (y su derivado del establecimiento de comerc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598"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324000" y="1844640"/>
            <a:ext cx="8640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rt 3º Nº 2: Compra de un establecimiento de comerc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s marcas? No, si se entienden asociados a productos </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mercaderías? No son esenciales Partidas del activo y pasivo financiero? </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uentas por cobrar y por pagar?</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Jurídicamente no hay novación de las obligaciones </a:t>
            </a:r>
            <a:r>
              <a:rPr b="0" i="1" lang="es-CL" sz="1800" spc="-1" strike="noStrike">
                <a:solidFill>
                  <a:srgbClr val="000000"/>
                </a:solidFill>
                <a:latin typeface="Arial"/>
              </a:rPr>
              <a:t>per se</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s el patrimonio de la empresa o comerciante el vinculado por las obligaciones con clientes y proveedores</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e modo que la cesión del establecimiento no supone  transferencia de más que lo que se exprese</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 regla se altera con las obligaciones </a:t>
            </a:r>
            <a:r>
              <a:rPr b="0" i="1" lang="es-CL" sz="1800" spc="-1" strike="noStrike">
                <a:solidFill>
                  <a:srgbClr val="000000"/>
                </a:solidFill>
                <a:latin typeface="Arial"/>
              </a:rPr>
              <a:t>propter rem, en particular en </a:t>
            </a:r>
            <a:r>
              <a:rPr b="0" lang="es-CL" sz="1800" spc="-1" strike="noStrike">
                <a:solidFill>
                  <a:srgbClr val="000000"/>
                </a:solidFill>
                <a:latin typeface="Arial"/>
              </a:rPr>
              <a:t>materias laborales, de previsión social, tributarias, municipales, civiles (obligación de respetar contratos)</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ontingencias, indemnizaciones y cuentas de ajuste que se derivan de ello</a:t>
            </a:r>
            <a:endParaRPr b="0" lang="en-US" sz="1800" spc="-1" strike="noStrike">
              <a:solidFill>
                <a:srgbClr val="000000"/>
              </a:solidFill>
              <a:latin typeface="Times New Roman"/>
            </a:endParaRPr>
          </a:p>
        </p:txBody>
      </p:sp>
      <p:pic>
        <p:nvPicPr>
          <p:cNvPr id="607" name="" descr=""/>
          <p:cNvPicPr/>
          <p:nvPr/>
        </p:nvPicPr>
        <p:blipFill>
          <a:blip r:embed="rId1"/>
          <a:stretch/>
        </p:blipFill>
        <p:spPr>
          <a:xfrm>
            <a:off x="7130880" y="6053040"/>
            <a:ext cx="1689120" cy="400320"/>
          </a:xfrm>
          <a:prstGeom prst="rect">
            <a:avLst/>
          </a:prstGeom>
          <a:ln w="0">
            <a:noFill/>
          </a:ln>
        </p:spPr>
      </p:pic>
      <p:sp>
        <p:nvSpPr>
          <p:cNvPr id="608"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468360" y="749160"/>
            <a:ext cx="8064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 (y su derivado del establecimiento de comerc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8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39640" y="2011320"/>
            <a:ext cx="82090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 derivada de la perspectiva objetiva del derecho mercantil.</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umeración de actos de comercio, taxativa o enunciativa, no basta.</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iene que ver con la profesión, habitualidad y sustento de la persona del comerciante o no comerciante </a:t>
            </a:r>
            <a:r>
              <a:rPr b="0" lang="es-CL" sz="2000" spc="-1" strike="noStrike">
                <a:solidFill>
                  <a:srgbClr val="000000"/>
                </a:solidFill>
                <a:latin typeface="Arial"/>
              </a:rPr>
              <a:t>	</a:t>
            </a:r>
            <a:r>
              <a:rPr b="0" lang="es-CL" sz="2000" spc="-1" strike="noStrike">
                <a:solidFill>
                  <a:srgbClr val="000000"/>
                </a:solidFill>
                <a:latin typeface="Arial"/>
              </a:rPr>
              <a:t>su actividad profesional principal</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actividad profesional principal no puede ser contaminada por la </a:t>
            </a:r>
            <a:r>
              <a:rPr b="0" lang="es-CL" sz="2000" spc="-1" strike="noStrike" u="sng">
                <a:solidFill>
                  <a:srgbClr val="000000"/>
                </a:solidFill>
                <a:uFillTx/>
                <a:latin typeface="Arial"/>
              </a:rPr>
              <a:t>presencia</a:t>
            </a:r>
            <a:r>
              <a:rPr b="0" lang="es-CL" sz="2000" spc="-1" strike="noStrike">
                <a:solidFill>
                  <a:srgbClr val="000000"/>
                </a:solidFill>
                <a:latin typeface="Arial"/>
              </a:rPr>
              <a:t> o </a:t>
            </a:r>
            <a:r>
              <a:rPr b="0" lang="es-CL" sz="2000" spc="-1" strike="noStrike" u="sng">
                <a:solidFill>
                  <a:srgbClr val="000000"/>
                </a:solidFill>
                <a:uFillTx/>
                <a:latin typeface="Arial"/>
              </a:rPr>
              <a:t>ausencia </a:t>
            </a:r>
            <a:r>
              <a:rPr b="0" lang="es-CL" sz="2000" spc="-1" strike="noStrike">
                <a:solidFill>
                  <a:srgbClr val="000000"/>
                </a:solidFill>
                <a:latin typeface="Arial"/>
              </a:rPr>
              <a:t>de un acto determinado, en un catálogo determinado de actos de comerci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 parte del aparato respiratorio del derecho mercantil objetivo; se expande o retrae en función de las actividades profesionales derivadas de la concepción subjetiva.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concibe originalmente en el sentido civil </a:t>
            </a:r>
            <a:r>
              <a:rPr b="0" lang="es-CL" sz="2000" spc="-1" strike="noStrike">
                <a:solidFill>
                  <a:srgbClr val="000000"/>
                </a:solidFill>
                <a:latin typeface="Arial"/>
              </a:rPr>
              <a:t>	</a:t>
            </a:r>
            <a:r>
              <a:rPr b="0" lang="es-CL" sz="2000" spc="-1" strike="noStrike">
                <a:solidFill>
                  <a:srgbClr val="000000"/>
                </a:solidFill>
                <a:latin typeface="Arial"/>
              </a:rPr>
              <a:t>mercantil (expande), pero tiene la </a:t>
            </a:r>
            <a:r>
              <a:rPr b="0" i="1" lang="es-CL" sz="2000" spc="-1" strike="noStrike">
                <a:solidFill>
                  <a:srgbClr val="000000"/>
                </a:solidFill>
                <a:latin typeface="Arial"/>
              </a:rPr>
              <a:t>contracara</a:t>
            </a:r>
            <a:r>
              <a:rPr b="0" lang="es-CL" sz="2000" spc="-1" strike="noStrike">
                <a:solidFill>
                  <a:srgbClr val="000000"/>
                </a:solidFill>
                <a:latin typeface="Arial"/>
              </a:rPr>
              <a:t> del sentido mercantil </a:t>
            </a:r>
            <a:r>
              <a:rPr b="0" lang="es-CL" sz="2000" spc="-1" strike="noStrike">
                <a:solidFill>
                  <a:srgbClr val="000000"/>
                </a:solidFill>
                <a:latin typeface="Arial"/>
              </a:rPr>
              <a:t>	</a:t>
            </a:r>
            <a:r>
              <a:rPr b="0" lang="es-CL" sz="2000" spc="-1" strike="noStrike">
                <a:solidFill>
                  <a:srgbClr val="000000"/>
                </a:solidFill>
                <a:latin typeface="Arial"/>
              </a:rPr>
              <a:t>civil (retra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5" name="" descr=""/>
          <p:cNvPicPr/>
          <p:nvPr/>
        </p:nvPicPr>
        <p:blipFill>
          <a:blip r:embed="rId1"/>
          <a:stretch/>
        </p:blipFill>
        <p:spPr>
          <a:xfrm>
            <a:off x="7130880" y="6053040"/>
            <a:ext cx="1689120" cy="400320"/>
          </a:xfrm>
          <a:prstGeom prst="rect">
            <a:avLst/>
          </a:prstGeom>
          <a:ln w="0">
            <a:noFill/>
          </a:ln>
        </p:spPr>
      </p:pic>
      <p:sp>
        <p:nvSpPr>
          <p:cNvPr id="96"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250020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
          <p:cNvSpPr/>
          <p:nvPr/>
        </p:nvSpPr>
        <p:spPr>
          <a:xfrm>
            <a:off x="4643280" y="3141720"/>
            <a:ext cx="5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724360" y="558972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724360" y="5877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617"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324000" y="1828800"/>
            <a:ext cx="8640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rt 3º Nº 2: Compra de un establecimiento de comerci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 frecuente que se compren las cuentas por cobrar porque están íntimamente vinculadas al factor </a:t>
            </a:r>
            <a:r>
              <a:rPr b="0" i="1" lang="es-CL" sz="1800" spc="-1" strike="noStrike">
                <a:solidFill>
                  <a:srgbClr val="000000"/>
                </a:solidFill>
                <a:latin typeface="Arial"/>
              </a:rPr>
              <a:t>clientela</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ípicamente acarrean cláusulas de ajuste en función de la cobranza efectiva</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entas por pagar son menos relevantes, a menos que se trate de relaciones esenciales al cliente (como es el caso de las representaciones y agencias)</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un mismo sentido, si bien la contabilidad no es materia de la cesión, la situación contable del establecimiento, al momento de la cesión, deberá recogerse en forma consistente en los libros del comprador y del vendedor</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 es la base de la generación del </a:t>
            </a:r>
            <a:r>
              <a:rPr b="0" i="1" lang="es-CL" sz="1800" spc="-1" strike="noStrike">
                <a:solidFill>
                  <a:srgbClr val="000000"/>
                </a:solidFill>
                <a:latin typeface="Arial"/>
              </a:rPr>
              <a:t>goodwill</a:t>
            </a:r>
            <a:r>
              <a:rPr b="0" lang="es-CL"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oncepto financiero </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tamiento tributario y financier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ortancia de las declaraciones, aseveraciones, representaciones y garantías en materia de cesiones de establecimientos de comercio</a:t>
            </a:r>
            <a:endParaRPr b="0" lang="en-US" sz="1800" spc="-1" strike="noStrike">
              <a:solidFill>
                <a:srgbClr val="000000"/>
              </a:solidFill>
              <a:latin typeface="Times New Roman"/>
            </a:endParaRPr>
          </a:p>
        </p:txBody>
      </p:sp>
      <p:pic>
        <p:nvPicPr>
          <p:cNvPr id="626" name="" descr=""/>
          <p:cNvPicPr/>
          <p:nvPr/>
        </p:nvPicPr>
        <p:blipFill>
          <a:blip r:embed="rId1"/>
          <a:stretch/>
        </p:blipFill>
        <p:spPr>
          <a:xfrm>
            <a:off x="7236000" y="6237360"/>
            <a:ext cx="1688760" cy="399960"/>
          </a:xfrm>
          <a:prstGeom prst="rect">
            <a:avLst/>
          </a:prstGeom>
          <a:ln w="0">
            <a:noFill/>
          </a:ln>
        </p:spPr>
      </p:pic>
      <p:sp>
        <p:nvSpPr>
          <p:cNvPr id="627"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
          <p:cNvSpPr/>
          <p:nvPr/>
        </p:nvSpPr>
        <p:spPr>
          <a:xfrm>
            <a:off x="468360" y="749160"/>
            <a:ext cx="8064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 (y su derivado del establecimiento de comerc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108"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39640" y="1773360"/>
            <a:ext cx="820908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Olavarría</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Consiste en presumir mercantiles los actos dudosos cuando se relacionan con una profesión … principal .. comercial, sea porque los facilitan, acrecientan, realizan o garantizan.</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falta de un mejor argumento, los actos de los comerciantes se presumen mercantiles, cuando no hay elementos más categóricos que establezcan un carácter distint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límite (cuándo puedo aplicar esta derivada y cuándo no) es sinuos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de pronto es admisible en actos accesorios por su naturaleza (cauciones acceden a la obligación garantizada)</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mpras de los comerciantes para incorporar a su activo fijo – no circulante – adquieren carácter mercantil por la profesión princip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7" name="" descr=""/>
          <p:cNvPicPr/>
          <p:nvPr/>
        </p:nvPicPr>
        <p:blipFill>
          <a:blip r:embed="rId1"/>
          <a:stretch/>
        </p:blipFill>
        <p:spPr>
          <a:xfrm>
            <a:off x="7130880" y="6053040"/>
            <a:ext cx="1689120" cy="400320"/>
          </a:xfrm>
          <a:prstGeom prst="rect">
            <a:avLst/>
          </a:prstGeom>
          <a:ln w="0">
            <a:noFill/>
          </a:ln>
        </p:spPr>
      </p:pic>
      <p:sp>
        <p:nvSpPr>
          <p:cNvPr id="118"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286056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127"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68360" y="1695600"/>
            <a:ext cx="820908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Garrigues, explicando el sistema alemán</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Hay retorno al sistema subjetivo</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on actos de comercio los que pertenecen a la explotación de industria mercantil</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agregan presunciones: (i) en caso de duda los actos de comerciante se reputan pertenecer a su industria mercantil, (ii) las deudas del comerciante son propias de su giro a menos que conste expresamente lo contrari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Garrigues sugiere renunciar al intento de convocar un concepto unitario de derecho mercantil. Sugiere usar calificaciones subjetivas y objetivas para entender su ámbit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allí que para él la accesoriedad es un elemento basal de un capítulo innegable del derecho mercantil: la actividad industrial y su quehacer accesor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6" name="" descr=""/>
          <p:cNvPicPr/>
          <p:nvPr/>
        </p:nvPicPr>
        <p:blipFill>
          <a:blip r:embed="rId1"/>
          <a:stretch/>
        </p:blipFill>
        <p:spPr>
          <a:xfrm>
            <a:off x="7130880" y="6053040"/>
            <a:ext cx="1689120" cy="400320"/>
          </a:xfrm>
          <a:prstGeom prst="rect">
            <a:avLst/>
          </a:prstGeom>
          <a:ln w="0">
            <a:noFill/>
          </a:ln>
        </p:spPr>
      </p:pic>
      <p:sp>
        <p:nvSpPr>
          <p:cNvPr id="137"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286056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14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24000" y="1916280"/>
            <a:ext cx="8640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mpras sin ánimo de revender pueden ser mercantiles!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mpras de inmuebles pueden incluso llegar a ser mercantile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acceden a industria comercial princip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onocimiento positivo expreso?</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relación a la compraventa comercial</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t 3 Nº 1 inciso segundo “no son actos de comercio la compra ... de objetos destinados a complementar accesoriamente operaciones principales de industria no comercial”</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consagra como efecto contractivo</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ero se aplica con criterio general</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t 1º El CdeC rige obligaciones que contraigan personas no comerciantes para asegurar el cumplimiento de obligaciones garantizada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5" name="" descr=""/>
          <p:cNvPicPr/>
          <p:nvPr/>
        </p:nvPicPr>
        <p:blipFill>
          <a:blip r:embed="rId1"/>
          <a:stretch/>
        </p:blipFill>
        <p:spPr>
          <a:xfrm>
            <a:off x="7130880" y="6053040"/>
            <a:ext cx="1689120" cy="400320"/>
          </a:xfrm>
          <a:prstGeom prst="rect">
            <a:avLst/>
          </a:prstGeom>
          <a:ln w="0">
            <a:noFill/>
          </a:ln>
        </p:spPr>
      </p:pic>
      <p:sp>
        <p:nvSpPr>
          <p:cNvPr id="156"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286056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165"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24000" y="1916280"/>
            <a:ext cx="88200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rror frecuente: justificar accesoriedad cuando no la hay.</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t 3 (son actos de comercio) Nº 11 operaciones de banco, de cambio, de corretaje; Nº 12 operaciones de bolsa</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actos que verifican las entidades comerciales bancos, cambistas, corredores, operadores de bolsa son comerciales porque la ley los ha definido así!</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 acto </a:t>
            </a:r>
            <a:r>
              <a:rPr b="0" i="1" lang="es-CL" sz="2000" spc="-1" strike="noStrike">
                <a:solidFill>
                  <a:srgbClr val="000000"/>
                </a:solidFill>
                <a:latin typeface="Arial"/>
              </a:rPr>
              <a:t>per se </a:t>
            </a:r>
            <a:r>
              <a:rPr b="0" lang="es-CL" sz="2000" spc="-1" strike="noStrike">
                <a:solidFill>
                  <a:srgbClr val="000000"/>
                </a:solidFill>
                <a:latin typeface="Arial"/>
              </a:rPr>
              <a:t>comercial no accede a ni deviene en comercial, simplemente lo es!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p Stgo 1917 El contrato de mutuo no es acto de comercio  pero se </a:t>
            </a:r>
            <a:r>
              <a:rPr b="0" i="1" lang="es-CL" sz="2000" spc="-1" strike="noStrike">
                <a:solidFill>
                  <a:srgbClr val="000000"/>
                </a:solidFill>
                <a:latin typeface="Arial"/>
              </a:rPr>
              <a:t>convierte </a:t>
            </a:r>
            <a:r>
              <a:rPr b="0" lang="es-CL" sz="2000" spc="-1" strike="noStrike">
                <a:solidFill>
                  <a:srgbClr val="000000"/>
                </a:solidFill>
                <a:latin typeface="Arial"/>
              </a:rPr>
              <a:t>en tal cuando es operación de banco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p Stgo 1990 El mutuo puede ser acto mixto, reviste carácter mercantil para el banco mutuante porque es un contrato propio de su giro, es una operación de banc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4" name="" descr=""/>
          <p:cNvPicPr/>
          <p:nvPr/>
        </p:nvPicPr>
        <p:blipFill>
          <a:blip r:embed="rId1"/>
          <a:stretch/>
        </p:blipFill>
        <p:spPr>
          <a:xfrm>
            <a:off x="7130880" y="6053040"/>
            <a:ext cx="1689120" cy="400320"/>
          </a:xfrm>
          <a:prstGeom prst="rect">
            <a:avLst/>
          </a:prstGeom>
          <a:ln w="0">
            <a:noFill/>
          </a:ln>
        </p:spPr>
      </p:pic>
      <p:sp>
        <p:nvSpPr>
          <p:cNvPr id="175"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286056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
          <p:cNvSpPr/>
          <p:nvPr/>
        </p:nvSpPr>
        <p:spPr>
          <a:xfrm>
            <a:off x="6300720" y="4797360"/>
            <a:ext cx="432000" cy="360360"/>
          </a:xfrm>
          <a:prstGeom prst="noSmoking">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4716360" y="5950080"/>
            <a:ext cx="432000" cy="503280"/>
          </a:xfrm>
          <a:prstGeom prst="smileyFace">
            <a:avLst>
              <a:gd name="adj" fmla="val 928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18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39640" y="1844640"/>
            <a:ext cx="734544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ortancia de la determinación de los actos de comercio (del derecho mercantil)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n</a:t>
            </a:r>
            <a:r>
              <a:rPr b="0" i="1" lang="es-CL" sz="2000" spc="-1" strike="noStrike">
                <a:solidFill>
                  <a:srgbClr val="000000"/>
                </a:solidFill>
                <a:latin typeface="Arial"/>
              </a:rPr>
              <a:t> presentación del cur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eoría de lo accesor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os mixtos o de doble carác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Manual de Derecho Comercial, Julio Olavarría. Tercera </a:t>
            </a: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Edición, Barcelona, 197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Curso de Derecho Mercantil, Joaquín Garrigues, </a:t>
            </a:r>
            <a:r>
              <a:rPr b="0" lang="es-CL" sz="2000" spc="-1" strike="noStrike">
                <a:solidFill>
                  <a:srgbClr val="000000"/>
                </a:solidFill>
                <a:latin typeface="Arial"/>
              </a:rPr>
              <a:t>	</a:t>
            </a:r>
            <a:r>
              <a:rPr b="0" lang="es-CL" sz="2000" spc="-1" strike="noStrike">
                <a:solidFill>
                  <a:srgbClr val="000000"/>
                </a:solidFill>
                <a:latin typeface="Arial"/>
              </a:rPr>
              <a:t>Bogotá, 198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ificaciones y análisis de los Actos de Comerc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5" name="" descr=""/>
          <p:cNvPicPr/>
          <p:nvPr/>
        </p:nvPicPr>
        <p:blipFill>
          <a:blip r:embed="rId1"/>
          <a:stretch/>
        </p:blipFill>
        <p:spPr>
          <a:xfrm>
            <a:off x="7130880" y="6053040"/>
            <a:ext cx="1689120" cy="400320"/>
          </a:xfrm>
          <a:prstGeom prst="rect">
            <a:avLst/>
          </a:prstGeom>
          <a:ln w="0">
            <a:noFill/>
          </a:ln>
        </p:spPr>
      </p:pic>
      <p:sp>
        <p:nvSpPr>
          <p:cNvPr id="196"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1127160" y="819000"/>
            <a:ext cx="6796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Actos de comercio, plan de trabajo</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     </a:t>
            </a:r>
            <a:endParaRPr b="0" lang="en-US" sz="2400" spc="-1" strike="noStrike">
              <a:solidFill>
                <a:srgbClr val="000000"/>
              </a:solidFill>
              <a:latin typeface="Times New Roman"/>
            </a:endParaRPr>
          </a:p>
        </p:txBody>
      </p:sp>
      <p:sp>
        <p:nvSpPr>
          <p:cNvPr id="199" name=""/>
          <p:cNvSpPr/>
          <p:nvPr/>
        </p:nvSpPr>
        <p:spPr>
          <a:xfrm>
            <a:off x="3276720" y="2349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20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24000" y="1916280"/>
            <a:ext cx="86407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s una derivada de las perspectivas objetiva y subjetiva del derecho mercantil</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topa en ocasiones con la teoría de lo accesorio, pero ambas conviven en forma individual</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 un argumento relevante para denostar la objetividad del derecho mercantil ¿Qué sentido tiene cimentarlo sobre actos de comercio si (salvo por los actos comerciales formales) no se van a poder aplicar sino a comerciantes?</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este evento lo consistente hubiese sido aplicar el derecho mercantil a ambas partes contratantes </a:t>
            </a:r>
            <a:r>
              <a:rPr b="0" lang="es-CL" sz="2000" spc="-1" strike="noStrike">
                <a:solidFill>
                  <a:srgbClr val="000000"/>
                </a:solidFill>
                <a:latin typeface="Arial"/>
              </a:rPr>
              <a:t>	</a:t>
            </a:r>
            <a:r>
              <a:rPr b="0" lang="es-CL" sz="2000" spc="-1" strike="noStrike">
                <a:solidFill>
                  <a:srgbClr val="000000"/>
                </a:solidFill>
                <a:latin typeface="Arial"/>
              </a:rPr>
              <a:t>sistema alemán</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alquier otra solución intermedia solo confirma al derecho comercial como un derecho de clase: se aplica solo a los comerciante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15" name="" descr=""/>
          <p:cNvPicPr/>
          <p:nvPr/>
        </p:nvPicPr>
        <p:blipFill>
          <a:blip r:embed="rId1"/>
          <a:stretch/>
        </p:blipFill>
        <p:spPr>
          <a:xfrm>
            <a:off x="7130880" y="6053040"/>
            <a:ext cx="1689120" cy="400320"/>
          </a:xfrm>
          <a:prstGeom prst="rect">
            <a:avLst/>
          </a:prstGeom>
          <a:ln w="0">
            <a:noFill/>
          </a:ln>
        </p:spPr>
      </p:pic>
      <p:sp>
        <p:nvSpPr>
          <p:cNvPr id="216"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205092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o de doble caráct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9" name=""/>
          <p:cNvSpPr/>
          <p:nvPr/>
        </p:nvSpPr>
        <p:spPr>
          <a:xfrm>
            <a:off x="5291280" y="486900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5T21:09:26Z</dcterms:created>
  <dc:creator>asm</dc:creator>
  <dc:description/>
  <dc:language>en-US</dc:language>
  <cp:lastModifiedBy>Octavio Bofill G.</cp:lastModifiedBy>
  <dcterms:modified xsi:type="dcterms:W3CDTF">2010-04-25T23:40:15Z</dcterms:modified>
  <cp:revision>146</cp:revision>
  <dc:subject/>
  <dc:title>Sin título de diapositiv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33904442</vt:r8>
  </property>
  <property fmtid="{D5CDD505-2E9C-101B-9397-08002B2CF9AE}" pid="3" name="_AuthorEmail">
    <vt:lpwstr>gvarela@grasty.cl</vt:lpwstr>
  </property>
  <property fmtid="{D5CDD505-2E9C-101B-9397-08002B2CF9AE}" pid="4" name="_AuthorEmailDisplayName">
    <vt:lpwstr>Carmen Gloria Varela</vt:lpwstr>
  </property>
  <property fmtid="{D5CDD505-2E9C-101B-9397-08002B2CF9AE}" pid="5" name="_EmailSubject">
    <vt:lpwstr>Presentación Power Point curso </vt:lpwstr>
  </property>
  <property fmtid="{D5CDD505-2E9C-101B-9397-08002B2CF9AE}" pid="6" name="_PreviousAdHocReviewCycleID">
    <vt:r8>143563303</vt:r8>
  </property>
  <property fmtid="{D5CDD505-2E9C-101B-9397-08002B2CF9AE}" pid="7" name="_ReviewingToolsShownOnce">
    <vt:lpwstr/>
  </property>
</Properties>
</file>