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40A-06F6-4D9A-924D-9FD43C00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FC5-1911-4C65-9FB2-F7F0999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CDE-757C-4D0B-8766-8BAF63A0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410-8F60-4C58-BDD0-0D9346B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B3CD-D22E-43CF-B41B-EF489C14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D72-D43B-452F-BF88-AE9B3160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8B7-0830-41ED-B495-D63F90D1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66E8-B067-4EF8-B6D2-E244265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426-A6C5-46A4-BB36-B8A93CC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76680"/>
            <a:ext cx="86868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7386-D85F-4EB3-92BA-CD67A1E2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9B3-41DC-400E-AF7B-DA9D944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E76-1ADD-488E-91D4-CCE7B24A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936-C2DB-4EC0-AB29-AC1652A9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1EE2-C052-4C6A-81BA-167B91F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7B6A-33AA-4BDC-850C-BDF395F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70C-6B08-4225-AFD4-084B7961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74C-4913-45AA-A5F0-DD98E1A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1DE-71E2-4490-90FE-46974EDB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27D-2833-4B05-A47F-6D4744E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456-C216-4E4E-8241-1A6D8D3E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76680"/>
            <a:ext cx="86868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B21-AA15-427F-9CDE-F2452C73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E79-5C96-4F9F-8BC6-79DE109C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427-AEA8-4581-82FD-D95E0E5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CE0-0ABF-4C13-9202-DEA88FC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583-9910-4421-962C-BDF77C4F3E2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895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0BF-21B5-45D6-8B44-365859134E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rtículo 1º.-  En  toda  operación  de  compraventa, de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prestación de servicios, o en aquellas que la ley asimile 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ales operaciones, en que el  vendedor  o  prestador  del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vicio  esté  sujeto  a  la obligación de emitir  factura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berá 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emitir  una  copia, sin  valor tributario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, de 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actura  original, para  los  efectos  de  su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transferencia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 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erceros o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cobro ejecutivo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, según lo dispuesto en est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ley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32C-F6C5-4C9A-B4DF-19393D0D16A6}" type="slidenum">
              <a:t>1</a:t>
            </a:fld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Cesión del Crédito Contenido en la Factura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Traslaticio de Dominio – En Cobranz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Traslaticio de Domin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irma del Cedente en el anverso de la copi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edible de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mbre completo, Rut, domicilio cesionari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ntreg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D7E-5DB6-45BF-AB63-771750E965ED}" type="slidenum">
              <a:t>10</a:t>
            </a:fld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Notificación Deudor Cedid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tario Público – Oficial Registro Civi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Personalmente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Exhibiendo copia de la factura cedid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-633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arta certificada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por cuenta del cesionario de la factura, adjuntando copias del mismo, certificadas por el ministro de fe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esión produce efecto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 A los  6 días siguientes a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echa del envío al domicilio indicado en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ED3-3EB3-408F-82A6-AB3D8EF83ECA}" type="slidenum">
              <a:t>11</a:t>
            </a:fld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n Cobranz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irma del cedente en el anverso de la copia cedible de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xpresión “en cobranza” o “valor en cobro”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ntreg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Mandatario Judicial → Amplias facultades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2FE-C835-4290-A1F5-C7171CE5DE4D}" type="slidenum">
              <a:t>12</a:t>
            </a:fld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quisitos para que la factura tenga mérito ejecutiv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la factura correspondiente no haya sido reclamada de conformidad al artículo 3º de esta ley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su pago sea actualmente exigible y la acción para su cobro no esté prescrita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c) 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en la misma conste el recibo de las mercaderías entregadas o del servicio prestado con indicación  del recinto y fecha de la entrega de las mercaderías o de la prestación del servic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CB1-67F0-429B-88E2-B4B68F88C6F7}" type="slidenum">
              <a:t>13</a:t>
            </a:fld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mbre  completo, RUT y domicilio del comprador o beneficiario del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)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dentificación de  la  persona  que  recibe las mercaderías o el servicio, más la firma de este últim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3FB-C3CF-40D7-907D-47A922CE8E0E}" type="slidenum">
              <a:t>14</a:t>
            </a:fld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Obligación del Comprador o Beneficiario: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Otorgar  recibo  en  el  momento  de  la  entrega  real  o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imbólica de las mercaderías o, tratándose de servicios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l momento de recibir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65E-538B-49F9-A055-413657E29B3B}" type="slidenum">
              <a:t>15</a:t>
            </a:fld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FISCALIZACION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SII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MULTA 50% monto factur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NUNCIA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          con tope de 40 UT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↑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JUEZ POLICIA LOCAL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→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SANCIO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32000" y="1915920"/>
            <a:ext cx="1511280" cy="33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3640" y="1916280"/>
            <a:ext cx="1439640" cy="345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1040" y="1844640"/>
            <a:ext cx="1668240" cy="3417840"/>
          </a:xfrm>
          <a:custGeom>
            <a:avLst/>
            <a:gdLst/>
            <a:ahLst/>
            <a:rect l="l" t="t" r="r" b="b"/>
            <a:pathLst>
              <a:path w="1051" h="2153">
                <a:moveTo>
                  <a:pt x="0" y="2153"/>
                </a:moveTo>
                <a:lnTo>
                  <a:pt x="1051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03640" y="1915920"/>
            <a:ext cx="15127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2"/>
            <a:endCxn id="121" idx="0"/>
          </p:cNvCxnSpPr>
          <p:nvPr/>
        </p:nvCxnSpPr>
        <p:spPr>
          <a:xfrm flipV="1">
            <a:off x="4571640" y="1915920"/>
            <a:ext cx="144720" cy="4332960"/>
          </a:xfrm>
          <a:prstGeom prst="straightConnector1">
            <a:avLst/>
          </a:prstGeom>
          <a:ln w="0">
            <a:noFill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05D-3611-44AD-82DE-588BBA4078B7}" type="slidenum">
              <a:t>16</a:t>
            </a:fld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Gestión Preparatoria Mérito Ejecutiv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tificación Judicial al Deudor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B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posición: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Acto Notificación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Dentro de tercero dí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legaciones o Defensa: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  Falsificación material factura o guía de despacho o del recibo del comprador o beneficiari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Falta entrega mercadería o prestación de servic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Tramitación → Incidental →  Resolución que deniegu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pelación sólo efecto devolutiv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C10-F7F2-4589-85EC-79E20323B260}" type="slidenum">
              <a:t>17</a:t>
            </a:fld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Arial Narrow"/>
              </a:rPr>
              <a:t>Art. 5º Inciso final 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→ “El que  dolosamente impugne  de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falsedad  cualquiera  de  los  documentos  mencionados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en  la letra c) y sea  vencido  totalmente  en  el  incidente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respectivo, será  condenado  al  pago  del  saldo insoluto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y, a  título  de indemnización  de  perjuicios, al  que  una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suma igual al referido  saldo, más  el  interés  máximo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convencional calculado  sobre  dicha suma, por  el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tiempo  que  corra  entre  la fecha de la notificación y la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del pago”.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789-CF7E-48DB-A103-2C3233244D22}" type="slidenum">
              <a:t>18</a:t>
            </a:fld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c3300"/>
                </a:solidFill>
                <a:uFillTx/>
                <a:latin typeface="Arial Narrow"/>
              </a:rPr>
              <a:t>Conclusiones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Valor de la Factur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ontabl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Tributario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jecutivo o Forzos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apacitación Persona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7A3-BFAA-42BC-9171-510898165F24}" type="slidenum">
              <a:t>19</a:t>
            </a:fld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ueva Copi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 tiene valor tributar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bjetivo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i)  Transferenci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 Cobro  ejecutiv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Nueva obligación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:  Factura original y nueva copi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constancia de la forma de pago de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la factura: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278-5292-49BD-9A0E-8043245A2ED8}" type="slidenum">
              <a:t>2</a:t>
            </a:fld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ontad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 plazo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la recepción de la factura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un plazo desde la recepción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 mercadería o prestación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l  servicio, pudiendo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stablecerse  vencimientos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parciales  y  sucesivos; y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un día fijo y determinad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161-6EB7-45BB-9327-6FC6E6DB1549}" type="slidenum">
              <a:t>3</a:t>
            </a:fld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i nada se dijo respecto al plazo de pago, la factura deb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  pagada  dentro  de  los  30  días  siguientes  a  su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recepción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Art. 1 Inciso 2º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→  “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l  vendedor  o  prestador  d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vicio  deberá  dejar constancia en el  original  de 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actura  y  en  la  copia  indicada en el  inciso anterior, del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stado de pago del precio o remuneración y, en su caso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s modalidades de solución del saldo insoluto”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C6C-DD40-4C56-AFF1-E9F2937B5001}" type="slidenum">
              <a:t>4</a:t>
            </a:fld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CHAZO DE LA FACTURA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volución de la factura con sus guías d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spacho, al momento de la entreg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clamo contra el contenido de la factur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Plazo 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  8 días corridos desde su recepció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 Plazo acordado → no superior 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30 días corri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213-6811-4425-9083-0F092B5AA8D5}" type="slidenum">
              <a:t>5</a:t>
            </a:fld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004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Notificación del Reclam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Carta  certificad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ualquier  otro  modo  fehaciente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0AB-3C2A-4C47-BD99-9E5648DDE89F}" type="slidenum">
              <a:t>6</a:t>
            </a:fld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quisitos para la Cesión de la Factura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98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haya sido emitida de conformidad a las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rmas  que rijan la emisión  de  la  factura  original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ncluyendo  en  su  cuerpo en forma destacada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mención “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cesible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” 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 en  la  misma  conste  el  recibo  de  las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mercaderías entregadas o del servicio prestado;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ndicación del recinto y fecha  de  la  entrega  o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  prestación  del 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7FC-2287-4F96-AFDF-A8C71D08039D}" type="slidenum">
              <a:t>7</a:t>
            </a:fld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98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4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mbre completo, rol único tributario y domicilio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l comprador o beneficiario del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5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dentificación de la persona que recibe, más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irma de éste último →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  presume  que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presenta al comprador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  beneficiario del servicio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a persona  adulta  que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ciba  a  su nombre los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bienes  adquiridos o los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rvicios  presta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4F1-9A9E-4319-9A05-603D3950C69E}" type="slidenum">
              <a:t>8</a:t>
            </a:fld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cc3300"/>
                </a:solidFill>
                <a:uFillTx/>
                <a:latin typeface="Arial Narrow"/>
              </a:rPr>
              <a:t>Libre Circulació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oda  estipulación  que  limite, restrinja  o  prohiba 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libre circulación de un crédito que conste en una factur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 tendrá por no escrit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s también cedible la factura extendida por el comprador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 beneficiario que cumpla con los requisitos antes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ñala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247-EB71-465D-A54C-84EF456DC363}" type="slidenum">
              <a:t>9</a:t>
            </a:fld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20:30:19Z</dcterms:created>
  <dc:creator>Rosita Peralta</dc:creator>
  <dc:description/>
  <dc:language>en-US</dc:language>
  <cp:lastModifiedBy>Alvaro Parra Vergara</cp:lastModifiedBy>
  <dcterms:modified xsi:type="dcterms:W3CDTF">2010-05-17T15:40:03Z</dcterms:modified>
  <cp:revision>33</cp:revision>
  <dc:subject/>
  <dc:title>NUEVA LEY DE FACT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