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20B-B42A-4974-9765-DDFB402CF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9C4-D12B-44BE-82BD-F899DFD8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6EE9-211B-40FA-A26B-90BBCD3C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9ED-CA98-4B08-AD98-48CCAEBDE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A9CF-70E2-4D3F-ABCB-078FA40CD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F032-42C1-4795-A94C-7E5A3408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A8A6-0128-4462-8393-539A3071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A2B7F-6A79-4E6C-AE00-6B16E05E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16064-1129-49C4-B5DC-7D71B34D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76680"/>
            <a:ext cx="86868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5E7B-3BD7-48D6-A276-846A7EFA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3B3B-D7DD-4F97-BEB0-8C3F5B30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7A3B-5006-4BD8-B726-74AA36475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5776-AA89-4D55-964B-9D6CCE6F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1807-0283-406C-82F6-2470F0F0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9C66C-1D13-4935-9920-6A666558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0108-4CDF-4F69-83DA-30C66AC23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107A-85A4-40C7-AFF8-1E377751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AEBC-D787-4FD6-B714-98EF6804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08C-55F3-42D1-85E3-24E397CB9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C2A-7DB1-4783-A8D5-76E927FD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76680"/>
            <a:ext cx="868680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FB95-2E25-4EB5-A656-6C402FA9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F83B-9838-4695-A0A5-BB0F4AA8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FA8-6188-48E5-AF4D-B3FEA7A7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657-D39C-45A2-81E5-91DFBB78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88CD-35AB-481A-9D6C-393997EC8DBB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560" y="2895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FA58-0877-4261-919D-4C086C4F2FFA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Artículo 1º.-  En  toda  operación  de  compraventa, de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prestación de servicios, o en aquellas que la ley asimile 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tales operaciones, en que el  vendedor  o  prestador  del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servicio  esté  sujeto  a  la obligación de emitir  factura,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berá 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 Narrow"/>
              </a:rPr>
              <a:t>emitir  una  copia, sin  valor tributario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, de  la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factura  original, para  los  efectos  de  su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 Narrow"/>
              </a:rPr>
              <a:t>transferencia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 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terceros o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 Narrow"/>
              </a:rPr>
              <a:t>cobro ejecutivo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, según lo dispuesto en est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ley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E038-984B-4C39-A552-9550796755E2}" type="slidenum">
              <a:t>1</a:t>
            </a:fld>
          </a:p>
        </p:txBody>
      </p:sp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3300"/>
                </a:solidFill>
                <a:latin typeface="Arial Black"/>
              </a:rPr>
              <a:t>Cesión del Crédito Contenido en la Factura</a:t>
            </a:r>
            <a:br>
              <a:rPr sz="4000"/>
            </a:b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Traslaticio de Dominio – En Cobranz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Traslaticio de Domini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1.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Firma del Cedente en el anverso de la copia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cedible de la factur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2.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Nombre completo, Rut, domicilio cesionario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3.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Entreg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AD3-55F4-4DA9-8C66-D9EDBE51ED8A}" type="slidenum">
              <a:t>10</a:t>
            </a:fld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3300"/>
                </a:solidFill>
                <a:latin typeface="Arial Black"/>
              </a:rPr>
              <a:t>Notificación Deudor Cedido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63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Notario Público – Oficial Registro Civi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3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3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i)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Personalmente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→ Exhibiendo copia de la factura cedid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33600" indent="-6336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arta certificada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→ por cuenta del cesionario de la factura, adjuntando copias del mismo, certificadas por el ministro de fe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3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esión produce efecto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→  A los  6 días siguientes a l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33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fecha del envío al domicilio indicado en la factur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5556-6231-4DFE-B4C5-52DF311194C7}" type="slidenum">
              <a:t>11</a:t>
            </a:fld>
          </a:p>
        </p:txBody>
      </p:sp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En Cobranz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Firma del cedente en el anverso de la copia cedible de la factur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Expresión “en cobranza” o “valor en cobro”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Entreg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Mandatario Judicial → Amplias facultades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BA05-D1BC-4B84-B328-89CBAFB07940}" type="slidenum">
              <a:t>12</a:t>
            </a:fld>
          </a:p>
        </p:txBody>
      </p:sp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3300"/>
                </a:solidFill>
                <a:latin typeface="Arial Black"/>
              </a:rPr>
              <a:t>Requisitos para que la factura tenga mérito ejecutivo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Que la factura correspondiente no haya sido reclamada de conformidad al artículo 3º de esta ley</a:t>
            </a: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;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603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Que su pago sea actualmente exigible y la acción para su cobro no esté prescrita;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3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c) </a:t>
            </a: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Que en la misma conste el recibo de las mercaderías entregadas o del servicio prestado con indicación  del recinto y fecha de la entrega de las mercaderías o de la prestación del servici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B49C-9CE7-4144-A544-48568FF92E70}" type="slidenum">
              <a:t>13</a:t>
            </a:fld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Nombre  completo, RUT y domicilio del comprador o beneficiario del servicio;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e)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Identificación de  la  persona  que  recibe las mercaderías o el servicio, más la firma de este último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0F05-B685-4A89-8A14-D9A1CF9358F7}" type="slidenum">
              <a:t>14</a:t>
            </a:fld>
          </a:p>
        </p:txBody>
      </p:sp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 Narrow"/>
              </a:rPr>
              <a:t>Obligación del Comprador o Beneficiario: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Otorgar  recibo  en  el  momento  de  la  entrega  real  o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simbólica de las mercaderías o, tratándose de servicios,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al momento de recibir la factur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08E5-E2F4-4867-9330-73433EB670C8}" type="slidenum">
              <a:t>15</a:t>
            </a:fld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FISCALIZACION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↓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SII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↓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MULTA 50% monto factur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DENUNCIA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          con tope de 40 UT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↓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 </a:t>
            </a: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↑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JUEZ POLICIA LOCAL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→</a:t>
            </a:r>
            <a:r>
              <a:rPr b="0" lang="es-ES_tradnl" sz="3200" spc="-1" strike="noStrike">
                <a:solidFill>
                  <a:srgbClr val="cc3300"/>
                </a:solidFill>
                <a:latin typeface="Arial Narrow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1" lang="es-ES_tradnl" sz="3200" spc="-1" strike="noStrike">
                <a:solidFill>
                  <a:srgbClr val="ffffff"/>
                </a:solidFill>
                <a:latin typeface="Arial Narrow"/>
              </a:rPr>
              <a:t>SANCION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132000" y="1915920"/>
            <a:ext cx="1511280" cy="331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203640" y="1916280"/>
            <a:ext cx="1439640" cy="3457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91040" y="1844640"/>
            <a:ext cx="1668240" cy="3417840"/>
          </a:xfrm>
          <a:custGeom>
            <a:avLst/>
            <a:gdLst/>
            <a:ahLst/>
            <a:rect l="l" t="t" r="r" b="b"/>
            <a:pathLst>
              <a:path w="1051" h="2153">
                <a:moveTo>
                  <a:pt x="0" y="2153"/>
                </a:moveTo>
                <a:lnTo>
                  <a:pt x="1051" y="0"/>
                </a:lnTo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203640" y="1915920"/>
            <a:ext cx="1512720" cy="31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7" idx="2"/>
            <a:endCxn id="121" idx="0"/>
          </p:cNvCxnSpPr>
          <p:nvPr/>
        </p:nvCxnSpPr>
        <p:spPr>
          <a:xfrm flipV="1">
            <a:off x="4571640" y="1915920"/>
            <a:ext cx="144720" cy="4332960"/>
          </a:xfrm>
          <a:prstGeom prst="straightConnector1">
            <a:avLst/>
          </a:prstGeom>
          <a:ln w="0">
            <a:noFill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983-9EB6-492F-8471-096F7192F416}" type="slidenum">
              <a:t>16</a:t>
            </a:fld>
          </a:p>
        </p:txBody>
      </p:sp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3300"/>
                </a:solidFill>
                <a:latin typeface="Arial Black"/>
              </a:rPr>
              <a:t>Gestión Preparatoria Mérito Ejecutivo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Notificación Judicial al Deudor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B)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Oposición: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 Acto Notificación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Dentro de tercero dí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C)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Alegaciones o Defensa: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i)  Falsificación material factura o guía de despacho o del recibo del comprador o beneficiario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ii) Falta entrega mercadería o prestación de servici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Tramitación → Incidental →  Resolución que deniegue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560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Apelación sólo efecto devolutivo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E36-8DD4-454E-AA2C-739CFD8E5B92}" type="slidenum">
              <a:t>17</a:t>
            </a:fld>
          </a:p>
        </p:txBody>
      </p:sp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 u="sng">
                <a:solidFill>
                  <a:srgbClr val="ffffff"/>
                </a:solidFill>
                <a:uFillTx/>
                <a:latin typeface="Arial Narrow"/>
              </a:rPr>
              <a:t>Art. 5º Inciso final </a:t>
            </a: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→ “El que  dolosamente impugne  de 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falsedad  cualquiera  de  los  documentos  mencionados 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en  la letra c) y sea  vencido  totalmente  en  el  incidente 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respectivo, será  condenado  al  pago  del  saldo insoluto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y, a  título  de indemnización  de  perjuicios, al  que  una 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suma igual al referido  saldo, más  el  interés  máximo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convencional calculado  sobre  dicha suma, por  el 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tiempo  que  corra  entre  la fecha de la notificación y la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  <a:p>
            <a:pPr marL="329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Arial Narrow"/>
              </a:rPr>
              <a:t>del pago”. </a:t>
            </a:r>
            <a:endParaRPr b="0" lang="en-US" sz="3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5113-5152-4542-AAB6-0A42DE3AA0A8}" type="slidenum">
              <a:t>18</a:t>
            </a:fld>
          </a:p>
        </p:txBody>
      </p:sp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cc3300"/>
                </a:solidFill>
                <a:uFillTx/>
                <a:latin typeface="Arial Narrow"/>
              </a:rPr>
              <a:t>Conclusiones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Valor de la Factur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Contable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Tributario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Ejecutivo o Forzoso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Capacitación Persona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6BC0-14B0-4D40-88BB-B87FA6146549}" type="slidenum">
              <a:t>19</a:t>
            </a:fld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Nueva Copi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No tiene valor tributari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Objetivo: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i)  Transferenci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ii)  Cobro  ejecutiv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Nueva obligación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:  Factura original y nueva copia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constancia de la forma de pago de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la factura: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FC9-43C6-4FB1-9E6F-03EB61FDB89C}" type="slidenum">
              <a:t>2</a:t>
            </a:fld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Contad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→ 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A plazo: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1.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A la recepción de la factura;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2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A un plazo desde la recepción 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 la mercadería o prestación 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l  servicio, pudiendo 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establecerse  vencimientos 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parciales  y  sucesivos; y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3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A un día fijo y determinado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40C-7DD7-4077-9166-1F64898DA867}" type="slidenum">
              <a:t>3</a:t>
            </a:fld>
          </a:p>
        </p:txBody>
      </p:sp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Si nada se dijo respecto al plazo de pago, la factura debe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ser  pagada  dentro  de  los  30  días  siguientes  a  su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recepción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Arial Narrow"/>
              </a:rPr>
              <a:t>Art. 1 Inciso 2º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→  “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El  vendedor  o  prestador  del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servicio  deberá  dejar constancia en el  original  de  l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factura  y  en  la  copia  indicada en el  inciso anterior, del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estado de pago del precio o remuneración y, en su caso,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 las modalidades de solución del saldo insoluto”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3AE-F73C-4D81-B5FB-96BBDECC155E}" type="slidenum">
              <a:t>4</a:t>
            </a:fld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-243360"/>
            <a:ext cx="889308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3300"/>
                </a:solidFill>
                <a:latin typeface="Arial Black"/>
              </a:rPr>
              <a:t>RECHAZO DE LA FACTURA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1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volución de la factura con sus guías de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spacho, al momento de la entreg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2.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Reclamo contra el contenido de la factur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→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Plazo :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i)  8 días corridos desde su recepción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ii)  Plazo acordado → no superior a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     30 días corridos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5A35-6B11-4BA2-9548-07051A6ABF0D}" type="slidenum">
              <a:t>5</a:t>
            </a:fld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30040"/>
            <a:ext cx="86868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ffffff"/>
                </a:solidFill>
                <a:uFillTx/>
                <a:latin typeface="Arial Narrow"/>
              </a:rPr>
              <a:t>Notificación del Reclamo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Carta  certificada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ualquier  otro  modo  fehaciente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89B8-47ED-498F-9C9F-8BC56D754DB1}" type="slidenum">
              <a:t>6</a:t>
            </a:fld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3300"/>
                </a:solidFill>
                <a:latin typeface="Arial Black"/>
              </a:rPr>
              <a:t>Requisitos para la Cesión de la Factura</a:t>
            </a:r>
            <a:endParaRPr b="0" lang="en-US" sz="40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68280"/>
            <a:ext cx="8686800" cy="498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1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Que haya sido emitida de conformidad a las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normas  que rijan la emisión  de  la  factura  original,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incluyendo  en  su  cuerpo en forma destacada l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mención “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 Narrow"/>
              </a:rPr>
              <a:t>cesible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” ;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2.-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Que  en  la  misma  conste  el  recibo  de  las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mercaderías entregadas o del servicio prestado;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3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Indicación del recinto y fecha  de  la  entrega  o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 la  prestación  del  servicio;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3674-801A-4816-9FC9-C3A88903CF15}" type="slidenum">
              <a:t>7</a:t>
            </a:fld>
          </a:p>
        </p:txBody>
      </p:sp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68280"/>
            <a:ext cx="8686800" cy="498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4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Nombre completo, rol único tributario y domicilio 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del comprador o beneficiario del servicio;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5.-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Identificación de la persona que recibe, más la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firma de éste último → </a:t>
            </a: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Se  presume  que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representa al comprador 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o  beneficiario del servicio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la persona  adulta  que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reciba  a  su nombre los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bienes  adquiridos o los 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servicios  prestados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D008-E52C-44AB-8465-2A13AC8925B5}" type="slidenum">
              <a:t>8</a:t>
            </a:fld>
          </a:p>
        </p:txBody>
      </p:sp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686800" cy="128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 u="sng">
                <a:solidFill>
                  <a:srgbClr val="cc3300"/>
                </a:solidFill>
                <a:uFillTx/>
                <a:latin typeface="Arial Narrow"/>
              </a:rPr>
              <a:t>Libre Circulación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Toda  estipulación  que  limite, restrinja  o  prohiba  la 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libre circulación de un crédito que conste en una factura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 Narrow"/>
              </a:rPr>
              <a:t>se tendrá por no escrita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Es también cedible la factura extendida por el comprador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o beneficiario que cumpla con los requisitos antes 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 Narrow"/>
              </a:rPr>
              <a:t>señalados.</a:t>
            </a: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3664-2F21-4C5B-89E4-2756EFCCB62C}" type="slidenum">
              <a:t>9</a:t>
            </a:fld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20:30:19Z</dcterms:created>
  <dc:creator>Rosita Peralta</dc:creator>
  <dc:description/>
  <dc:language>en-US</dc:language>
  <cp:lastModifiedBy>Alvaro Parra Vergara</cp:lastModifiedBy>
  <dcterms:modified xsi:type="dcterms:W3CDTF">2010-05-17T15:40:03Z</dcterms:modified>
  <cp:revision>33</cp:revision>
  <dc:subject/>
  <dc:title>NUEVA LEY DE FACTU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3082</vt:r8>
  </property>
  <property fmtid="{D5CDD505-2E9C-101B-9397-08002B2CF9AE}" pid="3" name="Version">
    <vt:r8>3</vt:r8>
  </property>
</Properties>
</file>