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E4513-53C9-407C-AC98-87D80199A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2EF0A-90EE-463A-A4F2-AA3505A2A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3"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7894F-B570-40FB-82D8-275A940E4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8"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9"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F622B-C0AB-493D-BDC6-446DD795A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794D5-142E-4AA1-B3AA-95BA307CD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C3FA7-5853-4642-9704-CCFBEAF76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53569-3371-4921-9C79-6BB25CF84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365E8-B6FF-40AF-B114-B14A53E22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17ACF-56BB-45D1-8244-5D708CA27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B239F-93D2-4C26-ABAF-F6DC7D407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8749B-C2D3-4C97-AFA8-A5DCE8661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B6800-E638-4630-92D9-BD11903EC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1"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08997-B143-45A4-8CE5-EE34D83D3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5"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7A291-82C3-4DC0-97D3-804D1E2FC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FFDDA-1860-4020-A6A9-A1FD8385E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3"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FEEF1C-857D-4C0D-BC8B-69A400F48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7"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0"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A1F83-BF05-458E-9C79-1825218C4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BDAEDE-7A1B-496D-BBF1-DACBB266E2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1E72E5-BDC4-4FD5-8792-52DCA8DF3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DB6B9-BF9D-4712-8F6D-E7D9D0D3A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7F2EC-1E15-48B4-BF50-A2289BE37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AA351-9FC0-46F7-A2EF-99A505B9B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144A2-7BFC-42CA-B9C0-EA90DA7E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D6F25-44D2-4EAD-A3CD-02DA1BC58C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1AD3D-9741-4E40-8E5C-D677FDC1F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6"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F3F55-FD72-4335-AEF5-8BFD728B1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9"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0"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49C2E-57D0-417A-8919-8799D14FD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3"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B735C-B32F-4A64-BB01-94443736E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8"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D1ED8D-2B59-4911-A7FA-AD30EEBD57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1"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2"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3"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4"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5"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90B162-14AA-40DE-A444-4EE147FF10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677BEA-8279-4821-9CC3-DEF31B5A50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ED97D-61F5-42C5-B976-7AAC310FB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1E9C4-7E19-4726-9986-9523BAE9E6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51F2B-9D5C-4390-B0A7-4B6680EC3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3"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D0FE0-A1FB-4CDD-8312-07E2F10E3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5C2CA-DE89-4CA0-BE83-D81D6F1030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F7AD94-6873-4EBB-86C3-ACDE50635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8"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9"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BC06F-3DF9-4805-AEF0-9D64DCC92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3"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123C7-3F14-41B3-AE69-071D2A811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7"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BAF76-7E9B-4F7B-8CC6-D44587068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0"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381D1A-2261-4268-8ECB-C840CDA6E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4"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5"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A6AC37-27E9-4537-96DC-5E1445C200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8"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9"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0"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1"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2"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D4BF3E-0552-4152-BC1D-64DCCA70B2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D461D-9D35-471A-A251-635BB233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E520A-CE5B-457C-A36B-02900D6DA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0DE3-0D37-4F7C-8AA6-678929531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B71D-71AB-493F-9D59-49EF52E3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4A95-4B42-4CB4-B3F2-B09394571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2813-FE67-422C-96E1-088306090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90DD-A5E0-451C-8CB0-A21B190E4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85" name="PlaceHolder 3"/>
          <p:cNvSpPr>
            <a:spLocks noGrp="1"/>
          </p:cNvSpPr>
          <p:nvPr>
            <p:ph type="dt" idx="7"/>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6899-5827-49FB-87C4-4FFC2F6FBF46}"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88"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12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128"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C4AB-C449-4E6F-929C-A06077E5C499}"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129" name=""/>
          <p:cNvGrpSpPr/>
          <p:nvPr/>
        </p:nvGrpSpPr>
        <p:grpSpPr>
          <a:xfrm>
            <a:off x="0" y="914400"/>
            <a:ext cx="8686800" cy="2514600"/>
            <a:chOff x="0" y="914400"/>
            <a:chExt cx="8686800" cy="2514600"/>
          </a:xfrm>
        </p:grpSpPr>
        <p:sp>
          <p:nvSpPr>
            <p:cNvPr id="130"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1989000"/>
            <a:ext cx="7772400" cy="26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visión digital en Chile; análisis en el marco de las recomendaciones para ingresar a la OECD.</a:t>
            </a:r>
            <a:endParaRPr b="0" lang="en-US" sz="2400" spc="-1" strike="noStrike">
              <a:solidFill>
                <a:srgbClr val="000000"/>
              </a:solidFill>
              <a:latin typeface="Arial"/>
            </a:endParaRPr>
          </a:p>
        </p:txBody>
      </p:sp>
      <p:sp>
        <p:nvSpPr>
          <p:cNvPr id="174" name="PlaceHolder 2"/>
          <p:cNvSpPr>
            <a:spLocks noGrp="1"/>
          </p:cNvSpPr>
          <p:nvPr>
            <p:ph type="subTitle"/>
          </p:nvPr>
        </p:nvSpPr>
        <p:spPr>
          <a:xfrm>
            <a:off x="755280" y="3429000"/>
            <a:ext cx="5638680" cy="273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nálisis de las nuevas regulaciones sobre</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elevisión digital:</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La cobertura e igualdad al acceso.</a:t>
            </a:r>
            <a:endParaRPr b="0"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la concentración del mercado </a:t>
            </a:r>
            <a:endParaRPr b="0" lang="en-US" sz="2000" spc="-1" strike="noStrike">
              <a:solidFill>
                <a:srgbClr val="29292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la eficiencia</a:t>
            </a: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175" name="" descr=""/>
          <p:cNvPicPr/>
          <p:nvPr/>
        </p:nvPicPr>
        <p:blipFill>
          <a:blip r:embed="rId1"/>
          <a:stretch/>
        </p:blipFill>
        <p:spPr>
          <a:xfrm>
            <a:off x="5076720" y="2871720"/>
            <a:ext cx="4067280" cy="398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Focalización del análisis</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a televisión digital, efectuando un análisis que se centrará en el papel que juega precisamente la nueva ley sobre televisión digital respecto a las políticas de desarrollo e innovación que sugiere la OCD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840"/>
            <a:ext cx="7157880" cy="181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Dónde radica la importancia del sector comunicaciones en la región?</a:t>
            </a:r>
            <a:endParaRPr b="0" lang="en-US" sz="36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cimiento de la regió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IC, </a:t>
            </a:r>
            <a:r>
              <a:rPr b="0" i="1" lang="en-US" sz="3200" spc="-1" strike="noStrike">
                <a:solidFill>
                  <a:srgbClr val="292929"/>
                </a:solidFill>
                <a:latin typeface="Arial"/>
              </a:rPr>
              <a:t>transmisión de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 </a:t>
            </a:r>
            <a:r>
              <a:rPr b="0" i="1" lang="en-US" sz="3200" spc="-1" strike="noStrike">
                <a:solidFill>
                  <a:srgbClr val="292929"/>
                </a:solidFill>
                <a:latin typeface="Arial"/>
              </a:rPr>
              <a:t>información y comunicació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desigualdad y la corrupció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enómeno convergencia tecnológica: </a:t>
            </a:r>
            <a:r>
              <a:rPr b="0" lang="en-US" sz="2000" spc="-1" strike="noStrike">
                <a:solidFill>
                  <a:srgbClr val="292929"/>
                </a:solidFill>
                <a:latin typeface="Arial"/>
              </a:rPr>
              <a:t>permitiendo que un mayor grupo de población tenga acceso a la misma información por cualquiera sea el medio del que disponga.  </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80" name="" descr=""/>
          <p:cNvPicPr/>
          <p:nvPr/>
        </p:nvPicPr>
        <p:blipFill>
          <a:blip r:embed="rId1"/>
          <a:stretch/>
        </p:blipFill>
        <p:spPr>
          <a:xfrm>
            <a:off x="6588000" y="1773360"/>
            <a:ext cx="2394000" cy="23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856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Respecto a la situación de Chile y las recomendaciones específicas.</a:t>
            </a:r>
            <a:endParaRPr b="0" lang="en-US" sz="24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iciativas para expandir los conocimientos sobre tecnología digital en la sociedad para de éste modo cerrar la brecha digital </a:t>
            </a:r>
            <a:r>
              <a:rPr b="0" lang="en-US" sz="2800" spc="-1" strike="noStrike">
                <a:solidFill>
                  <a:srgbClr val="292929"/>
                </a:solidFill>
                <a:latin typeface="Wingdings"/>
                <a:ea typeface="Wingdings"/>
              </a:rPr>
              <a:t></a:t>
            </a:r>
            <a:r>
              <a:rPr b="0" lang="en-US" sz="2800" spc="-1" strike="noStrike">
                <a:solidFill>
                  <a:srgbClr val="292929"/>
                </a:solidFill>
                <a:latin typeface="Arial"/>
              </a:rPr>
              <a:t> Cobertura.</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mover políticas que fomenten y protejan la innovación, como a su vez el apoyo a la difusión y acceso al conocimiento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gulación que se ocupe de funcionar como vínculo en la relación </a:t>
            </a:r>
            <a:r>
              <a:rPr b="1" lang="en-US" sz="2800" spc="-1" strike="noStrike">
                <a:solidFill>
                  <a:srgbClr val="292929"/>
                </a:solidFill>
                <a:latin typeface="Arial"/>
              </a:rPr>
              <a:t>concentración-poder de mercado-desempeño</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25992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El caso de la televisión digital</a:t>
            </a:r>
            <a:endParaRPr b="0" lang="en-US" sz="4000" spc="-1" strike="noStrike">
              <a:solidFill>
                <a:srgbClr val="000000"/>
              </a:solidFill>
              <a:latin typeface="Arial"/>
            </a:endParaRPr>
          </a:p>
        </p:txBody>
      </p:sp>
      <p:pic>
        <p:nvPicPr>
          <p:cNvPr id="184" name="" descr=""/>
          <p:cNvPicPr/>
          <p:nvPr/>
        </p:nvPicPr>
        <p:blipFill>
          <a:blip r:embed="rId1"/>
          <a:stretch/>
        </p:blipFill>
        <p:spPr>
          <a:xfrm>
            <a:off x="3708360" y="1989000"/>
            <a:ext cx="4978440" cy="3745080"/>
          </a:xfrm>
          <a:prstGeom prst="rect">
            <a:avLst/>
          </a:prstGeom>
          <a:ln w="0">
            <a:noFill/>
          </a:ln>
        </p:spPr>
      </p:pic>
      <p:sp>
        <p:nvSpPr>
          <p:cNvPr id="185" name=""/>
          <p:cNvSpPr/>
          <p:nvPr/>
        </p:nvSpPr>
        <p:spPr>
          <a:xfrm>
            <a:off x="755640" y="2205000"/>
            <a:ext cx="26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hile, que no  se escapa a este proceso ve está viendo enfrentado a la llegada de la Televisión Digital Terrestre (TVDT), la cual reemplazará gradualmente en el período de casi una década al actual sistema de transmisiones analógicas que funciona en nuestro país desde 195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1.- Proyectos circulantes: regulación legal.</a:t>
            </a:r>
            <a:endParaRPr b="0" lang="en-US" sz="4000" spc="-1" strike="noStrike">
              <a:solidFill>
                <a:srgbClr val="000000"/>
              </a:solidFill>
              <a:latin typeface="Arial"/>
            </a:endParaRPr>
          </a:p>
        </p:txBody>
      </p:sp>
      <p:sp>
        <p:nvSpPr>
          <p:cNvPr id="18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n Chile hay dos proyectos de reforma que el Gobierno ha mandado al Congreso; la ley general televisión 18838 y la ley sobre Televisión nacional de Chile . ¿En qué medida fomentará esto la desconcentración en cuanto a los titulares de las concesiones? ¿Qué influencia tienen las frecuencias que les sean concedidas respecto a incentivar las producciones y emisiones locale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2. La cobertura: ¿fomentando la igualdad?</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antidad de personas que puedan acceder al sustrato material de la tecnología ¿Cómo ayuda en este sentido la elección de la norma ISBD-T japonesa por sobre la europea y la norteamericana?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rá esta tecnología la más idónea para el acceso de todos los chilenos en cuanto a que sea capaz de superar las dificultades geográficas para la radiodifusión televisiva?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eden los nuevos actores hacerse parte en forma igualitaria o al menos equilibrada en los procesos de producción y emisión </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3.3. La concentración</a:t>
            </a:r>
            <a:endParaRPr b="0" lang="en-US" sz="4000" spc="-1" strike="noStrike">
              <a:solidFill>
                <a:srgbClr val="000000"/>
              </a:solidFill>
              <a:latin typeface="Arial"/>
            </a:endParaRPr>
          </a:p>
        </p:txBody>
      </p:sp>
      <p:sp>
        <p:nvSpPr>
          <p:cNvPr id="19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revolución digital en curso y la convergencia digital a la que ésta conduce está aboliendo las especialidades sectoriales</a:t>
            </a:r>
            <a:r>
              <a:rPr b="0" lang="en-US" sz="2000" spc="-1" strike="noStrike">
                <a:solidFill>
                  <a:srgbClr val="292929"/>
                </a:solidFill>
                <a:latin typeface="Arial"/>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concentración en la industria, antes diversificada por sectores o ramas de especialización, y, por otra, a una concentración en las formas de distribució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e qué forma el fenómeno de la concentración de expresará en Chil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é resguardos se han tomado para evitar que se convierta en un fenómeno negativo?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é diferencias mantendrá Chile con respecto a otros países que ya presentan problemas en este sentido al menos según Gustavo Gómez Germano (director del Programa de Legislaciones y Derecho a la Comunicación de AMARC-ALC)?</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4. Eficiencia espectr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studio FUCATEL y  la profesora Lorena Donoso</a:t>
            </a:r>
            <a:r>
              <a:rPr b="0" i="1" lang="en-US" sz="2800" spc="-1" strike="noStrike">
                <a:solidFill>
                  <a:srgbClr val="292929"/>
                </a:solidFill>
                <a:latin typeface="Arial"/>
              </a:rPr>
              <a:t> “La digitalización del espectro televisivo es una de las grandes oportunidades que tenemos como país para introducir mejoras substanciales al modelo de uso de este bien, con rentabilidades sociales efectivas</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3.4.1 como plataforma tecnológica</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3.4.2 Ayuda a la educación</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5:03:13Z</dcterms:created>
  <dc:creator>WinuE</dc:creator>
  <dc:description/>
  <dc:language>en-US</dc:language>
  <cp:lastModifiedBy>WinuE</cp:lastModifiedBy>
  <dcterms:modified xsi:type="dcterms:W3CDTF">2009-10-16T00:29:07Z</dcterms:modified>
  <cp:revision>4</cp:revision>
  <dc:subject/>
  <dc:title>Televisión digital en Chile; análisis en el marco de las recomendaciones para ingresar a la OECD.</dc:title>
</cp:coreProperties>
</file>