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Rounded MT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2C59-B3FF-4CEF-9EA8-6275E6BE3BB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61AD-D105-4CB1-BF4E-0C58007A976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B991-B9E0-4655-9017-A90AF18F4CD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D8AC-13B2-47C3-8E1E-7E546060BA2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ADE2-5487-45E6-955B-5F35FE832E9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3F87-338D-430B-AC64-9E68634D1FC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6755-493C-4D7F-946B-F63A742F00A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1170-57EB-4E7D-84AB-F1173E97555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B11E-98F0-4613-818D-36AB8092E0F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AC75-6EAC-4802-8814-1D3117ABA11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AFEB-EACD-4023-BC6F-6DE4DA55EEB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4B4B-78B7-46DB-BE98-AD09102DBF0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AC4F-D32D-4C95-99C4-EA1A15EBE12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746E-E4B9-4351-8036-D5DB365673D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A77F-BDDD-4DE3-BBDC-EDD4B521CFA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867A-36D6-4E95-BE65-1477CFB6064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7D45-B5CB-4B2A-97D2-95DDBE53B32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1002-1705-4246-B83F-EDBA844D005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EF1E-554B-47A8-BF69-CFB5F3F1C87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9243-6138-41E0-B732-B88119AE873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4F4E-875B-4BBF-B387-26AD3F414CD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44E1-2E6B-40DF-9FFE-B743242F03E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F67F-BEDC-4673-B528-9B0662B9926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3745-C943-48C9-938C-4E252CDDEE0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71B5-CF67-4D2A-9BD4-D39E5BAC7B8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C7C8-8AB6-445C-988D-C4646EDF1D2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6842-728E-470A-958E-A7E5E521FA2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2CD0-7BD7-4076-B5DF-B28A69D6416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A17D-1E1E-4A16-BEA7-22193A6D2CB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B8FB-B809-48AE-9D23-E0155C94866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3405-63E7-4A0B-AA0B-D42D0CB42BC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E26E-1EA9-437C-91C6-53849B74A63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2FDC-A33D-4F23-8C4D-18A00CE4C41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58F7-705C-4E8B-A8AE-5E211E31D0E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F544-C9CA-413A-B390-5172B23CC77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1F10-CB4A-4F92-9282-A7470E7DA39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FCF5-B065-422C-AA53-063F6E0C5C4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87CD-998A-46AB-8021-C5D46786561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E17B9-E447-4313-A9D8-A2A16E78C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57D4-6BCD-4E66-BE95-85ECBCE7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F53F5-2816-4680-895C-0468703DB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77A05-B9C9-45F6-818C-F2FAF9E68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E122-46C2-4110-92AE-32DE94D23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13BFD-372C-4ABB-BC4D-250F8C682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6CCA-5045-4E6A-BA3C-5438AF28A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28E5-297F-4B98-89A9-A528990C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C6C8-8542-4773-9505-D14605E5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07CF-E994-4D2C-A1B2-8CF37E90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BAF2-0D8D-45FE-BC22-17C861EE9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991B4-3D42-4CB8-B119-A79DB924A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4F55-A7B9-44EE-BD9F-4C6358F92712}" type="slidenum">
              <a:rPr b="0" lang="es-ES" sz="1400" spc="-1" strike="noStrike">
                <a:solidFill>
                  <a:srgbClr val="000000"/>
                </a:solidFill>
                <a:latin typeface="Arial"/>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Mercado de Valo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0" y="5661000"/>
            <a:ext cx="4572000" cy="8892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terial preparado por Isabel Arriagada para el Curso de Derecho Penal de la Empresa (Primer Semestre,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spañ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rgen expresiones legislativas a partir de los años 80’s y se va agudizando su necesidad dado el proceso de integración a la comunidad europea. La regulación más completa surge a partir de la Ley Reguladora del Mercado de Valores cuya pieza clave es la Comisión nacional del Mercado de Valor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rices de la regul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principios que ordenan el buen funcionamiento, la integridad  y el equilibrio de los mercad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 en Chile</a:t>
            </a:r>
            <a:endParaRPr b="0" lang="en-US" sz="4400" spc="-1" strike="noStrike">
              <a:solidFill>
                <a:srgbClr val="000000"/>
              </a:solidFill>
              <a:latin typeface="Arial"/>
            </a:endParaRPr>
          </a:p>
        </p:txBody>
      </p:sp>
      <p:pic>
        <p:nvPicPr>
          <p:cNvPr id="71" name="Picture 4" descr=""/>
          <p:cNvPicPr/>
          <p:nvPr/>
        </p:nvPicPr>
        <p:blipFill>
          <a:blip r:embed="rId1"/>
          <a:srcRect l="13834" t="11811" r="13834" b="3937"/>
          <a:stretch/>
        </p:blipFill>
        <p:spPr>
          <a:xfrm>
            <a:off x="539640" y="162864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Qué se regula por la ley de mercado de valores? (art. 1º ley 18.04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oferta pública de valores, los mercados en que se realizan tales ofertas, los intermediarios de valores, los emisores de oferta pública, los instrumentos de oferta pública, los mercados secundarios de valores, transacciones de valores y las acciones de las sociedades anónimas abiertas y en comand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ignifica participar en el mercado de valore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emis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inversionist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icipación del inversionista significa, en gran medida, especular sobre el futuro de la empresa financ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9"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importancia de la inform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valor de un papel se determina por los flujos futuros que el emisor de ese papel alcanzará. El nexo que permite conocer esos flujos futuros es la </a:t>
            </a:r>
            <a:r>
              <a:rPr b="0" lang="es-MX" sz="3200" spc="-1" strike="noStrike" u="sng">
                <a:solidFill>
                  <a:srgbClr val="000000"/>
                </a:solidFill>
                <a:uFillTx/>
                <a:latin typeface="Arial"/>
              </a:rPr>
              <a:t>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hipótesis de los mercados eficien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os activos reflejan permanentemente toda la información disponible y, en ese sentido, la valoración de mercado es correcta y racion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3"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ta de los precios inform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ones y Asimetría en la información: El ruido y la información privilegiad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brecha temporal entre el evento y su anunc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yecto de L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a:t>
            </a:r>
            <a:r>
              <a:rPr b="1" i="1" lang="es-MX" sz="2800" spc="-1" strike="noStrike">
                <a:solidFill>
                  <a:srgbClr val="000000"/>
                </a:solidFill>
                <a:latin typeface="Arial"/>
              </a:rPr>
              <a:t>Tratándose de los estados financieros, para los efectos de lo dispuesto en los artículos siguientes, éstos tendrán siempre el carácter de información privilegiada hasta treinta días después que hayan sido entregados a la Superintendencia de Valores y Seg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Economía</a:t>
            </a:r>
            <a:endParaRPr b="0" lang="en-US" sz="4400" spc="-1" strike="noStrike">
              <a:solidFill>
                <a:srgbClr val="000000"/>
              </a:solidFill>
              <a:latin typeface="Arial"/>
            </a:endParaRPr>
          </a:p>
        </p:txBody>
      </p:sp>
      <p:sp>
        <p:nvSpPr>
          <p:cNvPr id="51" name="PlaceHolder 2"/>
          <p:cNvSpPr>
            <a:spLocks noGrp="1"/>
          </p:cNvSpPr>
          <p:nvPr>
            <p:ph/>
          </p:nvPr>
        </p:nvSpPr>
        <p:spPr>
          <a:xfrm>
            <a:off x="104292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neamientos Constitu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conomía de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ortancia del Mercado de Capit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47313" t="22146" r="19368" b="11319"/>
          <a:stretch/>
        </p:blipFill>
        <p:spPr>
          <a:xfrm>
            <a:off x="866880" y="404640"/>
            <a:ext cx="772956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88"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Hacer creer que la empresa va bien”</a:t>
            </a:r>
            <a:endParaRPr b="0" lang="en-US" sz="3600" spc="-1" strike="noStrike">
              <a:solidFill>
                <a:srgbClr val="000000"/>
              </a:solidFill>
              <a:latin typeface="Arial"/>
            </a:endParaRPr>
          </a:p>
          <a:p>
            <a:pPr marL="53352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Saber que la empresa va bien (o m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gn="just">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Hacer creer que la empresa va bien”: Caso Enron (maquillaje de balances financieros) y Caso Schwager (difusión de información tendenciosa- Chis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rtículo 61 LMV. El que con el objeto de inducir a error en el mercado de valores difunda </a:t>
            </a:r>
            <a:r>
              <a:rPr b="1" lang="es-ES" sz="2000" spc="-1" strike="noStrike" u="sng">
                <a:solidFill>
                  <a:srgbClr val="000000"/>
                </a:solidFill>
                <a:uFillTx/>
                <a:latin typeface="Arial"/>
              </a:rPr>
              <a:t>información falsa o tendenciosa</a:t>
            </a:r>
            <a:r>
              <a:rPr b="0" lang="es-ES" sz="2000" spc="-1" strike="noStrike">
                <a:solidFill>
                  <a:srgbClr val="000000"/>
                </a:solidFill>
                <a:latin typeface="Arial"/>
              </a:rPr>
              <a:t>, aun cuando no persiga con ello obtener ventajas o beneficios para sí o terceros, sufrirá la pena de presidio menor en sus grados mínimo a me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9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Saber que la empresa va bien”: Uso de información privilegiada. Distincion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400" spc="-1" strike="noStrike">
                <a:solidFill>
                  <a:srgbClr val="000000"/>
                </a:solidFill>
                <a:latin typeface="Arial"/>
              </a:rPr>
              <a:t>Artículo 164.- Para los efectos de esta ley, se entiende por información privilegiada cualquier información referida a uno o varios emisores de valores, a sus negocios o a uno o varios valores por ellos emitidos, no divulgada al mercado y cuyo conocimiento, por su naturaleza, sea capaz de influir en la cotización de los valores emitidos, como asimismo, la información reservada a que se refiere el artículo 10 de esta ley.</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rcado de Valores: Respuestas</a:t>
            </a:r>
            <a:endParaRPr b="0" lang="en-US" sz="4000" spc="-1" strike="noStrike">
              <a:solidFill>
                <a:srgbClr val="000000"/>
              </a:solidFill>
              <a:latin typeface="Arial"/>
            </a:endParaRPr>
          </a:p>
        </p:txBody>
      </p:sp>
      <p:sp>
        <p:nvSpPr>
          <p:cNvPr id="94"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la información tendenciosa se requiere, entre otros, fiscalización y regulación de gobiernos corporativos, entre otros.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el uso de información privilegiada se requiere, entre otros,  publicidad, verificación y reducción de costos de la información.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idad de la Información: </a:t>
            </a:r>
            <a:br>
              <a:rPr sz="3200"/>
            </a:br>
            <a:r>
              <a:rPr b="1" lang="es-ES" sz="3200" spc="-1" strike="noStrike">
                <a:solidFill>
                  <a:srgbClr val="000000"/>
                </a:solidFill>
                <a:latin typeface="Arial"/>
              </a:rPr>
              <a:t>Tres requisitos de la información Privilegiada</a:t>
            </a:r>
            <a:endParaRPr b="0" lang="en-US" sz="3200" spc="-1" strike="noStrike">
              <a:solidFill>
                <a:srgbClr val="000000"/>
              </a:solidFill>
              <a:latin typeface="Arial"/>
            </a:endParaRPr>
          </a:p>
        </p:txBody>
      </p:sp>
      <p:sp>
        <p:nvSpPr>
          <p:cNvPr id="96" name="PlaceHolder 2"/>
          <p:cNvSpPr>
            <a:spLocks noGrp="1"/>
          </p:cNvSpPr>
          <p:nvPr>
            <p:ph/>
          </p:nvPr>
        </p:nvSpPr>
        <p:spPr>
          <a:xfrm>
            <a:off x="395280" y="1268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lquier Información (Caso Banco de Chil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divulgada al Mercado (Proyecto de Le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yo conocimiento, por su naturaleza, sea capaz de influir la cotización de valores emitid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24000" y="148428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antiago, 23 de septiembre de 2003.</a:t>
            </a: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APELARÁ EN CASO BANCO DE CHILE</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apelará hoy ante los tribunales de segunda instancia de Santiago, solicitando que se confirme la multa que aplicó a siete integrantes del anterior pacto controlador del Banco de Chile por uso de información privilegiad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os argumentos sostenidos por la SVS están destinados a probar el uso de información privilegiada por parte de los reclamantes en la compra de acciones del Banco de Chile realizada antes de la toma de control del banco por parte del grupo Luksic.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abe recordar que la ley establece que </a:t>
            </a:r>
            <a:r>
              <a:rPr b="1" lang="es-ES" sz="1800" spc="-1" strike="noStrike" u="sng">
                <a:solidFill>
                  <a:srgbClr val="000000"/>
                </a:solidFill>
                <a:uFillTx/>
                <a:latin typeface="Arial Rounded MT Bold"/>
              </a:rPr>
              <a:t>cualquier información, sea un hecho consumado, una posibilidad, una intención o cualquier otro antecedente preciso, real, concreto e idóneo</a:t>
            </a:r>
            <a:r>
              <a:rPr b="0" lang="es-ES" sz="1800" spc="-1" strike="noStrike">
                <a:solidFill>
                  <a:srgbClr val="000000"/>
                </a:solidFill>
                <a:latin typeface="Arial Rounded MT Bold"/>
              </a:rPr>
              <a:t> que afecte la cotización de un título en el mercado es información privilegiada. Y no exige que ella conste en un acuerdo de directorio, en algún documento o en algún medio escrito.</a:t>
            </a:r>
            <a:endParaRPr b="0" lang="en-US" sz="1800" spc="-1" strike="noStrike">
              <a:solidFill>
                <a:srgbClr val="000000"/>
              </a:solidFill>
              <a:latin typeface="Arial Rounded MT Bold"/>
            </a:endParaRPr>
          </a:p>
        </p:txBody>
      </p:sp>
      <p:pic>
        <p:nvPicPr>
          <p:cNvPr id="98" name="Picture 5" descr=""/>
          <p:cNvPicPr/>
          <p:nvPr/>
        </p:nvPicPr>
        <p:blipFill>
          <a:blip r:embed="rId1"/>
          <a:stretch/>
        </p:blipFill>
        <p:spPr>
          <a:xfrm>
            <a:off x="468360" y="260280"/>
            <a:ext cx="8496360" cy="792360"/>
          </a:xfrm>
          <a:prstGeom prst="rect">
            <a:avLst/>
          </a:prstGeom>
          <a:ln w="0">
            <a:noFill/>
          </a:ln>
        </p:spPr>
      </p:pic>
      <p:sp>
        <p:nvSpPr>
          <p:cNvPr id="99" name="Text Box 6"/>
          <p:cNvSpPr/>
          <p:nvPr/>
        </p:nvSpPr>
        <p:spPr>
          <a:xfrm>
            <a:off x="1403280" y="1125360"/>
            <a:ext cx="720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aso Banco de Chile</a:t>
            </a:r>
            <a:endParaRPr b="0" lang="en-US" sz="2000" spc="-1" strike="noStrike">
              <a:solidFill>
                <a:srgbClr val="000000"/>
              </a:solidFill>
              <a:latin typeface="Arial Rounded MT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280" y="1600200"/>
            <a:ext cx="8785440" cy="499752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 Chispas: El negocio del Siglo</a:t>
            </a:r>
            <a:endParaRPr b="0" lang="en-US" sz="20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8 de Julio de 2004.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RTE DE APELACIONES CONFIRMA PLENAMENTE RESOLUCIONES DE LA SVS EN CASO CHISPAS: La SVS confía que la I. Corte Suprema ratificará la decisión y seguirá perfeccionando las normas sobre Gobiernos Corporativos para prevenir este tipo de accione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La Segunda Sala de la Corte de Apelaciones determinó hoy que el empresario José Yuraszeck y cinco de sus socios deberán pagar al Estado chileno las multas aplicadas por la SVS por contravenir las normas de la Ley de Sociedades Anónimas (LSA) en el marco del denominado caso Chispa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s acusaciones: </a:t>
            </a:r>
            <a:r>
              <a:rPr b="0" lang="es-ES" sz="1600" spc="-1" strike="noStrike">
                <a:solidFill>
                  <a:srgbClr val="000000"/>
                </a:solidFill>
                <a:latin typeface="Arial"/>
              </a:rPr>
              <a:t>Los cargos formulados por la Superintendencia de Valores y Seguros a los gestores claves (Yuraszeck, Zylberberg, Mackenna, Brito, Molina y Gardella) , consisten en haber resuelto indebidamente los conflictos de interés que enfrentaron desde sus respectivos cargos al </a:t>
            </a:r>
            <a:r>
              <a:rPr b="1" lang="es-ES" sz="1600" spc="-1" strike="noStrike">
                <a:solidFill>
                  <a:srgbClr val="000000"/>
                </a:solidFill>
                <a:latin typeface="Arial"/>
              </a:rPr>
              <a:t>promover, negociar y cerrar, a través de la suscripción de un conjunto de contratos, la operación comercial destinada a materializar el ingreso de la sociedad española Endesa S. A.</a:t>
            </a:r>
            <a:r>
              <a:rPr b="0" lang="es-ES" sz="1600" spc="-1" strike="noStrike">
                <a:solidFill>
                  <a:srgbClr val="000000"/>
                </a:solidFill>
                <a:latin typeface="Arial"/>
              </a:rPr>
              <a:t> (Endesa España) como nuevo accionista controlador de Enersis, pero permaneciendo los "Gestores Clave" encabezados por el señor Yuraszeck al frente de la administración del grupo Enersis, pero ahora administrándola y ejerciendo su control en función y defensa de los intereses del nuevo accionista controlador, Endesa España.</a:t>
            </a:r>
            <a:endParaRPr b="0" lang="en-US" sz="1600" spc="-1" strike="noStrike">
              <a:solidFill>
                <a:srgbClr val="000000"/>
              </a:solidFill>
              <a:latin typeface="Arial"/>
            </a:endParaRPr>
          </a:p>
        </p:txBody>
      </p:sp>
      <p:pic>
        <p:nvPicPr>
          <p:cNvPr id="101" name="Picture 6" descr=""/>
          <p:cNvPicPr/>
          <p:nvPr/>
        </p:nvPicPr>
        <p:blipFill>
          <a:blip r:embed="rId1"/>
          <a:stretch/>
        </p:blipFill>
        <p:spPr>
          <a:xfrm>
            <a:off x="539640" y="338040"/>
            <a:ext cx="8353440" cy="85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3" name="PlaceHolder 2"/>
          <p:cNvSpPr>
            <a:spLocks noGrp="1"/>
          </p:cNvSpPr>
          <p:nvPr>
            <p:ph/>
          </p:nvPr>
        </p:nvSpPr>
        <p:spPr>
          <a:xfrm>
            <a:off x="324000" y="1052280"/>
            <a:ext cx="8229600" cy="36003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Deber de no divulgar información privilegiada:</a:t>
            </a:r>
            <a:r>
              <a:rPr b="0" lang="es-ES" sz="3200" spc="-1" strike="noStrike">
                <a:solidFill>
                  <a:srgbClr val="000000"/>
                </a:solidFill>
                <a:latin typeface="Arial"/>
              </a:rPr>
              <a:t> Art. 165 “Cualquier persona que en razón de su cargo, posición, actividad o relación tenga acceso a información privilegiada </a:t>
            </a:r>
            <a:r>
              <a:rPr b="1" lang="es-ES" sz="3200" spc="-1" strike="noStrike">
                <a:solidFill>
                  <a:srgbClr val="000000"/>
                </a:solidFill>
                <a:latin typeface="Arial"/>
              </a:rPr>
              <a:t>deberá guardar estricta reserva (…)</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04" name="Text Box 4"/>
          <p:cNvSpPr/>
          <p:nvPr/>
        </p:nvSpPr>
        <p:spPr>
          <a:xfrm>
            <a:off x="971640" y="4941720"/>
            <a:ext cx="777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 h): El que </a:t>
            </a:r>
            <a:r>
              <a:rPr b="1" lang="es-ES" sz="1800" spc="-1" strike="noStrike" u="sng">
                <a:solidFill>
                  <a:srgbClr val="000000"/>
                </a:solidFill>
                <a:uFillTx/>
                <a:latin typeface="Arial Rounded MT Bold"/>
              </a:rPr>
              <a:t>revele</a:t>
            </a:r>
            <a:r>
              <a:rPr b="0" lang="es-ES" sz="1800" spc="-1" strike="noStrike">
                <a:solidFill>
                  <a:srgbClr val="000000"/>
                </a:solidFill>
                <a:latin typeface="Arial Rounded MT Bold"/>
              </a:rPr>
              <a:t> información privilegiada, con objeto de obtener un beneficio pecuniario o evitar una pérdida, tanto para sí como para terceros, en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 D&amp;S Falabella</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79280" y="260280"/>
            <a:ext cx="8702640" cy="1095480"/>
          </a:xfrm>
          <a:prstGeom prst="rect">
            <a:avLst/>
          </a:prstGeom>
          <a:ln w="0">
            <a:noFill/>
          </a:ln>
        </p:spPr>
      </p:pic>
      <p:sp>
        <p:nvSpPr>
          <p:cNvPr id="107" name="Text Box 5"/>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HACE PÚBLICA SANCIÓN POR USO DE INFORMACIÓN PRIVILEGIADA EN COMPRA DE ACCIONES E INCUMPLIMIENTO DE DEBER DE RESERV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SVS) resolvió aplicar tres sanciones por incumplimiento del deber de reserva y cinco por uso de información privilegiada, ambas figuras contenidas en la Ley de Mercado de Valores, originadas a raíz de la negociación de acuerdo de fusión de las sociedades Falabella y D&amp;S, anunciado públicamente el 17 de mayo de 2007.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3"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 “Conjunto de mercados formales e informales que </a:t>
            </a:r>
            <a:r>
              <a:rPr b="0" lang="es-MX" sz="3200" spc="-1" strike="noStrike">
                <a:solidFill>
                  <a:srgbClr val="000000"/>
                </a:solidFill>
                <a:latin typeface="Arial"/>
              </a:rPr>
              <a:t>permite contacto fluido entre quienes tienen déficit y superávit de ahorro por medio de la transferencia de instrumentos financie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9" name="PlaceHolder 2"/>
          <p:cNvSpPr>
            <a:spLocks noGrp="1"/>
          </p:cNvSpPr>
          <p:nvPr>
            <p:ph/>
          </p:nvPr>
        </p:nvSpPr>
        <p:spPr>
          <a:xfrm>
            <a:off x="324000" y="907920"/>
            <a:ext cx="8229600" cy="360072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a:t>
            </a:r>
            <a:r>
              <a:rPr b="1" lang="es-ES" sz="2800" spc="-1" strike="noStrike" u="sng">
                <a:solidFill>
                  <a:srgbClr val="000000"/>
                </a:solidFill>
                <a:uFillTx/>
                <a:latin typeface="Arial"/>
              </a:rPr>
              <a:t>Deber de no operar con  información privilegiada:</a:t>
            </a:r>
            <a:r>
              <a:rPr b="0" lang="es-ES" sz="2800" spc="-1" strike="noStrike">
                <a:solidFill>
                  <a:srgbClr val="000000"/>
                </a:solidFill>
                <a:latin typeface="Arial"/>
              </a:rPr>
              <a:t> Art. 165 “Cualquier persona que en razón de su cargo, posición, actividad o relación tenga acceso a información privilegiada (…) </a:t>
            </a:r>
            <a:r>
              <a:rPr b="1" lang="es-ES" sz="2800" spc="-1" strike="noStrike">
                <a:solidFill>
                  <a:srgbClr val="000000"/>
                </a:solidFill>
                <a:latin typeface="Arial"/>
              </a:rPr>
              <a:t>no podrá utilizarla en beneficio propio o ajeno ni adquirir para sí ni para terceros, directa o indirectamente, los valores sobre los cuales posea información privilegiada”</a:t>
            </a:r>
            <a:endParaRPr b="0" lang="en-US" sz="2800" spc="-1" strike="noStrike">
              <a:solidFill>
                <a:srgbClr val="000000"/>
              </a:solidFill>
              <a:latin typeface="Arial"/>
            </a:endParaRPr>
          </a:p>
        </p:txBody>
      </p:sp>
      <p:sp>
        <p:nvSpPr>
          <p:cNvPr id="110" name="Text Box 4"/>
          <p:cNvSpPr/>
          <p:nvPr/>
        </p:nvSpPr>
        <p:spPr>
          <a:xfrm>
            <a:off x="971640" y="4724280"/>
            <a:ext cx="777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s e): : Las personas a que se refiere el art. 166 que (…) </a:t>
            </a:r>
            <a:r>
              <a:rPr b="1" lang="es-ES" sz="1800" spc="-1" strike="noStrike" u="sng">
                <a:solidFill>
                  <a:srgbClr val="000000"/>
                </a:solidFill>
                <a:uFillTx/>
                <a:latin typeface="Arial Rounded MT Bold"/>
              </a:rPr>
              <a:t>usaren</a:t>
            </a:r>
            <a:r>
              <a:rPr b="0" lang="es-ES" sz="1800" spc="-1" strike="noStrike">
                <a:solidFill>
                  <a:srgbClr val="000000"/>
                </a:solidFill>
                <a:latin typeface="Arial Rounded MT Bold"/>
              </a:rPr>
              <a:t> deliberadamente información privilegiada. </a:t>
            </a:r>
            <a:endParaRPr b="0" lang="en-US" sz="1800" spc="-1" strike="noStrike">
              <a:solidFill>
                <a:srgbClr val="000000"/>
              </a:solidFill>
              <a:latin typeface="Arial Rounded MT Bol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rt. 60 letra g): El que </a:t>
            </a:r>
            <a:r>
              <a:rPr b="1" lang="es-ES" sz="1800" spc="-1" strike="noStrike" u="sng">
                <a:solidFill>
                  <a:srgbClr val="000000"/>
                </a:solidFill>
                <a:uFillTx/>
                <a:latin typeface="Arial Rounded MT Bold"/>
              </a:rPr>
              <a:t>valiéndose</a:t>
            </a:r>
            <a:r>
              <a:rPr b="0" lang="es-ES" sz="1800" spc="-1" strike="noStrike">
                <a:solidFill>
                  <a:srgbClr val="000000"/>
                </a:solidFill>
                <a:latin typeface="Arial Rounded MT Bold"/>
              </a:rPr>
              <a:t> de información privilegiada ejecute un acto (…) mediante cualquier tipo de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12" name="PlaceHolder 2"/>
          <p:cNvSpPr>
            <a:spLocks noGrp="1"/>
          </p:cNvSpPr>
          <p:nvPr>
            <p:ph/>
          </p:nvPr>
        </p:nvSpPr>
        <p:spPr>
          <a:xfrm>
            <a:off x="324000" y="1483920"/>
            <a:ext cx="8229600" cy="3600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a:t>
            </a:r>
            <a:r>
              <a:rPr b="1" lang="es-ES" sz="2800" spc="-1" strike="noStrike" u="sng">
                <a:solidFill>
                  <a:srgbClr val="000000"/>
                </a:solidFill>
                <a:uFillTx/>
                <a:latin typeface="Arial"/>
              </a:rPr>
              <a:t>Deber de no recomendar estando en posesión de información privilegiada:</a:t>
            </a:r>
            <a:r>
              <a:rPr b="1" lang="es-ES" sz="2800" spc="-1" strike="noStrike">
                <a:solidFill>
                  <a:srgbClr val="000000"/>
                </a:solidFill>
                <a:latin typeface="Arial"/>
              </a:rPr>
              <a:t> </a:t>
            </a:r>
            <a:r>
              <a:rPr b="0" lang="es-ES" sz="2800" spc="-1" strike="noStrike">
                <a:solidFill>
                  <a:srgbClr val="000000"/>
                </a:solidFill>
                <a:latin typeface="Arial"/>
              </a:rPr>
              <a:t>Art. 165 “Se abstendrán de (…) recomendar la adquisición o enajenación de los valores citados, velando para que esto tampoco ocurra a través de sus subordinados o terceros de su confia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precisiones al art. 165. </a:t>
            </a:r>
            <a:endParaRPr b="0" lang="en-US" sz="4400" spc="-1" strike="noStrike">
              <a:solidFill>
                <a:srgbClr val="000000"/>
              </a:solidFill>
              <a:latin typeface="Arial"/>
            </a:endParaRPr>
          </a:p>
        </p:txBody>
      </p:sp>
      <p:sp>
        <p:nvSpPr>
          <p:cNvPr id="114" name="PlaceHolder 2"/>
          <p:cNvSpPr>
            <a:spLocks noGrp="1"/>
          </p:cNvSpPr>
          <p:nvPr>
            <p:ph/>
          </p:nvPr>
        </p:nvSpPr>
        <p:spPr>
          <a:xfrm>
            <a:off x="395280" y="1197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l propietario de la información (la función social de la propiedad).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 personas jurídicas (Proyecto en Tramitació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 la técnica legislativ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l círculos de sujetos activos: Insider Trading.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sider Trading</a:t>
            </a:r>
            <a:endParaRPr b="0" lang="en-US" sz="4800" spc="-1" strike="noStrike">
              <a:solidFill>
                <a:srgbClr val="000000"/>
              </a:solidFill>
              <a:latin typeface="Arial"/>
            </a:endParaRPr>
          </a:p>
        </p:txBody>
      </p:sp>
      <p:sp>
        <p:nvSpPr>
          <p:cNvPr id="116" name="PlaceHolder 2"/>
          <p:cNvSpPr>
            <a:spLocks noGrp="1"/>
          </p:cNvSpPr>
          <p:nvPr>
            <p:ph/>
          </p:nvPr>
        </p:nvSpPr>
        <p:spPr>
          <a:xfrm>
            <a:off x="468360" y="177336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5"/>
          <p:cNvSpPr/>
          <p:nvPr/>
        </p:nvSpPr>
        <p:spPr>
          <a:xfrm>
            <a:off x="250920" y="1773360"/>
            <a:ext cx="8642160" cy="369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Quién tiene información privilegiada?</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Amplio</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Restringido (cargo, posición actividad o relación)</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siders at second hand o Tippees</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orías sobre el tipo de vinculación</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Acceso Igualitario</a:t>
            </a:r>
            <a:r>
              <a:rPr b="0" lang="es-ES" sz="3200" spc="-1" strike="noStrike">
                <a:solidFill>
                  <a:srgbClr val="000000"/>
                </a:solidFill>
                <a:latin typeface="Arial"/>
              </a:rPr>
              <a:t> (Deber de veracidad o de abstención: </a:t>
            </a:r>
            <a:r>
              <a:rPr b="0" i="1" lang="es-ES" sz="3200" spc="-1" strike="noStrike">
                <a:solidFill>
                  <a:srgbClr val="000000"/>
                </a:solidFill>
                <a:latin typeface="Arial"/>
              </a:rPr>
              <a:t>disclose or refrain duty</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deber de confianza</a:t>
            </a:r>
            <a:r>
              <a:rPr b="0" lang="es-ES" sz="3200" spc="-1" strike="noStrike">
                <a:solidFill>
                  <a:srgbClr val="000000"/>
                </a:solidFill>
                <a:latin typeface="Arial"/>
              </a:rPr>
              <a:t> (Caso Chiarella versus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 la apropiación indebida</a:t>
            </a:r>
            <a:r>
              <a:rPr b="0" lang="es-ES" sz="3200" spc="-1" strike="noStrike">
                <a:solidFill>
                  <a:srgbClr val="000000"/>
                </a:solidFill>
                <a:latin typeface="Arial"/>
              </a:rPr>
              <a:t> (De acuerdo al modo de obtener la informació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10920" y="188640"/>
            <a:ext cx="8280360" cy="86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 necesario regular al insider trading ?</a:t>
            </a:r>
            <a:endParaRPr b="0" lang="en-US" sz="2800" spc="-1" strike="noStrike">
              <a:solidFill>
                <a:srgbClr val="000000"/>
              </a:solidFill>
              <a:latin typeface="Arial"/>
            </a:endParaRPr>
          </a:p>
        </p:txBody>
      </p:sp>
      <p:graphicFrame>
        <p:nvGraphicFramePr>
          <p:cNvPr id="121" name=""/>
          <p:cNvGraphicFramePr/>
          <p:nvPr/>
        </p:nvGraphicFramePr>
        <p:xfrm>
          <a:off x="395280" y="1268280"/>
          <a:ext cx="8352000" cy="5051520"/>
        </p:xfrm>
        <a:graphic>
          <a:graphicData uri="http://schemas.openxmlformats.org/drawingml/2006/table">
            <a:tbl>
              <a:tblPr/>
              <a:tblGrid>
                <a:gridCol w="4176720"/>
                <a:gridCol w="4175280"/>
              </a:tblGrid>
              <a:tr h="344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in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ay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con rápidos ajuste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excluyente y contrario a la igualdad del acceso a la información</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 beneficia a todos los accionista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s debiera beneficiar a la empresa, pero termina beneficiando al insider</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l insider provienen de su trabajo y astucia</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bieran provenir de cálculos  accesibles a todo públic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le vende sus acciones al insider igualmente lo hubiera hech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os debiesen contar con igual información, aunque igualmente las hubiera vendid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los riesgos del negoci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iesgo se asume concientemente siempre y cuando el negocio bursátil presuponga igualdad de oportunidades  (Insider sin riesgos)</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dicados determinado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ito de Peligro Abstracto: Ocasionar perjuicios patrimoniales individuales lesiona el mercado de capitales: Un mercado que no ofrece oportunidades efectivas al inversor, es evitado por este.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anción infringiría el principio de ultima ratio (bien jurídico difus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icios difusos, sino la protección de órdenes financieros que posibilitan desarrollos individuales.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problema de la acción penal mixta</a:t>
            </a:r>
            <a:endParaRPr b="0" lang="en-US" sz="4000" spc="-1" strike="noStrike">
              <a:solidFill>
                <a:srgbClr val="000000"/>
              </a:solidFill>
              <a:latin typeface="Arial"/>
            </a:endParaRPr>
          </a:p>
        </p:txBody>
      </p:sp>
      <p:sp>
        <p:nvSpPr>
          <p:cNvPr id="1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rt. 58 de la LMV establece que “cuando, en el ejercicio de sus funciones, los funcionarios de la Superintendencia tomen conocimiento de hechos que pudieran ser constitutivos de delito … el plazo de 24 horas  a que se refiere el art. 176 del Código Procesal Penal (para hacer la denuncia) sólo se contará </a:t>
            </a:r>
            <a:r>
              <a:rPr b="1" lang="es-ES" sz="2400" spc="-1" strike="noStrike" u="sng">
                <a:solidFill>
                  <a:srgbClr val="000000"/>
                </a:solidFill>
                <a:uFillTx/>
                <a:latin typeface="Arial"/>
              </a:rPr>
              <a:t>desde que la Superintendencia haya efectuado la investigación correspondiente que le permita confirmar la existencia de tales hechos</a:t>
            </a:r>
            <a:r>
              <a:rPr b="0" lang="es-ES" sz="2400" spc="-1" strike="noStrike">
                <a:solidFill>
                  <a:srgbClr val="000000"/>
                </a:solidFill>
                <a:latin typeface="Arial"/>
              </a:rPr>
              <a:t> y de sus circunstancias, todo sin perjuicio de las sanciones administrativas que pudiere aplicar por esas mismas situ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so D&amp;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asado en lo que establece el Artículo 58 de la Ley de Mercado de Valores, </a:t>
            </a:r>
            <a:r>
              <a:rPr b="1" lang="es-ES" sz="2800" spc="-1" strike="noStrike" u="sng">
                <a:solidFill>
                  <a:srgbClr val="000000"/>
                </a:solidFill>
                <a:uFillTx/>
                <a:latin typeface="Arial"/>
              </a:rPr>
              <a:t>esta Superintendencia ha estimado pertinente poner a disposición de la Fiscalía correspondiente los antecedentes relativos a los casos de uso de información privilegiada que fueron resueltos</a:t>
            </a:r>
            <a:r>
              <a:rPr b="0" lang="es-ES" sz="2800" spc="-1" strike="noStrike">
                <a:solidFill>
                  <a:srgbClr val="000000"/>
                </a:solidFill>
                <a:latin typeface="Arial"/>
              </a:rPr>
              <a:t>. Sin perjuicio de ello, en el marco penal vigente el Ministerio Público puede iniciar de oficio una investigación en materia de uso de información privilegiada cuando lo estime pertinente.</a:t>
            </a:r>
            <a:endParaRPr b="0" lang="en-US" sz="2800" spc="-1" strike="noStrike">
              <a:solidFill>
                <a:srgbClr val="000000"/>
              </a:solidFill>
              <a:latin typeface="Arial"/>
            </a:endParaRPr>
          </a:p>
        </p:txBody>
      </p:sp>
      <p:pic>
        <p:nvPicPr>
          <p:cNvPr id="125" name="Picture 4" descr=""/>
          <p:cNvPicPr/>
          <p:nvPr/>
        </p:nvPicPr>
        <p:blipFill>
          <a:blip r:embed="rId1"/>
          <a:stretch/>
        </p:blipFill>
        <p:spPr>
          <a:xfrm>
            <a:off x="324000" y="274680"/>
            <a:ext cx="835164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5" name="PlaceHolder 2"/>
          <p:cNvSpPr>
            <a:spLocks noGrp="1"/>
          </p:cNvSpPr>
          <p:nvPr>
            <p:ph/>
          </p:nvPr>
        </p:nvSpPr>
        <p:spPr>
          <a:xfrm>
            <a:off x="468360" y="2565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Qué mercados incluye el mercado de capita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ncario y Crediticio, de Divisas y de Val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7" name="PlaceHolder 2"/>
          <p:cNvSpPr>
            <a:spLocks noGrp="1"/>
          </p:cNvSpPr>
          <p:nvPr>
            <p:ph/>
          </p:nvPr>
        </p:nvSpPr>
        <p:spPr>
          <a:xfrm>
            <a:off x="468000" y="1628640"/>
            <a:ext cx="867564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dir en busca de financiamiento (la gran diferencia en el riesg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crédito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títulos y valores: Mercado de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Centro de intermediación de títulos y valores.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de Valores</a:t>
            </a:r>
            <a:r>
              <a:rPr b="0" lang="es-ES" sz="2800" spc="-1" strike="noStrike">
                <a:solidFill>
                  <a:srgbClr val="000000"/>
                </a:solidFill>
                <a:latin typeface="Arial"/>
              </a:rPr>
              <a:t>: Cualesquiera títulos transferibles incluyendo acciones, opciones a la compra y venta de acciones, bonos, debentures, cuotas de fondos mutuos, planes de ahorro, efectos de comercio y, en general, todo título de crédito e inversión.</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desarrollo y la innovación económica presuponen la posibilidad de proporcionar fondos para financiar nuevas inversiones</a:t>
            </a:r>
            <a:r>
              <a:rPr b="0" lang="es-ES" sz="3200" spc="-1" strike="noStrike">
                <a:solidFill>
                  <a:srgbClr val="000000"/>
                </a:solidFill>
                <a:latin typeface="Arial"/>
              </a:rPr>
              <a:t>  (MK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3" name="PlaceHolder 2"/>
          <p:cNvSpPr>
            <a:spLocks noGrp="1"/>
          </p:cNvSpPr>
          <p:nvPr>
            <p:ph/>
          </p:nvPr>
        </p:nvSpPr>
        <p:spPr>
          <a:xfrm>
            <a:off x="468360" y="1412640"/>
            <a:ext cx="8229600" cy="48574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íge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lang="es-ES" sz="2400" spc="-1" strike="noStrike">
                <a:solidFill>
                  <a:srgbClr val="000000"/>
                </a:solidFill>
                <a:latin typeface="Arial"/>
              </a:rPr>
              <a:t>La regulación tiene lugar luego del famoso crack de la Bolsa de Nueva York en 192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o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tar una de las grandes causas de la crisis: la especulación financier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ti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curities Act de 1933 y Securities Exchange Acy de 1934, The Insider Trading Sanctions Act de 1983, Sarbanes-Oxley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oasis moral” alemá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optó primeramente por la autorregulación privada también llamada “sistema de autocontrol voluntario”, concretado por medio de las “directrices para insiders”. Luego del “Escándalo de la bolsa de Frankfurt” (1991), se decidió el acoplamiento a la legislación comunitaria y se creó la Oficina Federal de Vigilancia del Mercado de Val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02:37:58Z</dcterms:created>
  <dc:creator>Carmen Gajewski</dc:creator>
  <dc:description/>
  <dc:language>en-US</dc:language>
  <cp:lastModifiedBy>Beatriz Arriagada Gajewski</cp:lastModifiedBy>
  <dcterms:modified xsi:type="dcterms:W3CDTF">2010-05-24T03:05:32Z</dcterms:modified>
  <cp:revision>13</cp:revision>
  <dc:subject/>
  <dc:title>Derecho Penal y Mercado de Valores</dc:title>
</cp:coreProperties>
</file>