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8CC25-5FA9-4C9A-9358-F2C67D52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0961F-2162-4F26-8033-C41AE40EF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4AD8E-13B6-44BC-A084-6075C1B47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6B9D3-79DB-45DC-8593-1A2EA712C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2EA26-410C-4E47-8205-4E474816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0BA6F-3E31-40B5-97F6-C9208F0D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8CFF-C5A7-4CFE-8DB0-CBEB9B23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E028-D8F3-4613-BC43-61ED112C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1C18-E374-49AD-B422-34E4948A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91EE-5106-4C63-B976-4EFE7820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C1E9-A982-40A6-B443-F29B7627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60F5-3A35-4B3E-8D17-C47A463FB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751A-DD1B-4086-B79D-45E5AC085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bcn.cl/sil?num=4621-07"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1" name=""/>
          <p:cNvSpPr/>
          <p:nvPr/>
        </p:nvSpPr>
        <p:spPr>
          <a:xfrm>
            <a:off x="1403280" y="1484280"/>
            <a:ext cx="6769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tos funcionarios y Criminalidad Económica</a:t>
            </a:r>
            <a:endParaRPr b="0" lang="en-US" sz="4000" spc="-1" strike="noStrike">
              <a:solidFill>
                <a:srgbClr val="000000"/>
              </a:solidFill>
              <a:latin typeface="Arial"/>
            </a:endParaRPr>
          </a:p>
        </p:txBody>
      </p:sp>
      <p:sp>
        <p:nvSpPr>
          <p:cNvPr id="42" name=""/>
          <p:cNvSpPr/>
          <p:nvPr/>
        </p:nvSpPr>
        <p:spPr>
          <a:xfrm>
            <a:off x="2484360" y="5516640"/>
            <a:ext cx="62881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erial preparado por Isabel Arriagada para el Curso de Derecho Penal de la Empresa (Primer Semest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1" name="" descr=""/>
          <p:cNvPicPr/>
          <p:nvPr/>
        </p:nvPicPr>
        <p:blipFill>
          <a:blip r:embed="rId1"/>
          <a:stretch/>
        </p:blipFill>
        <p:spPr>
          <a:xfrm>
            <a:off x="6588000" y="1052640"/>
            <a:ext cx="2301840" cy="2836800"/>
          </a:xfrm>
          <a:prstGeom prst="rect">
            <a:avLst/>
          </a:prstGeom>
          <a:ln w="0">
            <a:noFill/>
          </a:ln>
        </p:spPr>
      </p:pic>
      <p:sp>
        <p:nvSpPr>
          <p:cNvPr id="62" name=""/>
          <p:cNvSpPr/>
          <p:nvPr/>
        </p:nvSpPr>
        <p:spPr>
          <a:xfrm>
            <a:off x="0" y="1916280"/>
            <a:ext cx="640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ASO MOP GATE</a:t>
            </a:r>
            <a:r>
              <a:rPr b="0" lang="es-CL"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marzo del año 2000 y marzo del año 2001 el biministro de Obras públicas y Transportes Carlos Cruz, junto a otros funcionarios ministeriales celebraron contratos de outsourcing con la empresa GATE S.A, consintiendo además la inclusión de terceros en una nómina adicional y paralela no estipulada en dichos contratos. Los beneficiarios, falsos empleados de las consultoras involucradas, recibieron dineros que defraudaron al fisco por la suma de $311.166.421. En el caso se dieron a conocer intricadas y profundas redes de contactos, beneficios y servicios,  surgidas y operantes desde las cúpulas concertacionistas hasta algunos cercanos del ex presidente Ricardo Lag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64" name="PlaceHolder 2"/>
          <p:cNvSpPr>
            <a:spLocks noGrp="1"/>
          </p:cNvSpPr>
          <p:nvPr>
            <p:ph/>
          </p:nvPr>
        </p:nvSpPr>
        <p:spPr>
          <a:xfrm>
            <a:off x="2916000" y="2332080"/>
            <a:ext cx="577044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u="sng">
                <a:solidFill>
                  <a:srgbClr val="000000"/>
                </a:solidFill>
                <a:uFillTx/>
                <a:latin typeface="Arial"/>
              </a:rPr>
              <a:t>Caso MOP- CIADE: </a:t>
            </a:r>
            <a:r>
              <a:rPr b="0" lang="es-CL" sz="2000" spc="-1" strike="noStrike">
                <a:solidFill>
                  <a:srgbClr val="000000"/>
                </a:solidFill>
                <a:latin typeface="Arial"/>
              </a:rPr>
              <a:t>Durante el año 2001, el ministerio de Obras Públicas Carlos Cruz celebró un contrato irregular por la suma de $270 millones con el Centro de Investigación Aplicada para el Desarrollo de la Empresa (Ciade) dependiente de la Universidad de Chile. Los contratos habrían encubierto el pago de sobresueldos para una lista de 22 seremis y académicos de la propia universidad. El caso salió a la luz en el año 2003.</a:t>
            </a:r>
            <a:endParaRPr b="0" lang="en-US" sz="2000" spc="-1" strike="noStrike">
              <a:solidFill>
                <a:srgbClr val="000000"/>
              </a:solidFill>
              <a:latin typeface="Arial"/>
            </a:endParaRPr>
          </a:p>
        </p:txBody>
      </p:sp>
      <p:pic>
        <p:nvPicPr>
          <p:cNvPr id="65" name="" descr=""/>
          <p:cNvPicPr/>
          <p:nvPr/>
        </p:nvPicPr>
        <p:blipFill>
          <a:blip r:embed="rId1"/>
          <a:stretch/>
        </p:blipFill>
        <p:spPr>
          <a:xfrm>
            <a:off x="324000" y="2349360"/>
            <a:ext cx="271116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7" name="" descr=""/>
          <p:cNvPicPr/>
          <p:nvPr/>
        </p:nvPicPr>
        <p:blipFill>
          <a:blip r:embed="rId1"/>
          <a:stretch/>
        </p:blipFill>
        <p:spPr>
          <a:xfrm>
            <a:off x="6300720" y="1773360"/>
            <a:ext cx="2158920" cy="3263760"/>
          </a:xfrm>
          <a:prstGeom prst="rect">
            <a:avLst/>
          </a:prstGeom>
          <a:ln w="0">
            <a:noFill/>
          </a:ln>
        </p:spPr>
      </p:pic>
      <p:sp>
        <p:nvSpPr>
          <p:cNvPr id="68" name=""/>
          <p:cNvSpPr/>
          <p:nvPr/>
        </p:nvSpPr>
        <p:spPr>
          <a:xfrm>
            <a:off x="324000" y="1628640"/>
            <a:ext cx="5543280" cy="503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avilazo: </a:t>
            </a:r>
            <a:r>
              <a:rPr b="0" lang="es-CL" sz="1800" spc="-1" strike="noStrike">
                <a:solidFill>
                  <a:srgbClr val="000000"/>
                </a:solidFill>
                <a:latin typeface="Arial"/>
              </a:rPr>
              <a:t>El 23 de enero de 1994 salió a la luz pública el más escandaloso y oneroso caso de fraude al fisco de los últimos años. Juan Pablo Dávila, en ese entonces operador de mercados de futuro de Codelco, incurrió en acuerdos ilícitos que le significaron a la empresa pérdidas por 200 millones de dólares. Dávila favoreció los acuerdos con ciertos operadores a cambio de suculentos depósitos a su cuenta en las Islas Caimán. En septiembre de 1997, el ex operador de Codelco fue condenado por la Corte Suprema a tres años de cárcel y al pago total del tributo evadido correspondiente a sus ingresos, suma que se acordó en 133 millones de pesos. En agosto de 1999, luego del desarrollo de tres procesos por fraude al fisco, Dávila fue condenado a 8 años de cárcel y a cancelar una indemnización de 183 millones de dóla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70" name="" descr=""/>
          <p:cNvPicPr/>
          <p:nvPr/>
        </p:nvPicPr>
        <p:blipFill>
          <a:blip r:embed="rId1"/>
          <a:stretch/>
        </p:blipFill>
        <p:spPr>
          <a:xfrm>
            <a:off x="468360" y="1484280"/>
            <a:ext cx="2539800" cy="3238560"/>
          </a:xfrm>
          <a:prstGeom prst="rect">
            <a:avLst/>
          </a:prstGeom>
          <a:ln w="0">
            <a:noFill/>
          </a:ln>
        </p:spPr>
      </p:pic>
      <p:sp>
        <p:nvSpPr>
          <p:cNvPr id="71" name=""/>
          <p:cNvSpPr/>
          <p:nvPr/>
        </p:nvSpPr>
        <p:spPr>
          <a:xfrm>
            <a:off x="3564000" y="1557360"/>
            <a:ext cx="5329080" cy="5277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ntraloría General de la República detectó anomalías en el pago de subvenciones del Ministerio de Educación correspondientes al año 2006. La entidad detectó pagos millonarios a personas no autorizadas,  además de 50.886 estudiantes inscritos en más de un colegio, treta usada por los establecimientos beneficiados por el Estado para recibir subvenciones adicionales. En el 2008 Yasna Provoste, a la sazón ministra de educación, fue acusada de negligencia debido a las irregularidades anteriormente citadas, debiendo enfrentar una acusación constitucional que remató su final destitución, quedando además imposibilitada de ejercer cargos públicos durante 5 añ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3" name="PlaceHolder 2"/>
          <p:cNvSpPr>
            <a:spLocks noGrp="1"/>
          </p:cNvSpPr>
          <p:nvPr>
            <p:ph/>
          </p:nvPr>
        </p:nvSpPr>
        <p:spPr>
          <a:xfrm>
            <a:off x="-181440" y="1052640"/>
            <a:ext cx="7201080" cy="4525920"/>
          </a:xfrm>
          <a:prstGeom prst="rect">
            <a:avLst/>
          </a:prstGeom>
          <a:noFill/>
          <a:ln w="0">
            <a:noFill/>
          </a:ln>
        </p:spPr>
        <p:txBody>
          <a:bodyPr lIns="90000" rIns="90000" tIns="46800" bIns="46800" anchor="t">
            <a:normAutofit fontScale="91000"/>
          </a:bodyPr>
          <a:p>
            <a:pPr marL="3121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200" spc="-1" strike="noStrike">
                <a:solidFill>
                  <a:srgbClr val="000000"/>
                </a:solidFill>
                <a:latin typeface="Arial"/>
              </a:rPr>
              <a:t>Entre el 2006 y el 2007 el Instituto Nacional de Deportes fue sacudido por el descubrimiento de irregularidades en la designación de cargos y escándalos de corrupción en la repartición de fondos. Se incluían proyectos financiados que jamás eran ejecutados; asignados con fines políticos a fin de que personeros de Gobierno aparecieran como gestores; triangulación de recursos con otros organismos deportivos debido a la carencia de facultades de financiamiento del propio IND. Con respecto a las designaciones se descubrió que los cargos con los sueldos más altos, concentrados en la Dirección Nacional, eran entregados exclusivamente a altos militantes de los partidos políticos sin competencias en el área de gestión deportiva. El más bullado de los casos de designación irregular fue protagonizado por la directora vigente durante el 2007, Catalina Depassier, quien declaró ser Licenciada en Filosofía por la Universidad de Chile, cuando en realidad sólo había cursado un semestre.</a:t>
            </a:r>
            <a:endParaRPr b="0" lang="en-US" sz="2200" spc="-1" strike="noStrike">
              <a:solidFill>
                <a:srgbClr val="000000"/>
              </a:solidFill>
              <a:latin typeface="Arial"/>
            </a:endParaRPr>
          </a:p>
        </p:txBody>
      </p:sp>
      <p:pic>
        <p:nvPicPr>
          <p:cNvPr id="74" name="" descr=""/>
          <p:cNvPicPr/>
          <p:nvPr/>
        </p:nvPicPr>
        <p:blipFill>
          <a:blip r:embed="rId1"/>
          <a:stretch/>
        </p:blipFill>
        <p:spPr>
          <a:xfrm>
            <a:off x="7020000" y="1125360"/>
            <a:ext cx="1865160" cy="16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6" name="PlaceHolder 2"/>
          <p:cNvSpPr>
            <a:spLocks noGrp="1"/>
          </p:cNvSpPr>
          <p:nvPr>
            <p:ph/>
          </p:nvPr>
        </p:nvSpPr>
        <p:spPr>
          <a:xfrm>
            <a:off x="3779640" y="1628640"/>
            <a:ext cx="5051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ccionistas y ejecutivos del grupo llamado “Inverlink Consultores” fueron acusados de adquirir mediante “Coimas”, información privilegiada entregada por la secretaría del Presidente del Banco Central. El retiro de los fondos de los inversionistas generó la falta de liquidez de Inverlink, tomándose entonces la decisión de estafar a la CORFO por $56 mil mill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1332000" y="148428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79"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s internacional y transnac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rrupción traspasa las barreras nacionales, adquiriendo conexiones a nivel glob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y 20.341:</a:t>
            </a:r>
            <a:r>
              <a:rPr b="0" lang="en-US" sz="3200" spc="-1" strike="noStrike">
                <a:solidFill>
                  <a:srgbClr val="000000"/>
                </a:solidFill>
                <a:latin typeface="Arial"/>
              </a:rPr>
              <a:t> La idea central del proyecto es adecuar la legislación interna a las observaciones y sugerencias formuladas por la OCDE en la Primera y Segunda Fase de Evaluación del cumplimiento por Chile de la Convención para Combatir el Cohecho de Funcionarios Extranjeros en Transacciones Comerciales 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3" name="PlaceHolder 2"/>
          <p:cNvSpPr>
            <a:spLocks noGrp="1"/>
          </p:cNvSpPr>
          <p:nvPr>
            <p:ph/>
          </p:nvPr>
        </p:nvSpPr>
        <p:spPr>
          <a:xfrm>
            <a:off x="0" y="1196640"/>
            <a:ext cx="8820000" cy="49575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20.341: Cohecho a Funcionarios Públicos Extranjeros</a:t>
            </a:r>
            <a:br>
              <a:rPr sz="2000"/>
            </a:br>
            <a:endParaRPr b="0" lang="en-US" sz="2000" spc="-1" strike="noStrike">
              <a:solidFill>
                <a:srgbClr val="000000"/>
              </a:solidFill>
              <a:latin typeface="Arial"/>
            </a:endParaRPr>
          </a:p>
          <a:p>
            <a:pPr marL="312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Artículo 251 bis.-</a:t>
            </a:r>
            <a:r>
              <a:rPr b="0" lang="en-US" sz="2000" spc="-1" strike="noStrike">
                <a:solidFill>
                  <a:srgbClr val="000000"/>
                </a:solidFill>
                <a:latin typeface="Arial"/>
              </a:rPr>
              <a:t> El que ofreciere, prometiere o diere a un </a:t>
            </a:r>
            <a:r>
              <a:rPr b="1" lang="en-US" sz="2400" spc="-1" strike="noStrike">
                <a:solidFill>
                  <a:srgbClr val="ff0000"/>
                </a:solidFill>
                <a:latin typeface="Arial"/>
              </a:rPr>
              <a:t>funcionario público extranjero</a:t>
            </a:r>
            <a:r>
              <a:rPr b="0" lang="en-US" sz="2400" spc="-1" strike="noStrike">
                <a:solidFill>
                  <a:srgbClr val="000000"/>
                </a:solidFill>
                <a:latin typeface="Arial"/>
              </a:rPr>
              <a:t>,</a:t>
            </a:r>
            <a:r>
              <a:rPr b="0" lang="en-US" sz="2000" spc="-1" strike="noStrike">
                <a:solidFill>
                  <a:srgbClr val="000000"/>
                </a:solidFill>
                <a:latin typeface="Arial"/>
              </a:rPr>
              <a:t> un beneficio económico o de otra naturaleza, en provecho de éste o de un tercero, para que realice una acción o incurra en una omisión con miras a la obtención o mantención, para sí u otro, de cualquier negocio o ventaja indebidos </a:t>
            </a:r>
            <a:r>
              <a:rPr b="1" lang="en-US" sz="2400" spc="-1" strike="noStrike">
                <a:solidFill>
                  <a:srgbClr val="ff0000"/>
                </a:solidFill>
                <a:latin typeface="Arial"/>
              </a:rPr>
              <a:t>en el ámbito de cualesquiera transacciones internacionales</a:t>
            </a:r>
            <a:r>
              <a:rPr b="0" lang="en-US" sz="2000" spc="-1" strike="noStrike">
                <a:solidFill>
                  <a:srgbClr val="000000"/>
                </a:solidFill>
                <a:latin typeface="Arial"/>
              </a:rPr>
              <a:t>, será sancionado con la pena de reclusión menor en su grado medio a máximo y, además, con las de multa e inhabilitación establecidas en el inciso primero del artículo 248 bis. Si el beneficio fuere de naturaleza distinta a la económica, la multa será de cien a mil unidades tributarias mensuales. De igual forma será castigado el que ofreciere, prometiere o diere el aludido beneficio a un funcionario público extranjero por haber realizado o haber incurrido en las acciones u omisiones señaladas.</a:t>
            </a:r>
            <a:br>
              <a:rPr sz="2000"/>
            </a:br>
            <a:r>
              <a:rPr b="0" lang="en-US" sz="2000" spc="-1" strike="noStrike">
                <a:solidFill>
                  <a:srgbClr val="000000"/>
                </a:solidFill>
                <a:latin typeface="Arial"/>
              </a:rPr>
              <a:t>     El que, en iguales situaciones a las descritas en el inciso anterior,</a:t>
            </a:r>
            <a:r>
              <a:rPr b="1" lang="en-US" sz="2000" spc="-1" strike="noStrike" u="sng">
                <a:solidFill>
                  <a:srgbClr val="000000"/>
                </a:solidFill>
                <a:uFillTx/>
                <a:latin typeface="Arial"/>
              </a:rPr>
              <a:t> </a:t>
            </a:r>
            <a:r>
              <a:rPr b="1" lang="en-US" sz="2400" spc="-1" strike="noStrike">
                <a:solidFill>
                  <a:srgbClr val="ff0000"/>
                </a:solidFill>
                <a:latin typeface="Arial"/>
              </a:rPr>
              <a:t>consintiere en dar el referido beneficio</a:t>
            </a:r>
            <a:r>
              <a:rPr b="0" lang="en-US" sz="2000" spc="-1" strike="noStrike">
                <a:solidFill>
                  <a:srgbClr val="000000"/>
                </a:solidFill>
                <a:latin typeface="Arial"/>
              </a:rPr>
              <a:t>, será sancionado con pena de reclusión menor en su grado mínimo a medio, además de las mismas penas de multa e inhabilitación señaladas.</a:t>
            </a:r>
            <a:br>
              <a:rPr sz="2000"/>
            </a:br>
            <a:br>
              <a:rPr sz="16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ey 20.341: Cohecho a Funcionarios Públicos Extranjeros</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u="sng">
                <a:solidFill>
                  <a:srgbClr val="000000"/>
                </a:solidFill>
                <a:uFillTx/>
                <a:latin typeface="Arial"/>
              </a:rPr>
              <a:t>Artículo 251 ter.-</a:t>
            </a:r>
            <a:r>
              <a:rPr b="0" lang="es-ES" sz="2400" spc="-1" strike="noStrike">
                <a:solidFill>
                  <a:srgbClr val="000000"/>
                </a:solidFill>
                <a:latin typeface="Arial"/>
              </a:rPr>
              <a:t> Para los efectos de lo dispuesto en el artículo anterior, se considera funcionario público extranjero </a:t>
            </a:r>
            <a:r>
              <a:rPr b="0" lang="es-ES" sz="2800" spc="-1" strike="noStrike">
                <a:solidFill>
                  <a:srgbClr val="ff0000"/>
                </a:solidFill>
                <a:latin typeface="Arial"/>
              </a:rPr>
              <a:t>toda persona que tenga un cargo legislativo, administrativo o judicial</a:t>
            </a:r>
            <a:r>
              <a:rPr b="0" lang="es-ES" sz="2400" spc="-1" strike="noStrike">
                <a:solidFill>
                  <a:srgbClr val="000000"/>
                </a:solidFill>
                <a:latin typeface="Arial"/>
              </a:rPr>
              <a:t> en un país extranjero, haya sido nombrada o elegida, así como cualquier persona que ejerza una función pública para un país extranjero, sea dentro de un organismo público o de una empresa pública. También se entenderá que inviste la referida calidad cualquier funcionario o agente de una organización pública internac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fenómeno constante en la historia de la humanidad y que no es privativo de ciertos sectores sociales, culturales, económicos o polít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nternacional</a:t>
            </a:r>
            <a:endParaRPr b="0" lang="en-US" sz="4000" spc="-1" strike="noStrike">
              <a:solidFill>
                <a:srgbClr val="000000"/>
              </a:solidFill>
              <a:latin typeface="Arial"/>
            </a:endParaRPr>
          </a:p>
        </p:txBody>
      </p:sp>
      <p:sp>
        <p:nvSpPr>
          <p:cNvPr id="87"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y. 20.393: Responsabilidad penal de las personas jurídicas en los delitos de cohecho que indica (250 y 251 b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89"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biguo: Debido al prestigio que se reconoce a quien ejerce y puede ejercer influencias a nivel político o económ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Graves consecuencias políticas, económicas y socia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fectos favorables?</a:t>
            </a:r>
            <a:r>
              <a:rPr b="0" lang="es-ES" sz="3200" spc="-1" strike="noStrike">
                <a:solidFill>
                  <a:srgbClr val="000000"/>
                </a:solidFill>
                <a:latin typeface="Arial"/>
              </a:rPr>
              <a:t> Se favorecería la eficiencia asignativa de los recursos y agilizaría los procesos de producción (Por ejemplo, al conseguir la rapidez de ciertos trámites mediante pagos ilegales). </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Graves Consecuencias</a:t>
            </a:r>
            <a:endParaRPr b="0" lang="en-US" sz="4000" spc="-1" strike="noStrike">
              <a:solidFill>
                <a:srgbClr val="000000"/>
              </a:solidFill>
              <a:latin typeface="Arial"/>
            </a:endParaRPr>
          </a:p>
        </p:txBody>
      </p:sp>
      <p:sp>
        <p:nvSpPr>
          <p:cNvPr id="9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entros ocultos de poder (Ferrajoli)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ignaciones erróneas de recurso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minuye el crecimiento económico y el desarrollo (obstaculiza a microempresarios, disminuye los recursos tributarios del estad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ava la institucionalidad política y la desestabiliza: impide la gobernabilidad y debilita el sistema democrátic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cerba las desigualdad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fectos</a:t>
            </a:r>
            <a:endParaRPr b="0" lang="en-US" sz="3200" spc="-1" strike="noStrike">
              <a:solidFill>
                <a:srgbClr val="000000"/>
              </a:solidFill>
              <a:latin typeface="Arial"/>
            </a:endParaRPr>
          </a:p>
        </p:txBody>
      </p:sp>
      <p:sp>
        <p:nvSpPr>
          <p:cNvPr id="95"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 captura del Estad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resas influyentes determinan la formación de las reglas del juego (leyes, regulaciones y políticas del estado) para su beneficio -- a través de pagos privados no transparentes e ilícitos a funcionarios político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Lobbying y Captura del estado:</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Lobby: Toda acción deliberada y sistemática destinada a </a:t>
            </a:r>
            <a:r>
              <a:rPr b="0" lang="es-ES_tradnl" sz="2800" spc="-1" strike="noStrike" u="sng">
                <a:solidFill>
                  <a:srgbClr val="000000"/>
                </a:solidFill>
                <a:uFillTx/>
                <a:latin typeface="Tahoma"/>
              </a:rPr>
              <a:t>influir</a:t>
            </a:r>
            <a:r>
              <a:rPr b="0" lang="es-ES_tradnl" sz="2800" spc="-1" strike="noStrike">
                <a:solidFill>
                  <a:srgbClr val="000000"/>
                </a:solidFill>
                <a:latin typeface="Tahoma"/>
              </a:rPr>
              <a:t> en las </a:t>
            </a:r>
            <a:r>
              <a:rPr b="0" lang="es-ES_tradnl" sz="2800" spc="-1" strike="noStrike" u="sng">
                <a:solidFill>
                  <a:srgbClr val="000000"/>
                </a:solidFill>
                <a:uFillTx/>
                <a:latin typeface="Tahoma"/>
              </a:rPr>
              <a:t>decisiones y políticas del Gobierno y/o el Congreso</a:t>
            </a:r>
            <a:r>
              <a:rPr b="0" lang="es-ES_tradnl" sz="2800" spc="-1" strike="noStrike">
                <a:solidFill>
                  <a:srgbClr val="000000"/>
                </a:solidFill>
                <a:latin typeface="Tahoma"/>
              </a:rPr>
              <a:t>, llevada a cabo por un grupo particular </a:t>
            </a:r>
            <a:r>
              <a:rPr b="0" lang="es-ES_tradnl" sz="2800" spc="-1" strike="noStrike" u="sng">
                <a:solidFill>
                  <a:srgbClr val="000000"/>
                </a:solidFill>
                <a:uFillTx/>
                <a:latin typeface="Tahoma"/>
              </a:rPr>
              <a:t>en favor de sus intereses</a:t>
            </a:r>
            <a:r>
              <a:rPr b="0" lang="es-ES_tradnl" sz="2800" spc="-1" strike="noStrike">
                <a:solidFill>
                  <a:srgbClr val="000000"/>
                </a:solidFill>
                <a:latin typeface="Tahoma"/>
              </a:rPr>
              <a:t> y puntos de vista, a través de la </a:t>
            </a:r>
            <a:r>
              <a:rPr b="0" lang="es-ES_tradnl" sz="2800" spc="-1" strike="noStrike" u="sng">
                <a:solidFill>
                  <a:srgbClr val="000000"/>
                </a:solidFill>
                <a:uFillTx/>
                <a:latin typeface="Tahoma"/>
              </a:rPr>
              <a:t>búsqueda del contacto o comunicación directa</a:t>
            </a:r>
            <a:r>
              <a:rPr b="0" lang="es-ES_tradnl" sz="2800" spc="-1" strike="noStrike">
                <a:solidFill>
                  <a:srgbClr val="000000"/>
                </a:solidFill>
                <a:latin typeface="Tahoma"/>
              </a:rPr>
              <a:t> con autoridades y funcionarios públicos. Tal acción puede ser llevada a cabo </a:t>
            </a:r>
            <a:r>
              <a:rPr b="0" lang="es-ES_tradnl" sz="2800" spc="-1" strike="noStrike" u="sng">
                <a:solidFill>
                  <a:srgbClr val="000000"/>
                </a:solidFill>
                <a:uFillTx/>
                <a:latin typeface="Tahoma"/>
              </a:rPr>
              <a:t>por los propios interesados o a través de terceros</a:t>
            </a:r>
            <a:r>
              <a:rPr b="0" lang="es-ES_tradnl" sz="2800" spc="-1" strike="noStrike">
                <a:solidFill>
                  <a:srgbClr val="000000"/>
                </a:solidFill>
                <a:latin typeface="Tahoma"/>
              </a:rPr>
              <a:t>, los que reciben un pago, compensación o beneficio por tal la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yectos de Ley relacionados con el Lob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Boletín 4621-07</a:t>
            </a:r>
            <a:br>
              <a:rPr sz="2000"/>
            </a:br>
            <a:r>
              <a:rPr b="0" lang="en-US" sz="2000" spc="-1" strike="noStrike" u="sng">
                <a:solidFill>
                  <a:srgbClr val="000000"/>
                </a:solidFill>
                <a:uFillTx/>
                <a:latin typeface="Arial"/>
              </a:rPr>
              <a:t>Modifica el inciso segundo del artículo 60 de la Constitución Política, impidiendo la realización de lobby en favor de gobiernos extranje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98-07 </a:t>
            </a:r>
            <a:br>
              <a:rPr sz="2000"/>
            </a:br>
            <a:r>
              <a:rPr b="0" lang="en-US" sz="2000" spc="-1" strike="noStrike">
                <a:solidFill>
                  <a:srgbClr val="000000"/>
                </a:solidFill>
                <a:latin typeface="Arial"/>
              </a:rPr>
              <a:t>Proyecto de ley que regula el ''lobby'', en el contexto de la agenda de modernización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31-07 </a:t>
            </a:r>
            <a:br>
              <a:rPr sz="2000"/>
            </a:br>
            <a:r>
              <a:rPr b="0" lang="en-US" sz="2000" spc="-1" strike="noStrike">
                <a:solidFill>
                  <a:srgbClr val="000000"/>
                </a:solidFill>
                <a:latin typeface="Arial"/>
              </a:rPr>
              <a:t>Modifica el Código Penal en materia de tráfico de infl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07-07 </a:t>
            </a:r>
            <a:br>
              <a:rPr sz="2000"/>
            </a:br>
            <a:r>
              <a:rPr b="0" lang="en-US" sz="2000" spc="-1" strike="noStrike">
                <a:solidFill>
                  <a:srgbClr val="000000"/>
                </a:solidFill>
                <a:latin typeface="Arial"/>
              </a:rPr>
              <a:t>Proyecto de ley que regula el lobb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mpacto de Gobernabilidad</a:t>
            </a:r>
            <a:endParaRPr b="0" lang="en-US" sz="4000" spc="-1" strike="noStrike">
              <a:solidFill>
                <a:srgbClr val="000000"/>
              </a:solidFill>
              <a:latin typeface="Arial"/>
            </a:endParaRPr>
          </a:p>
        </p:txBody>
      </p:sp>
      <p:pic>
        <p:nvPicPr>
          <p:cNvPr id="101" name="" descr=""/>
          <p:cNvPicPr/>
          <p:nvPr/>
        </p:nvPicPr>
        <p:blipFill>
          <a:blip r:embed="rId1"/>
          <a:srcRect l="19368" t="24606" r="19368" b="14764"/>
          <a:stretch/>
        </p:blipFill>
        <p:spPr>
          <a:xfrm>
            <a:off x="546120" y="160020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es de la corrupción</a:t>
            </a:r>
            <a:endParaRPr b="0" lang="en-US" sz="4400" spc="-1" strike="noStrike">
              <a:solidFill>
                <a:srgbClr val="000000"/>
              </a:solidFill>
              <a:latin typeface="Arial"/>
            </a:endParaRPr>
          </a:p>
        </p:txBody>
      </p:sp>
      <p:sp>
        <p:nvSpPr>
          <p:cNvPr id="103"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polít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óm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Juríd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ido ampli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ntido restringid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lación sinalagmá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terogéne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aizad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nacional y Transnacional.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biguo (Enrique Cur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 graves consecuencias económicas, política y soci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Vínculo entre una ventaja y el ejercicio de un poder de decisión transferido, contrario a intereses funcionariales, ” (Kindhauser,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Abuso de los puestos o recursos públicos o el uso de formas ilegítimas de influencia política, por integrantes del sector público o privado” (Johnston, 200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Cualquier acto que implique una desviación del interés general en el contexto de una actividad orientada hacia ese objetivo, sea que ella se encuentre jurídicamente a cargo de un ente público o de un organismo privado” (Rodriguez y Ossando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ensión trilateral.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entaja en sentido amplio.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erida a la posición de deber del “encargado” (ventaja compatible vs. Incompatible).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ácter subrepticio (LyD)</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mente vinculado al sector público (LyD)</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Vinculación al sector público.</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íticas de la doctrina.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ta la existencia de un “deciso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del bien jurídico protegido (en el sector privad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Convención de las Naciones Unidas y Directrices OCD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artidos de fútbol.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émica, subsistémica y aislad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rcRect l="10514" t="15748" r="14941" b="14272"/>
          <a:stretch/>
        </p:blipFill>
        <p:spPr>
          <a:xfrm>
            <a:off x="611280" y="2133720"/>
            <a:ext cx="8172360" cy="43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dividual y Colectiv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s organizaciones delictivas corruptas y la llamada “zona g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ública o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Blanca, gris y neg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recta o medi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Entre o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Internacion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Nacional: Herramientas extrapenales y penale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bidad administrativa.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ulación de conflictos de intereses.</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y fiscalizació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s y licitaciones.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social: Ley de acceso a la información pública.</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nciamiento de la actividad política (LOC 18.603)</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spectos penales </a:t>
            </a:r>
            <a:endParaRPr b="0" lang="en-US" sz="20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ien Jurídico Protegido</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r de corrección y probidad.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stigio de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nza en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ción de la autoridad estatal.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ta administración pública: </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i="1" lang="es-ES" sz="2800" spc="-1" strike="noStrike">
                <a:solidFill>
                  <a:srgbClr val="000000"/>
                </a:solidFill>
                <a:latin typeface="Arial"/>
              </a:rPr>
              <a:t>Correcto desempeño de la función pública aplicado de manera diferenciada respecto de cada tipo y concretado mediante los principios de objetividad,imparcialidad y eficacia</a:t>
            </a:r>
            <a:r>
              <a:rPr b="0" lang="es-ES" sz="2800" spc="-1" strike="noStrike">
                <a:solidFill>
                  <a:srgbClr val="000000"/>
                </a:solidFill>
                <a:latin typeface="Arial"/>
              </a:rPr>
              <a:t>”</a:t>
            </a:r>
            <a:r>
              <a:rPr b="0" lang="es-E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s gene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que se registran manifestaciones de este fenómeno en prácticamente todos los países del mundo (</a:t>
            </a:r>
            <a:r>
              <a:rPr b="0" lang="en-US" sz="3200" spc="-1" strike="noStrike" u="sng">
                <a:solidFill>
                  <a:srgbClr val="000000"/>
                </a:solidFill>
                <a:uFillTx/>
                <a:latin typeface="Arial"/>
              </a:rPr>
              <a:t>Índice de Percepción 2009 en Transparencia Internacion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os crímenes y simples delitos cometidos  por empleados públicos en el desempeño de sus cargos. (Titulo V del Libro II del Código Penal)</a:t>
            </a:r>
            <a:endParaRPr b="0" lang="en-US" sz="2400" spc="-1" strike="noStrike">
              <a:solidFill>
                <a:srgbClr val="000000"/>
              </a:solidFill>
              <a:latin typeface="Arial"/>
            </a:endParaRPr>
          </a:p>
        </p:txBody>
      </p:sp>
      <p:sp>
        <p:nvSpPr>
          <p:cNvPr id="128" name="PlaceHolder 2"/>
          <p:cNvSpPr>
            <a:spLocks noGrp="1"/>
          </p:cNvSpPr>
          <p:nvPr>
            <p:ph/>
          </p:nvPr>
        </p:nvSpPr>
        <p:spPr>
          <a:xfrm>
            <a:off x="468360" y="4076640"/>
            <a:ext cx="8229600" cy="216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mente se entienden ser delitos de emprendimiento, en que la tentativa es formalmente equiparada a la consumación y delitos de peligro abstracto, esto es, son delitos cuya misión es asegurar las condiciones básicas bajo las cuales el bien jurídico protegido se puede desarrollar sin menoscabos. </a:t>
            </a:r>
            <a:endParaRPr b="0" lang="en-US" sz="2400" spc="-1" strike="noStrike">
              <a:solidFill>
                <a:srgbClr val="000000"/>
              </a:solidFill>
              <a:latin typeface="Arial"/>
            </a:endParaRPr>
          </a:p>
        </p:txBody>
      </p:sp>
      <p:sp>
        <p:nvSpPr>
          <p:cNvPr id="129" name=""/>
          <p:cNvSpPr/>
          <p:nvPr/>
        </p:nvSpPr>
        <p:spPr>
          <a:xfrm>
            <a:off x="684360" y="1844640"/>
            <a:ext cx="763272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lasifican 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de justicia.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públ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litos contra la administración de justicia:</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Cometidos por funcionarios, abogados o procurado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judicial. Propiamente tal es el ejercicio incorrecto y contrario a Derecho en la dictación de una sentencia (223 nº 1, 224 nº 1 y 225 nº 1 CP).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de abogados y procuradores: Sus modalidades pueden ser perjudicar al cliente (231 CP), revelar secretos (231 CP) o patrocinar a la parte contraria (232 CP).</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sión del deber de perseguir o aprehender delincuentes.</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Cometidos por particula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so testimonio</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ción de pruebas falsa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investigación</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administración de justicia cometida por un fiscal del Ministerio Público.</a:t>
            </a:r>
            <a:endParaRPr b="0" lang="en-US" sz="2000" spc="-1" strike="noStrike">
              <a:solidFill>
                <a:srgbClr val="000000"/>
              </a:solidFill>
              <a:latin typeface="Arial"/>
            </a:endParaRPr>
          </a:p>
          <a:p>
            <a:pPr marL="660240" indent="-66024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sación o denuncia calumnios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Delitos contra la función pública:</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Delitos contra la imparcialidad de la función pública.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pasivo propio o figura básica (248 CP y 248 bis). Fórmulas problemáticas: “En razón de su cargo”, “derechos”, “beneficios económico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impropio o figura agravada (249).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ctivo (25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 funcionarios públicos extranjeros (250 bis, 250 bis A y 250 bis B)</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ciación incompatible (24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fico de influencias (240 bis)</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765000"/>
            <a:ext cx="8964720" cy="540072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Delitos contra la función pública:</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 </a:t>
            </a:r>
            <a:r>
              <a:rPr b="0" lang="en-US" sz="2400" spc="-1" strike="noStrike" u="sng">
                <a:solidFill>
                  <a:srgbClr val="000000"/>
                </a:solidFill>
                <a:uFillTx/>
                <a:latin typeface="Arial"/>
              </a:rPr>
              <a:t>Delitos contra aspectos patrimoniales de la función pública.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versación de caudales públicos (233, 234 y 235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e al fisco (239 CP).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ciones legales (241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quecimiento ilícito o incremento patrimonial indebido (241 bis). </a:t>
            </a:r>
            <a:endParaRPr b="0" lang="en-US" sz="2400" spc="-1" strike="noStrike">
              <a:solidFill>
                <a:srgbClr val="000000"/>
              </a:solidFill>
              <a:latin typeface="Arial"/>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 Mundial de Corrupción</a:t>
            </a:r>
            <a:endParaRPr b="0" lang="en-US" sz="4400" spc="-1" strike="noStrike">
              <a:solidFill>
                <a:srgbClr val="000000"/>
              </a:solidFill>
              <a:latin typeface="Arial"/>
            </a:endParaRPr>
          </a:p>
        </p:txBody>
      </p:sp>
      <p:pic>
        <p:nvPicPr>
          <p:cNvPr id="50" name="" descr=""/>
          <p:cNvPicPr/>
          <p:nvPr/>
        </p:nvPicPr>
        <p:blipFill>
          <a:blip r:embed="rId1"/>
          <a:stretch/>
        </p:blipFill>
        <p:spPr>
          <a:xfrm>
            <a:off x="250920" y="1309680"/>
            <a:ext cx="8569080" cy="53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s heterogéne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modalidades de corrupción son diversas y tienden a multiplica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fenómeno de la corrupción: Heterogene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dad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ficad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ipific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stá enraizado en el tejido so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rrupción supera el ámbito del gobierno y las áreas visibles de po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58" name="PlaceHolder 2"/>
          <p:cNvSpPr>
            <a:spLocks noGrp="1"/>
          </p:cNvSpPr>
          <p:nvPr>
            <p:ph/>
          </p:nvPr>
        </p:nvSpPr>
        <p:spPr>
          <a:xfrm>
            <a:off x="2484360" y="2060640"/>
            <a:ext cx="627552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a:t>
            </a:r>
            <a:r>
              <a:rPr b="1" lang="es-CL" sz="2400" spc="-1" strike="noStrike" u="sng">
                <a:solidFill>
                  <a:srgbClr val="000000"/>
                </a:solidFill>
                <a:uFillTx/>
                <a:latin typeface="Arial"/>
              </a:rPr>
              <a:t>Caso Coimas</a:t>
            </a:r>
            <a:r>
              <a:rPr b="0" lang="es-CL" sz="2400" spc="-1" strike="noStrike">
                <a:solidFill>
                  <a:srgbClr val="000000"/>
                </a:solidFill>
                <a:latin typeface="Arial"/>
              </a:rPr>
              <a:t>, tal como su nombre lo sugiere, consistió en el pago de suculentas gratificaciones por cuenta de Carlos Filippi Barra, empresario de la VI región, a una red encabezada por el Ministro de Transportes Patricio Tombolini  y el vicepresidente del PPD Víctor Manuel Rebolledo, para adjudicarse la concesión de dos plantas de revisión técnica de ubicadas en la ciudad de Rancagua. Filippi, tradicional benefactor económico de la Concertación, se transformó en pocos años en uno de los empresarios más poderosos de la VI región. </a:t>
            </a:r>
            <a:endParaRPr b="0" lang="en-US" sz="2400" spc="-1" strike="noStrike">
              <a:solidFill>
                <a:srgbClr val="000000"/>
              </a:solidFill>
              <a:latin typeface="Arial"/>
            </a:endParaRPr>
          </a:p>
        </p:txBody>
      </p:sp>
      <p:pic>
        <p:nvPicPr>
          <p:cNvPr id="59" name="" descr=""/>
          <p:cNvPicPr/>
          <p:nvPr/>
        </p:nvPicPr>
        <p:blipFill>
          <a:blip r:embed="rId1"/>
          <a:stretch/>
        </p:blipFill>
        <p:spPr>
          <a:xfrm>
            <a:off x="539640" y="2565360"/>
            <a:ext cx="1974960" cy="29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4:19:19Z</dcterms:created>
  <dc:creator>Carmen Gajewski</dc:creator>
  <dc:description/>
  <dc:language>en-US</dc:language>
  <cp:lastModifiedBy>Carmen Gajewski</cp:lastModifiedBy>
  <dcterms:modified xsi:type="dcterms:W3CDTF">2010-06-03T14:14:26Z</dcterms:modified>
  <cp:revision>28</cp:revision>
  <dc:subject/>
  <dc:title>Diapositiva 1</dc:title>
</cp:coreProperties>
</file>