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B9DF0-8258-4ED0-8457-2B496C423A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B7B47-EBB8-4002-BC7D-0C4683738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7BEE6-843D-49D2-8D22-DEB266C6E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980FF-F467-4CE2-AB39-F86F6D085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A5B08-98FE-4FEE-A440-EBD4B6859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DA224-B791-4835-81FC-F7F13CF0F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1255A-D3F7-426C-889C-49AEB1710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32261-26D1-4BCB-B090-07DF02FD3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6AC48-4076-43E9-87C4-965232677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3243E-E3EE-4C83-89D0-A7F21CEDB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AF2-CC9E-4413-A20A-DE66E920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10F-1DBD-4FCA-85D2-38680284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03A-D4FD-47F0-8A13-3C268425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C2D-9CFD-424E-A271-0800B25D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019-2FD1-4846-985F-34062621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C8B-2F29-456C-9FB1-3A462239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316-FCB2-4867-B8E3-641C85CC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A92-59D4-43CB-9C0B-B65095FC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F4F-786C-4039-AAA5-D1261E3D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7D6-D085-43EF-A1C3-D0BB6306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9CD-F5A1-468E-AB95-B7DB9CCC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942-B82A-4F65-A9A0-3562EF6A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763AC-E810-4E50-8D10-674158A931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C2BBB-8FB8-4F3A-B1CE-724B2D21F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008000"/>
                </a:solidFill>
                <a:latin typeface="Eurostile"/>
                <a:ea typeface="Eurostile"/>
              </a:rPr>
              <a:t>Delito de abor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rts. 342-345 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008000"/>
                </a:solidFill>
                <a:latin typeface="Eurostile"/>
                <a:ea typeface="Eurostile"/>
              </a:rPr>
              <a:t>Aborto voluntario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2 Nº3 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P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Sujeto ac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Consentimiento.  Requisitos.  Casos.  Participació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.  Mayoría/Etchebe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4 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Pen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Calificación en relación con el sujeto ac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Hipótesis alternativ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 (Etcheberry, Politoff, Garrid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Consentimiento.  Requis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Atenuante especial.  No comunicabl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5 CP </a:t>
            </a:r>
            <a:br>
              <a:rPr sz="3200"/>
            </a:b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(aborto voluntario y no voluntari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Pe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Tipo doblemente calificado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*Opiniones sobre el fundamento de la calificante.  *Reprochabilidad personal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*Excluida la mujer embarazada (referencia al Art. 342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Facultativo.  Profesiones relacionadas con la conservación y restablecimiento de la salud (interpretación amplia del concepto facultativo.  Mayorí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Abusando de su oficio”.  </a:t>
            </a: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Opin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: sólo dolo direc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8000"/>
                </a:solidFill>
                <a:latin typeface="Eurostile"/>
                <a:ea typeface="Eurostile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Ubicación en el C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Concepto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Bien jurídico protegi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Análisis de los tipos penales contemplados en el Código Penal Chileno.  Arts. 342 a 345.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Clasificación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.  Tradicional/actu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Tipo objetivo (en lo común a todas las figura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Iter crimin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Anteproyecto de Código Penal.  Foro Pe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borto terapéutico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.  Antes y después de la modificación al Art. 119 del Código Sanitario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Breve reseña de la discu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Legislación compara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008000"/>
                </a:solidFill>
                <a:uFillTx/>
                <a:latin typeface="Eurostile"/>
                <a:ea typeface="Eurostile"/>
              </a:rPr>
              <a:t>Tipo objetivo</a:t>
            </a:r>
            <a:r>
              <a:rPr b="0" lang="es-ES_tradnl" sz="2800" spc="-1" strike="noStrike">
                <a:solidFill>
                  <a:srgbClr val="008000"/>
                </a:solidFill>
                <a:latin typeface="Eurostile"/>
                <a:ea typeface="Eurostile"/>
              </a:rPr>
              <a:t>: elementos comu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Mujer embaraza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Embrión o feto viv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Conducta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.  Acción de dar muerte al embrión o fe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Podrá alcanzarse de dos maneras: privarlo de la vida intrauterina (muerte al feto dentro del vientre materno) o provocar su expulsión prematura de modo de producir la muerte por falta de condiciones de viabilidad.  Si sobrevive (aborto frustrado) – Si la muerte se produce por otra conducta desplegada: concurso real con un homicidio o infanticidio consum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Distintas posiciones: acción/omisión.  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ausarlo vs. no evitar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Medios de comisión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.  El CP no hace referencia.  Abier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Medios específicos (químicos o mecánico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Medios genéricos (golpes, lesiones, medios morales).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Clasif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borto no voluntario</a:t>
            </a:r>
            <a:r>
              <a:rPr b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Causado con violencia.  Art. 342 Nº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Causado sin violencia.  Art. 342 Nº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Aborto </a:t>
            </a:r>
            <a:r>
              <a:rPr b="0" i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sin propósito</a:t>
            </a: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 de causarlo.  Art. 34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borto voluntario</a:t>
            </a:r>
            <a:r>
              <a:rPr b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Autoaborto.  Art. 344, inciso primero, primera par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Aborto consentido.  Art. 344, inciso primero, segunda parte y Art. 342 Nº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rtículo 345</a:t>
            </a:r>
            <a:r>
              <a:rPr b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008000"/>
                </a:solidFill>
                <a:latin typeface="Eurostile"/>
                <a:ea typeface="Eurostile"/>
              </a:rPr>
              <a:t>Aborto no voluntario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2 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Malicios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Mayoría: Limitación del tipo subjetivo.  Excluye dolo eventual/culpa (imprudenci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Etcheberry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: Historia fidedigna.  Vinculación con la antijuridicidad.  Consecuencias.  Crít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Sujeto activo.  Excl. mujer embarazada (Art. 344) y el facultativo (Art. 34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2 Nº1 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Pe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Tipo objetivo.  Violencia.  Forzar a la mujer física o moralmente (actu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contra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 su voluntad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Fuerza física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.  Golpes en el vientre, sustancias, introducción forzada de instrumentos.  Causar el aborto o que la mujer se lo cau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Fuerza moral.  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Coacción/intimidación (amplio).  Condiciones: seria, verosímil y grave, consistente en amenazas que apunten directa e inmediatamente a la integridad física de la mujer o de un tercero relacionado y que se encuentre presente.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Contenido de la violencia ejercida contra la mujer embarazada.  Muerte o lesiones ocasionadas (que superen las </a:t>
            </a:r>
            <a:r>
              <a:rPr b="0" i="1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normalmente comprendidas en un aborto violento).  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Dolo o culpa del sujeto activo.</a:t>
            </a:r>
            <a:r>
              <a:rPr b="0" i="1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.  Excluye dolo eventual/culpa (imprudencia).  Fundamento. Etcheberry (otro fundament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2 Nº2 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Pena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Tipo objetivo. 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Falta o ausencia 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de consentimiento en relación al abor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No puede darlo (inconscient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Viciado (equivalente a la falta o ausencia).  Carece de comprensión sobre el hecho, engañada o amenaza de males </a:t>
            </a:r>
            <a:r>
              <a:rPr b="0" i="1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morales (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no físicos</a:t>
            </a:r>
            <a:r>
              <a:rPr b="0" i="1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, penalmente inimputable (discutido: caso a cas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Caso (erro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.  Mayoría/Etcheber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Caso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3 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Pe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Tipo objetiv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Violenci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onsisten en el ejercicio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doloso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(directo o eventual) de </a:t>
            </a:r>
            <a:r>
              <a:rPr b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fuerza física 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(excluye intimidación) o malos tratos de obra o lesiones (leves o menos graves).  Distintas de las propias de las maniobras abortivas (subsunción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Si las violencias superan el límite de lesiones menos graves o lesiones culposas del 490 Nº2, posible aplicación del Art. 75 CP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Que el embarazo sea 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noto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Que el embarazo 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le conste al hech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Tipo subjetivo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.  Requisi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Doctrina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.  Postura mayoritaria.  Discrepancias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6:42:44Z</dcterms:created>
  <dc:creator>mac</dc:creator>
  <dc:description/>
  <dc:language>en-US</dc:language>
  <cp:lastModifiedBy>mac</cp:lastModifiedBy>
  <cp:lastPrinted>2010-06-07T17:53:01Z</cp:lastPrinted>
  <dcterms:modified xsi:type="dcterms:W3CDTF">2010-06-16T14:49:06Z</dcterms:modified>
  <cp:revision>69</cp:revision>
  <dc:subject/>
  <dc:title>Delito de aborto</dc:title>
</cp:coreProperties>
</file>