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8849A-269D-4AA0-BFEE-842D352E01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3C4F8-5DAA-46F9-8C88-592382DCB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AA2D6-2E24-4CB7-A4AE-D3E51F422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ED651-4FDA-49A8-AF51-421E8477E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62F6F-966A-479B-A4F9-7FBA25F5B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BB4AE-95B2-44FD-8C6F-5220A506B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441C1-01BB-4FC6-8381-AB0BD02A4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CB3EF-2655-4490-9359-AF0B60CEE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A94C-E969-457E-AE72-153A1F00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E222-E37B-4F82-B059-BBC3C496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75C-77DE-4675-A514-927FC6C2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1467-DDBE-4EE7-B33F-7DF22886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AB2-AA75-48D2-8504-8BB50619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CAB-C791-4BA1-8281-E87C27E7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3E3A-C8B3-4FF4-B178-09394774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48B-EDE5-4C37-929B-CD1C7299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B28-F4D1-42DA-A729-923A6A3B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7D8-6B1B-4F9D-B5AD-888DBED2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069-7A05-4778-9073-FF9DAF39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375-D516-4923-A755-50F341E2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74DCA-03BA-45B7-9C5D-189882B403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47FA2-CAEA-4B33-964A-D7C4A2FAD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ff0000"/>
                </a:solidFill>
                <a:latin typeface="Eurostile"/>
                <a:ea typeface="Eurostile"/>
              </a:rPr>
              <a:t>Lesiones simplemente graves</a:t>
            </a:r>
            <a:br>
              <a:rPr sz="2400"/>
            </a:br>
            <a:r>
              <a:rPr b="1" lang="es-ES_tradnl" sz="2000" spc="-1" strike="noStrike">
                <a:solidFill>
                  <a:srgbClr val="ff0000"/>
                </a:solidFill>
                <a:latin typeface="Eurostile"/>
                <a:ea typeface="Eurostile"/>
              </a:rPr>
              <a:t>397</a:t>
            </a: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Eurostile"/>
                <a:ea typeface="Eurostile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Eurostile"/>
                <a:ea typeface="Eurostile"/>
              </a:rPr>
              <a:t>Nº2</a:t>
            </a:r>
            <a:br>
              <a:rPr sz="2800"/>
            </a:b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“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Herir</a:t>
            </a:r>
            <a:r>
              <a:rPr b="1" i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,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golpear</a:t>
            </a:r>
            <a:r>
              <a:rPr b="1" i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 o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maltratar de obra a otro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” si de ello resultaren ciertas consecuencias.</a:t>
            </a:r>
            <a:r>
              <a:rPr b="0" lang="es-ES_tradnl" sz="2800" spc="-1" strike="noStrike">
                <a:solidFill>
                  <a:srgbClr val="000000"/>
                </a:solidFill>
                <a:latin typeface="Eurostile"/>
                <a:ea typeface="Eurostile"/>
              </a:rPr>
              <a:t>  </a:t>
            </a:r>
            <a:br>
              <a:rPr sz="2800"/>
            </a:b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Eurostile"/>
                <a:ea typeface="Eurosti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Subsidiarias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 de las descritas en el 397 N°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Hipótesis alternativas (en la práctica suelen darse ambas) con denominador común (</a:t>
            </a:r>
            <a:r>
              <a:rPr b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más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 de 30 días) que constituyen el </a:t>
            </a:r>
            <a:r>
              <a:rPr b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resultado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 de la les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 u="sng">
                <a:solidFill>
                  <a:srgbClr val="ff0000"/>
                </a:solidFill>
                <a:uFillTx/>
                <a:latin typeface="Eurostile"/>
                <a:ea typeface="Eurostile"/>
              </a:rPr>
              <a:t>Enfermedad:</a:t>
            </a:r>
            <a:r>
              <a:rPr b="0" lang="es-ES_tradnl" sz="1600" spc="-1" strike="noStrike">
                <a:solidFill>
                  <a:srgbClr val="ff0000"/>
                </a:solidFill>
                <a:latin typeface="Eurostile"/>
                <a:ea typeface="Eurostile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Todo proceso patológico o alteración de cierta intensidad en la salud corporal o psíquica (incluye procesos infecciosos, degenerativos, traumáticos, nerviosos, psíquicos)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 u="sng">
                <a:solidFill>
                  <a:srgbClr val="ff0000"/>
                </a:solidFill>
                <a:uFillTx/>
                <a:latin typeface="Eurostile"/>
                <a:ea typeface="Eurostile"/>
              </a:rPr>
              <a:t>Incapacidad para el trabajo</a:t>
            </a:r>
            <a:r>
              <a:rPr b="1" lang="es-ES_tradnl" sz="1600" spc="-1" strike="noStrike">
                <a:solidFill>
                  <a:srgbClr val="ff0000"/>
                </a:solidFill>
                <a:latin typeface="Eurostile"/>
                <a:ea typeface="Eurostile"/>
              </a:rPr>
              <a:t>: 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Imposibilidad temporal para desempeñar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labores habituales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.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de la víctim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Duración mínima: </a:t>
            </a:r>
            <a:r>
              <a:rPr b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Más de 30 días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 (30+1). Criticas. 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Caso: prolongación generada por </a:t>
            </a:r>
            <a:r>
              <a:rPr b="0" i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concausa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Eurostile"/>
                <a:ea typeface="Eurostile"/>
              </a:rPr>
              <a:t>Art. 398 CP</a:t>
            </a:r>
            <a:r>
              <a:rPr b="0" lang="es-ES_tradnl" sz="2400" spc="-1" strike="noStrike">
                <a:solidFill>
                  <a:srgbClr val="ff0000"/>
                </a:solidFill>
                <a:latin typeface="Eurostile"/>
                <a:ea typeface="Eurostile"/>
              </a:rPr>
              <a:t>.  Tipo </a:t>
            </a:r>
            <a:r>
              <a:rPr b="1" lang="es-ES_tradnl" sz="2400" spc="-1" strike="noStrike">
                <a:solidFill>
                  <a:srgbClr val="ff0000"/>
                </a:solidFill>
                <a:latin typeface="Eurostile"/>
                <a:ea typeface="Eurostile"/>
              </a:rPr>
              <a:t>especial</a:t>
            </a:r>
            <a:r>
              <a:rPr b="0" lang="es-ES_tradnl" sz="2400" spc="-1" strike="noStrike">
                <a:solidFill>
                  <a:srgbClr val="ff0000"/>
                </a:solidFill>
                <a:latin typeface="Eurostile"/>
                <a:ea typeface="Eurostile"/>
              </a:rPr>
              <a:t> de lesiones gr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Sanciona al que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“causare a otro alguna </a:t>
            </a:r>
            <a:r>
              <a:rPr b="1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lesión grave 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(resultados del Art. 397 N° 1 o 2)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</a:t>
            </a:r>
            <a:r>
              <a:rPr b="0" i="1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administrándole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a sabiendas substancias o bebidas nocivas, </a:t>
            </a:r>
            <a:r>
              <a:rPr b="1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o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</a:t>
            </a:r>
            <a:r>
              <a:rPr b="0" i="1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abusando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de su credulidad o flaqueza de espíritu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Hipótesis </a:t>
            </a:r>
            <a:r>
              <a:rPr b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alternativas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(abiertas) de comisión del delito, </a:t>
            </a:r>
            <a:r>
              <a:rPr b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distintas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a la tipicidad fundamental de las lesiones (herir, golpear o maltratar de obra), aunque la primera se concrete a través de una conducta violen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Eurostile"/>
                <a:ea typeface="Eurostile"/>
              </a:rPr>
              <a:t>Administrando a sabiendas sustancias o bebidas nocivas</a:t>
            </a:r>
            <a:r>
              <a:rPr b="1" i="1" lang="es-ES_tradnl" sz="2400" spc="-1" strike="noStrike">
                <a:solidFill>
                  <a:srgbClr val="ff0000"/>
                </a:solidFill>
                <a:latin typeface="Eurostile"/>
                <a:ea typeface="Eurostile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Administrar: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suministrar, hacer penetrar en el organismo las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substancias o bebidas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a modo de comida o bebida por ingestión, inhalación, inyección, absorción cutánea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Naturaleza de las sustancias: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cualquiera asimilable por el organismo (sólidas, líquidas, gaseosa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Nocividad de las sustancias: 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capacidad para dañar la integridad corporal o la salud </a:t>
            </a:r>
            <a:r>
              <a:rPr b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del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sujeto pasivo.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Relativa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Además será igualmente nociva tanto si provoca una lesión grave como si impide o retarda la mejoría del sujeto pasivo (Garrido).  En contra GB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Forma de administración: 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Cualquiera, ingerir, inyectar, inhalar, etc. Se puede usar a la víctima como autor material o mediante violencia, engaño o intimidación o aprovechar una especial situación de la víctima (durante el sueño o inconsciencia)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Tipo subjetiv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Eurostile"/>
                <a:ea typeface="Eurostile"/>
              </a:rPr>
              <a:t>Abusando de la credulidad o flaqueza de espíritu de la víctima</a:t>
            </a:r>
            <a:r>
              <a:rPr b="1" i="1" lang="es-ES_tradnl" sz="2400" spc="-1" strike="noStrike">
                <a:solidFill>
                  <a:srgbClr val="ff0000"/>
                </a:solidFill>
                <a:latin typeface="Eurostile"/>
                <a:ea typeface="Eurostile"/>
              </a:rPr>
              <a:t>.</a:t>
            </a:r>
            <a:r>
              <a:rPr b="0" lang="es-ES_tradnl" sz="2400" spc="-1" strike="noStrike">
                <a:solidFill>
                  <a:srgbClr val="ff0000"/>
                </a:solidFill>
                <a:latin typeface="Eurostile"/>
                <a:ea typeface="Eurosti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Circunstancias psicológicas (no son métodos materiales).  El agente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abusa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de la situación psíquica especial que afecta a la vícti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Pacheco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: supercherías, filtros y brujerías de todo género, ejecutadas por cualquier interés y por una persona que abusa de la inferioridad de otras para lesionarl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Abuso de credulidad”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cuando se emplee astucia, engaño, para causar lesiones (o no impedir las lesione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El </a:t>
            </a:r>
            <a:r>
              <a:rPr b="1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crédulo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es aquél que le tiene fe a alguien, confía en plenitud en otra persona (en hechiceros, curanderos, adivinos, etc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La </a:t>
            </a:r>
            <a:r>
              <a:rPr b="1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flaqueza de espíritu</a:t>
            </a: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se refiere a poca inteligencia, cultura o entendimiento, ingenu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Tipo subjetiv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Casos de contagio venéreo. 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Eurostile"/>
                <a:ea typeface="Eurostile"/>
              </a:rPr>
              <a:t>	</a:t>
            </a:r>
            <a:r>
              <a:rPr b="0" lang="es-ES_tradnl" sz="2400" spc="-1" strike="noStrike">
                <a:solidFill>
                  <a:srgbClr val="ff0000"/>
                </a:solidFill>
                <a:latin typeface="Eurostile"/>
                <a:ea typeface="Eurostile"/>
              </a:rPr>
              <a:t>Lesiones menos graves. Art. 399 CP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De esta figura, deriv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Calificada (graves: graves gravísimas, simplemente graves y las del Art. 398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Privilegiada (leve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Modalidades de comisión</a:t>
            </a:r>
            <a:r>
              <a:rPr b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 Discusió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GBP; Garrido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por acción u omisión.  Herir, golpear, maltratar de obra, ingerir sustancias e incluso el contagio venéreo, o cualquier otro medio de comis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Etcheberry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 Sólo herir, golpear y maltratar de obra a otr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 </a:t>
            </a:r>
            <a:r>
              <a:rPr b="1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Cas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Sin que se produzcan los efectos de las mutilaciones ni de las lesiones grav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Sin que sus efectos - enfermedad o incapacidad para el trabajo - se prolonguen por más de 30 días (hasta 30 día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Eurostile"/>
                <a:ea typeface="Eurostile"/>
              </a:rPr>
              <a:t>Que no sean calificadas por el Tribunal como lesiones lev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alibri"/>
              </a:rPr>
              <a:t> </a:t>
            </a: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Calibri"/>
              </a:rPr>
              <a:t>Lesiones leves</a:t>
            </a:r>
            <a:r>
              <a:rPr b="0" lang="es-ES_tradnl" sz="2400" spc="-1" strike="noStrike">
                <a:solidFill>
                  <a:srgbClr val="ff0000"/>
                </a:solidFill>
                <a:latin typeface="Calibri"/>
              </a:rPr>
              <a:t> Art. 494 N°5 CP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Calidad de las personas</a:t>
            </a:r>
            <a:r>
              <a:rPr b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vínculo de parentesco entre hechor y víctima, salvo las del Art. 5 Ley de violencia intrafamiliar (Art. 400 siempre menos graves y con agravant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Edad, sexo, salud y condición física.  Ej.  herir a un anciano puede constituir una lesión menos grave y una lesión leve en un joven.  Salvo dignidad, en tal caso por Art. 401 siempre menos grav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Jerarquía entre los involucrad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Circunstancias del hecho</a:t>
            </a:r>
            <a:r>
              <a:rPr b="1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: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puede aludir a las agravantes que concurran (salvo las del Art. 400).  También al ánimo de injuriar, bofetada en lugar público, etc., salvo que pueda separarse y se sancione la </a:t>
            </a:r>
            <a:r>
              <a:rPr b="0" i="1" lang="es-ES_tradnl" sz="16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injuria</a:t>
            </a: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 en forma independiente.  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Eurostile"/>
                <a:ea typeface="Eurostile"/>
              </a:rPr>
              <a:t>Crít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Eurostile"/>
                <a:ea typeface="Eurostile"/>
              </a:rPr>
              <a:t>Tipo subjetivo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08:25Z</dcterms:created>
  <dc:creator>mac</dc:creator>
  <dc:description/>
  <dc:language>en-US</dc:language>
  <cp:lastModifiedBy>mac</cp:lastModifiedBy>
  <dcterms:modified xsi:type="dcterms:W3CDTF">2010-06-16T14:51:19Z</dcterms:modified>
  <cp:revision>78</cp:revision>
  <dc:subject/>
  <dc:title>Slide 1</dc:title>
</cp:coreProperties>
</file>