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8A0A9-C23F-4E1C-875C-BB15D57D05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8056D-14BA-4B7B-ABB6-5522879E3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A594D-2D1F-4906-B0BD-E1D17A10B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84422-B2F7-43BE-A8AF-0FE9ED6B6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2944B-7ABB-49B3-AC0E-43B773099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B2EE0-5814-4DFE-91AC-EAE9A380C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6B0A5-2FDE-4E46-B305-2D412BC4D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DCC6D-49F5-4CD5-B863-4CE43D367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9489E-0837-46DF-8A17-A52E6E6AB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72180-A43F-45DB-A7D4-45AD96D61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5FE-4C0F-49E7-8D16-8C303117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A86-AA07-48D9-AB23-EFE8B29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A32-1D14-47B9-918D-BDDA86EB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C36-BB2C-49DA-862E-FAFD9C89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B97-340A-4DEE-9706-E232E7A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B9D-C719-4F68-9D82-FFFAB1D6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E32-849D-4DA4-86E9-D9926FF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03E-7D10-469A-BFFA-5D173AFD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CD2-5BAC-4F0E-8F18-1960E92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F22-1DF1-483C-AFC2-CA563175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9CB-FD6B-4307-9003-E5F8CB4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8E8-2234-4DF7-818A-7B9A9E8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962BA-47C3-457F-B9F6-931CF33BE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243B3-E52A-42D9-887D-1256A562F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008000"/>
                </a:solidFill>
                <a:latin typeface="Eurostile"/>
                <a:ea typeface="Eurostile"/>
              </a:rPr>
              <a:t>Delito de abo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rts. 342-345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8000"/>
                </a:solidFill>
                <a:latin typeface="Eurostile"/>
                <a:ea typeface="Eurostile"/>
              </a:rPr>
              <a:t>Aborto voluntari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3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Sujeto ac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onsentimiento.  Requisitos.  Casos.  Particip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Mayoría/Etcheb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4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Pen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alificación en relación con el sujeto ac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Hipótesis alternativ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 (Etcheberry, Politoff, Garrid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Consentimiento.  Requis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Eurostile"/>
                <a:ea typeface="Eurostile"/>
              </a:rPr>
              <a:t>Atenuante especial.  No comunicab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5 CP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(aborto voluntario y no voluntari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Tipo doblemente calificad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*Opiniones sobre el fundamento de la calificante.  *Reprochabilidad persona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*Excluida la mujer embarazada (referencia al Art. 342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Facultativo.  Profesiones relacionadas con la conservación y restablecimiento de la salud (interpretación amplia del concepto facultativo.  Mayor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usando de su oficio”.  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Opin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: sólo dolo dir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Eurostile"/>
                <a:ea typeface="Eurostile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Ubicación en el C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oncept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Bien jurídico proteg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Análisis de los tipos penales contemplados en el Código Penal Chileno.  Arts. 342 a 345.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lasificación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.  Tradicional/actu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 (en lo común a todas las figura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Iter crimi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Anteproyecto de Código Penal.  Foro Pe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terapéutico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.  Antes y después de la modificación al Art. 119 del Código Sanitari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Breve reseña de la discu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Legislación compar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008000"/>
                </a:solidFill>
                <a:uFillTx/>
                <a:latin typeface="Eurostile"/>
                <a:ea typeface="Eurostile"/>
              </a:rPr>
              <a:t>Tipo objetivo</a:t>
            </a: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: elementos com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ujer embaraz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Embrión o feto v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onduct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Acción de dar muerte al embrión o fe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odrá alcanzarse de dos maneras: privarlo de la vida intrauterina (muerte al feto dentro del vientre materno) o provocar su expulsión prematura de modo de producir la muerte por falta de condiciones de viabilidad.  Si sobrevive (aborto frustrado) – Si la muerte se produce por otra conducta desplegada: concurso real con un homicidio o infanticidio consum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istintas posiciones: acción/omisión. 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usarlo vs. no evitar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Medios de comisión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El CP no hace referencia.  Abier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edios específicos (químicos o mecánico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Medios genéricos (golpes, lesiones, medios morales).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Clas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no voluntario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Causado con violencia.  Art. 342 Nº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Causado sin violencia.  Art. 342 Nº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orto </a:t>
            </a: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sin propósito</a:t>
            </a: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 de causarlo.  Art. 34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orto voluntario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utoaborto.  Art. 344, inciso primero, primera pa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Aborto consentido.  Art. 344, inciso primero, segunda parte y Art. 342 Nº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rtículo 345</a:t>
            </a:r>
            <a:r>
              <a:rPr b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8000"/>
                </a:solidFill>
                <a:latin typeface="Eurostile"/>
                <a:ea typeface="Eurostile"/>
              </a:rPr>
              <a:t>Aborto no voluntari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Malicios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Mayoría: Limitación del tipo subjetivo.  Excluye dolo eventual/culpa (imprudenci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Etcheberry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: Historia fidedigna.  Vinculación con la antijuridicidad.  Consecuencias.  Crít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rostile"/>
                <a:ea typeface="Eurostile"/>
              </a:rPr>
              <a:t>Sujeto activo.  Excl. mujer embarazada (Art. 344) y el facultativo (Art. 34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1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  Violencia.  Forzar a la mujer física o moralmente (actu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ontra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 su volunta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Fuerza física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.  Golpes en el vientre, sustancias, introducción forzada de instrumentos.  Causar el aborto o que la mujer se lo cau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Fuerza moral.  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oacción/intimidación (amplio).  Condiciones: seria, verosímil y grave, consistente en amenazas que apunten directa e inmediatamente a la integridad física de la mujer o de un tercero relacionado y que se encuentre presente.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ontenido de la violencia ejercida contra la mujer embarazada.  Muerte o lesiones ocasionadas (que superen las 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rmalmente comprendidas en un aborto violento).  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Dolo o culpa del sujeto activo.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Excluye dolo eventual/culpa (imprudencia).  Fundamento. Etcheberry (otro fundam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2 Nº2 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Pena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 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Falta o ausencia 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de consentimiento en relación al abo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 puede darlo (inconscie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Viciado (equivalente a la falta o ausencia).  Carece de comprensión sobre el hecho, engañada o amenaza de males 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morales (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no físicos</a:t>
            </a:r>
            <a:r>
              <a:rPr b="0" i="1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, penalmente inimputable (discutido: caso a cas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aso (erro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  Mayoría/Etcheber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rostile"/>
                <a:ea typeface="Eurostile"/>
              </a:rPr>
              <a:t>Cas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Eurostile"/>
                <a:ea typeface="Eurostile"/>
              </a:rPr>
              <a:t>Artículo 343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e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Tipo obje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Violenci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onsisten en el ejercicio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olos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(directo o eventual) de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fuerza física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(excluye intimidación) o malos tratos de obra o lesiones (leves o menos graves).  Distintas de las propias de las maniobras abortivas (subsunció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i las violencias superan el límite de lesiones menos graves o lesiones culposas del 490 Nº2, posible aplicación del Art. 75 C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el embarazo sea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no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el embarazo 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le conste al hech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Tipo subjetiv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Requisi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octrin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  Postura mayoritaria.  Discrepancias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6:42:44Z</dcterms:created>
  <dc:creator>mac</dc:creator>
  <dc:description/>
  <dc:language>en-US</dc:language>
  <cp:lastModifiedBy>mac</cp:lastModifiedBy>
  <cp:lastPrinted>2010-06-07T17:53:01Z</cp:lastPrinted>
  <dcterms:modified xsi:type="dcterms:W3CDTF">2010-06-16T14:49:06Z</dcterms:modified>
  <cp:revision>69</cp:revision>
  <dc:subject/>
  <dc:title>Delito de aborto</dc:title>
</cp:coreProperties>
</file>