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F90B8-4BB3-484A-8CE4-1FC17A0FC6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17C56-519B-4816-AECA-CB2BAAB6B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30029-8F20-47E8-BEE8-CC608B2F5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44727-26D1-46F0-85F5-CA923BAC3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47BDB-50FB-443A-8B3D-3356651E6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66A2D-07C7-4097-8B18-CBA2B12A9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0512B-A9FF-4106-9C7E-483F63E13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FB5CDA-81C7-456E-9DE3-81AF443F1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3588E-1F60-4EC5-8C80-8D9F92D09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32D27-333F-49DA-B370-4D9990976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ED6-62C3-4E01-940F-871D1EBA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DE0-DCA6-4C65-8000-C6A6D3C8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ECE-C691-4286-AE5F-CC73290C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8059-9F43-4C29-B246-9D686AD7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FA2-5383-47D9-B9B9-376E4675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911E-3CFC-4BB5-BCB9-FDCAD792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0BBC-06FB-466C-9F5F-3C1FF86A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6D16-3B5D-4FA2-97E4-98750586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2E31-7B9F-4D62-AEC7-6707352C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3CF5-ED8C-4D33-B67B-52F6CCA5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DE55-274E-4AE3-A32D-7753A520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F018-5EB5-4AD8-B58A-2D38EFD9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960F8-DE22-4117-9F90-2BE4360D53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5029C-6853-4929-B277-C3C2942E9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400" spc="-1" strike="noStrike">
                <a:solidFill>
                  <a:srgbClr val="008000"/>
                </a:solidFill>
                <a:latin typeface="Eurostile"/>
                <a:ea typeface="Eurostile"/>
              </a:rPr>
              <a:t>Delito de abor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rts. 342-345 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008000"/>
                </a:solidFill>
                <a:latin typeface="Eurostile"/>
                <a:ea typeface="Eurostile"/>
              </a:rPr>
              <a:t>Aborto voluntario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Eurostile"/>
                <a:ea typeface="Eurostile"/>
              </a:rPr>
              <a:t>Artículo 342 Nº3 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P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Sujeto activ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Consentimiento.  Requisitos.  Casos.  Participació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Tipo subjetivo.  Mayoría/Etcheber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Eurostile"/>
                <a:ea typeface="Eurostile"/>
              </a:rPr>
              <a:t>Artículo 344 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Pena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Calificación en relación con el sujeto activ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Hipótesis alternativ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Tipo subjetivo (Etcheberry, Politoff, Garrid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Consentimiento.  Requisi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Atenuante especial.  No comunicabl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Eurostile"/>
                <a:ea typeface="Eurostile"/>
              </a:rPr>
              <a:t>Artículo 345 CP </a:t>
            </a:r>
            <a:br>
              <a:rPr sz="3200"/>
            </a:br>
            <a:r>
              <a:rPr b="0" lang="es-ES_tradnl" sz="3200" spc="-1" strike="noStrike">
                <a:solidFill>
                  <a:srgbClr val="008000"/>
                </a:solidFill>
                <a:latin typeface="Eurostile"/>
                <a:ea typeface="Eurostile"/>
              </a:rPr>
              <a:t>(aborto voluntario y no voluntari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Pe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Tipo doblemente calificado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*Opiniones sobre el fundamento de la calificante.  *Reprochabilidad personal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*Excluida la mujer embarazada (referencia al Art. 342)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Facultativo.  Profesiones relacionadas con la conservación y restablecimiento de la salud (interpretación amplia del concepto facultativo.  Mayorí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Abusando de su oficio”.  </a:t>
            </a: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Opini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Tipo subjetivo: sólo dolo direc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8000"/>
                </a:solidFill>
                <a:latin typeface="Eurostile"/>
                <a:ea typeface="Eurostile"/>
              </a:rPr>
              <a:t>Te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Ubicación en el C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Concepto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Bien jurídico protegid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Análisis de los tipos penales contemplados en el Código Penal Chileno.  Arts. 342 a 345.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Clasificación</a:t>
            </a: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.  Tradicional/actu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Tipo objetivo (en lo común a todas las figura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Iter crimin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Anteproyecto de Código Penal.  Foro Pe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Aborto terapéutico</a:t>
            </a: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.  Antes y después de la modificación al Art. 119 del Código Sanitario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Breve reseña de la discus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Legislación compara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008000"/>
                </a:solidFill>
                <a:uFillTx/>
                <a:latin typeface="Eurostile"/>
                <a:ea typeface="Eurostile"/>
              </a:rPr>
              <a:t>Tipo objetivo</a:t>
            </a:r>
            <a:r>
              <a:rPr b="0" lang="es-ES_tradnl" sz="2800" spc="-1" strike="noStrike">
                <a:solidFill>
                  <a:srgbClr val="008000"/>
                </a:solidFill>
                <a:latin typeface="Eurostile"/>
                <a:ea typeface="Eurostile"/>
              </a:rPr>
              <a:t>: elementos comu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Mujer embaraza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Embrión o feto viv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Conducta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.  Acción de dar muerte al embrión o fe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Podrá alcanzarse de dos maneras: privarlo de la vida intrauterina (muerte al feto dentro del vientre materno) o provocar su expulsión prematura de modo de producir la muerte por falta de condiciones de viabilidad.  Si sobrevive (aborto frustrado) – Si la muerte se produce por otra conducta desplegada: concurso real con un homicidio o infanticidio consum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Distintas posiciones: acción/omisión.  </a:t>
            </a: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Causarlo vs. no evitar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Medios de comisión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.  El CP no hace referencia.  Abier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Medios específicos (químicos o mecánico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Medios genéricos (golpes, lesiones, medios morales).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Eurostile"/>
                <a:ea typeface="Eurostile"/>
              </a:rPr>
              <a:t>Clasifi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Aborto no voluntario</a:t>
            </a:r>
            <a:r>
              <a:rPr b="1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Causado con violencia.  Art. 342 Nº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Causado sin violencia.  Art. 342 Nº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Aborto </a:t>
            </a:r>
            <a:r>
              <a:rPr b="0" i="1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sin propósito</a:t>
            </a: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 de causarlo.  Art. 34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Aborto voluntario</a:t>
            </a:r>
            <a:r>
              <a:rPr b="1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Autoaborto.  Art. 344, inciso primero, primera par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Aborto consentido.  Art. 344, inciso primero, segunda parte y Art. 342 Nº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Artículo 345</a:t>
            </a:r>
            <a:r>
              <a:rPr b="1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008000"/>
                </a:solidFill>
                <a:latin typeface="Eurostile"/>
                <a:ea typeface="Eurostile"/>
              </a:rPr>
              <a:t>Aborto no voluntario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Eurostile"/>
                <a:ea typeface="Eurostile"/>
              </a:rPr>
              <a:t>Artículo 342 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Maliciosam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Mayoría: Limitación del tipo subjetivo.  Excluye dolo eventual/culpa (imprudenci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Etcheberry</a:t>
            </a: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: Historia fidedigna.  Vinculación con la antijuridicidad.  Consecuencias.  Críti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Sujeto activo.  Excl. mujer embarazada (Art. 344) y el facultativo (Art. 34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Eurostile"/>
                <a:ea typeface="Eurostile"/>
              </a:rPr>
              <a:t>Artículo 342 Nº1 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Pe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Tipo objetivo.  Violencia.  Forzar a la mujer física o moralmente (actuar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contra</a:t>
            </a: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 su voluntad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Fuerza física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.  Golpes en el vientre, sustancias, introducción forzada de instrumentos.  Causar el aborto o que la mujer se lo cau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Fuerza moral.  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Coacción/intimidación (amplio).  Condiciones: seria, verosímil y grave, consistente en amenazas que apunten directa e inmediatamente a la integridad física de la mujer o de un tercero relacionado y que se encuentre presente.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Contenido de la violencia ejercida contra la mujer embarazada.  Muerte o lesiones ocasionadas (que superen las </a:t>
            </a:r>
            <a:r>
              <a:rPr b="0" i="1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normalmente comprendidas en un aborto violento).  </a:t>
            </a: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Dolo o culpa del sujeto activo.</a:t>
            </a:r>
            <a:r>
              <a:rPr b="0" i="1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Tipo subjetivo.  Excluye dolo eventual/culpa (imprudencia).  Fundamento. Etcheberry (otro fundament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Eurostile"/>
                <a:ea typeface="Eurostile"/>
              </a:rPr>
              <a:t>Artículo 342 Nº2 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Pena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Tipo objetivo. 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Falta o ausencia </a:t>
            </a: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de consentimiento en relación al abor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No puede darlo (inconscient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Viciado (equivalente a la falta o ausencia).  Carece de comprensión sobre el hecho, engañada o amenaza de males </a:t>
            </a:r>
            <a:r>
              <a:rPr b="0" i="1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morales (</a:t>
            </a: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no físicos</a:t>
            </a:r>
            <a:r>
              <a:rPr b="0" i="1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, penalmente inimputable (discutido: caso a cas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Caso (erro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Tipo subjetivo.  Mayoría/Etcheber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Caso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Eurostile"/>
                <a:ea typeface="Eurostile"/>
              </a:rPr>
              <a:t>Artículo 343 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Pe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Tipo objetiv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Violenci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Consisten en el ejercicio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doloso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(directo o eventual) de </a:t>
            </a:r>
            <a:r>
              <a:rPr b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fuerza física 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(excluye intimidación) o malos tratos de obra o lesiones (leves o menos graves).  Distintas de las propias de las maniobras abortivas (subsunción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Si las violencias superan el límite de lesiones menos graves o lesiones culposas del 490 Nº2, posible aplicación del Art. 75 CP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Que el embarazo sea </a:t>
            </a: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noto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Que el embarazo </a:t>
            </a: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le conste al hech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Tipo subjetivo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.  Requisi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Doctrina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.  Postura mayoritaria.  Discrepancias.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6:42:44Z</dcterms:created>
  <dc:creator>mac</dc:creator>
  <dc:description/>
  <dc:language>en-US</dc:language>
  <cp:lastModifiedBy>mac</cp:lastModifiedBy>
  <cp:lastPrinted>2010-06-07T17:53:01Z</cp:lastPrinted>
  <dcterms:modified xsi:type="dcterms:W3CDTF">2010-06-16T14:49:06Z</dcterms:modified>
  <cp:revision>69</cp:revision>
  <dc:subject/>
  <dc:title>Delito de aborto</dc:title>
</cp:coreProperties>
</file>