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E9CA2-E704-4170-B9AF-74D2DC154B2F}" type="datetime">
              <a:rPr b="0" lang="es-ES_tradnl" sz="1200" spc="-1" strike="noStrike">
                <a:solidFill>
                  <a:srgbClr val="000000"/>
                </a:solidFill>
                <a:latin typeface="Calibri"/>
              </a:rPr>
              <a:t>31/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9088C-7E6D-48B4-89B6-70D9BEA3D1F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11F43-4EED-4BDA-B42C-1A18A980DD8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71350-7C22-4F00-974D-CB1D4A9D0B2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BDE06-7992-42C6-A58B-933CB72A276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C4AD3-6AF2-457F-A344-9099897226C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BE5FA-F560-4C60-8FF8-693644B035E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D2A35-37DD-48A8-BE0C-FD7CA572C2D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293F3-558E-44FE-B16A-1926EC52DF2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B4597-3ED8-491D-A069-7381A017AE8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94FE0-9D5E-40E8-921D-70CD8645E21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0E389-614B-4AF0-8E49-3D50196FE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A9CA-B469-4D9C-97D4-EC99DDA4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378C6-1EAD-4F0C-BD42-0BAF9D41C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628A6-5BA6-48F8-9FB8-BFE9DAEAA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EB2D5-9825-49FC-996E-27B19F06B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FC71B-F5E1-4EB1-9283-B73999537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82C5B-3CF8-4458-9E6F-4CF0912FB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94162-3656-4D9E-A95D-90DE64FB5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2339D-3AD5-4AB5-9C3B-F2996568B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5EF2F-B89F-461B-914C-809AEDAB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28A28-5626-4F83-AF14-1DB75FF8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D6B60-0CBE-4657-A379-9FDF48FC8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29FE-A8A8-49DA-87A3-0087D67F1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8387-8251-47D3-8E23-9D9A68B0D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ED1A-B93D-49EC-8CD8-597D018D7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F0C44-EC03-4ACA-8E4B-1B33E9CE3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427B5-F504-4F6F-8EF6-02297CDE2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A1E04-B296-43C2-9BE7-72ED1B9D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F60D6-F8AB-4A05-9FD7-7CD84753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98A8-5770-412B-8F5F-497BF3C3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75C4-6ABF-4039-961B-84256A5D5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8FB9-E492-4C95-BD19-B0B84861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CC45-D614-448D-B72C-AF8B9E4B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4B48-59AC-41BC-A03F-0967851DE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E868D-414D-4521-A728-2335D36B399B}" type="datetime">
              <a:rPr b="0" lang="es-ES_trad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942A2-F2BB-4AE6-97B1-ADD3A07BAE53}"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B215A-0CCA-4895-A750-0C392B5B4712}"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ff"/>
                </a:solidFill>
                <a:latin typeface="Eurostile"/>
                <a:ea typeface="Eurostile"/>
              </a:rPr>
              <a:t>ITER CRIMINIS</a:t>
            </a:r>
            <a:br>
              <a:rPr sz="2200"/>
            </a:br>
            <a:r>
              <a:rPr b="1" lang="en-US" sz="1800" spc="-1" strike="noStrike">
                <a:solidFill>
                  <a:srgbClr val="000000"/>
                </a:solidFill>
                <a:latin typeface="Eurostile"/>
                <a:ea typeface="Eurostile"/>
              </a:rPr>
              <a:t>Etapas de ejecución o de desarrollo del delito.</a:t>
            </a:r>
            <a:br>
              <a:rPr sz="3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Actos preparatorios.</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Tentativa.</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Delito Frustrado.</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Consumación.</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107" name=""/>
          <p:cNvGraphicFramePr/>
          <p:nvPr/>
        </p:nvGraphicFramePr>
        <p:xfrm>
          <a:off x="1143000" y="1600200"/>
          <a:ext cx="6629400" cy="3921120"/>
        </p:xfrm>
        <a:graphic>
          <a:graphicData uri="http://schemas.openxmlformats.org/drawingml/2006/table">
            <a:tbl>
              <a:tblPr/>
              <a:tblGrid>
                <a:gridCol w="2057400"/>
                <a:gridCol w="1523880"/>
                <a:gridCol w="1524240"/>
                <a:gridCol w="1523880"/>
              </a:tblGrid>
              <a:tr h="941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Au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Cómpl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Encubrid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consum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0: Toda la pen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7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frustr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6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Tentativ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4: Cuatro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 (co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450 inciso 1º; Ley 20.000 (Art. 18).</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Art. 9 CP.</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Art. 494 bis (falta de hurto frustrada).</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ff"/>
                </a:solidFill>
                <a:latin typeface="Eurostile"/>
              </a:rPr>
              <a:t>Naturaleza y efectos de algunas penas.  Artículos 32 a 49 CP inclusiv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1417680"/>
          <a:ext cx="8229600" cy="51973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ayor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diez años y un día a quinc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ce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P simple y calificado (Art. 32 b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Inhabilitación absoluta y especial temporal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cinco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sie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iete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Crím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Simples delitos.</a:t>
            </a:r>
            <a:endParaRPr b="0" lang="en-US" sz="3200" spc="-1" strike="noStrike">
              <a:solidFill>
                <a:srgbClr val="000000"/>
              </a:solidFill>
              <a:latin typeface="Calibri"/>
            </a:endParaRPr>
          </a:p>
        </p:txBody>
      </p:sp>
      <p:graphicFrame>
        <p:nvGraphicFramePr>
          <p:cNvPr id="114" name=""/>
          <p:cNvGraphicFramePr/>
          <p:nvPr/>
        </p:nvGraphicFramePr>
        <p:xfrm>
          <a:off x="457200" y="1600200"/>
          <a:ext cx="8229600" cy="481320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2030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enores</a:t>
                      </a:r>
                      <a:r>
                        <a:rPr b="0" lang="en-US" sz="1800" spc="-1" strike="noStrike">
                          <a:solidFill>
                            <a:srgbClr val="000000"/>
                          </a:solidFill>
                          <a:latin typeface="Calibri"/>
                        </a:rPr>
                        <a:t> y destierro.</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cinco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o a quinientos cuarenta día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ientos cuarenta y un días a tres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tres años y un día a cinco añ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ena aflictiva.  Art. 37.</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1479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uspensión de cargo y oficio público y profesión titular.</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un año.</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 año y un día a do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dos años y un día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Faltas.</a:t>
            </a:r>
            <a:endParaRPr b="0" lang="en-US" sz="3200" spc="-1" strike="noStrike">
              <a:solidFill>
                <a:srgbClr val="000000"/>
              </a:solidFill>
              <a:latin typeface="Calibri"/>
            </a:endParaRPr>
          </a:p>
        </p:txBody>
      </p:sp>
      <p:graphicFrame>
        <p:nvGraphicFramePr>
          <p:cNvPr id="116" name=""/>
          <p:cNvGraphicFramePr/>
          <p:nvPr/>
        </p:nvGraphicFramePr>
        <p:xfrm>
          <a:off x="457200" y="1600200"/>
          <a:ext cx="8229600" cy="224784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31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risió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veinte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veintiuno a cuar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uarenta y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O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200" spc="-1" strike="noStrike">
                <a:solidFill>
                  <a:srgbClr val="000000"/>
                </a:solidFill>
                <a:latin typeface="Eurostile"/>
                <a:ea typeface="Eurostile"/>
              </a:rPr>
              <a:t>V. Anteproyecto Código Penal/ 2005.  </a:t>
            </a:r>
            <a:br>
              <a:rPr sz="2200"/>
            </a:br>
            <a:r>
              <a:rPr b="1" lang="es-MX" sz="2200" spc="-1" strike="noStrike">
                <a:solidFill>
                  <a:srgbClr val="000000"/>
                </a:solidFill>
                <a:latin typeface="Eurostile"/>
                <a:ea typeface="Eurostile"/>
              </a:rPr>
              <a:t>Comisión Foro Penal  </a:t>
            </a:r>
            <a:br>
              <a:rPr sz="3600"/>
            </a:br>
            <a:endParaRPr b="0" lang="en-US" sz="22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 </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Art. 5º: </a:t>
            </a:r>
            <a:r>
              <a:rPr b="0" lang="es-MX" sz="2400" spc="-1" strike="noStrike">
                <a:solidFill>
                  <a:srgbClr val="000000"/>
                </a:solidFill>
                <a:latin typeface="Eurostile"/>
                <a:ea typeface="Eurostile"/>
              </a:rPr>
              <a:t>Además del delito consumado, es punible el </a:t>
            </a:r>
            <a:r>
              <a:rPr b="1" lang="es-MX" sz="2400" spc="-1" strike="noStrike">
                <a:solidFill>
                  <a:srgbClr val="000000"/>
                </a:solidFill>
                <a:latin typeface="Eurostile"/>
                <a:ea typeface="Eurostile"/>
              </a:rPr>
              <a:t>crimen </a:t>
            </a:r>
            <a:r>
              <a:rPr b="0" lang="es-MX" sz="2400" spc="-1" strike="noStrike">
                <a:solidFill>
                  <a:srgbClr val="000000"/>
                </a:solidFill>
                <a:latin typeface="Eurostile"/>
                <a:ea typeface="Eurostile"/>
              </a:rPr>
              <a:t>frustrado o tentado.  El simple delito frustrado o tentado es punible cuando la ley lo disponga especialmente.</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frustrado cuando el sujeto pone de su parte todo lo necesario para que se consume, pero esto no se verifica.</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tentado cuando el sujeto da principio a su ejecución por hechos directos, pero faltan uno o más para su complement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Está exento de pena por el delito tentado o frustrado quien se </a:t>
            </a:r>
            <a:r>
              <a:rPr b="1" lang="es-MX" sz="2400" spc="-1" strike="noStrike">
                <a:solidFill>
                  <a:srgbClr val="000000"/>
                </a:solidFill>
                <a:latin typeface="Eurostile"/>
                <a:ea typeface="Eurostile"/>
              </a:rPr>
              <a:t>desiste de su ejecución o impide la producción del resultad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Consumación.  </a:t>
            </a:r>
            <a:endParaRPr b="0" lang="en-US" sz="32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Realización </a:t>
            </a:r>
            <a:r>
              <a:rPr b="1" lang="es-MX" sz="2400" spc="-1" strike="noStrike">
                <a:solidFill>
                  <a:srgbClr val="000000"/>
                </a:solidFill>
                <a:latin typeface="Eurostile"/>
                <a:ea typeface="Eurostile"/>
              </a:rPr>
              <a:t>completa </a:t>
            </a:r>
            <a:r>
              <a:rPr b="0" lang="es-MX" sz="2400" spc="-1" strike="noStrike">
                <a:solidFill>
                  <a:srgbClr val="000000"/>
                </a:solidFill>
                <a:latin typeface="Eurostile"/>
                <a:ea typeface="Eurostile"/>
              </a:rPr>
              <a:t>del hecho típic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Corresponde a la </a:t>
            </a:r>
            <a:r>
              <a:rPr b="1" lang="es-MX" sz="2400" spc="-1" strike="noStrike">
                <a:solidFill>
                  <a:srgbClr val="000000"/>
                </a:solidFill>
                <a:latin typeface="Eurostile"/>
                <a:ea typeface="Eurostile"/>
              </a:rPr>
              <a:t>plena y total realización</a:t>
            </a:r>
            <a:r>
              <a:rPr b="0" lang="es-MX" sz="2400" spc="-1" strike="noStrike">
                <a:solidFill>
                  <a:srgbClr val="000000"/>
                </a:solidFill>
                <a:latin typeface="Eurostile"/>
                <a:ea typeface="Eurostile"/>
              </a:rPr>
              <a:t> de la descripción legal de cada figura delictiv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Es aquél que cumple con todas las condiciones subjetivas y objetivas enumeradas por la figura penal, aquél en que se da, en su integridad el proceso conductual y material descrito por el tipo respectiv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Eurostile"/>
                <a:ea typeface="Eurostile"/>
              </a:rPr>
              <a:t>Importancia</a:t>
            </a:r>
            <a:r>
              <a:rPr b="0" lang="es-MX" sz="2400" spc="-1" strike="noStrike">
                <a:solidFill>
                  <a:srgbClr val="000000"/>
                </a:solidFill>
                <a:latin typeface="Eurostile"/>
                <a:ea typeface="Eurostile"/>
              </a:rPr>
              <a:t>: Distinción según tipos de delitos.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000000"/>
                </a:solidFill>
                <a:latin typeface="Eurostile"/>
              </a:rPr>
              <a:t>Fase de agotamiento del delito.  Delito agotado.</a:t>
            </a:r>
            <a:br>
              <a:rPr sz="2800"/>
            </a:br>
            <a:r>
              <a:rPr b="0" lang="es-MX" sz="2800" spc="-1" strike="noStrike">
                <a:solidFill>
                  <a:srgbClr val="000000"/>
                </a:solidFill>
                <a:latin typeface="Eurostile"/>
              </a:rPr>
              <a:t>Francesco Carrara  (1805-1888).</a:t>
            </a:r>
            <a:br>
              <a:rPr sz="2800"/>
            </a:br>
            <a:r>
              <a:rPr b="1" lang="es-MX" sz="1400" spc="-1" strike="noStrike">
                <a:solidFill>
                  <a:srgbClr val="000000"/>
                </a:solidFill>
                <a:latin typeface="Eurostile"/>
              </a:rPr>
              <a:t>Jurisconsulto y profesor italiano.  Mayor representante de la Escuela Clásica.</a:t>
            </a:r>
            <a:endParaRPr b="0" lang="en-US" sz="1400" spc="-1" strike="noStrike">
              <a:solidFill>
                <a:srgbClr val="000000"/>
              </a:solidFill>
              <a:latin typeface="Calibri"/>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No sólo se cumple el proceso descrito por la ley sino que se </a:t>
            </a:r>
            <a:r>
              <a:rPr b="1" lang="es-MX" sz="2400" spc="-1" strike="noStrike">
                <a:solidFill>
                  <a:srgbClr val="000000"/>
                </a:solidFill>
                <a:latin typeface="Eurostile"/>
              </a:rPr>
              <a:t>concreta la aspiración, el fin o provecho que pretendía lograr el sujeto con la realización del delit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Relevancia del agotamiento. </a:t>
            </a:r>
            <a:endParaRPr b="0" lang="en-US" sz="2400" spc="-1" strike="noStrike">
              <a:solidFill>
                <a:srgbClr val="000000"/>
              </a:solidFill>
              <a:latin typeface="Calibri"/>
            </a:endParaRPr>
          </a:p>
        </p:txBody>
      </p:sp>
      <p:pic>
        <p:nvPicPr>
          <p:cNvPr id="123" name="Picture 4" descr="Francesco Carrara"/>
          <p:cNvPicPr/>
          <p:nvPr/>
        </p:nvPicPr>
        <p:blipFill>
          <a:blip r:embed="rId1"/>
          <a:stretch/>
        </p:blipFill>
        <p:spPr>
          <a:xfrm>
            <a:off x="1476360" y="1989000"/>
            <a:ext cx="2425680" cy="32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000" spc="-1" strike="noStrike">
                <a:solidFill>
                  <a:srgbClr val="0000ff"/>
                </a:solidFill>
                <a:latin typeface="Eurostile"/>
                <a:ea typeface="Eurostile"/>
              </a:rPr>
              <a:t>Faz objetiva</a:t>
            </a:r>
            <a:br>
              <a:rPr sz="3200"/>
            </a:br>
            <a:endParaRPr b="0" lang="en-US" sz="2000" spc="-1" strike="noStrike">
              <a:solidFill>
                <a:srgbClr val="000000"/>
              </a:solidFill>
              <a:latin typeface="Calibri"/>
            </a:endParaRPr>
          </a:p>
        </p:txBody>
      </p:sp>
      <p:sp>
        <p:nvSpPr>
          <p:cNvPr id="125" name=""/>
          <p:cNvSpPr txBox="1"/>
          <p:nvPr/>
        </p:nvSpPr>
        <p:spPr>
          <a:xfrm>
            <a:off x="457200" y="1417320"/>
            <a:ext cx="8229600" cy="4708440"/>
          </a:xfrm>
          <a:prstGeom prst="rect">
            <a:avLst/>
          </a:prstGeom>
          <a:noFill/>
          <a:ln w="0">
            <a:noFill/>
          </a:ln>
        </p:spPr>
        <p:txBody>
          <a:bodyPr anchor="t">
            <a:normAutofit fontScale="59000"/>
          </a:bodyPr>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linde entre la los actos preparatorios (impunes </a:t>
            </a:r>
            <a:r>
              <a:rPr b="0" i="1" lang="es-ES_tradnl" sz="1800" spc="-1" strike="noStrike">
                <a:solidFill>
                  <a:srgbClr val="000000"/>
                </a:solidFill>
                <a:latin typeface="Eurostile"/>
                <a:ea typeface="Eurostile"/>
              </a:rPr>
              <a:t>rg</a:t>
            </a:r>
            <a:r>
              <a:rPr b="0" lang="es-ES_tradnl" sz="1800" spc="-1" strike="noStrike">
                <a:solidFill>
                  <a:srgbClr val="000000"/>
                </a:solidFill>
                <a:latin typeface="Eurostile"/>
                <a:ea typeface="Eurostile"/>
              </a:rPr>
              <a:t>) y la tentativa (punible)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para determinar cuando hay tentativa: teorías objetivas y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ea typeface="Eurostile"/>
              </a:rPr>
              <a:t>Enrique Cury.  Derecho Penal.  Parte General.  Ed. PUC.  2005.  pp 552-560.</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Teorías o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1. Propias.  Formal (Beling), Mixtas y Escéptic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2. Impropias. Pragmática (Carrara), Materiale, De la causalidad.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 Teorías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 Extrem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Limitada (Welzel).  Teoría objetiva individualizador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Artículo 7 inciso 3º</a:t>
            </a:r>
            <a:endParaRPr b="0" lang="en-US" sz="2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a:t>
            </a:r>
            <a:r>
              <a:rPr b="1" lang="es-ES_tradnl" sz="1600" spc="-1" strike="noStrike">
                <a:solidFill>
                  <a:srgbClr val="000000"/>
                </a:solidFill>
                <a:latin typeface="Eurostile"/>
                <a:ea typeface="Eurostile"/>
              </a:rPr>
              <a:t>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Welzel: Teoría objetiva individualizadora.  Cury.</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Su punto de partida es el mismo de la Teoría Formal de Beling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el principio de ejecución es el principio de ejecución de la </a:t>
            </a:r>
            <a:r>
              <a:rPr b="1" lang="es-ES_tradnl" sz="1600" spc="-1" strike="noStrike">
                <a:solidFill>
                  <a:srgbClr val="000000"/>
                </a:solidFill>
                <a:latin typeface="Eurostile"/>
                <a:ea typeface="Eurostile"/>
              </a:rPr>
              <a:t>conducta típica.</a:t>
            </a:r>
            <a:r>
              <a:rPr b="0" lang="es-ES_tradnl" sz="1600" spc="-1" strike="noStrike">
                <a:solidFill>
                  <a:srgbClr val="000000"/>
                </a:solidFill>
                <a:latin typeface="Eurostile"/>
                <a:ea typeface="Eurostile"/>
              </a:rPr>
              <a:t>  Requisito en un Estado democrático de Derecho en virtud del principio de legalidad. </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Los tipos penales se construyen en base a un esquema rector (ley) pero su contenido ejecutivo es cambiante (variable) y dependiente del plan del autor.</a:t>
            </a:r>
            <a:r>
              <a:rPr b="0" lang="es-ES_tradnl" sz="1600" spc="-1" strike="noStrike">
                <a:solidFill>
                  <a:srgbClr val="000000"/>
                </a:solidFill>
                <a:latin typeface="Eurostile"/>
                <a:ea typeface="Eurostile"/>
              </a:rPr>
              <a:t> (manera como el autor ha planeado realizar el hecho típic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u="sng">
                <a:solidFill>
                  <a:srgbClr val="000000"/>
                </a:solidFill>
                <a:uFillTx/>
                <a:latin typeface="Eurostile"/>
                <a:ea typeface="Eurostile"/>
              </a:rPr>
              <a:t>Habría principio de ejecución cuando el sujeto activo se ponga en relación inmediata o directa con el tipo penal según el plan del autor</a:t>
            </a:r>
            <a:r>
              <a:rPr b="0" i="1"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bjetiva/material.  </a:t>
            </a:r>
            <a:r>
              <a:rPr b="0" lang="es-ES_tradnl" sz="1600" spc="-1" strike="noStrike" u="sng">
                <a:solidFill>
                  <a:srgbClr val="000000"/>
                </a:solidFill>
                <a:uFillTx/>
                <a:latin typeface="Eurostile"/>
                <a:ea typeface="Eurostile"/>
              </a:rPr>
              <a:t>Cuando la realización del plan del autor representa para un tercero imparcial, un peligro para un bien jurídico concreto</a:t>
            </a:r>
            <a:r>
              <a:rPr b="0"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Hechos directos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tros autores).</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Debe ser apto o idóneo para causar el resultado típico (GM, E, PMR).  Potencialidad causal para alcanzar el efecto esperad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Para la producción del resultado deben faltar todavía uno o más actos.  </a:t>
            </a:r>
            <a:r>
              <a:rPr b="0" lang="es-ES_tradnl" sz="1600" spc="-1" strike="noStrike">
                <a:solidFill>
                  <a:srgbClr val="000000"/>
                </a:solidFill>
                <a:latin typeface="Eurostile"/>
                <a:ea typeface="Eurostile"/>
              </a:rPr>
              <a:t>El sujeto no ha ejecutado todos los actos que objetivamente conducirían a la realización del tipo legal (no voluntari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ff"/>
                </a:solidFill>
                <a:latin typeface="Eurostile"/>
                <a:ea typeface="Eurostile"/>
              </a:rPr>
              <a:t>Bibliografía.</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Mario Garrido Montt.  Derecho Penal.  T I.  Ed. Jur. 199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Alfredo Etcheberry.  Derecho Penal.  Parte General.  T I.  Ed. Jur.  1998.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Cury.  Derecho Penal.  Parte General.  Ed. PUC.  2005.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Francisco Muñoz Conde y Mercedes García Arán. Derecho Penal.  Parte General. Ed. Tirant Lo blanch.  2000.</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Lifschitz. Los actos preparatorios del delito. Tentativa y Frustración. Edit. Jur.  1999.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Gustavo Labatut Glena.  Derecho Penal.  T I.  Ed. Jur.  200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Jean Pierre Matus y María Cecilia Ramírez (PMR).  Lecciones de Derecho Penal Chileno.  Ed. Jur.  2003.</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Bacigalupo.  Derecho Penal.  Parte General.  Ed. Hammurabi.   1999.</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Santiago Mir Puig.  Derecho Penal.  Parte General.  Ed Reppertor.  2002.</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Hans Jescheck.  Tratado de Derecho Penal.  Parte General.  Ed. Comares.  200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400" spc="-1" strike="noStrike">
                <a:solidFill>
                  <a:srgbClr val="0000ff"/>
                </a:solidFill>
                <a:latin typeface="Eurostile"/>
                <a:ea typeface="Eurostile"/>
              </a:rPr>
              <a:t>Faz subjetiva</a:t>
            </a:r>
            <a:endParaRPr b="0" lang="en-US" sz="2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be haber DOLO en quien comete una tentativa de crimen o simple delit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enso: el dolo de la tentativa es el mismo dolo del delito consum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l dolo de la tentativa es dolo de consumación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DISCUSIÓN.  ¿Todas las formas de dolo son compatibles con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A) </a:t>
            </a:r>
            <a:r>
              <a:rPr b="0" lang="es-ES_tradnl" sz="1800" spc="-1" strike="noStrike">
                <a:solidFill>
                  <a:srgbClr val="000000"/>
                </a:solidFill>
                <a:latin typeface="Eurostile"/>
                <a:ea typeface="Eurostile"/>
              </a:rPr>
              <a:t>La tentativa puede ser cometida con dolo de primer grado; de segundo y con dolo eventual (todas las formas de dol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B) </a:t>
            </a:r>
            <a:r>
              <a:rPr b="0" lang="es-ES_tradnl" sz="1800" spc="-1" strike="noStrike">
                <a:solidFill>
                  <a:srgbClr val="000000"/>
                </a:solidFill>
                <a:latin typeface="Eurostile"/>
                <a:ea typeface="Eurostile"/>
              </a:rPr>
              <a:t>(Feller, Cury)</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La tentativa sólo es compatible con el dolo directo o dolo de consecuencias necesarias, pero no con el dolo eventual.</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ECS. 24/09/2007.  (LP 37451).  Parricidio Frustrado</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del dolo: elementos subjetivos del tip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Eurostile"/>
                <a:ea typeface="Eurostile"/>
              </a:rPr>
              <a:t>DELITO FRUSTRADO</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n la tentativa han tenido lugar sólo parte de los actos de ejecución (no alcanzó a terminar la acción) y en la frustración, han tenido lugar todos pero el resultado no se produce porque faltan todavía factores causales dependientes de terceros o de fenómenos naturales o mecánico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Faz subjetiva del delito frustrad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sin diferencias con la tentativa.</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Sólo es concebible en los delitos de result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astigado con una pena mayor que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l resultado no se produce por causas ajenas a su voluntad.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ff"/>
                </a:solidFill>
                <a:latin typeface="Eurostile"/>
                <a:ea typeface="Eurostile"/>
              </a:rPr>
              <a:t>Faz objetiva del delito frustrado. </a:t>
            </a:r>
            <a:endParaRPr b="0" lang="en-US" sz="28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nteresa determinar cuándo el sujeto realiza toda la acción típica (teoría objetiva: </a:t>
            </a:r>
            <a:r>
              <a:rPr b="1" lang="es-MX" sz="2000" spc="-1" strike="noStrike">
                <a:solidFill>
                  <a:srgbClr val="000000"/>
                </a:solidFill>
                <a:latin typeface="Eurostile"/>
                <a:ea typeface="Eurostile"/>
              </a:rPr>
              <a:t>Carrara, Politoff (Matus/Ramírez), Bustos, ot.</a:t>
            </a:r>
            <a:r>
              <a:rPr b="0" lang="es-MX" sz="2000" spc="-1" strike="noStrike">
                <a:solidFill>
                  <a:srgbClr val="000000"/>
                </a:solidFill>
                <a:latin typeface="Eurostile"/>
                <a:ea typeface="Eurostile"/>
              </a:rPr>
              <a:t> – teoría subjetiva: </a:t>
            </a:r>
            <a:r>
              <a:rPr b="1" lang="es-MX" sz="2000" spc="-1" strike="noStrike">
                <a:solidFill>
                  <a:srgbClr val="000000"/>
                </a:solidFill>
                <a:latin typeface="Eurostile"/>
                <a:ea typeface="Eurostile"/>
              </a:rPr>
              <a:t>Maurach, Welzel, Cury</a:t>
            </a:r>
            <a:r>
              <a:rPr b="0" lang="es-MX"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 </a:t>
            </a:r>
            <a:r>
              <a:rPr b="0" lang="es-MX" sz="2000" spc="-1" strike="noStrike">
                <a:solidFill>
                  <a:srgbClr val="000000"/>
                </a:solidFill>
                <a:latin typeface="Eurostile"/>
                <a:ea typeface="Eurostile"/>
              </a:rPr>
              <a:t>PMR:</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Estaremos ante un delito frustrado si</a:t>
            </a:r>
            <a:r>
              <a:rPr b="0" lang="es-MX" sz="2000" spc="-1" strike="noStrike" u="sng">
                <a:solidFill>
                  <a:srgbClr val="000000"/>
                </a:solidFill>
                <a:uFillTx/>
                <a:latin typeface="Eurostile"/>
                <a:ea typeface="Eurostile"/>
              </a:rPr>
              <a:t>, dejados a su curso los hechos</a:t>
            </a:r>
            <a:r>
              <a:rPr b="0" lang="es-MX" sz="2000" spc="-1" strike="noStrike">
                <a:solidFill>
                  <a:srgbClr val="000000"/>
                </a:solidFill>
                <a:latin typeface="Eurostile"/>
                <a:ea typeface="Eurostile"/>
              </a:rPr>
              <a:t>, sin necesidad de una nueva intervención del agente, darían como resultado la consumación del delito.  En tal caso, se ha traspasado el límite que separa el estadio de la tentativa y estamos en el ámbito del delito frustrado”.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No es suficiente para hablar de frustración que el sujeto haga todo lo que esté a su alcance o pueda o crea suficiente, sino que ha de llevar a cabo todos los actos que abandonados a su curso natural darían como resultado la consumación del delit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Por eso se afirma que en el delito frustrado, </a:t>
            </a:r>
            <a:r>
              <a:rPr b="0" lang="es-MX" sz="2000" spc="-1" strike="noStrike" u="sng">
                <a:solidFill>
                  <a:srgbClr val="000000"/>
                </a:solidFill>
                <a:uFillTx/>
                <a:latin typeface="Eurostile"/>
                <a:ea typeface="Eurostile"/>
              </a:rPr>
              <a:t>al delincuente no le queda nada por hacer</a:t>
            </a:r>
            <a:r>
              <a:rPr b="0" lang="es-MX" sz="2000" spc="-1" strike="noStrike">
                <a:solidFill>
                  <a:srgbClr val="000000"/>
                </a:solidFill>
                <a:latin typeface="Eurostile"/>
                <a:ea typeface="Eurostile"/>
              </a:rPr>
              <a:t> </a:t>
            </a:r>
            <a:r>
              <a:rPr b="0" lang="es-MX" sz="2000" spc="-1" strike="noStrike">
                <a:solidFill>
                  <a:srgbClr val="000000"/>
                </a:solidFill>
                <a:latin typeface="Wingdings"/>
                <a:ea typeface="Wingdings"/>
              </a:rPr>
              <a:t></a:t>
            </a:r>
            <a:r>
              <a:rPr b="0" lang="es-MX" sz="2000" spc="-1" strike="noStrike">
                <a:solidFill>
                  <a:srgbClr val="000000"/>
                </a:solidFill>
                <a:latin typeface="Eurostile"/>
                <a:ea typeface="Eurostile"/>
              </a:rPr>
              <a:t> Si el resultado no se ha producido todavía es porque faltan </a:t>
            </a:r>
            <a:r>
              <a:rPr b="1" lang="es-MX" sz="2000" spc="-1" strike="noStrike">
                <a:solidFill>
                  <a:srgbClr val="000000"/>
                </a:solidFill>
                <a:latin typeface="Eurostile"/>
                <a:ea typeface="Eurostile"/>
              </a:rPr>
              <a:t>elementos causales</a:t>
            </a:r>
            <a:r>
              <a:rPr b="0" lang="es-MX" sz="2000" spc="-1" strike="noStrike">
                <a:solidFill>
                  <a:srgbClr val="000000"/>
                </a:solidFill>
                <a:latin typeface="Eurostile"/>
                <a:ea typeface="Eurostile"/>
              </a:rPr>
              <a:t> que </a:t>
            </a:r>
            <a:r>
              <a:rPr b="1" lang="es-MX" sz="2000" spc="-1" strike="noStrike">
                <a:solidFill>
                  <a:srgbClr val="000000"/>
                </a:solidFill>
                <a:latin typeface="Eurostile"/>
                <a:ea typeface="Eurostile"/>
              </a:rPr>
              <a:t>no consisten en actos del agente</a:t>
            </a:r>
            <a:r>
              <a:rPr b="0" lang="es-MX" sz="2000" spc="-1" strike="noStrike">
                <a:solidFill>
                  <a:srgbClr val="000000"/>
                </a:solidFill>
                <a:latin typeface="Eurostile"/>
                <a:ea typeface="Eurostile"/>
              </a:rPr>
              <a:t> sino en actos de terceros o en fenómenos natura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Nota: Diferencia con Cury: “La solución debe hallarse con arreglo a un criterio subjetivo.  El sujeto ha ejecutado toda la acción cuando desde el punto de vista de su representación, con el conocimiento de que dispone en el momento de obrar, ésta se encuentra concluid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 LA TENTATIVA  </a:t>
            </a:r>
            <a:br>
              <a:rPr sz="2400"/>
            </a:br>
            <a:r>
              <a:rPr b="0" lang="es-MX" sz="2400" spc="-1" strike="noStrike">
                <a:solidFill>
                  <a:srgbClr val="0000ff"/>
                </a:solidFill>
                <a:latin typeface="Eurostile"/>
                <a:ea typeface="Eurostile"/>
              </a:rPr>
              <a:t>(tentativa abandonada) </a:t>
            </a:r>
            <a:endParaRPr b="0" lang="en-US" sz="2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2000"/>
          </a:bodyPr>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Cesación </a:t>
            </a:r>
            <a:r>
              <a:rPr b="1" lang="es-MX" sz="1600" spc="-1" strike="noStrike" u="sng">
                <a:solidFill>
                  <a:srgbClr val="000000"/>
                </a:solidFill>
                <a:uFillTx/>
                <a:latin typeface="Eurostile"/>
                <a:ea typeface="Eurostile"/>
              </a:rPr>
              <a:t>voluntaria</a:t>
            </a:r>
            <a:r>
              <a:rPr b="1" lang="es-MX" sz="1600" spc="-1" strike="noStrike">
                <a:solidFill>
                  <a:srgbClr val="000000"/>
                </a:solidFill>
                <a:latin typeface="Eurostile"/>
                <a:ea typeface="Eurostile"/>
              </a:rPr>
              <a:t>, </a:t>
            </a:r>
            <a:r>
              <a:rPr b="0" lang="es-MX" sz="1600" spc="-1" strike="noStrike">
                <a:solidFill>
                  <a:srgbClr val="000000"/>
                </a:solidFill>
                <a:latin typeface="Eurostile"/>
                <a:ea typeface="Eurostile"/>
              </a:rPr>
              <a:t>de parte del sujeto activo, de la realización de la acción que ya había iniciado”.  “abandonar </a:t>
            </a:r>
            <a:r>
              <a:rPr b="1" lang="es-MX" sz="1600" spc="-1" strike="noStrike" u="sng">
                <a:solidFill>
                  <a:srgbClr val="000000"/>
                </a:solidFill>
                <a:uFillTx/>
                <a:latin typeface="Eurostile"/>
                <a:ea typeface="Eurostile"/>
              </a:rPr>
              <a:t>espontáneamente</a:t>
            </a:r>
            <a:r>
              <a:rPr b="0" lang="es-MX" sz="1600" spc="-1" strike="noStrike">
                <a:solidFill>
                  <a:srgbClr val="000000"/>
                </a:solidFill>
                <a:latin typeface="Eurostile"/>
                <a:ea typeface="Eurostile"/>
              </a:rPr>
              <a:t> la actividad típica mientras aún está en la etapa de ejecución”.</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u="sng">
                <a:solidFill>
                  <a:srgbClr val="000000"/>
                </a:solidFill>
                <a:uFillTx/>
                <a:latin typeface="Eurostile"/>
                <a:ea typeface="Eurostile"/>
              </a:rPr>
              <a:t>Condiciones del abandono de la ejecución para que tenga consecuencia liberadora de pena</a:t>
            </a: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Oportuno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Hay abandono cuando el sujeto cesa </a:t>
            </a:r>
            <a:r>
              <a:rPr b="0" lang="es-MX" sz="1600" spc="-1" strike="noStrike" u="sng">
                <a:solidFill>
                  <a:srgbClr val="000000"/>
                </a:solidFill>
                <a:uFillTx/>
                <a:latin typeface="Eurostile"/>
                <a:ea typeface="Eurostile"/>
              </a:rPr>
              <a:t>subjetiva </a:t>
            </a:r>
            <a:r>
              <a:rPr b="1" lang="es-MX" sz="1600" spc="-1" strike="noStrike" u="sng">
                <a:solidFill>
                  <a:srgbClr val="000000"/>
                </a:solidFill>
                <a:uFillTx/>
                <a:latin typeface="Eurostile"/>
                <a:ea typeface="Eurostile"/>
              </a:rPr>
              <a:t>y</a:t>
            </a:r>
            <a:r>
              <a:rPr b="0" lang="es-MX" sz="1600" spc="-1" strike="noStrike" u="sng">
                <a:solidFill>
                  <a:srgbClr val="000000"/>
                </a:solidFill>
                <a:uFillTx/>
                <a:latin typeface="Eurostile"/>
                <a:ea typeface="Eurostile"/>
              </a:rPr>
              <a:t> objetivamente</a:t>
            </a:r>
            <a:r>
              <a:rPr b="0" lang="es-MX" sz="1600" spc="-1" strike="noStrike">
                <a:solidFill>
                  <a:srgbClr val="000000"/>
                </a:solidFill>
                <a:latin typeface="Eurostile"/>
                <a:ea typeface="Eurostile"/>
              </a:rPr>
              <a:t> en su actividad, quedando otros actos que realizar por él mismo para poner término a la ejecución del delit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Espontáne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abandono será espontáneo si el sujeto está en la posibilidad de </a:t>
            </a:r>
            <a:r>
              <a:rPr b="0" i="1" lang="es-MX" sz="1600" spc="-1" strike="noStrike">
                <a:solidFill>
                  <a:srgbClr val="000000"/>
                </a:solidFill>
                <a:latin typeface="Eurostile"/>
                <a:ea typeface="Eurostile"/>
              </a:rPr>
              <a:t>escoger</a:t>
            </a:r>
            <a:r>
              <a:rPr b="0" lang="es-MX" sz="1600" spc="-1" strike="noStrike">
                <a:solidFill>
                  <a:srgbClr val="000000"/>
                </a:solidFill>
                <a:latin typeface="Eurostile"/>
                <a:ea typeface="Eurostile"/>
              </a:rPr>
              <a:t> entre continuar o no con la ejecución.  Se requiere que el agente no siga actuando cuando </a:t>
            </a:r>
            <a:r>
              <a:rPr b="0" i="1" lang="es-MX" sz="1600" spc="-1" strike="noStrike">
                <a:solidFill>
                  <a:srgbClr val="000000"/>
                </a:solidFill>
                <a:latin typeface="Eurostile"/>
                <a:ea typeface="Eurostile"/>
              </a:rPr>
              <a:t>podía</a:t>
            </a:r>
            <a:r>
              <a:rPr b="0" lang="es-MX" sz="1600" spc="-1" strike="noStrike">
                <a:solidFill>
                  <a:srgbClr val="000000"/>
                </a:solidFill>
                <a:latin typeface="Eurostile"/>
                <a:ea typeface="Eurostile"/>
              </a:rPr>
              <a:t> hacerl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Definitiv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sujeto debe </a:t>
            </a:r>
            <a:r>
              <a:rPr b="1" lang="es-MX" sz="1600" spc="-1" strike="noStrike">
                <a:solidFill>
                  <a:srgbClr val="000000"/>
                </a:solidFill>
                <a:latin typeface="Eurostile"/>
                <a:ea typeface="Eurostile"/>
              </a:rPr>
              <a:t>subjetivamente</a:t>
            </a:r>
            <a:r>
              <a:rPr b="0" lang="es-MX" sz="1600" spc="-1" strike="noStrike">
                <a:solidFill>
                  <a:srgbClr val="000000"/>
                </a:solidFill>
                <a:latin typeface="Eurostile"/>
                <a:ea typeface="Eurostile"/>
              </a:rPr>
              <a:t> tener la voluntad de abandonar  de manera definitiva la ejecución del delito, la mera suspensión para continuarla en un mejor momento no constituye desistimient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L DELITO FRUSTRADO.  </a:t>
            </a:r>
            <a:br>
              <a:rPr sz="2400"/>
            </a:br>
            <a:r>
              <a:rPr b="1" lang="es-MX" sz="2400" spc="-1" strike="noStrike">
                <a:solidFill>
                  <a:srgbClr val="0000ff"/>
                </a:solidFill>
                <a:latin typeface="Eurostile"/>
                <a:ea typeface="Eurostile"/>
              </a:rPr>
              <a:t>Abandono activo o arrepentimiento.</a:t>
            </a:r>
            <a:br>
              <a:rPr sz="2400"/>
            </a:br>
            <a:endParaRPr b="0" lang="en-US" sz="2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cepto</a:t>
            </a:r>
            <a:r>
              <a:rPr b="0" lang="es-MX" sz="1800" spc="-1" strike="noStrike">
                <a:solidFill>
                  <a:srgbClr val="000000"/>
                </a:solidFill>
                <a:latin typeface="Eurostile"/>
                <a:ea typeface="Eurostile"/>
              </a:rPr>
              <a:t> </a:t>
            </a:r>
            <a:r>
              <a:rPr b="0" lang="es-MX" sz="1800" spc="-1" strike="noStrike">
                <a:solidFill>
                  <a:srgbClr val="000000"/>
                </a:solidFill>
                <a:latin typeface="Wingdings"/>
                <a:ea typeface="Wingdings"/>
              </a:rPr>
              <a:t></a:t>
            </a:r>
            <a:r>
              <a:rPr b="0" lang="es-MX" sz="1800" spc="-1" strike="noStrike">
                <a:solidFill>
                  <a:srgbClr val="000000"/>
                </a:solidFill>
                <a:latin typeface="Eurostile"/>
                <a:ea typeface="Eurostile"/>
              </a:rPr>
              <a:t>  El sujeto ya ha realizado en su totalidad la actividad personal que le correspondía llevar a cabo para que el hecho se consumara (termina su actividad) pero  </a:t>
            </a:r>
            <a:r>
              <a:rPr b="1" lang="es-MX" sz="1800" spc="-1" strike="noStrike">
                <a:solidFill>
                  <a:srgbClr val="000000"/>
                </a:solidFill>
                <a:latin typeface="Eurostile"/>
                <a:ea typeface="Eurostile"/>
              </a:rPr>
              <a:t>impide </a:t>
            </a:r>
            <a:r>
              <a:rPr b="0" lang="es-MX" sz="1800" spc="-1" strike="noStrike">
                <a:solidFill>
                  <a:srgbClr val="000000"/>
                </a:solidFill>
                <a:latin typeface="Eurostile"/>
                <a:ea typeface="Eurostile"/>
              </a:rPr>
              <a:t>la consumación del delito </a:t>
            </a:r>
            <a:r>
              <a:rPr b="1" lang="es-MX" sz="1800" spc="-1" strike="noStrike" u="sng">
                <a:solidFill>
                  <a:srgbClr val="000000"/>
                </a:solidFill>
                <a:uFillTx/>
                <a:latin typeface="Eurostile"/>
                <a:ea typeface="Eurostile"/>
              </a:rPr>
              <a:t>antes</a:t>
            </a:r>
            <a:r>
              <a:rPr b="0" lang="es-MX" sz="1800" spc="-1" strike="noStrike">
                <a:solidFill>
                  <a:srgbClr val="000000"/>
                </a:solidFill>
                <a:latin typeface="Eurostile"/>
                <a:ea typeface="Eurostile"/>
              </a:rPr>
              <a:t> que éste se verifique.</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diciones del abandono de la ejecución para que tenga consecuencia liberadora de pena</a:t>
            </a: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Que el realizador de la acción logre impedir que el resultado se produzca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propio autor evite el resultado (esfuerzos serios, firmes y decididos).  La no consumación debe haber sido el </a:t>
            </a:r>
            <a:r>
              <a:rPr b="0" lang="es-MX" sz="1800" spc="-1" strike="noStrike" u="sng">
                <a:solidFill>
                  <a:srgbClr val="000000"/>
                </a:solidFill>
                <a:uFillTx/>
                <a:latin typeface="Eurostile"/>
                <a:ea typeface="Eurostile"/>
              </a:rPr>
              <a:t>fruto exclusivo</a:t>
            </a:r>
            <a:r>
              <a:rPr b="0" lang="es-MX" sz="1800" spc="-1" strike="noStrike">
                <a:solidFill>
                  <a:srgbClr val="000000"/>
                </a:solidFill>
                <a:latin typeface="Eurostile"/>
                <a:ea typeface="Eurostile"/>
              </a:rPr>
              <a:t> de la propia actividad del actor.</a:t>
            </a:r>
            <a:r>
              <a:rPr b="1"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La no producción del resultado debe ser por voluntad del sujet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sujeto debe haber impedido el resultado objetiva </a:t>
            </a:r>
            <a:r>
              <a:rPr b="1" lang="es-MX" sz="1800" spc="-1" strike="noStrike">
                <a:solidFill>
                  <a:srgbClr val="000000"/>
                </a:solidFill>
                <a:latin typeface="Eurostile"/>
                <a:ea typeface="Eurostile"/>
              </a:rPr>
              <a:t>y </a:t>
            </a:r>
            <a:r>
              <a:rPr b="0" lang="es-MX" sz="1800" spc="-1" strike="noStrike">
                <a:solidFill>
                  <a:srgbClr val="000000"/>
                </a:solidFill>
                <a:latin typeface="Eurostile"/>
                <a:ea typeface="Eurostile"/>
              </a:rPr>
              <a:t>subjetivamente (“espontaneidad” en la tentativ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u="sng">
                <a:solidFill>
                  <a:srgbClr val="0000ff"/>
                </a:solidFill>
                <a:uFillTx/>
                <a:latin typeface="Eurostile"/>
                <a:ea typeface="Eurostile"/>
              </a:rPr>
              <a:t>Naturaleza jurídica del desistimiento</a:t>
            </a:r>
            <a:br>
              <a:rPr sz="2400"/>
            </a:br>
            <a:endParaRPr b="0" lang="en-US" sz="2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Novoa. Elemento negativo del tipo (se entendería incorporado a cada tipo penal).</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Cury: causal de atipicidad por ausencia de dolo (en la tentativa desistida no habría voluntad de concreción, inherente a la tentativa punibl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Bustos: causal de atipicidad porque lo realizado por el sujeto no puede ser desvalorado y por ello no puede ser típico al no relacionarse esa actividad con el bien jurídico protegido (que determina el injusto).</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Etcheberry: causal de extinción de la responsabilidad penal (pone término a la responsabilidad penal existent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Politoff (Cuello Calón; Quintano Ripollés).  ELA</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u="sng">
                <a:solidFill>
                  <a:srgbClr val="000000"/>
                </a:solidFill>
                <a:uFillTx/>
                <a:latin typeface="Eurostile"/>
                <a:ea typeface="Eurostile"/>
              </a:rPr>
              <a:t>Tendencia actual (Garrido</a:t>
            </a:r>
            <a:r>
              <a:rPr b="0" lang="es-MX" sz="1600" spc="-1" strike="noStrike">
                <a:solidFill>
                  <a:srgbClr val="000000"/>
                </a:solidFill>
                <a:latin typeface="Eurostile"/>
                <a:ea typeface="Eurostile"/>
              </a:rPr>
              <a:t>): considerada como una </a:t>
            </a:r>
            <a:r>
              <a:rPr b="1" lang="es-MX" sz="1600" spc="-1" strike="noStrike" u="sng">
                <a:solidFill>
                  <a:srgbClr val="000000"/>
                </a:solidFill>
                <a:uFillTx/>
                <a:latin typeface="Eurostile"/>
                <a:ea typeface="Eurostile"/>
              </a:rPr>
              <a:t>circunstancia personal</a:t>
            </a:r>
            <a:r>
              <a:rPr b="0" lang="es-MX" sz="1600" spc="-1" strike="noStrike">
                <a:solidFill>
                  <a:srgbClr val="000000"/>
                </a:solidFill>
                <a:latin typeface="Eurostile"/>
                <a:ea typeface="Eurostile"/>
              </a:rPr>
              <a:t> que tiene efecto marginador de pena, por razones de política criminal, ya que la sanción no tendría justificación desde la perspectiva de la prevención tanto especial como general.  En cuanto al acto ya realizado, el sujeto merecería el </a:t>
            </a:r>
            <a:r>
              <a:rPr b="0" lang="es-MX" sz="1600" spc="-1" strike="noStrike" u="sng">
                <a:solidFill>
                  <a:srgbClr val="000000"/>
                </a:solidFill>
                <a:uFillTx/>
                <a:latin typeface="Eurostile"/>
                <a:ea typeface="Eurostile"/>
              </a:rPr>
              <a:t>perdón</a:t>
            </a:r>
            <a:r>
              <a:rPr b="0" lang="es-MX" sz="1600" spc="-1" strike="noStrike">
                <a:solidFill>
                  <a:srgbClr val="000000"/>
                </a:solidFill>
                <a:latin typeface="Eurostile"/>
                <a:ea typeface="Eurostile"/>
              </a:rPr>
              <a:t> por el hecho de haber regresado a la senda del derecho por su propia voluntad. (no la explica desde el punto de vista de la teoría delito).</a:t>
            </a:r>
            <a:endParaRPr b="0" lang="en-US" sz="1600" spc="-1" strike="noStrike">
              <a:solidFill>
                <a:srgbClr val="000000"/>
              </a:solidFill>
              <a:latin typeface="Calibri"/>
            </a:endParaRPr>
          </a:p>
          <a:p>
            <a:pPr lvl="1" marL="727920" indent="-280080" algn="just">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el proceso de formación del delito se puede distinguir:</a:t>
            </a:r>
            <a:br>
              <a:rPr sz="2400"/>
            </a:br>
            <a:endParaRPr b="0" lang="en-US" sz="2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intelectual. </a:t>
            </a:r>
            <a:r>
              <a:rPr b="0" lang="es-ES_tradnl" sz="2000" spc="-1" strike="noStrike">
                <a:solidFill>
                  <a:srgbClr val="000000"/>
                </a:solidFill>
                <a:latin typeface="Eurostile"/>
                <a:ea typeface="Eurostile"/>
              </a:rPr>
              <a:t>El sujeto se </a:t>
            </a:r>
            <a:r>
              <a:rPr b="0" lang="es-ES_tradnl" sz="2000" spc="-1" strike="noStrike" u="sng">
                <a:solidFill>
                  <a:srgbClr val="000000"/>
                </a:solidFill>
                <a:uFillTx/>
                <a:latin typeface="Eurostile"/>
                <a:ea typeface="Eurostile"/>
              </a:rPr>
              <a:t>representa la posibilidad de ejecutar la acción delictiva</a:t>
            </a:r>
            <a:r>
              <a:rPr b="0" lang="es-ES_tradnl" sz="2000" spc="-1" strike="noStrike">
                <a:solidFill>
                  <a:srgbClr val="000000"/>
                </a:solidFill>
                <a:latin typeface="Eurostile"/>
                <a:ea typeface="Eurostile"/>
              </a:rPr>
              <a:t>.  Esa posibilidad es analizada por el intelecto, si es o no posibl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Etapa de planificación. </a:t>
            </a:r>
            <a:r>
              <a:rPr b="0" lang="es-ES_tradnl" sz="2000" spc="-1" strike="noStrike">
                <a:solidFill>
                  <a:srgbClr val="000000"/>
                </a:solidFill>
                <a:latin typeface="Eurostile"/>
                <a:ea typeface="Eurostile"/>
              </a:rPr>
              <a:t>El sujeto elije los medios, idea el plan a seguir, etc.</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Resolución delictiva. </a:t>
            </a:r>
            <a:r>
              <a:rPr b="0" lang="es-ES_tradnl" sz="2000" spc="-1" strike="noStrike">
                <a:solidFill>
                  <a:srgbClr val="000000"/>
                </a:solidFill>
                <a:latin typeface="Eurostile"/>
                <a:ea typeface="Eurostile"/>
              </a:rPr>
              <a:t>Volunta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Actos preparatorios.  </a:t>
            </a:r>
            <a:r>
              <a:rPr b="0" lang="es-ES_tradnl" sz="2000" spc="-1" strike="noStrike">
                <a:solidFill>
                  <a:srgbClr val="000000"/>
                </a:solidFill>
                <a:latin typeface="Eurostile"/>
                <a:ea typeface="Eurostile"/>
              </a:rPr>
              <a:t>Destinados a preparar o facilitar la ejecución del delito sin todavía realizar parte alguna de la conducta típica, no hay principio de ejecución.</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Regla general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impune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Sólo excepcionalmente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punib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ejecutiva </a:t>
            </a:r>
            <a:r>
              <a:rPr b="0" lang="es-ES_tradnl" sz="2000" spc="-1" strike="noStrike">
                <a:solidFill>
                  <a:srgbClr val="000000"/>
                </a:solidFill>
                <a:latin typeface="Eurostile"/>
                <a:ea typeface="Eurostile"/>
              </a:rPr>
              <a:t>(actos de ejecución) : delito tentado, frustrado, consumad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Para que existan </a:t>
            </a:r>
            <a:r>
              <a:rPr b="0" lang="es-MX" sz="2000" spc="-1" strike="noStrike" u="sng">
                <a:solidFill>
                  <a:srgbClr val="000000"/>
                </a:solidFill>
                <a:uFillTx/>
                <a:latin typeface="Eurostile"/>
              </a:rPr>
              <a:t>el sujeto debe iniciar la </a:t>
            </a:r>
            <a:r>
              <a:rPr b="1" lang="es-MX" sz="2000" spc="-1" strike="noStrike" u="sng">
                <a:solidFill>
                  <a:srgbClr val="000000"/>
                </a:solidFill>
                <a:uFillTx/>
                <a:latin typeface="Eurostile"/>
              </a:rPr>
              <a:t>ejecución </a:t>
            </a:r>
            <a:r>
              <a:rPr b="0" lang="es-MX" sz="2000" spc="-1" strike="noStrike" u="sng">
                <a:solidFill>
                  <a:srgbClr val="000000"/>
                </a:solidFill>
                <a:uFillTx/>
                <a:latin typeface="Eurostile"/>
              </a:rPr>
              <a:t>del hecho</a:t>
            </a:r>
            <a:r>
              <a:rPr b="0" lang="es-MX" sz="2000" spc="-1" strike="noStrike">
                <a:solidFill>
                  <a:srgbClr val="000000"/>
                </a:solidFill>
                <a:latin typeface="Eurostile"/>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n el </a:t>
            </a:r>
            <a:r>
              <a:rPr b="0" lang="es-MX" sz="2000" spc="-1" strike="noStrike" u="sng">
                <a:solidFill>
                  <a:srgbClr val="000000"/>
                </a:solidFill>
                <a:uFillTx/>
                <a:latin typeface="Eurostile"/>
              </a:rPr>
              <a:t>plano subjetivo</a:t>
            </a:r>
            <a:r>
              <a:rPr b="0" lang="es-MX" sz="2000" spc="-1" strike="noStrike">
                <a:solidFill>
                  <a:srgbClr val="000000"/>
                </a:solidFill>
                <a:latin typeface="Eurostile"/>
              </a:rPr>
              <a:t> no existen diferencias: mismo </a:t>
            </a:r>
            <a:r>
              <a:rPr b="1" lang="es-MX" sz="2000" spc="-1" strike="noStrike">
                <a:solidFill>
                  <a:srgbClr val="000000"/>
                </a:solidFill>
                <a:latin typeface="Eurostile"/>
              </a:rPr>
              <a:t>dolo ** </a:t>
            </a:r>
            <a:r>
              <a:rPr b="0" lang="es-MX" sz="2000" spc="-1" strike="noStrike">
                <a:solidFill>
                  <a:srgbClr val="000000"/>
                </a:solidFill>
                <a:latin typeface="Eurostile"/>
              </a:rPr>
              <a:t>(salvo discusión clase de dolo/excl figura culpos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Eurostile"/>
                <a:ea typeface="Eurostile"/>
              </a:rPr>
              <a:t>Actos preparatorios.</a:t>
            </a:r>
            <a:br>
              <a:rPr sz="2200"/>
            </a:br>
            <a:r>
              <a:rPr b="0" lang="en-US" sz="1800" spc="-1" strike="noStrike">
                <a:solidFill>
                  <a:srgbClr val="000000"/>
                </a:solidFill>
                <a:latin typeface="Eurostile"/>
                <a:ea typeface="Eurostile"/>
              </a:rPr>
              <a:t>Té</a:t>
            </a:r>
            <a:r>
              <a:rPr b="0" lang="en-US" sz="1800" spc="-1" strike="noStrike">
                <a:solidFill>
                  <a:srgbClr val="000000"/>
                </a:solidFill>
                <a:latin typeface="Calibri"/>
              </a:rPr>
              <a:t>cnicas legislativas para sancionar los actos preparatorios:</a:t>
            </a:r>
            <a:br>
              <a:rPr sz="1800"/>
            </a:br>
            <a:br>
              <a:rPr sz="2200"/>
            </a:br>
            <a:endParaRPr b="0" lang="en-US" sz="1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Elevar a categoría de delito autónomo actos que </a:t>
            </a:r>
            <a:r>
              <a:rPr b="1" lang="es-ES_tradnl" sz="2000" spc="-1" strike="noStrike">
                <a:solidFill>
                  <a:srgbClr val="000000"/>
                </a:solidFill>
                <a:latin typeface="Eurostile"/>
                <a:ea typeface="Eurostile"/>
              </a:rPr>
              <a:t>tienden a preparar otro delito.</a:t>
            </a: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rts. 445; 187; 181; 124; 404; 481 CP</a:t>
            </a:r>
            <a:endParaRPr b="0" lang="en-US" sz="2000" spc="-1" strike="noStrike">
              <a:solidFill>
                <a:srgbClr val="000000"/>
              </a:solidFill>
              <a:latin typeface="Calibri"/>
            </a:endParaRPr>
          </a:p>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Sanción de actos previos a la ejecución mediante la </a:t>
            </a:r>
            <a:r>
              <a:rPr b="1" lang="es-MX" sz="2000" spc="-1" strike="noStrike">
                <a:solidFill>
                  <a:srgbClr val="000000"/>
                </a:solidFill>
                <a:latin typeface="Eurostile"/>
                <a:ea typeface="Eurostile"/>
              </a:rPr>
              <a:t>ampliación de las formas de participación criminal.  </a:t>
            </a:r>
            <a:r>
              <a:rPr b="0" lang="es-MX" sz="2000" spc="-1" strike="noStrike">
                <a:solidFill>
                  <a:srgbClr val="000000"/>
                </a:solidFill>
                <a:latin typeface="Eurostile"/>
                <a:ea typeface="Eurostile"/>
              </a:rPr>
              <a:t>Proposición y Conspiración para delinquir.</a:t>
            </a:r>
            <a:r>
              <a:rPr b="0" lang="es-ES_tradnl" sz="2000" spc="-1" strike="noStrike">
                <a:solidFill>
                  <a:srgbClr val="000000"/>
                </a:solidFill>
                <a:latin typeface="Eurostile"/>
                <a:ea typeface="Eurostile"/>
              </a:rPr>
              <a:t>  </a:t>
            </a:r>
            <a:r>
              <a:rPr b="1" lang="es-ES_tradnl" sz="2000" spc="-1" strike="noStrike">
                <a:solidFill>
                  <a:srgbClr val="000000"/>
                </a:solidFill>
                <a:latin typeface="Eurostile"/>
                <a:ea typeface="Eurostile"/>
              </a:rPr>
              <a:t>Art. 8 CP</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CP. Delitos contra la seguridad exterior y soberanía del Estado (Art. 111) Delitos contra la seguridad interior del Estado (125).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de Seguridad del Estado (Art. 23).</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que determina conductas terroristas (Art. 7).</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20.000 (Art. 17).- Código de Justicia Militar (Art. 250 y Art. 278).</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Fase ejecutiva </a:t>
            </a:r>
            <a:br>
              <a:rPr sz="2400"/>
            </a:br>
            <a:r>
              <a:rPr b="0" lang="es-ES_tradnl" sz="1800" spc="-1" strike="noStrike">
                <a:solidFill>
                  <a:srgbClr val="000000"/>
                </a:solidFill>
                <a:latin typeface="Eurostile"/>
                <a:ea typeface="Eurostile"/>
              </a:rPr>
              <a:t>Principio de ejecución de la conducta típica.</a:t>
            </a: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Tentativa.  </a:t>
            </a:r>
            <a:r>
              <a:rPr b="0" lang="es-ES_tradnl" sz="2400" spc="-1" strike="noStrike">
                <a:solidFill>
                  <a:srgbClr val="000000"/>
                </a:solidFill>
                <a:latin typeface="Eurostile"/>
                <a:ea typeface="Eurostile"/>
              </a:rPr>
              <a:t>Art. 7 inciso 3º</a:t>
            </a:r>
            <a:endParaRPr b="0" lang="en-US" sz="24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ECS. Santiago, 29/11/2000. (LP 17556).  Elmto. negativo.</a:t>
            </a:r>
            <a:endParaRPr b="0" lang="en-US" sz="16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Frustrado.  </a:t>
            </a:r>
            <a:r>
              <a:rPr b="0" lang="es-ES_tradnl" sz="2400" spc="-1" strike="noStrike">
                <a:solidFill>
                  <a:srgbClr val="000000"/>
                </a:solidFill>
                <a:latin typeface="Eurostile"/>
                <a:ea typeface="Eurostile"/>
              </a:rPr>
              <a:t>Artículo 7 inciso 2º</a:t>
            </a:r>
            <a:endParaRPr b="0" lang="en-US" sz="2400" spc="-1" strike="noStrike">
              <a:solidFill>
                <a:srgbClr val="000000"/>
              </a:solidFill>
              <a:latin typeface="Calibri"/>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consumado.</a:t>
            </a:r>
            <a:r>
              <a:rPr b="0" lang="es-MX" sz="2400" spc="-1" strike="noStrike">
                <a:solidFill>
                  <a:srgbClr val="000000"/>
                </a:solidFill>
                <a:latin typeface="Calibri"/>
              </a:rPr>
              <a:t> Realización </a:t>
            </a:r>
            <a:r>
              <a:rPr b="1" lang="es-MX" sz="2400" spc="-1" strike="noStrike">
                <a:solidFill>
                  <a:srgbClr val="000000"/>
                </a:solidFill>
                <a:latin typeface="Calibri"/>
              </a:rPr>
              <a:t>completa </a:t>
            </a:r>
            <a:r>
              <a:rPr b="0" lang="es-MX" sz="2400" spc="-1" strike="noStrike">
                <a:solidFill>
                  <a:srgbClr val="000000"/>
                </a:solidFill>
                <a:latin typeface="Calibri"/>
              </a:rPr>
              <a:t>del hecho típico.</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417680"/>
            <a:ext cx="8229600" cy="4525920"/>
          </a:xfrm>
          <a:prstGeom prst="rect">
            <a:avLst/>
          </a:prstGeom>
          <a:noFill/>
          <a:ln w="0">
            <a:noFill/>
          </a:ln>
        </p:spPr>
        <p:txBody>
          <a:bodyPr anchor="t">
            <a:normAutofit/>
          </a:bodyPr>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Denominación en legislación y doctrina comparada.  </a:t>
            </a:r>
            <a:r>
              <a:rPr b="0" i="1" lang="en-US" sz="2400" spc="-1" strike="noStrike">
                <a:solidFill>
                  <a:srgbClr val="000000"/>
                </a:solidFill>
                <a:latin typeface="Eurostile"/>
                <a:ea typeface="Eurostile"/>
              </a:rPr>
              <a:t>Tentativa acabada/Tentativa inacabada.  </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Carácter subordinado o accesorio.</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Fundamento de la punición.</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Penalidad.</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Anteproyecto Código Penal (Foro Penal).</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relación con las formas imperfectas de la comisión de un deli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II. Carácter subordinado del delito tentado y frustrado.</a:t>
            </a:r>
            <a:endParaRPr b="0" lang="en-US" sz="2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No importan un delito autónomo: Forma de aparición de un delito pero de manera imperfecta que no llega a la realización plena del evento descrito por la ley.</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Verbos rectores de los tipos subordinados – </a:t>
            </a:r>
            <a:r>
              <a:rPr b="0" i="1" lang="es-MX" sz="2000" spc="-1" strike="noStrike">
                <a:solidFill>
                  <a:srgbClr val="0000ff"/>
                </a:solidFill>
                <a:latin typeface="Eurostile"/>
              </a:rPr>
              <a:t>principiar a ejecutar y ejecutar todo lo necesario</a:t>
            </a:r>
            <a:r>
              <a:rPr b="0" i="1" lang="es-MX" sz="2000" spc="-1" strike="noStrike">
                <a:solidFill>
                  <a:srgbClr val="000000"/>
                </a:solidFill>
                <a:latin typeface="Eurostile"/>
              </a:rPr>
              <a:t> – </a:t>
            </a:r>
            <a:r>
              <a:rPr b="0" lang="es-MX" sz="2000" spc="-1" strike="noStrike">
                <a:solidFill>
                  <a:srgbClr val="000000"/>
                </a:solidFill>
                <a:latin typeface="Eurostile"/>
              </a:rPr>
              <a:t>carecen de contenido fáctico; para llenarlos es indispensable conectarlos con un tipo de consumación.</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jemplos.  Tentativa </a:t>
            </a:r>
            <a:r>
              <a:rPr b="1" lang="es-MX" sz="2000" spc="-1" strike="noStrike">
                <a:solidFill>
                  <a:srgbClr val="000000"/>
                </a:solidFill>
                <a:latin typeface="Eurostile"/>
              </a:rPr>
              <a:t>de</a:t>
            </a:r>
            <a:r>
              <a:rPr b="0" lang="es-MX" sz="2000" spc="-1" strike="noStrike">
                <a:solidFill>
                  <a:srgbClr val="000000"/>
                </a:solidFill>
                <a:latin typeface="Eurostile"/>
              </a:rPr>
              <a:t> homicidio, tentativa </a:t>
            </a:r>
            <a:r>
              <a:rPr b="1" lang="es-MX" sz="2000" spc="-1" strike="noStrike">
                <a:solidFill>
                  <a:srgbClr val="000000"/>
                </a:solidFill>
                <a:latin typeface="Eurostile"/>
              </a:rPr>
              <a:t>de</a:t>
            </a:r>
            <a:r>
              <a:rPr b="0" lang="es-MX" sz="2000" spc="-1" strike="noStrike">
                <a:solidFill>
                  <a:srgbClr val="000000"/>
                </a:solidFill>
                <a:latin typeface="Eurostile"/>
              </a:rPr>
              <a:t> violación, tentativa </a:t>
            </a:r>
            <a:r>
              <a:rPr b="1" lang="es-MX" sz="2000" spc="-1" strike="noStrike">
                <a:solidFill>
                  <a:srgbClr val="000000"/>
                </a:solidFill>
                <a:latin typeface="Eurostile"/>
              </a:rPr>
              <a:t>de</a:t>
            </a:r>
            <a:r>
              <a:rPr b="0" lang="es-MX" sz="2000" spc="-1" strike="noStrike">
                <a:solidFill>
                  <a:srgbClr val="000000"/>
                </a:solidFill>
                <a:latin typeface="Eurostile"/>
              </a:rPr>
              <a:t> robo…delito frustrado </a:t>
            </a:r>
            <a:r>
              <a:rPr b="1" lang="es-MX" sz="2000" spc="-1" strike="noStrike">
                <a:solidFill>
                  <a:srgbClr val="000000"/>
                </a:solidFill>
                <a:latin typeface="Eurostile"/>
              </a:rPr>
              <a:t>de</a:t>
            </a:r>
            <a:r>
              <a:rPr b="0" lang="es-MX" sz="2000" spc="-1" strike="noStrike">
                <a:solidFill>
                  <a:srgbClr val="000000"/>
                </a:solidFill>
                <a:latin typeface="Eurostile"/>
              </a:rPr>
              <a:t> estafa, </a:t>
            </a:r>
            <a:r>
              <a:rPr b="1" lang="es-MX" sz="2000" spc="-1" strike="noStrike">
                <a:solidFill>
                  <a:srgbClr val="000000"/>
                </a:solidFill>
                <a:latin typeface="Eurostile"/>
              </a:rPr>
              <a:t>de</a:t>
            </a:r>
            <a:r>
              <a:rPr b="0" lang="es-MX" sz="2000" spc="-1" strike="noStrike">
                <a:solidFill>
                  <a:srgbClr val="000000"/>
                </a:solidFill>
                <a:latin typeface="Eurostile"/>
              </a:rPr>
              <a:t> robo, etc.</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rPr>
              <a:t>Excepción</a:t>
            </a:r>
            <a:r>
              <a:rPr b="0" lang="es-MX" sz="2000" spc="-1" strike="noStrike">
                <a:solidFill>
                  <a:srgbClr val="000000"/>
                </a:solidFill>
                <a:latin typeface="Eurostile"/>
              </a:rPr>
              <a:t>.  Casos de tentativa como figuras penales autónomas: Ej. Art. </a:t>
            </a:r>
            <a:r>
              <a:rPr b="1" lang="es-MX" sz="2000" spc="-1" strike="noStrike">
                <a:solidFill>
                  <a:srgbClr val="000000"/>
                </a:solidFill>
                <a:latin typeface="Eurostile"/>
              </a:rPr>
              <a:t>117,</a:t>
            </a:r>
            <a:r>
              <a:rPr b="0" lang="es-MX" sz="2000" spc="-1" strike="noStrike">
                <a:solidFill>
                  <a:srgbClr val="000000"/>
                </a:solidFill>
                <a:latin typeface="Eurostile"/>
              </a:rPr>
              <a:t> </a:t>
            </a:r>
            <a:r>
              <a:rPr b="1" lang="es-MX" sz="2000" spc="-1" strike="noStrike">
                <a:solidFill>
                  <a:srgbClr val="000000"/>
                </a:solidFill>
                <a:latin typeface="Eurostile"/>
              </a:rPr>
              <a:t>1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Eurostile"/>
                <a:ea typeface="Eurostile"/>
              </a:rPr>
              <a:t>III. </a:t>
            </a:r>
            <a:r>
              <a:rPr b="0" lang="es-MX" sz="2800" spc="-1" strike="noStrike">
                <a:solidFill>
                  <a:srgbClr val="000000"/>
                </a:solidFill>
                <a:latin typeface="Eurostile"/>
                <a:ea typeface="Eurostile"/>
              </a:rPr>
              <a:t>Fundamento</a:t>
            </a:r>
            <a:r>
              <a:rPr b="0" lang="en-US" sz="2800" spc="-1" strike="noStrike">
                <a:solidFill>
                  <a:srgbClr val="000000"/>
                </a:solidFill>
                <a:latin typeface="Eurostile"/>
                <a:ea typeface="Eurostile"/>
              </a:rPr>
              <a:t> de la punición.</a:t>
            </a:r>
            <a:br>
              <a:rPr sz="2800"/>
            </a:b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subjetivo</a:t>
            </a:r>
            <a:r>
              <a:rPr b="0" lang="es-MX" sz="2000" spc="-1" strike="noStrike">
                <a:solidFill>
                  <a:srgbClr val="000000"/>
                </a:solidFill>
                <a:latin typeface="Eurostile"/>
                <a:ea typeface="Eurostile"/>
              </a:rPr>
              <a:t>: Constituye la exteriorización de una voluntad contraria al ordenamiento jurídico.  </a:t>
            </a:r>
            <a:r>
              <a:rPr b="0" i="1" lang="es-MX" sz="2000" spc="-1" strike="noStrike">
                <a:solidFill>
                  <a:srgbClr val="000000"/>
                </a:solidFill>
                <a:latin typeface="Eurostile"/>
                <a:ea typeface="Eurostile"/>
              </a:rPr>
              <a:t>Disvalor de ac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objetivo</a:t>
            </a:r>
            <a:r>
              <a:rPr b="0" lang="es-MX" sz="2000" spc="-1" strike="noStrike">
                <a:solidFill>
                  <a:srgbClr val="000000"/>
                </a:solidFill>
                <a:latin typeface="Eurostile"/>
                <a:ea typeface="Eurostile"/>
              </a:rPr>
              <a:t>: Peligro objetivo-material de realización del tipo.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mportancia: </a:t>
            </a:r>
            <a:r>
              <a:rPr b="0" lang="es-MX" sz="2000" spc="-1" strike="noStrike" u="sng">
                <a:solidFill>
                  <a:srgbClr val="0000ff"/>
                </a:solidFill>
                <a:uFillTx/>
                <a:latin typeface="Eurostile"/>
                <a:ea typeface="Eurostile"/>
              </a:rPr>
              <a:t>Tentativa inidónea o delito imposible</a:t>
            </a:r>
            <a:r>
              <a:rPr b="0" lang="es-MX" sz="2000" spc="-1" strike="noStrike">
                <a:solidFill>
                  <a:srgbClr val="0000ff"/>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Eurostile"/>
                <a:ea typeface="Eurostile"/>
              </a:rPr>
              <a:t>Lectura obligator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Eurostile"/>
              </a:rPr>
              <a:t>Sergio Politoff Lifschitz. Los actos preparatorios del delito. Tentativa y Frustración. Edit. Jur.  1999.  Capítulo 7.  EL DELITO IMPOSIBLE EN EL DERECHO CHILENO.  Pp.133-14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27:35Z</dcterms:created>
  <dc:creator>mac</dc:creator>
  <dc:description/>
  <dc:language>en-US</dc:language>
  <cp:lastModifiedBy>mac</cp:lastModifiedBy>
  <dcterms:modified xsi:type="dcterms:W3CDTF">2010-05-07T23:39:22Z</dcterms:modified>
  <cp:revision>126</cp:revision>
  <dc:subject/>
  <dc:title>Diapositiva 1</dc:title>
</cp:coreProperties>
</file>