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BE2-0036-4B9C-A33D-76EA86AB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74D-021A-44D8-98A5-FF17DD47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BAB-A67A-47D5-8DDA-F56FA140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5E5-5512-415C-AF25-615F2E67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059A-27B7-405A-B667-57AA179B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03FE-0864-4FC0-B27F-69F55A59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47EF-5F8F-4A24-8C36-7D52E90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06A9-85C9-4AB1-A6D9-9C39B5D1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F938-F0C7-4372-AA8C-F66E8047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E6C8-FF41-467F-8BA6-996C53B9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1627-BF32-4BC7-874D-21AB6CE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009-C245-4540-98B3-35282B81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C717-82B1-4C2A-935A-5B98EF6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1330-C55F-4497-9133-70F26315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11EE-BECD-4D5E-AB1C-44B15132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AFB9-A5DE-49C9-B39B-5DDB28EA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B6B8-DE38-4D17-B60B-049F7C4B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36448-51CF-4CAA-BB67-759720D0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CB22A-D1E5-4DD3-8D6C-20ECEE2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79CE7-A9D0-4D2C-AAB2-744F99EE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64F25-82DA-41B0-8A95-15F15F98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975ED-9C1A-469E-83AF-D4F7AD5F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7C8-9F1B-407A-B7EF-5DAE5F62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B2AF8-CBCB-4769-A588-8314F6D0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5D9BB-5E1E-49C5-8C7B-7081692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9B4B3-B22F-468E-8656-7EE035A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53160-1CB9-4E7B-AB69-3A19A633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CAE68-A6F8-46AB-B354-513E27EF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B1F8A-0713-47B2-AC44-3884D549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A90D9-113E-4891-9A5B-F31E94A1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A78-0161-4565-A617-0215D1FC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FC9-3F2A-4ABA-9751-B0BB77B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62C-3D1C-4012-8D5F-E5B85990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2CD-3D8E-457B-A363-5A99301E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496-D8CE-4158-B16C-B0F8453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6AB-54D3-4E95-A25D-0671D6A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5970960"/>
            <a:ext cx="9143640" cy="886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000" y="6053400"/>
            <a:ext cx="2248920" cy="712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359080" y="6044040"/>
            <a:ext cx="6784560" cy="71280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 cap="all">
                <a:solidFill>
                  <a:srgbClr val="ebddc3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70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6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772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7A495F9-43EA-491E-A9E4-6A5925C12251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775f55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6DFF8AC-B5A5-488F-84AD-62848FC0E3B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s-ES_tradnl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2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3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s-ES_tradnl" sz="2800" spc="-1" strike="noStrike">
                <a:solidFill>
                  <a:srgbClr val="775f55"/>
                </a:solidFill>
                <a:latin typeface="Tw Cen M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1523880"/>
            <a:ext cx="9143640" cy="11426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600200"/>
            <a:ext cx="1294920" cy="99036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371600" y="1600200"/>
            <a:ext cx="7772040" cy="99036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ffffff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480"/>
            <a:ext cx="129492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354166-6615-400B-B96D-740DECECFE9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 cap="all">
                <a:solidFill>
                  <a:srgbClr val="ebddc3"/>
                </a:solidFill>
                <a:latin typeface="Tw Cen MT"/>
              </a:rPr>
              <a:t>Derecho constitucional economico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antiago Montt y José Luis Cárde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lien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l SUS: Servicio Único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yecto de fusión del SERMENA con el sistema estatal de medicina social ampli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posición férrea del Colegio de Médic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noche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ndulo va para el otro la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ado subsidio y no estado monopoli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L 2763 pone fin al SNS y al SERMENA y crea FONA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ducción del Rol del Estado en dos fren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nistración del financia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tacione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 las Isap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mento del Sector Público Presta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horizontal (año 200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5.1% de la población total no tiene seguro social en salid (800 mil persona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ersonas enter 16 y 45 años, mayoría homb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: 76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apres: 13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pliar Fonasa para llegar a todos (temporeros, por jornada, cesantes avalados por Municipalidad, seguro de cesantía vigente, mujeres embarazadas, etc.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vertic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mento de las prestaciones cubiertas y la protección financiera a los afili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duccción de copagos, concentrado en tres niveles: atención primaria, urgencias, y plan auge)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sembolso de recursos fiscales para financiar est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istema de créditos blandos (préstamos médicos, programa para enfermedades catastróficas) y programa de oportunidad en la atención (POA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n del cheque en garantí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ogramas de medicamento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ble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 vs. Isap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n las Isapres se paga habitualmente encima del 7% obligatori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as cotizaciones voluntarias llegan al 30% del total de cotización del sector isap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UG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ósti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igualdad en el acceso, oportunidad, calidad y coberturas a las prestaciones salud tanto en el ámbito público como el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ébil integración de la red asistencial, tanto en lo intrapúblico como en la complementación públic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uficiente protección por bajas coberturas de los seguros privado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metrías de información y altos costos de transacción del sistema priv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19.966 (AUGE: Acceso Universidal con Garantías Explícitas): objetivo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joramiento de logros sanitarios alcanz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rrección de inequidad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ubre aproximadamente un 53% de la carga de enfermedades del paí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pago tope: 20%, y total a pagar no puede superar el 25% de la remuner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we Reinhard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23320" y="1786680"/>
            <a:ext cx="6110280" cy="4056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12720" y="6019920"/>
            <a:ext cx="815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economix.blogs.nytimes.com/2009/05/08/what-is-socialized-medicine-a-taxonomy-of-health-care-syste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Historia de la protección social de la saluda en Chile (1810-201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Rafael Urriol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rco Global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 garantía que la sociedad otorga, a través de los poderes públicos, para que un individuo o grupo de individuos pueda satisfacer sus demandas o necesidades de salud a través del acceso a los servicios en condiciones adecuadas de calidad, oportunidad y dignidad, sin que la capacidad de pago sea un factor restrictivo”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etap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stencialism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titucionalización de la seguridad so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mantelamiento del Est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institucionalización, incluyendo reforma del 20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rechos y salud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un: “el derecho a la salud como el de educación son indispensables para el ejercicio de una o más facultades humanas críticas tales como la autocomprensión o porque proveen la infraestructura física o cognitiva o porque son necesarios para la inclusión social y la autoestima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dicina preventiva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ce en Chile en 1938 con la Ley 6.17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ícil situación por la que atravesaba la Caja de Seguro Obrero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. Eduardo Cruz-C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gumento central: mejorar la productivid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ífilis, tuberculosis y afecciones cardíaco-vasculares representante el 50% de la morbilidad chile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greso hoy a la Administración Pública: examenes de sífilis y tuberculosis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istencialismo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apa previa al Estado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uidado con juzgar la histor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xto de Sagredo en la fotocopiadora (para los que les guste la histori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872: viruela mata 60% de la población infant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pidemi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ternalidades negativas, efectos de r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892: Ley Orgánica de Higiene Públ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tual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es sociales: Alemania 1883, Europa, 1910s, Rerum Novarum 189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ile: Ley de Seguro Obrero 192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ás sobre Chile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5: se propone el primer código sanita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7: descanso dominical obligatorio, aunque solo para mujeres y menores de 16 añ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en una sola sesión y por presión militar, se adoptan diversos textos de contenido social (sindicatos, empleados particulares, seguro obligatorio de enfermedad e invalidez, cooperativa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Ministerio de Higiene, Asistencia Social, Previsión Social y Trabaj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eación de poder”: médicos y milit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breros se oponen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gunda mitad del siglo XX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4.050 de 1950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¿Número de la ley está correcto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a de la integración de los subsistemas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agmentación: Seguro Obrero, Sanidad, Beneficencia y Protección de la Infa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RMENA: Servicio Médico Nacional de Empleados (1960), que incluye libre elección de prestado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talecimiento de la Atención Primaria de Salud (AP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talecimiento de la asistencia materno infanti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y del Médico General de Zo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an.thmx</Template>
  <TotalTime>1215</TotalTime>
  <Application>LibreOffice/7.4.7.2$Linux_X86_64 LibreOffice_project/40$Build-2</Application>
  <AppVersion>15.0000</AppVersion>
  <Words>861</Words>
  <Paragraphs>93</Paragraphs>
  <Company>Santiago Mont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34:42Z</dcterms:created>
  <dc:creator>Santiago Montt</dc:creator>
  <dc:description/>
  <dc:language>en-US</dc:language>
  <cp:lastModifiedBy>Santiago Montt</cp:lastModifiedBy>
  <cp:lastPrinted>2010-04-14T21:21:39Z</cp:lastPrinted>
  <dcterms:modified xsi:type="dcterms:W3CDTF">2010-05-02T20:35:23Z</dcterms:modified>
  <cp:revision>8</cp:revision>
  <dc:subject/>
  <dc:title>Curso docto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