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9CB-A4D4-4B0B-868C-52CB0AC3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82D-BBE1-4D65-B765-49AFA31D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BDE-6597-46F7-8289-700AF22E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7FE6-7576-458D-A5FA-35C3ECF3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506D-51E3-4DF6-A455-28E2A59A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D96B-E008-4028-AE33-08E1382F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5A48-DF09-45F3-A8C9-8EA0038C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AA92-3AE5-48A8-BE4B-78D1115F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9D88-607F-43A4-AD5D-B832BBDD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F53D-0BA9-4BE3-B0A6-8079C3AF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D6B1-B493-4D60-AB06-40884E88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5FDF-146D-462D-A71C-398A980C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4C29-E5CB-40A9-A255-0E49C96A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7FA1-BDD8-45D1-AFBD-03A647CA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E774-FF88-4139-99A1-71B87318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24A3-940A-4EED-93F3-D127F8E8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9FB2-2598-4D81-B28A-8F4736CD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D9E92-F68C-44B6-A695-2889234C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E5173-C3F0-43C4-832B-91A60E4F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3424C-2EEF-45A6-A670-D16744FA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F4252-57AE-4A79-BEC9-FFF6FD38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A51BE-030C-4AA5-9E1D-86DB2588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24E-DDB0-48AB-BEC2-36DD9D85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6FE95-030A-46DE-AD17-7F930E6C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9BE63-63EE-4E05-B09E-2AD86B2E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E5611-1FFF-4F09-9BF4-77724114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1F09D-83A9-4ADF-9357-1D326BD1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DE329-72BC-4818-83BC-17603ACB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3B434-CF2D-4874-BE61-044F1D54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44CD8-143C-422A-9485-E0B7C5E4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6AC7-11D5-42AD-9BD7-72007413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179-2EEF-4E24-8DC0-2EAFC9CB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0634-5E84-4B44-830D-0289EB2F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1E1-070D-40C8-A279-1C0095C5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61D-7DF7-4995-BE6F-FA32D07A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03B0-B7C9-4BAD-82BB-42B09F14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2" name="Rectangle 8" hidden="1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5970960"/>
            <a:ext cx="9143640" cy="886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-9000" y="6053400"/>
            <a:ext cx="2248920" cy="7128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2359080" y="6044040"/>
            <a:ext cx="6784560" cy="71280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 cap="all">
                <a:solidFill>
                  <a:srgbClr val="ebddc3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76320" y="6068520"/>
            <a:ext cx="205704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2085480" y="236520"/>
            <a:ext cx="58669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001000" y="228600"/>
            <a:ext cx="83772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297B0AA-6EA1-45CD-ACBE-1B3438D84E47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300" spc="-1" strike="noStrike">
              <a:solidFill>
                <a:srgbClr val="ffffff"/>
              </a:solidFill>
              <a:latin typeface="Tw Cen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775f55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095880" y="6248520"/>
            <a:ext cx="26665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609480" y="6248160"/>
            <a:ext cx="5420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0" y="1272240"/>
            <a:ext cx="5331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534C8EC-0FDF-4AEF-A63A-1B00AA688BE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Click to edit Master text sty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s-ES_tradnl" sz="2300" spc="-1" strike="noStrike">
                <a:solidFill>
                  <a:srgbClr val="000000"/>
                </a:solidFill>
                <a:latin typeface="Tw Cen MT"/>
              </a:rPr>
              <a:t>Third lev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 hidden="1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2" name="Rectangle 7" hidden="1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3" name="Rectangle 8" hidden="1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371600" y="2743200"/>
            <a:ext cx="712260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s-ES_tradnl" sz="2800" spc="-1" strike="noStrike">
                <a:solidFill>
                  <a:srgbClr val="775f55"/>
                </a:solidFill>
                <a:latin typeface="Tw Cen M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1523880"/>
            <a:ext cx="9143640" cy="11426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1600200"/>
            <a:ext cx="1294920" cy="99036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371600" y="1600200"/>
            <a:ext cx="7772040" cy="99036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ffffff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880" y="6248520"/>
            <a:ext cx="26665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480"/>
            <a:ext cx="1294920" cy="7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B2C4D81-E2BF-4DE2-89FF-E482D724ED6D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160"/>
            <a:ext cx="5420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 cap="all">
                <a:solidFill>
                  <a:srgbClr val="ebddc3"/>
                </a:solidFill>
                <a:latin typeface="Tw Cen MT"/>
              </a:rPr>
              <a:t>Derecho constitucional economico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362320" y="6050160"/>
            <a:ext cx="670536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antiago Montt y José Luis Cárde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lliend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ción del SUS: Servicio Único de Salu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oyecto de fusión del SERMENA con el sistema estatal de medicina social ampliad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posición férrea del Colegio de Médic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noche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éndulo va para el otro lad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stado subsidio y no estado monopolis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L 2763 pone fin al SNS y al SERMENA y crea FONAS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ducción del Rol del Estado en dos fren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dministración del financiamient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estaciones de salu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ción de las Isap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ertació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90880" indent="-290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umento del Sector Público Prestació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880" indent="-290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horizontal (año 2006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5.1% de la población total no tiene seguro social en salid (800 mil persona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31960" indent="-20772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ersonas enter 16 y 45 años, mayoría homb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nasa: 76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sapres: 13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mpliar Fonasa para llegar a todos (temporeros, por jornada, cesantes avalados por Municipalidad, seguro de cesantía vigente, mujeres embarazadas, etc.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ertació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76480" indent="-276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vertic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2960" indent="-236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mento de las prestaciones cubiertas y la protección financiera a los afilia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Reduccción de copagos, concentrado en tres niveles: atención primaria, urgencias, y plan auge)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Desembolso de recursos fiscales para financiar est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istema de créditos blandos (préstamos médicos, programa para enfermedades catastróficas) y programa de oportunidad en la atención (POA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Fin del cheque en garantía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rogramas de medicamento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76480" indent="-276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ble sistem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2960" indent="-236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nasa vs. Isap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n las Isapres se paga habitualmente encima del 7% obligatori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Las cotizaciones voluntarias llegan al 30% del total de cotización del sector isap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UG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283320" indent="-283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agnóstic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sigualdad en el acceso, oportunidad, calidad y coberturas a las prestaciones salud tanto en el ámbito público como el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ébil integración de la red asistencial, tanto en lo intrapúblico como en la complementación público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suficiente protección por bajas coberturas de los seguros privados de salu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imetrías de información y altos costos de transacción del sistema privado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3320" indent="-283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 19.966 (AUGE: Acceso Universidal con Garantías Explícitas): objetivo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joramiento de logros sanitarios alcanza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rrección de inequidad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ubre aproximadamente un 53% de la carga de enfermedades del paí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pago tope: 20%, y total a pagar no puede superar el 25% de la remuneració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we Reinhard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823320" y="1786680"/>
            <a:ext cx="6110280" cy="40568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612720" y="6019920"/>
            <a:ext cx="8152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economix.blogs.nytimes.com/2009/05/08/what-is-socialized-medicine-a-taxonomy-of-health-care-system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60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Historia de la protección social de la saluda en Chile (1810-2010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Rafael Urriola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arco Global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283680" indent="-2836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so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a garantía que la sociedad otorga, a través de los poderes públicos, para que un individuo o grupo de individuos pueda satisfacer sus demandas o necesidades de salud a través del acceso a los servicios en condiciones adecuadas de calidad, oportunidad y dignidad, sin que la capacidad de pago sea un factor restrictivo”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 etap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istencialismo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stitucionalización de la seguridad soci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smantelamiento del Estado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institucionalización, incluyendo reforma del 2005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rechos y salud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arun: “el derecho a la salud como el de educación son indispensables para el ejercicio de una o más facultades humanas críticas tales como la autocomprensión o porque proveen la infraestructura física o cognitiva o porque son necesarios para la inclusión social y la autoestima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dicina preventiva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ace en Chile en 1938 con la Ley 6.17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fícil situación por la que atravesaba la Caja de Seguro Obrero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. Eduardo Cruz-Co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rgumento central: mejorar la productivida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ífilis, tuberculosis y afecciones cardíaco-vasculares representante el 50% de la morbilidad chile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greso hoy a la Administración Pública: examenes de sífilis y tuberculosis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sistencialismo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tapa previa al Estado so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uidado con juzgar la histor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xto de Sagredo en la fotocopiadora (para los que les guste la historia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872: viruela mata 60% de la población infanti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pidemi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49360" indent="-235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ternalidades negativas, efectos de r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9360" indent="-235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892: Ley Orgánica de Higiene Públi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utualism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es sociales: Alemania 1883, Europa, 1910s, Rerum Novarum 189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ile: Ley de Seguro Obrero 192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ás sobre Chile 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05: se propone el primer código sanitari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07: descanso dominical obligatorio, aunque solo para mujeres y menores de 16 añ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24: en una sola sesión y por presión militar, se adoptan diversos textos de contenido social (sindicatos, empleados particulares, seguro obligatorio de enfermedad e invalidez, cooperativas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24: Ministerio de Higiene, Asistencia Social, Previsión Social y Trabaj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74200" indent="-245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leación de poder”: médicos y milit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4200" indent="-245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breros se oponen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gunda mitad del siglo XX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 4.050 de 1950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¿Número de la ley está correcto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dea de la integración de los subsistemas de salu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agmentación: Seguro Obrero, Sanidad, Beneficencia y Protección de la Infanc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RMENA: Servicio Médico Nacional de Empleados (1960), que incluye libre elección de prestado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talecimiento de la Atención Primaria de Salud (AP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rtalecimiento de la asistencia materno infanti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ey del Médico General de Zon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dian.thmx</Template>
  <TotalTime>1215</TotalTime>
  <Application>LibreOffice/7.4.7.2$Linux_X86_64 LibreOffice_project/40$Build-2</Application>
  <AppVersion>15.0000</AppVersion>
  <Words>861</Words>
  <Paragraphs>93</Paragraphs>
  <Company>Santiago Mont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0:34:42Z</dcterms:created>
  <dc:creator>Santiago Montt</dc:creator>
  <dc:description/>
  <dc:language>en-US</dc:language>
  <cp:lastModifiedBy>Santiago Montt</cp:lastModifiedBy>
  <cp:lastPrinted>2010-04-14T21:21:39Z</cp:lastPrinted>
  <dcterms:modified xsi:type="dcterms:W3CDTF">2010-05-02T20:35:23Z</dcterms:modified>
  <cp:revision>8</cp:revision>
  <dc:subject/>
  <dc:title>Curso doctorad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4</vt:r8>
  </property>
</Properties>
</file>