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16FE-6B69-4E20-AFDF-FD4B4A7F9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49E5-6F2C-41C6-A90D-4D4653DD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A3D0-6C35-4EBB-A45E-DB18A1EF3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127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960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61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18C1-EF54-4A18-BA12-56EC1F56B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6880-CF21-4F78-B15B-E85BF7C4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DF2F-574F-4822-BD81-526E8252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E601-639D-4368-A873-20E9972B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8059-A56D-4655-91A0-B938F8EF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2886-645E-48D5-8EF7-5D95B458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12720" y="228600"/>
            <a:ext cx="8152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43C8-7921-4F11-AC59-D7795CA3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28EF-BF0A-470C-B67D-CE2A071A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FC19-C2BE-4C0B-81A9-5449EA74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F33C-3517-4ABC-8DC6-8F89490F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D16A-0791-4533-9E47-E6375DE2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E3BB-895B-46B7-A974-8B1DFFF8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AA67-27A1-4506-B8F5-3EA05571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1827-DBF2-409D-B0BC-E30A8477C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804B67-7342-4593-8A18-9820E49C9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DC83D3-D7C8-4D36-886F-35C7E322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5361D8-1B8D-40DF-9AF0-036B66D7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2598E4-7FEF-4C72-848D-06BAB157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D46F4D-1142-4E63-BB9D-E34B98E2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C554-220F-439A-8A28-6B545E1B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12720" y="228600"/>
            <a:ext cx="8152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E8441E-ABD8-4B4F-9FA7-39867F6A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E23AB8-F820-44C0-BC96-316CC461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15FE6E-F5A6-4DB1-ACF4-B85C4DCC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8BB3CE-EA95-422B-BB22-08159E18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ABBDDA-5C9E-437D-B4B0-F919B88C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D093E2-34E9-4648-93E7-A076BA6C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6EBDF0-D1CC-4E1A-B6D6-1CBFB47F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9154-6080-4173-BA91-FB744EFE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765F-D781-4676-A250-F2183A9F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12720" y="228600"/>
            <a:ext cx="8152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25C4-9997-49F2-8085-C0FE6C1D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3FED-BBB9-4CE0-BB66-E8EFF131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6B2B-9952-4ABD-B82F-0B346FB7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59D3-EEF7-4123-BC86-7CEF3499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1234440"/>
            <a:ext cx="9143640" cy="31968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1" name="Rectangle 7" hidden="1"/>
          <p:cNvSpPr/>
          <p:nvPr/>
        </p:nvSpPr>
        <p:spPr>
          <a:xfrm>
            <a:off x="0" y="1280160"/>
            <a:ext cx="533160" cy="2282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2" name="Rectangle 8" hidden="1"/>
          <p:cNvSpPr/>
          <p:nvPr/>
        </p:nvSpPr>
        <p:spPr>
          <a:xfrm>
            <a:off x="590400" y="1280160"/>
            <a:ext cx="8553240" cy="22824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5970960"/>
            <a:ext cx="9143640" cy="88668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-9000" y="6053400"/>
            <a:ext cx="2248920" cy="7128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2359080" y="6044040"/>
            <a:ext cx="6784560" cy="71280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2320" y="4038480"/>
            <a:ext cx="6476760" cy="18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_tradnl" sz="4400" spc="-1" strike="noStrike" cap="all">
                <a:solidFill>
                  <a:srgbClr val="ebddc3"/>
                </a:solidFill>
                <a:latin typeface="Tw Cen MT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76320" y="6068520"/>
            <a:ext cx="205704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2085480" y="236520"/>
            <a:ext cx="58669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001000" y="228600"/>
            <a:ext cx="83772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C759B31-6B3B-4A2A-8E95-769FBF759D85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3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300" spc="-1" strike="noStrike">
              <a:solidFill>
                <a:srgbClr val="ffffff"/>
              </a:solidFill>
              <a:latin typeface="Tw Cen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1234440"/>
            <a:ext cx="9143640" cy="31968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0" y="1280160"/>
            <a:ext cx="533160" cy="2282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590400" y="1280160"/>
            <a:ext cx="8553240" cy="22824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_tradnl" sz="4400" spc="-1" strike="noStrike">
                <a:solidFill>
                  <a:srgbClr val="775f55"/>
                </a:solidFill>
                <a:latin typeface="Tw Cen M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095880" y="6248520"/>
            <a:ext cx="26665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609480" y="6248160"/>
            <a:ext cx="54208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0" y="1272240"/>
            <a:ext cx="5331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E1EBF1C-B7B5-4B90-B1A5-27BA48BA95B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Click to edit Master text styl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Second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s-ES_tradnl" sz="2300" spc="-1" strike="noStrike">
                <a:solidFill>
                  <a:srgbClr val="000000"/>
                </a:solidFill>
                <a:latin typeface="Tw Cen MT"/>
              </a:rPr>
              <a:t>Third lev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 hidden="1"/>
          <p:cNvSpPr/>
          <p:nvPr/>
        </p:nvSpPr>
        <p:spPr>
          <a:xfrm>
            <a:off x="0" y="1234440"/>
            <a:ext cx="9143640" cy="31968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2" name="Rectangle 7" hidden="1"/>
          <p:cNvSpPr/>
          <p:nvPr/>
        </p:nvSpPr>
        <p:spPr>
          <a:xfrm>
            <a:off x="0" y="1280160"/>
            <a:ext cx="533160" cy="2282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3" name="Rectangle 8" hidden="1"/>
          <p:cNvSpPr/>
          <p:nvPr/>
        </p:nvSpPr>
        <p:spPr>
          <a:xfrm>
            <a:off x="590400" y="1280160"/>
            <a:ext cx="8553240" cy="22824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371600" y="2743200"/>
            <a:ext cx="712260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s-ES_tradnl" sz="2800" spc="-1" strike="noStrike">
                <a:solidFill>
                  <a:srgbClr val="775f55"/>
                </a:solidFill>
                <a:latin typeface="Tw Cen MT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1523880"/>
            <a:ext cx="9143640" cy="114264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0" y="1600200"/>
            <a:ext cx="1294920" cy="99036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371600" y="1600200"/>
            <a:ext cx="7772040" cy="99036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371600" y="1600200"/>
            <a:ext cx="76197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_tradnl" sz="4400" spc="-1" strike="noStrike">
                <a:solidFill>
                  <a:srgbClr val="ffffff"/>
                </a:solidFill>
                <a:latin typeface="Tw Cen M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880" y="6248520"/>
            <a:ext cx="26665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480"/>
            <a:ext cx="1294920" cy="7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2F94C30-B0AB-447C-84C5-C62E178330C6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160"/>
            <a:ext cx="54208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62320" y="4038480"/>
            <a:ext cx="6476760" cy="18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6000"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 cap="all">
                <a:solidFill>
                  <a:srgbClr val="ebddc3"/>
                </a:solidFill>
                <a:latin typeface="Tw Cen MT"/>
              </a:rPr>
              <a:t>Derecho constitucional economico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362320" y="6050160"/>
            <a:ext cx="670536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antiago Montt y José Luis Cárden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lliend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reación del SUS: Servicio Único de Salu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oyecto de fusión del SERMENA con el sistema estatal de medicina social ampliad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Oposición férrea del Colegio de Médico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inoche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éndulo va para el otro lad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stado subsidio y no estado monopolist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L 2763 pone fin al SNS y al SERMENA y crea FONAS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ducción del Rol del Estado en dos fren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dministración del financiamient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estaciones de salu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reación de las Isapr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certació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290880" indent="-290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umento del Sector Público Prestació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880" indent="-290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tección horizontal (año 2006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94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5.1% de la población total no tiene seguro social en salid (800 mil personas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31960" indent="-20772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Personas enter 16 y 45 años, mayoría hombr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94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nasa: 76%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94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sapres: 13%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94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mpliar Fonasa para llegar a todos (temporeros, por jornada, cesantes avalados por Municipalidad, seguro de cesantía vigente, mujeres embarazadas, etc.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certació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marL="276480" indent="-2764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tección vertic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52960" indent="-236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umento de las prestaciones cubiertas y la protección financiera a los afiliado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Reduccción de copagos, concentrado en tres niveles: atención primaria, urgencias, y plan auge)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Desembolso de recursos fiscales para financiar esto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Sistema de créditos blandos (préstamos médicos, programa para enfermedades catastróficas) y programa de oportunidad en la atención (POA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Fin del cheque en garantía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Programas de medicamento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276480" indent="-2764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oble sistem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52960" indent="-236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nasa vs. Isapr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En las Isapres se paga habitualmente encima del 7% obligatorio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Las cotizaciones voluntarias llegan al 30% del total de cotización del sector isapr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UG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2000"/>
          </a:bodyPr>
          <a:p>
            <a:pPr marL="283320" indent="-283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iagnóstic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sigualdad en el acceso, oportunidad, calidad y coberturas a las prestaciones salud tanto en el ámbito público como el privad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ébil integración de la red asistencial, tanto en lo intrapúblico como en la complementación público privad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suficiente protección por bajas coberturas de los seguros privados de salu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simetrías de información y altos costos de transacción del sistema privado”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3320" indent="-283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y 19.966 (AUGE: Acceso Universidal con Garantías Explícitas): objetivo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ejoramiento de logros sanitarios alcanzado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rrección de inequidad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ubre aproximadamente un 53% de la carga de enfermedades del paí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pago tope: 20%, y total a pagar no puede superar el 25% de la remuneració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we Reinhard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823320" y="1786680"/>
            <a:ext cx="6110280" cy="40568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5"/>
          <p:cNvSpPr/>
          <p:nvPr/>
        </p:nvSpPr>
        <p:spPr>
          <a:xfrm>
            <a:off x="612720" y="6019920"/>
            <a:ext cx="8152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ttp://economix.blogs.nytimes.com/2009/05/08/what-is-socialized-medicine-a-taxonomy-of-health-care-system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60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Historia de la protección social de la saluda en Chile (1810-2010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371600" y="1600200"/>
            <a:ext cx="76197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Rafael Urriola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arco Global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2000"/>
          </a:bodyPr>
          <a:p>
            <a:pPr marL="283680" indent="-2836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tección soci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736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a garantía que la sociedad otorga, a través de los poderes públicos, para que un individuo o grupo de individuos pueda satisfacer sus demandas o necesidades de salud a través del acceso a los servicios en condiciones adecuadas de calidad, oportunidad y dignidad, sin que la capacidad de pago sea un factor restrictivo”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4 etap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736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sistencialismo privad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736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stitucionalización de la seguridad socia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736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smantelamiento del Estado”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736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einstitucionalización, incluyendo reforma del 2005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erechos y salud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arun: “el derecho a la salud como el de educación son indispensables para el ejercicio de una o más facultades humanas críticas tales como la autocomprensión o porque proveen la infraestructura física o cognitiva o porque son necesarios para la inclusión social y la autoestima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edicina preventiva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ace en Chile en 1938 con la Ley 6.174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ifícil situación por la que atravesaba la Caja de Seguro Obrero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r. Eduardo Cruz-Cok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rgumento central: mejorar la productivida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ífilis, tuberculosis y afecciones cardíaco-vasculares representante el 50% de la morbilidad chilen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greso hoy a la Administración Pública: examenes de sífilis y tuberculosis!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sistencialismo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tapa previa al Estado soci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uidado con juzgar la histor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xto de Sagredo en la fotocopiadora (para los que les guste la historia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872: viruela mata 60% de la población infanti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pidemi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49360" indent="-2354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xternalidades negativas, efectos de r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9360" indent="-2354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1892: Ley Orgánica de Higiene Públic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utualism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yes sociales: Alemania 1883, Europa, 1910s, Rerum Novarum 1891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hile: Ley de Seguro Obrero 1924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ás sobre Chile 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3000"/>
          </a:bodyPr>
          <a:p>
            <a:pPr marL="286920" indent="-2869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905: se propone el primer código sanitari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907: descanso dominical obligatorio, aunque solo para mujeres y menores de 16 año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924: en una sola sesión y por presión militar, se adoptan diversos textos de contenido social (sindicatos, empleados particulares, seguro obligatorio de enfermedad e invalidez, cooperativas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924: Ministerio de Higiene, Asistencia Social, Previsión Social y Trabaj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74200" indent="-245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leación de poder”: médicos y militar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74200" indent="-245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Obreros se oponen!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gunda mitad del siglo XX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marL="293760" indent="-2937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y 4.050 de 1950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87880" indent="-251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¿Número de la ley está correcto?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3760" indent="-2937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dea de la integración de los subsistemas de salu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87880" indent="-251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ragmentación: Seguro Obrero, Sanidad, Beneficencia y Protección de la Infanci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7880" indent="-251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RMENA: Servicio Médico Nacional de Empleados (1960), que incluye libre elección de prestador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3760" indent="-2937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rtalecimiento de la Atención Primaria de Salud (APS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87880" indent="-251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rtalecimiento de la asistencia materno infanti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7880" indent="-251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ey del Médico General de Zon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edian">
  <a:themeElements>
    <a:clrScheme name="Median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edian">
  <a:themeElements>
    <a:clrScheme name="Median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Median">
  <a:themeElements>
    <a:clrScheme name="Median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Median.thmx</Template>
  <TotalTime>1215</TotalTime>
  <Application>LibreOffice/7.4.7.2$Linux_X86_64 LibreOffice_project/40$Build-2</Application>
  <AppVersion>15.0000</AppVersion>
  <Words>861</Words>
  <Paragraphs>93</Paragraphs>
  <Company>Santiago Mont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20:34:42Z</dcterms:created>
  <dc:creator>Santiago Montt</dc:creator>
  <dc:description/>
  <dc:language>en-US</dc:language>
  <cp:lastModifiedBy>Santiago Montt</cp:lastModifiedBy>
  <cp:lastPrinted>2010-04-14T21:21:39Z</cp:lastPrinted>
  <dcterms:modified xsi:type="dcterms:W3CDTF">2010-05-02T20:35:23Z</dcterms:modified>
  <cp:revision>8</cp:revision>
  <dc:subject/>
  <dc:title>Curso doctorad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4</vt:r8>
  </property>
</Properties>
</file>