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230F-8693-479E-AF1E-E7D41A7C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A968-14D7-4367-92AA-A94056D3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A357-BC2D-4525-B1DE-D8FF4996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127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960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61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4858-9BCB-49C8-A0E8-37E5E5881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2C07-8601-448C-89D7-50D1D5BA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7D8F-92D2-4643-BD70-52A7EA7D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F0ED-E6A6-4753-B723-36DE2F95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9258-2691-4911-8B3E-873C8AE0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E4A8-3FE4-40BB-9E69-02EDAA3C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12720" y="228600"/>
            <a:ext cx="8152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2260-866C-4683-992E-C5B556FE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7114-8B9C-4159-B993-9A26916F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5529-654E-4DCF-B50F-27FFD0A9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DA30-9BC7-40E0-BFF6-70FEF2F3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CCBD-B8BD-4A28-90E8-800575B8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2053-FE59-4720-9B16-20DE311B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8F2C-7A02-4249-A669-29FCE0D1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FF57-AA9C-47AE-A96B-CCCB82AE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9936A-B597-489B-AC26-36E85DEA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1FF68-60F7-43C1-B171-45215541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6DECAF-26D2-4A45-B5DD-6923D140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02E66A-7B34-43E5-B846-A1B76CDC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D72C4-9695-4C89-B89F-97ED00EA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26F6-DC77-4CCB-968D-0D21A8F2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12720" y="228600"/>
            <a:ext cx="8152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53A5C-04AB-4216-BFBB-440320D8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5ECBC-3DF3-48E1-8422-CFD9DAA6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B9894A-44E1-475E-92C2-8C42FBBA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E4DAEE-2AA7-4986-8B50-3A724227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C636D5-E7AB-4E43-978A-A4F45B1B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25DF43-AF4C-4ED0-899B-712D60C3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ECDFD8-64FC-4F9E-94E2-85AF8BD0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3A1B-8335-4D11-94CF-9F772524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A858-929C-414C-ADB8-1380B91C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12720" y="228600"/>
            <a:ext cx="8152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EE70-421B-49F3-BF01-63EE7FFE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AB7F-F983-4AD4-B04B-C94B6FCC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777B-2F47-424F-86EA-1722E80C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E57A-AB1A-4691-A7A7-C3667A74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1234440"/>
            <a:ext cx="9143640" cy="319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1" name="Rectangle 7" hidden="1"/>
          <p:cNvSpPr/>
          <p:nvPr/>
        </p:nvSpPr>
        <p:spPr>
          <a:xfrm>
            <a:off x="0" y="1280160"/>
            <a:ext cx="533160" cy="2282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2" name="Rectangle 8" hidden="1"/>
          <p:cNvSpPr/>
          <p:nvPr/>
        </p:nvSpPr>
        <p:spPr>
          <a:xfrm>
            <a:off x="590400" y="1280160"/>
            <a:ext cx="8553240" cy="22824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5970960"/>
            <a:ext cx="9143640" cy="886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-9000" y="6053400"/>
            <a:ext cx="2248920" cy="7128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2359080" y="6044040"/>
            <a:ext cx="6784560" cy="71280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2320" y="4038480"/>
            <a:ext cx="647676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_tradnl" sz="4400" spc="-1" strike="noStrike" cap="all">
                <a:solidFill>
                  <a:srgbClr val="ebddc3"/>
                </a:solidFill>
                <a:latin typeface="Tw Cen MT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76320" y="6068520"/>
            <a:ext cx="205704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2085480" y="236520"/>
            <a:ext cx="58669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001000" y="228600"/>
            <a:ext cx="83772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E8F293F-953A-44F8-8C47-9E424338CB6C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3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300" spc="-1" strike="noStrike">
              <a:solidFill>
                <a:srgbClr val="ffffff"/>
              </a:solidFill>
              <a:latin typeface="Tw Cen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1234440"/>
            <a:ext cx="9143640" cy="319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1280160"/>
            <a:ext cx="533160" cy="2282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590400" y="1280160"/>
            <a:ext cx="8553240" cy="22824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_tradnl" sz="4400" spc="-1" strike="noStrike">
                <a:solidFill>
                  <a:srgbClr val="775f55"/>
                </a:solidFill>
                <a:latin typeface="Tw Cen M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095880" y="6248520"/>
            <a:ext cx="26665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609480" y="6248160"/>
            <a:ext cx="5420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0" y="1272240"/>
            <a:ext cx="5331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7A5765B-DC4C-4EB3-B120-C5C40559B1D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Click to edit Master text sty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Second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s-ES_tradnl" sz="2300" spc="-1" strike="noStrike">
                <a:solidFill>
                  <a:srgbClr val="000000"/>
                </a:solidFill>
                <a:latin typeface="Tw Cen MT"/>
              </a:rPr>
              <a:t>Third lev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 hidden="1"/>
          <p:cNvSpPr/>
          <p:nvPr/>
        </p:nvSpPr>
        <p:spPr>
          <a:xfrm>
            <a:off x="0" y="1234440"/>
            <a:ext cx="9143640" cy="319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2" name="Rectangle 7" hidden="1"/>
          <p:cNvSpPr/>
          <p:nvPr/>
        </p:nvSpPr>
        <p:spPr>
          <a:xfrm>
            <a:off x="0" y="1280160"/>
            <a:ext cx="533160" cy="2282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3" name="Rectangle 8" hidden="1"/>
          <p:cNvSpPr/>
          <p:nvPr/>
        </p:nvSpPr>
        <p:spPr>
          <a:xfrm>
            <a:off x="590400" y="1280160"/>
            <a:ext cx="8553240" cy="22824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371600" y="2743200"/>
            <a:ext cx="712260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s-ES_tradnl" sz="2800" spc="-1" strike="noStrike">
                <a:solidFill>
                  <a:srgbClr val="775f55"/>
                </a:solidFill>
                <a:latin typeface="Tw Cen M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1523880"/>
            <a:ext cx="9143640" cy="11426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1600200"/>
            <a:ext cx="1294920" cy="99036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371600" y="1600200"/>
            <a:ext cx="7772040" cy="99036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_tradnl" sz="4400" spc="-1" strike="noStrike">
                <a:solidFill>
                  <a:srgbClr val="ffffff"/>
                </a:solidFill>
                <a:latin typeface="Tw Cen M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880" y="6248520"/>
            <a:ext cx="26665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480"/>
            <a:ext cx="1294920" cy="7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1BFEDDC-5959-43F7-8E87-6CEABF890945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160"/>
            <a:ext cx="5420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62320" y="4038480"/>
            <a:ext cx="647676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 cap="all">
                <a:solidFill>
                  <a:srgbClr val="ebddc3"/>
                </a:solidFill>
                <a:latin typeface="Tw Cen MT"/>
              </a:rPr>
              <a:t>Derecho constitucional economico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362320" y="6050160"/>
            <a:ext cx="670536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antiago Montt y José Luis Cárde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lliend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eación del SUS: Servicio Único de Salu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oyecto de fusión del SERMENA con el sistema estatal de medicina social ampliad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posición férrea del Colegio de Médic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noche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éndulo va para el otro lad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stado subsidio y no estado monopolis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L 2763 pone fin al SNS y al SERMENA y crea FONAS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ducción del Rol del Estado en dos fren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dministración del financiamient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estaciones de salu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eación de las Isapr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ertació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290880" indent="-290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umento del Sector Público Prestació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880" indent="-290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tección horizontal (año 2006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94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5.1% de la población total no tiene seguro social en salid (800 mil personas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31960" indent="-20772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Personas enter 16 y 45 años, mayoría hombr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94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nasa: 76%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94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sapres: 13%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94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mpliar Fonasa para llegar a todos (temporeros, por jornada, cesantes avalados por Municipalidad, seguro de cesantía vigente, mujeres embarazadas, etc.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ertació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276480" indent="-276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tección vertic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52960" indent="-236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umento de las prestaciones cubiertas y la protección financiera a los afiliad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Reduccción de copagos, concentrado en tres niveles: atención primaria, urgencias, y plan auge)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Desembolso de recursos fiscales para financiar esto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istema de créditos blandos (préstamos médicos, programa para enfermedades catastróficas) y programa de oportunidad en la atención (POA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Fin del cheque en garantía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Programas de medicamento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276480" indent="-276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oble sistem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52960" indent="-236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nasa vs. Isap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En las Isapres se paga habitualmente encima del 7% obligatorio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Las cotizaciones voluntarias llegan al 30% del total de cotización del sector isapr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UG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2000"/>
          </a:bodyPr>
          <a:p>
            <a:pPr marL="283320" indent="-283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agnóstic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sigualdad en el acceso, oportunidad, calidad y coberturas a las prestaciones salud tanto en el ámbito público como el privad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ébil integración de la red asistencial, tanto en lo intrapúblico como en la complementación público privad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suficiente protección por bajas coberturas de los seguros privados de salu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simetrías de información y altos costos de transacción del sistema privado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3320" indent="-283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y 19.966 (AUGE: Acceso Universidal con Garantías Explícitas): objetivo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ejoramiento de logros sanitarios alcanzad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rrección de inequidad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ubre aproximadamente un 53% de la carga de enfermedades del paí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pago tope: 20%, y total a pagar no puede superar el 25% de la remuneració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we Reinhard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823320" y="1786680"/>
            <a:ext cx="6110280" cy="40568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612720" y="6019920"/>
            <a:ext cx="8152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ttp://economix.blogs.nytimes.com/2009/05/08/what-is-socialized-medicine-a-taxonomy-of-health-care-system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60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Historia de la protección social de la saluda en Chile (1810-2010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Rafael Urriola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arco Global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marL="283680" indent="-2836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tección soc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a garantía que la sociedad otorga, a través de los poderes públicos, para que un individuo o grupo de individuos pueda satisfacer sus demandas o necesidades de salud a través del acceso a los servicios en condiciones adecuadas de calidad, oportunidad y dignidad, sin que la capacidad de pago sea un factor restrictivo”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4 etap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sistencialismo privad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stitucionalización de la seguridad socia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smantelamiento del Estado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institucionalización, incluyendo reforma del 2005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erechos y salud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arun: “el derecho a la salud como el de educación son indispensables para el ejercicio de una o más facultades humanas críticas tales como la autocomprensión o porque proveen la infraestructura física o cognitiva o porque son necesarios para la inclusión social y la autoestima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edicina preventiva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ace en Chile en 1938 con la Ley 6.174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ifícil situación por la que atravesaba la Caja de Seguro Obrero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r. Eduardo Cruz-Cok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rgumento central: mejorar la productivida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ífilis, tuberculosis y afecciones cardíaco-vasculares representante el 50% de la morbilidad chile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greso hoy a la Administración Pública: examenes de sífilis y tuberculosis!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sistencialismo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tapa previa al Estado soc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uidado con juzgar la histor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xto de Sagredo en la fotocopiadora (para los que les guste la historia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872: viruela mata 60% de la población infanti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pidemi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49360" indent="-2354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xternalidades negativas, efectos de r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9360" indent="-2354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892: Ley Orgánica de Higiene Públic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utualism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yes sociales: Alemania 1883, Europa, 1910s, Rerum Novarum 189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hile: Ley de Seguro Obrero 1924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ás sobre Chile 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905: se propone el primer código sanitari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907: descanso dominical obligatorio, aunque solo para mujeres y menores de 16 añ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924: en una sola sesión y por presión militar, se adoptan diversos textos de contenido social (sindicatos, empleados particulares, seguro obligatorio de enfermedad e invalidez, cooperativas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924: Ministerio de Higiene, Asistencia Social, Previsión Social y Trabaj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74200" indent="-245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leación de poder”: médicos y milita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74200" indent="-245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breros se oponen!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gunda mitad del siglo XX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293760" indent="-293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y 4.050 de 1950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¿Número de la ley está correcto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3760" indent="-293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dea de la integración de los subsistemas de salu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ragmentación: Seguro Obrero, Sanidad, Beneficencia y Protección de la Infanc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RMENA: Servicio Médico Nacional de Empleados (1960), que incluye libre elección de prestado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3760" indent="-293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talecimiento de la Atención Primaria de Salud (AP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rtalecimiento de la asistencia materno infanti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ey del Médico General de Zon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edian">
  <a:themeElements>
    <a:clrScheme name="Median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edian">
  <a:themeElements>
    <a:clrScheme name="Median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edian">
  <a:themeElements>
    <a:clrScheme name="Median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edian.thmx</Template>
  <TotalTime>1215</TotalTime>
  <Application>LibreOffice/7.4.7.2$Linux_X86_64 LibreOffice_project/40$Build-2</Application>
  <AppVersion>15.0000</AppVersion>
  <Words>861</Words>
  <Paragraphs>93</Paragraphs>
  <Company>Santiago Mont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20:34:42Z</dcterms:created>
  <dc:creator>Santiago Montt</dc:creator>
  <dc:description/>
  <dc:language>en-US</dc:language>
  <cp:lastModifiedBy>Santiago Montt</cp:lastModifiedBy>
  <cp:lastPrinted>2010-04-14T21:21:39Z</cp:lastPrinted>
  <dcterms:modified xsi:type="dcterms:W3CDTF">2010-05-02T20:35:23Z</dcterms:modified>
  <cp:revision>8</cp:revision>
  <dc:subject/>
  <dc:title>Curso doctorad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4</vt:r8>
  </property>
</Properties>
</file>