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61C-E4F0-4BD6-A92C-E3E00E61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D5E-0486-4707-AA1B-E80CC007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921-670F-42D1-89D7-D666EDF0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B6E-D6A2-47FB-86DE-34492A6B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D8EE-4DED-4DCA-9611-27CE64DD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E63C-6A01-4099-A242-6365EC1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86EE-28B3-4692-8606-8BFD993E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2B6B-E336-4C70-939C-37FCC00F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4801-2681-4077-8786-2DB1AFF6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23B4-D8CA-44C8-9FF2-C8FCFCE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52D6-4A91-460A-97AA-1E8D60B8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AD4-77FE-4632-82B9-724D7F39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83A2-9927-452D-BB58-BA70057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5302-E5DB-412B-B5A3-36D5F40E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38D8-9226-48EE-AD00-DC235117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9596-1137-46BC-A449-EB5931CF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22A2-42FA-40C8-9868-4367E3A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C2329-4240-49F8-8C6D-4E5EA59C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A0861-A288-4510-826E-46055DCC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4BF77-17BD-4795-B4EF-B2847BCA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6A78F-8604-4991-9A2D-3C8A561E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AC41C-2C19-4079-B6CE-066D17D2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D87-7A04-4E20-966F-77F8D0D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C1BE3-F93C-4A91-99B5-01957A9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8EF34-FF1D-4549-8AC2-ADD11E5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59FBB-37F7-469E-B76B-59CE9047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0C513-098B-47B4-A2D0-2D68E2FF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8E0B6-27F6-4EB2-9621-C4F06EE4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63449-D4B8-49BC-B5AC-03BF3DA0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8466A-1194-4351-BCCC-78AA0905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893-572A-43F3-A5AA-47ECD17E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B04-F2F7-40BD-AA5C-AE3ABB29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5A0-54EB-4F75-A27D-8F11EFA6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CCD-BB55-44B3-AE9B-1119A3CF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0A0-6F53-4DFE-8155-9E9BB436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9F4-91B0-4B7B-AD46-1B743BE1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 cap="all">
                <a:solidFill>
                  <a:srgbClr val="ebddc3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83F1E06-D44C-4A53-BEF1-C8B4D945BB9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775f55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A9A189-C7D3-4E4C-BAC7-292F6A21C1E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s-ES_tradnl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2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775f55"/>
                </a:solidFill>
                <a:latin typeface="Tw Cen M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1523880"/>
            <a:ext cx="9143640" cy="11426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600200"/>
            <a:ext cx="1294920" cy="99036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71600" y="1600200"/>
            <a:ext cx="7772040" cy="9903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ffffff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492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776100D-92CE-4101-B86D-89BF763324F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ebddc3"/>
                </a:solidFill>
                <a:latin typeface="Tw Cen MT"/>
              </a:rPr>
              <a:t>Derecho constitucional economico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antiago Montt y José Luis Cárd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en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l SUS: Servicio Único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yecto de fusión del SERMENA con el sistema estatal de medicina social ampli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posición férrea del Colegio de Médic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noch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ndulo va para el otro la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subsidio y no estado monopol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L 2763 pone fin al SNS y al SERMENA y crea FONA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ción del Rol del Estado en dos fr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nistración del financia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tacione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 las Isap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mento del Sector Público Prest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horizontal (año 200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.1% de la población total no tiene seguro social en salid (800 mil person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ersonas enter 16 y 45 años, mayoría homb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: 76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apres: 13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pliar Fonasa para llegar a todos (temporeros, por jornada, cesantes avalados por Municipalidad, seguro de cesantía vigente, mujeres embarazadas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vertic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mento de las prestaciones cubiertas y la protección financiera a los afili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duccción de copagos, concentrado en tres niveles: atención primaria, urgencias, y plan auge)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sembolso de recursos fiscales para financiar est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stema de créditos blandos (préstamos médicos, programa para enfermedades catastróficas) y programa de oportunidad en la atención (POA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n del cheque en garantí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gramas de medicament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bl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 vs. Isap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 las Isapres se paga habitualmente encima del 7% obligatori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s cotizaciones voluntarias llegan al 30% del total de cotización del sector isap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G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óst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igualdad en el acceso, oportunidad, calidad y coberturas a las prestaciones salud tanto en el ámbito público como el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ébil integración de la red asistencial, tanto en lo intrapúblico como en la complementación públic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uficiente protección por bajas coberturas de los seguros privado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metrías de información y altos costos de transacción del sistema priv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19.966 (AUGE: Acceso Universidal con Garantías Explícitas): objetivo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joramiento de logros sanitarios alcanz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ción de inequidad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e aproximadamente un 53% de la carga de enfermedades del paí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pago tope: 20%, y total a pagar no puede superar el 25% de la remuner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we Reinhard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3320" y="1786680"/>
            <a:ext cx="6110280" cy="4056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2720" y="6019920"/>
            <a:ext cx="815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economix.blogs.nytimes.com/2009/05/08/what-is-socialized-medicine-a-taxonomy-of-health-care-syste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Historia de la protección social de la saluda en Chile (1810-201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afael Urriol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rco Glob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garantía que la sociedad otorga, a través de los poderes públicos, para que un individuo o grupo de individuos pueda satisfacer sus demandas o necesidades de salud a través del acceso a los servicios en condiciones adecuadas de calidad, oportunidad y dignidad, sin que la capacidad de pago sea un factor restrictivo”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etap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stencialism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titucionalización de la seguridad 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mantelamiento del Est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institucionalización, incluyendo reforma del 20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rechos y salud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un: “el derecho a la salud como el de educación son indispensables para el ejercicio de una o más facultades humanas críticas tales como la autocomprensión o porque proveen la infraestructura física o cognitiva o porque son necesarios para la inclusión social y la autoestima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icina preventiva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ce en Chile en 1938 con la Ley 6.17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ícil situación por la que atravesaba la Caja de Seguro Obrer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. Eduardo Cruz-C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gumento central: mejorar la productiv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filis, tuberculosis y afecciones cardíaco-vasculares representante el 50% de la morbilidad chile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greso hoy a la Administración Pública: examenes de sífilis y tuberculosis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istencialism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apa previa al Estado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idado con juzgar la histo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xto de Sagredo en la fotocopiadora (para los que les guste la histori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872: viruela mata 60% de la población infant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pidem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ternalidades negativas, efectos de 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892: Ley Orgánica de Higiene Públ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tual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es sociales: Alemania 1883, Europa, 1910s, Rerum Novarum 189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e: Ley de Seguro Obrero 19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ás sobre Chile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5: se propone el primer código sanita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7: descanso dominical obligatorio, aunque solo para mujeres y menores de 16 añ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en una sola sesión y por presión militar, se adoptan diversos textos de contenido social (sindicatos, empleados particulares, seguro obligatorio de enfermedad e invalidez, cooperativa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Ministerio de Higiene, Asistencia Social, Previsión Social y Traba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eación de poder”: médicos y milit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reros se oponen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gunda mitad del siglo XX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4.050 de 195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¿Número de la ley está correcto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 de la integración de los subsistemas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agmentación: Seguro Obrero, Sanidad, Beneficencia y Protección de la Infa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RMENA: Servicio Médico Nacional de Empleados (1960), que incluye libre elección de prestado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talecimiento de la Atención Primaria de Salud (AP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talecimiento de la asistencia materno infant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y del Médico General de Z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.thmx</Template>
  <TotalTime>1215</TotalTime>
  <Application>LibreOffice/7.4.7.2$Linux_X86_64 LibreOffice_project/40$Build-2</Application>
  <AppVersion>15.0000</AppVersion>
  <Words>861</Words>
  <Paragraphs>93</Paragraphs>
  <Company>Santiago Mont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34:42Z</dcterms:created>
  <dc:creator>Santiago Montt</dc:creator>
  <dc:description/>
  <dc:language>en-US</dc:language>
  <cp:lastModifiedBy>Santiago Montt</cp:lastModifiedBy>
  <cp:lastPrinted>2010-04-14T21:21:39Z</cp:lastPrinted>
  <dcterms:modified xsi:type="dcterms:W3CDTF">2010-05-02T20:35:23Z</dcterms:modified>
  <cp:revision>8</cp:revision>
  <dc:subject/>
  <dc:title>Curso docto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