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A53-AA99-4C69-80AD-6D45703E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A02-917F-48A7-AE6B-C2270DEA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D8B6-8E74-444E-807E-221122D2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E020-99E4-46BA-8557-9ABDB929B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99B3-8C60-41F4-AA09-828B30E2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D336-8A95-4A07-8723-7DFF4AEC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A61B-D382-4309-8BFB-03ABFE33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08B0-DB50-4201-864C-D6BB981A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1EB4-49CE-4921-BBE3-74F3D3E6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975D-9218-4770-B44C-AA16C697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89E5-D18E-4D82-9ADC-2C8A37F5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9D1-D67A-4398-BB2F-30955E3A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8BFA-73E3-4489-968D-AC266AFB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6079-1F46-42A6-BA34-11286158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6401-45F7-4997-A8EF-EB2FF131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B4C4-6128-4C8A-9D7C-F1C5778E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CA16-D090-4B13-8216-0C113B4F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2952A-84B3-46D4-8499-726D60EC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DCC04-A7DD-4375-AB8C-6B96F910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A4BE8-9A42-496F-B154-0FC5EA29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575240-07BA-409F-8C4E-4721043F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84CD0-E016-4E64-8FC7-9CE4D7EE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B4E-5BF1-459A-B6E7-353D1167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8907A0-5794-47A1-92BA-B23C60F5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6D164-8463-4269-B412-1B3E68DA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3C3DF-D027-429A-AB3F-3346E051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28614-63F8-4CCF-8C85-A901FD1A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2BB49-10ED-40DA-8142-028FE7B6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AE7EC-1381-4054-A9CE-494BD5AE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48480"/>
            <a:ext cx="26251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CCA04-2884-4E31-A686-BB97B917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CC6-077D-48D4-8D18-406C8F93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60F-CBF4-49CB-93DF-AC4A24F7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2720" y="228600"/>
            <a:ext cx="8152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31C6-C33C-4DDE-8611-ACCEDD04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3C7-8768-4633-8958-FFEAF51D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44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520" y="394848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B72-2AB4-45F4-98F6-A7D1931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520" y="1600200"/>
            <a:ext cx="397836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48480"/>
            <a:ext cx="8152920" cy="21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D55-E418-47AC-B7C3-C145E869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5970960"/>
            <a:ext cx="9143640" cy="886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-9000" y="6053400"/>
            <a:ext cx="2248920" cy="71280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2359080" y="6044040"/>
            <a:ext cx="6784560" cy="71280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 cap="all">
                <a:solidFill>
                  <a:srgbClr val="ebddc3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704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085480" y="236520"/>
            <a:ext cx="58669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001000" y="228600"/>
            <a:ext cx="83772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DE6C6F-E446-44C1-96B1-51F9D407AA13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3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775f55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0" y="1272240"/>
            <a:ext cx="5331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987D093-12D5-4E70-A71E-6C94191E24F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s-ES_tradnl" sz="2900" spc="-1" strike="noStrike">
                <a:solidFill>
                  <a:srgbClr val="000000"/>
                </a:solidFill>
                <a:latin typeface="Tw Cen MT"/>
              </a:rPr>
              <a:t>Click to edit Master text sty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s-ES_tradnl" sz="2600" spc="-1" strike="noStrike">
                <a:solidFill>
                  <a:srgbClr val="000000"/>
                </a:solidFill>
                <a:latin typeface="Tw Cen MT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s-ES_tradnl" sz="2300" spc="-1" strike="noStrike">
                <a:solidFill>
                  <a:srgbClr val="000000"/>
                </a:solidFill>
                <a:latin typeface="Tw Cen MT"/>
              </a:rPr>
              <a:t>Third lev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10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10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</a:pPr>
            <a:r>
              <a:rPr b="0" lang="es-ES_tradnl" sz="2000" spc="-1" strike="noStrike">
                <a:solidFill>
                  <a:srgbClr val="000000"/>
                </a:solidFill>
                <a:latin typeface="Tw Cen MT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 hidden="1"/>
          <p:cNvSpPr/>
          <p:nvPr/>
        </p:nvSpPr>
        <p:spPr>
          <a:xfrm>
            <a:off x="0" y="1234440"/>
            <a:ext cx="9143640" cy="31968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2" name="Rectangle 7" hidden="1"/>
          <p:cNvSpPr/>
          <p:nvPr/>
        </p:nvSpPr>
        <p:spPr>
          <a:xfrm>
            <a:off x="0" y="1280160"/>
            <a:ext cx="533160" cy="22824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3" name="Rectangle 8" hidden="1"/>
          <p:cNvSpPr/>
          <p:nvPr/>
        </p:nvSpPr>
        <p:spPr>
          <a:xfrm>
            <a:off x="590400" y="1280160"/>
            <a:ext cx="8553240" cy="22824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s-ES_tradnl" sz="2800" spc="-1" strike="noStrike">
                <a:solidFill>
                  <a:srgbClr val="775f55"/>
                </a:solidFill>
                <a:latin typeface="Tw Cen MT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1523880"/>
            <a:ext cx="9143640" cy="11426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1600200"/>
            <a:ext cx="1294920" cy="99036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371600" y="1600200"/>
            <a:ext cx="7772040" cy="990360"/>
          </a:xfrm>
          <a:prstGeom prst="rect">
            <a:avLst/>
          </a:prstGeom>
          <a:solidFill>
            <a:schemeClr val="accent1">
              <a:alpha val="100000"/>
            </a:schemeClr>
          </a:solidFill>
          <a:ln w="50800">
            <a:noFill/>
          </a:ln>
          <a:effectLst>
            <a:outerShdw blurRad="38160" dir="5400000" dist="29880" rotWithShape="0">
              <a:srgbClr val="000000">
                <a:alpha val="4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s-ES_tradnl" sz="4400" spc="-1" strike="noStrike">
                <a:solidFill>
                  <a:srgbClr val="ffffff"/>
                </a:solidFill>
                <a:latin typeface="Tw Cen M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880" y="6248520"/>
            <a:ext cx="26665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480"/>
            <a:ext cx="1294920" cy="7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BB923D6-A62B-46B6-AAB3-4E94F5E5A21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160"/>
            <a:ext cx="5420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62320" y="4038480"/>
            <a:ext cx="647676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 cap="all">
                <a:solidFill>
                  <a:srgbClr val="ebddc3"/>
                </a:solidFill>
                <a:latin typeface="Tw Cen MT"/>
              </a:rPr>
              <a:t>Derecho constitucional economico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362320" y="6050160"/>
            <a:ext cx="67053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antiago Montt y José Luis Cárde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lliend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l SUS: Servicio Único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yecto de fusión del SERMENA con el sistema estatal de medicina social ampliad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posición férrea del Colegio de Médic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noche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éndulo va para el otro lad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stado subsidio y no estado monopolist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L 2763 pone fin al SNS y al SERMENA y crea FONA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ducción del Rol del Estado en dos fren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nistración del financiamient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stacione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ción de las Isap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umento del Sector Público Prestació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880" indent="-2908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horizontal (año 2006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5.1% de la población total no tiene seguro social en salid (800 mil persona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31960" indent="-20772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ersonas enter 16 y 45 años, mayoría homb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: 76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apres: 13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94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pliar Fonasa para llegar a todos (temporeros, por jornada, cesantes avalados por Municipalidad, seguro de cesantía vigente, mujeres embarazadas, etc.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certació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vertic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mento de las prestaciones cubiertas y la protección financiera a los afili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duccción de copagos, concentrado en tres niveles: atención primaria, urgencias, y plan auge)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esembolso de recursos fiscales para financiar est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istema de créditos blandos (préstamos médicos, programa para enfermedades catastróficas) y programa de oportunidad en la atención (POA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n del cheque en garantía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rogramas de medicamento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6480" indent="-276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oble siste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2960" indent="-236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nasa vs. Isap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En las Isapres se paga habitualmente encima del 7% obligatorio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790200" indent="-197280">
              <a:lnSpc>
                <a:spcPct val="10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as cotizaciones voluntarias llegan al 30% del total de cotización del sector isapr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UGE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agnóstic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igualdad en el acceso, oportunidad, calidad y coberturas a las prestaciones salud tanto en el ámbito público como el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ébil integración de la red asistencial, tanto en lo intrapúblico como en la complementación públic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uficiente protección por bajas coberturas de los seguros privados de salu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metrías de información y altos costos de transacción del sistema priv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320" indent="-283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19.966 (AUGE: Acceso Universidal con Garantías Explícitas): objetivo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joramiento de logros sanitarios alcanzado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rrección de inequidad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ubre aproximadamente un 53% de la carga de enfermedades del paí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664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pago tope: 20%, y total a pagar no puede superar el 25% de la remuneració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we Reinhard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823320" y="1786680"/>
            <a:ext cx="6110280" cy="4056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612720" y="6019920"/>
            <a:ext cx="815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http://economix.blogs.nytimes.com/2009/05/08/what-is-socialized-medicine-a-taxonomy-of-health-care-syste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60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Historia de la protección social de la saluda en Chile (1810-201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Rafael Urriol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rco Global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tección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a garantía que la sociedad otorga, a través de los poderes públicos, para que un individuo o grupo de individuos pueda satisfacer sus demandas o necesidades de salud a través del acceso a los servicios en condiciones adecuadas de calidad, oportunidad y dignidad, sin que la capacidad de pago sea un factor restrictivo”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 etap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sistencialismo privad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stitucionalización de la seguridad socia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smantelamiento del Estado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7360" indent="-242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institucionalización, incluyendo reforma del 20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rechos y salud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un: “el derecho a la salud como el de educación son indispensables para el ejercicio de una o más facultades humanas críticas tales como la autocomprensión o porque proveen la infraestructura física o cognitiva o porque son necesarios para la inclusión social y la autoestima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dicina preventiva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ce en Chile en 1938 con la Ley 6.17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ifícil situación por la que atravesaba la Caja de Seguro Obrero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. Eduardo Cruz-C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gumento central: mejorar la productivid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040" indent="-3200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ífilis, tuberculosis y afecciones cardíaco-vasculares representante el 50% de la morbilidad chile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080" indent="-27432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greso hoy a la Administración Pública: examenes de sífilis y tuberculosis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sistencialismo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tapa previa al Estado soc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uidado con juzgar la histor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xto de Sagredo en la fotocopiadora (para los que les guste la historia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872: viruela mata 60% de la población infanti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pidemi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xternalidades negativas, efectos de r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49360" indent="-2354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1892: Ley Orgánica de Higiene Públi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utualism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es sociales: Alemania 1883, Europa, 1910s, Rerum Novarum 189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ile: Ley de Seguro Obrero 192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ás sobre Chile 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3000"/>
          </a:bodyPr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5: se propone el primer código sanitari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07: descanso dominical obligatorio, aunque solo para mujeres y menores de 16 año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en una sola sesión y por presión militar, se adoptan diversos textos de contenido social (sindicatos, empleados particulares, seguro obligatorio de enfermedad e invalidez, cooperativa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924: Ministerio de Higiene, Asistencia Social, Previsión Social y Trabaj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leación de poder”: médicos y milit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4200" indent="-245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breros se oponen!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gunda mitad del siglo XX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292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y 4.050 de 1950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¿Número de la ley está correcto?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dea de la integración de los subsistemas de salu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ragmentación: Seguro Obrero, Sanidad, Beneficencia y Protección de la Infanc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RMENA: Servicio Médico Nacional de Empleados (1960), que incluye libre elección de prestado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3760" indent="-2937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talecimiento de la Atención Primaria de Salud (AP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talecimiento de la asistencia materno infanti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7880" indent="-25164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y del Médico General de Zon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edian">
  <a:themeElements>
    <a:clrScheme name="Median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dian.thmx</Template>
  <TotalTime>1215</TotalTime>
  <Application>LibreOffice/7.4.7.2$Linux_X86_64 LibreOffice_project/40$Build-2</Application>
  <AppVersion>15.0000</AppVersion>
  <Words>861</Words>
  <Paragraphs>93</Paragraphs>
  <Company>Santiago Mont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34:42Z</dcterms:created>
  <dc:creator>Santiago Montt</dc:creator>
  <dc:description/>
  <dc:language>en-US</dc:language>
  <cp:lastModifiedBy>Santiago Montt</cp:lastModifiedBy>
  <cp:lastPrinted>2010-04-14T21:21:39Z</cp:lastPrinted>
  <dcterms:modified xsi:type="dcterms:W3CDTF">2010-05-02T20:35:23Z</dcterms:modified>
  <cp:revision>8</cp:revision>
  <dc:subject/>
  <dc:title>Curso doctorad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4</vt:r8>
  </property>
</Properties>
</file>