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E715-9684-4BB3-BADF-5BD42385AC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0CC3-F21C-46B3-A6E7-2B0938216DF2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0C4-E5E3-4775-BCC2-521596FB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10D-542C-4600-B443-AEC5B768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868-414C-4FD2-A8F6-838CD1DD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508-85E2-4007-BB3F-8FBCDCCD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A5CB-1CAE-4238-B661-1F0218C3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B6FA-99E5-4007-B7E2-7DE87070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DACD-DDD9-46BA-898B-982A58DD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0558-A6D6-44BE-8331-1FF69165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BEAA-ECB4-4BD0-B66B-1C0C584C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FB0F-877E-41C0-9B13-D1D44282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9B93-92F2-46F4-B15E-D3FD8D8B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B72-BD7F-4454-82B7-B823BC34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8164-E6B7-4D74-8F6A-06489D05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0504-B76B-43FF-BE23-714F23B9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DAF4-4C3B-45BF-A388-8362060C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104C-65A4-4432-B51F-87F29CC5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5FBE-138C-48C9-889B-EB6A9CE1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3BB-8E36-4762-A7D8-55523FE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7C4-0D5F-475B-A638-6C3D53EA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76B-A043-4E03-83AB-2E0B238B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D02-9DCB-4B3A-8F39-DA7EBFA7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FE1-1C58-4259-B6B7-E7648C06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D6E-5D21-4BA0-8AC0-E59B2997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819-6E8C-4984-A333-7FA55009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1555-8137-4A7C-A7D1-934BD69AFCD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5309-84C0-408F-9610-C035959BC9F6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tudent.virginia.edu/~vjil/PDF/49_985-1006.pdf" TargetMode="External"/><Relationship Id="rId2" Type="http://schemas.openxmlformats.org/officeDocument/2006/relationships/hyperlink" Target="http://www.cepchile.cl/dms/archivo_3267_1620/14_aedo.pd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8: 20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volución de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sión Ortúzar: “Los derechos sociales son expectativas o aspiraciones, cuya materialización, a diferencia de los derechos públicos subjetivos, dependen de los recursos que tenga disponible el Estado para ell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recho “no-justicia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apoyados en el D° 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olución a derechos “justiciables” o de “segunda generació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2AA-C8A1-4275-8443-749B55AAC52B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volución de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la amplia mayoría de la doctrina nacional y extranjera reconoce que los derechos sociales, llamados tambié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rechos de prestación o de la segunda generación,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on tales y no simples declamaciones o meras expectativas, cuya materialización efectiva quede suspendida hasta que las disponibilidades presupuestarias del Estado puedan llevarlos a la práctica. Acertadamente, se ha escrito […] que en tales derechos: El núcleo normativo es que el sujeto tiene un título para exigir que se entreguen ciertos bienes, se le presten ciertos servicios o se le transfieran ciertos recursos. Entre tales derechos encontramos la prestación de un servicio (educación, salud, protección del riesgo, etc.)” Rol N° 1287-08-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0F91-22FF-4BA0-874B-8A5FB00C5A99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iénes se benefici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iénes pagan el cos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Reasignación de recursos desde “derechos no-justiciables” a “derechos justiciabl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rechos de 3ª Generación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19 N° 8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6BD6-7C35-40D9-A40B-EE912BE6783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tate of affairs as such is just or unjust: it is only when we assume that somebody is responsible for having brought it about […] In the same sense, a spontaneously working market, where prices act as guides to action, cannot take account of what people in any sense need or deserve, beca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t creates a distribution which nobody has desig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something which has not been designed, a mere state of affairs as such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nnot be just or unj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And the idea that things ought to be designed in a 'just' manner means, in effect, that we must abandon the market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urn to a planned econom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ch somebody decides how much each ought to have, and that means, of course, that we can only have it at the price o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 abolition of personal lib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y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AB1E-A4DE-46DE-82D7-C2D404E25B9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In any case, the argument from first-generation to second-generation rights was never supposed to be a matter of conceptual analysis. It was rather thi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f one is really concerned to secure civil or political liberty for a person, that commitment should be accompanied by a further concern about the conditions of the person's life that make it possible for him to enjoy and exercise that liber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Why on earth would it be worth fighting for this person's liberty (say, his liberty to choose between A and B) if he were left in a situation in which the choice between A and B meant nothing to him, or in which his choosing one rather than the other would have no impact on his life?" (J. Wald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DAC6-18A4-4724-A2B3-26AFE2FA3DA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Derechos de 2ª Generació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ortación de D°s de 2ª Gener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“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race to the top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”? Efecto-OC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Cómo establecer D°s 2G/3G sin desincentivar la “responsabilidad personal”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Hasta dónde se pueden expandi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4857-48A5-4197-98FE-59451601948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teratura sugeri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RK TUSHNET (2009): “The Inevitable Globalization of Constitutional La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ww.student.virginia.edu/~vjil/PDF/49_985-1006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ISTIÁN AEDO (2000): “Las Reformas de la Salud en Chi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ww.cepchile.cl/dms/archivo_3267_1620/14_aedo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C310-1140-4F81-83C3-DE54EC42B18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86A1-CE1A-4292-8EAA-55AAEA8F6D90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ásicamente un fenómeno del S. XX en ade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ecedentes previos motivados por la “virtud de la caridad” y la protección del “recurso humano” (impacto sobre la produ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pidemias en el S. XIX (viruela y cól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tecedente de la “Junta de Beneficencia” (1886), da unidad administrativa a establecimientos de benefic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es asesores:  Junta General de Salubridad (1887) y Consejo Superior de Higiene (18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ia 1917 derivados de la “cuestión social” y las “amenazas al orden establecido” se forja la idea de “la responsabilidad y el deber social del Estado” en materia sanit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ción de “Consejo General de la Beneficencia” para coordinar esfuerz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924 creación del Ministerio de Higiene, Asistencia, Trabajo y Previsión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952C-8921-4B08-B19A-785D3482FC4C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derechos sociales comenzaron a ser reconocidos en varias naciones tras la Primera Guerr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constitucional del D° a la Salud en la Constitución de 1925 (art. 10 N° 4 y14), tras quiebre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onocimiento “incidental” a propósito de la protección al trabajo (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reparación de la fuerza de trabajo industrial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7242-8DF1-4033-B006-0626CCA5884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5C71-2462-492B-8CD3-AC30F7B262C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inguna clase de trabajo o industria puede ser prohibida, a menos que se oponga a las buenas costumbres, a la seguridad o 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 salubridad públic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o que lo exija el interés nacional y una ley lo declare así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rotección al trabajo, a la industria, y a las obras de previsión social, especialmente en cuanto se refieren a la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habitación san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a las condiciones económicas de la vida, en forma de proporcionar a cada habitante un mínimo de bienestar, adecuado a la satisfacción de sus necesidades personales y a las de su famili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25-38) creación de instituciones sanitarias y seguros de salud (obligatorios) para obreros por enfermedades e invalid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38) Ley de Medicina Preventiva: énfasis en recuperación del “hombre trabajad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42) Servicio Médico Nacional de Empleados (SERMENA) empleados públicos y pri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952) crea del Servicio Nacional de Salud (SNS) fusiono varias dependencias dedicadas a la salud pública en un autoridad sanitaria única (población de menores recur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DFD7-D18D-4307-82B2-F705876A2C3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sión Ortúzar: punto de partida en el “principio de subsidiaridad” (Ortúzar &amp; Guzmá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ns y Silva Bascuñan, defensa del sistema tradicional (Estado: rol preponderante; activ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rogantes: ¿todos los avances de la técnica en forma gratuita? ¿Depende de la capacidad econó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inión general: sistema mixto con predominio esta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DD6A-926D-4DB1-A176-87235B60A136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vedad de redacción del art. 19 N° 9 CPR: Libre elección protegido por acción de protección (¿competencia o cooperación inter-sistemas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nicipalización de la salud (consultorios); subsidiaridad; descent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ación de las Instituciones de Salud Previsional y FONASA, financiados por cotizaciones obligatori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4464-1B4F-40E3-8330-C9780CBFB5BE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Acercamiento histórico al D° a la Protección de la Salu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obiernos de Aylwin y Frei: esfuerzos en refinanciar el sistema público (construcción de hospitales y consulto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ulación del cheque en gar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y de urgenc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 AUGE (Acceso Universal de Garantías Explíci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BD22-4F8F-44AF-BB30-81F1197EAAAC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Beatriz Errazuriz</cp:lastModifiedBy>
  <dcterms:modified xsi:type="dcterms:W3CDTF">2010-04-20T05:01:53Z</dcterms:modified>
  <cp:revision>82</cp:revision>
  <dc:subject/>
  <dc:title>Derecho Constitucional Económico</dc:title>
</cp:coreProperties>
</file>