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DF87-A921-4253-B6BB-B2A79D9786B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D1C9-9DE1-49EB-9251-4C84605D41B4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C679-9CB5-4DA0-BFAE-57108472A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444F-916C-44E2-82DF-4BE7FB8C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9BC1-72B0-4BC1-8D79-C6E5C0E5B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305E-7943-4A3D-8EA6-26D458DA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DEF7-46C0-42B1-A3B8-443A27BCC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597F-5CF6-4CD4-BD23-C1F0074E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F235-A63E-42F3-AB28-44FFB93C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BF2D-2D16-4285-A7E4-834B1259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3459-88CA-471C-B397-F956C27D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0126-11F8-49C9-B766-3AFA977E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54AD-2FDF-4D06-A488-8E6D32DD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96CF-A825-4E65-81DF-2FE29394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5252-9781-4B1A-A70D-D0028B6F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D2A5-31C5-46CF-B27B-74494819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1292-7F31-426D-A809-84214547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FD1A-945E-44D3-AE63-25B75EDDA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9BC4-79B0-48F2-98AF-EE62C6BBF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C7E5-32B3-4CFA-B6A8-AA5EAC5B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B65F-A49F-4056-BBD0-6529C5DE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BA31-C0D2-45AC-9DD2-B945A21A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AFD8-B98A-4B91-9E1C-1B3B63E7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AFE5-52ED-45CB-812E-36F01DB5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15EF-33F8-4158-A6B7-A0E59740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4DFA-E4A2-40CC-9128-5A36DFF0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872C-D25E-4BCE-AE82-C11D312C548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8C49-91AE-4253-B843-ADC82ED45F92}" type="slidenum">
              <a:rPr b="0" lang="es-E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tudent.virginia.edu/~vjil/PDF/49_985-1006.pdf" TargetMode="External"/><Relationship Id="rId2" Type="http://schemas.openxmlformats.org/officeDocument/2006/relationships/hyperlink" Target="http://www.cepchile.cl/dms/archivo_3267_1620/14_aedo.pdf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0" y="4952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antiago Montt O. / José Luis Cárdenas 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 8: 20 de abril de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Evolución del D° a la Protección de la Salu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isión Ortúzar: “Los derechos sociales son expectativas o aspiraciones, cuya materialización, a diferencia de los derechos públicos subjetivos, dependen de los recursos que tenga disponible el Estado para ell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recho “no-justicia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ursos apoyados en el D° a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volución a derechos “justiciables” o de “segunda generación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AEDC-9D80-4202-8C58-63AFAA11F448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Evolución del D° a la Protección de la Salu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ue la amplia mayoría de la doctrina nacional y extranjera reconoce que los derechos sociales, llamados tambié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rechos de prestación o de la segunda generación,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on tales y no simples declamaciones o meras expectativas, cuya materialización efectiva quede suspendida hasta que las disponibilidades presupuestarias del Estado puedan llevarlos a la práctica. Acertadamente, se ha escrito […] que en tales derechos: El núcleo normativo es que el sujeto tiene un título para exigir que se entreguen ciertos bienes, se le presten ciertos servicios o se le transfieran ciertos recursos. Entre tales derechos encontramos la prestación de un servicio (educación, salud, protección del riesgo, etc.)” Rol N° 1287-08-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90D8-ECA3-4060-B47D-C191D41F1914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Derechos de 2ª Generació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Quiénes se beneficia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Quiénes pagan el cost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Reasignación de recursos desde “derechos no-justiciables” a “derechos justiciable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erechos de 3ª Generación (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19 N° 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0585-CF7C-4087-BCFD-7D1874FE87C6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Derechos de 2ª Generació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tate of affairs as such is just or unjust: it is only when we assume that somebody is responsible for having brought it about […] In the same sense, a spontaneously working market, where prices act as guides to action, cannot take account of what people in any sense need or deserve, becaus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t creates a distribution which nobody has design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something which has not been designed, a mere state of affairs as such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nnot be just or unju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And the idea that things ought to be designed in a 'just' manner means, in effect, that we must abandon the market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urn to a planned econom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which somebody decides how much each ought to have, and that means, of course, that we can only have it at the price of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plete abolition of personal liber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(Hay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9878-3D3D-4402-B34F-620C0BF78585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Derechos de 2ª Generació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In any case, the argument from first-generation to second-generation rights was never supposed to be a matter of conceptual analysis. It was rather this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f one is really concerned to secure civil or political liberty for a person, that commitment should be accompanied by a further concern about the conditions of the person's life that make it possible for him to enjoy and exercise that liber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Why on earth would it be worth fighting for this person's liberty (say, his liberty to choose between A and B) if he were left in a situation in which the choice between A and B meant nothing to him, or in which his choosing one rather than the other would have no impact on his life?" (J. Wald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B414-A15D-45A8-89C7-F5B70A69128F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Derechos de 2ª Generació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mportación de D°s de 2ª Gener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“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race to the top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”? Efecto-OC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Cómo establecer D°s 2G/3G sin desincentivar la “responsabilidad personal”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Hasta dónde se pueden expandi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4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7500-B830-4A65-A4E0-A2FDAAAE67C7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Literatura sugerid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RK TUSHNET (2009): “The Inevitable Globalization of Constitutional Law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www.student.virginia.edu/~vjil/PDF/49_985-1006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RISTIÁN AEDO (2000): “Las Reformas de la Salud en Chi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www.cepchile.cl/dms/archivo_3267_1620/14_aedo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CA7F-7EAC-4BB4-81CD-170E764F2850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1712-10DF-4B2D-ABE5-0DD42C5E518F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Acercamiento histórico al D° a la Protección de la Salu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ásicamente un fenómeno del S. XX en adel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ntecedentes previos motivados por la “virtud de la caridad” y la protección del “recurso humano” (impacto sobre la produc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pidemias en el S. XIX (viruela y cóle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ntecedente de la “Junta de Beneficencia” (1886), da unidad administrativa a establecimientos de benefic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Acercamiento histórico al D° a la Protección de la Salu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23880" y="1904760"/>
            <a:ext cx="7010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tes asesores:  Junta General de Salubridad (1887) y Consejo Superior de Higiene (189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acia 1917 derivados de la “cuestión social” y las “amenazas al orden establecido” se forja la idea de “la responsabilidad y el deber social del Estado” en materia sanita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reación de “Consejo General de la Beneficencia” para coordinar esfuerz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924 creación del Ministerio de Higiene, Asistencia, Trabajo y Previsión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1FA4-8F74-4EFC-9C81-3A4A90BA0BF5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Acercamiento histórico al D° a la Protección de la Salu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derechos sociales comenzaron a ser reconocidos en varias naciones tras la Primera Guerra Mund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onocimiento constitucional del D° a la Salud en la Constitución de 1925 (art. 10 N° 4 y14), tras quiebre institu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onocimiento “incidental” a propósito de la protección al trabajo (“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reparación de la fuerza de trabajo industrial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588E-8B3E-4168-A59F-03FBF21D14B7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Acercamiento histórico al D° a la Protección de la Salu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21B9-1ACA-4016-B470-1B32A338665E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inguna clase de trabajo o industria puede ser prohibida, a menos que se oponga a las buenas costumbres, a la seguridad o a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la salubridad públic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o que lo exija el interés nacional y una ley lo declare así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protección al trabajo, a la industria, y a las obras de previsión social, especialmente en cuanto se refieren a la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habitación sana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 a las condiciones económicas de la vida, en forma de proporcionar a cada habitante un mínimo de bienestar, adecuado a la satisfacción de sus necesidades personales y a las de su famili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Acercamiento histórico al D° a la Protección de la Salu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23880" y="1676160"/>
            <a:ext cx="7010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1925-38) creación de instituciones sanitarias y seguros de salud (obligatorios) para obreros por enfermedades e invalide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1938) Ley de Medicina Preventiva: énfasis en recuperación del “hombre trabajad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1942) Servicio Médico Nacional de Empleados (SERMENA) empleados públicos y priv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1952) crea del Servicio Nacional de Salud (SNS) fusiono varias dependencias dedicadas a la salud pública en un autoridad sanitaria única (población de menores recurs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35BD-1513-499B-A197-047D61B3A03B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Acercamiento histórico al D° a la Protección de la Salu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95280" y="18288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isión Ortúzar: punto de partida en el “principio de subsidiaridad” (Ortúzar &amp; Guzmá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vans y Silva Bascuñan, defensa del sistema tradicional (Estado: rol preponderante; activ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terrogantes: ¿todos los avances de la técnica en forma gratuita? ¿Depende de la capacidad económ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pinión general: sistema mixto con predominio esta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732A-E3CE-44B0-9AF4-394D4C688514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Acercamiento histórico al D° a la Protección de la Salu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vedad de redacción del art. 19 N° 9 CPR: Libre elección protegido por acción de protección (¿competencia o cooperación inter-sistemas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unicipalización de la salud (consultorios); subsidiaridad; descentr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reación de las Instituciones de Salud Previsional y FONASA, financiados por cotizaciones obligatori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26B0-ED03-4399-A374-C1DA8FDC202C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Acercamiento histórico al D° a la Protección de la Salu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obiernos de Aylwin y Frei: esfuerzos en refinanciar el sistema público (construcción de hospitales y consultori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ulación del cheque en garant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ey de urgenci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lan AUGE (Acceso Universal de Garantías Explícit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B178-CDC5-477B-9891-F41863BF690F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00:48:29Z</dcterms:created>
  <dc:creator>jlcarden</dc:creator>
  <dc:description/>
  <dc:language>en-US</dc:language>
  <cp:lastModifiedBy>Beatriz Errazuriz</cp:lastModifiedBy>
  <dcterms:modified xsi:type="dcterms:W3CDTF">2010-04-20T05:01:53Z</dcterms:modified>
  <cp:revision>82</cp:revision>
  <dc:subject/>
  <dc:title>Derecho Constitucional Económico</dc:title>
</cp:coreProperties>
</file>