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926E-0EB5-4AF2-84A0-FEA0AB4CF58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E1D4-C3E9-4939-9A62-A3D10F90CE2B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0B3-41A0-4060-B3E0-30095BF6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2A6-49B0-4FBB-8759-67F93F01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3121-95B7-4DE1-96D5-36D678EA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088-D445-49D9-B258-31CE8556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39EE-30B5-4005-94CB-E577F303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2FD1-D3D3-407A-88EC-483D736A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001E-B0E7-4438-B626-879CD33E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1ABA-5505-4185-8E29-881D0486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D6CD-E0BA-426A-9681-D05AE62F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F139-23E6-4073-B01F-06B05833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7CFD-9F1B-449B-9DA7-3F82B55A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D376-A314-47C0-AC0D-121DDED8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457B-EFD3-43DF-9CC6-DE7F679E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BE86-EC73-4C13-94DB-CC6C443A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90AE-FACA-4B51-BCF3-04958C70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A694-501C-4D06-BDBD-3885B263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4881-206B-4ECF-9ACE-644FF319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D9C-D69F-4E7C-A826-3244CC3E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F33-07BB-4B20-9620-40C1A741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C512-F356-49B5-AD5E-2D972D6A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4E5-B609-4EED-A0DD-53B39AFB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B7F1-D3F4-4011-9802-48DF0D30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5A16-CCEE-4BE3-9EA2-622905C7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498-AA21-4613-88DD-8048BB64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6005-90A7-44CC-BE69-A0B85A69174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AA2F-C797-40A7-9BE6-90F8D5137C0B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udent.virginia.edu/~vjil/PDF/49_985-1006.pdf" TargetMode="External"/><Relationship Id="rId2" Type="http://schemas.openxmlformats.org/officeDocument/2006/relationships/hyperlink" Target="http://www.cepchile.cl/dms/archivo_3267_1620/14_aedo.pd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8: 20 de abril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volución de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isión Ortúzar: “Los derechos sociales son expectativas o aspiraciones, cuya materialización, a diferencia de los derechos públicos subjetivos, dependen de los recursos que tenga disponible el Estado para ell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recho “no-justici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s apoyados en el D° a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olución a derechos “justiciables” o de “segunda generació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A3B5-CB5C-4060-A285-3E41628F14E5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volución de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 la amplia mayoría de la doctrina nacional y extranjera reconoce que los derechos sociales, llamados tambié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rechos de prestación o de la segunda generación,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on tales y no simples declamaciones o meras expectativas, cuya materialización efectiva quede suspendida hasta que las disponibilidades presupuestarias del Estado puedan llevarlos a la práctica. Acertadamente, se ha escrito […] que en tales derechos: El núcleo normativo es que el sujeto tiene un título para exigir que se entreguen ciertos bienes, se le presten ciertos servicios o se le transfieran ciertos recursos. Entre tales derechos encontramos la prestación de un servicio (educación, salud, protección del riesgo, etc.)” Rol N° 1287-08-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4030-C667-4E44-85DC-0D067FE9DEA7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Derechos de 2ª Gener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iénes se benefici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iénes pagan el cos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Reasignación de recursos desde “derechos no-justiciables” a “derechos justiciabl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rechos de 3ª Generación (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19 N° 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9690-8EFE-4B05-A758-B217DD4DBD5B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Derechos de 2ª Gener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tate of affairs as such is just or unjust: it is only when we assume that somebody is responsible for having brought it about […] In the same sense, a spontaneously working market, where prices act as guides to action, cannot take account of what people in any sense need or deserve, becaus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t creates a distribution which nobody has design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something which has not been designed, a mere state of affairs as such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nnot be just or unj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And the idea that things ought to be designed in a 'just' manner means, in effect, that we must abandon the market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urn to a planned econom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ich somebody decides how much each ought to have, and that means, of course, that we can only have it at the price of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lete abolition of personal liber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y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7886-695C-4BFB-9E78-9AC6AB6C96A1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Derechos de 2ª Gener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In any case, the argument from first-generation to second-generation rights was never supposed to be a matter of conceptual analysis. It was rather thi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f one is really concerned to secure civil or political liberty for a person, that commitment should be accompanied by a further concern about the conditions of the person's life that make it possible for him to enjoy and exercise that liber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Why on earth would it be worth fighting for this person's liberty (say, his liberty to choose between A and B) if he were left in a situation in which the choice between A and B meant nothing to him, or in which his choosing one rather than the other would have no impact on his life?" (J. Wald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A882-4DB8-4FAA-8439-AE2BD8EC41B9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Derechos de 2ª Gener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mportación de D°s de 2ª Gener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“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race to the top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”? Efecto-OC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Cómo establecer D°s 2G/3G sin desincentivar la “responsabilidad personal”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Hasta dónde se pueden expandi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3B70-D128-4CFB-BEB1-098CB8CA7E17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Literatura sugerid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RK TUSHNET (2009): “The Inevitable Globalization of Constitutional Law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www.student.virginia.edu/~vjil/PDF/49_985-1006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ISTIÁN AEDO (2000): “Las Reformas de la Salud en Chi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www.cepchile.cl/dms/archivo_3267_1620/14_aedo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AD54-550B-4C53-9528-D75D6C9649C1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511C-D9E2-439A-B783-DDD9F6167908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ásicamente un fenómeno del S. XX en adel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tecedentes previos motivados por la “virtud de la caridad” y la protección del “recurso humano” (impacto sobre la produ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pidemias en el S. XIX (viruela y cóle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tecedente de la “Junta de Beneficencia” (1886), da unidad administrativa a establecimientos de benefic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es asesores:  Junta General de Salubridad (1887) y Consejo Superior de Higiene (18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cia 1917 derivados de la “cuestión social” y las “amenazas al orden establecido” se forja la idea de “la responsabilidad y el deber social del Estado” en materia sani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ación de “Consejo General de la Beneficencia” para coordinar esfuerz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924 creación del Ministerio de Higiene, Asistencia, Trabajo y Previs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234D-599F-4DAE-B080-2813EC2C4957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derechos sociales comenzaron a ser reconocidos en varias naciones tras la Primera Guerra Mund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onocimiento constitucional del D° a la Salud en la Constitución de 1925 (art. 10 N° 4 y14), tras quiebre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onocimiento “incidental” a propósito de la protección al trabajo (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reparación de la fuerza de trabajo industrial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DFD5-BF23-473C-BBF8-84B349E1DBB4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441C-4D8E-43FE-88F8-9FD37A22F762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inguna clase de trabajo o industria puede ser prohibida, a menos que se oponga a las buenas costumbres, a la seguridad o a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la salubridad públic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o que lo exija el interés nacional y una ley lo declare así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protección al trabajo, a la industria, y a las obras de previsión social, especialmente en cuanto se refieren a la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habitación san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 a las condiciones económicas de la vida, en forma de proporcionar a cada habitante un mínimo de bienestar, adecuado a la satisfacción de sus necesidades personales y a las de su famili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3880" y="16761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1925-38) creación de instituciones sanitarias y seguros de salud (obligatorios) para obreros por enfermedades e invalid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1938) Ley de Medicina Preventiva: énfasis en recuperación del “hombre trabajad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1942) Servicio Médico Nacional de Empleados (SERMENA) empleados públicos y priv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1952) crea del Servicio Nacional de Salud (SNS) fusiono varias dependencias dedicadas a la salud pública en un autoridad sanitaria única (población de menores recurs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5658-0EE6-439E-9BF3-4234B294C987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952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isión Ortúzar: punto de partida en el “principio de subsidiaridad” (Ortúzar &amp; Guzmá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ans y Silva Bascuñan, defensa del sistema tradicional (Estado: rol preponderante; ac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rogantes: ¿todos los avances de la técnica en forma gratuita? ¿Depende de la capacidad económ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inión general: sistema mixto con predominio esta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7036-AB88-435A-B59D-CBE93FDDC8E2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vedad de redacción del art. 19 N° 9 CPR: Libre elección protegido por acción de protección (¿competencia o cooperación inter-sistema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nicipalización de la salud (consultorios); subsidiaridad; descentr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ación de las Instituciones de Salud Previsional y FONASA, financiados por cotizaciones obligatori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7D12-A48B-4D3F-A11B-E12B9D321077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obiernos de Aylwin y Frei: esfuerzos en refinanciar el sistema público (construcción de hospitales y consulto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ulación del cheque en gar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ey de urgenci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an AUGE (Acceso Universal de Garantías Explíci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D3FA-D058-4B13-9827-8D4E5936D9BD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Beatriz Errazuriz</cp:lastModifiedBy>
  <dcterms:modified xsi:type="dcterms:W3CDTF">2010-04-20T05:01:53Z</dcterms:modified>
  <cp:revision>82</cp:revision>
  <dc:subject/>
  <dc:title>Derecho Constitucional Económico</dc:title>
</cp:coreProperties>
</file>