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6819-246B-4D19-AC24-FAD07157A0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8625-E19C-4C00-B9B2-142F2EE75869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BBF-07F9-4C15-B1D9-4D9395A1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C9D-0A42-4330-9583-CD887F6E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E5C-AE7C-4C6B-BD01-846CA6F2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F9B-C746-459A-805A-BAA6CF4D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32B8-4361-4450-B594-06AFCC84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FC90-DD1D-44C2-B509-5888FF4C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DFFF-25B0-4E7B-9228-339277FE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FFAE-E54F-427B-9729-AE029073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8843-1ED5-494A-A808-1DAFFBF1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2703-C108-4EF0-835C-C6542B1A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02EE-DDBB-4217-9C84-1A0577B2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38BB-43C6-4509-83FD-B61E9831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D829-83EC-4E61-B86D-90717497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756E-4693-4312-9842-F236A4A4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0F60-92D2-4C0F-B93C-6ED6B34F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7708-68F0-4F9C-9FFB-062DB4EE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4779-79BB-478E-846B-6519DABB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9AD-564C-48E2-9AB6-C1C57234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471-E2B6-4464-AA97-35C1E69C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EE6-C0F7-4989-8AFF-B0001F8C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C11-779B-4A14-B55D-FDC7EB94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322-8B41-4C63-A5B7-D0AD93FB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A6C-B53E-420B-9423-9B1E924B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EA7-31C8-494F-8D5D-BD9CFCE7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ACA1-3303-4A28-8C33-2893D1D5181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A9A0-740F-4192-9859-6C00EF704128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udent.virginia.edu/~vjil/PDF/49_985-1006.pdf" TargetMode="External"/><Relationship Id="rId2" Type="http://schemas.openxmlformats.org/officeDocument/2006/relationships/hyperlink" Target="http://www.cepchile.cl/dms/archivo_3267_1620/14_aedo.pd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8: 20 de abril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volución de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isión Ortúzar: “Los derechos sociales son expectativas o aspiraciones, cuya materialización, a diferencia de los derechos públicos subjetivos, dependen de los recursos que tenga disponible el Estado para ell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recho “no-justici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apoyados en el D° a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olución a derechos “justiciables” o de “segunda generació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6F10-695D-4F12-A608-6B79E2AE2DF0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volución de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la amplia mayoría de la doctrina nacional y extranjera reconoce que los derechos sociales, llamados tambié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rechos de prestación o de la segunda generación,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on tales y no simples declamaciones o meras expectativas, cuya materialización efectiva quede suspendida hasta que las disponibilidades presupuestarias del Estado puedan llevarlos a la práctica. Acertadamente, se ha escrito […] que en tales derechos: El núcleo normativo es que el sujeto tiene un título para exigir que se entreguen ciertos bienes, se le presten ciertos servicios o se le transfieran ciertos recursos. Entre tales derechos encontramos la prestación de un servicio (educación, salud, protección del riesgo, etc.)” Rol N° 1287-08-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57A6-A5D9-49AB-9104-ED6151D1E28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s de 2ª Gener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iénes se benefici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iénes pagan el cos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Reasignación de recursos desde “derechos no-justiciables” a “derechos justiciabl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rechos de 3ª Generación (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19 N° 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DD90-3266-440D-9BC5-D8C3B7FE590C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s de 2ª Gener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ate of affairs as such is just or unjust: it is only when we assume that somebody is responsible for having brought it about […] In the same sense, a spontaneously working market, where prices act as guides to action, cannot take account of what people in any sense need or deserve, becau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t creates a distribution which nobody has desig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something which has not been designed, a mere state of affairs as such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not be just or unj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nd the idea that things ought to be designed in a 'just' manner means, in effect, that we must abandon the marke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urn to a planned econom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ich somebody decides how much each ought to have, and that means, of course, that we can only have it at the price of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lete abolition of personal libe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y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986E-FD70-4DC1-A612-6F1945A1519F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s de 2ª Gener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In any case, the argument from first-generation to second-generation rights was never supposed to be a matter of conceptual analysis. It was rather thi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f one is really concerned to secure civil or political liberty for a person, that commitment should be accompanied by a further concern about the conditions of the person's life that make it possible for him to enjoy and exercise that libe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Why on earth would it be worth fighting for this person's liberty (say, his liberty to choose between A and B) if he were left in a situation in which the choice between A and B meant nothing to him, or in which his choosing one rather than the other would have no impact on his life?" (J. Wald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4619-130D-49A0-8BDD-DFAEF4E5282A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s de 2ª Gener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mportación de D°s de 2ª Gener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“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race to the top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”? Efecto-OC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Cómo establecer D°s 2G/3G sin desincentivar la “responsabilidad personal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Hasta dónde se pueden expandi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BF34-E42D-49DD-8098-FAB9C22C6ACE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teratura sugerid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RK TUSHNET (2009): “The Inevitable Globalization of Constitutional La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ww.student.virginia.edu/~vjil/PDF/49_985-1006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ISTIÁN AEDO (2000): “Las Reformas de la Salud en Chi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www.cepchile.cl/dms/archivo_3267_1620/14_aedo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463D-B68D-4AC2-BAF4-ED7EEDE72C11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2BFD-419C-4C27-AE0D-E550CF983A71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ásicamente un fenómeno del S. XX en ade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tecedentes previos motivados por la “virtud de la caridad” y la protección del “recurso humano” (impacto sobre la produ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pidemias en el S. XIX (viruela y cóle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tecedente de la “Junta de Beneficencia” (1886), da unidad administrativa a establecimientos de benefic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es asesores:  Junta General de Salubridad (1887) y Consejo Superior de Higiene (18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ia 1917 derivados de la “cuestión social” y las “amenazas al orden establecido” se forja la idea de “la responsabilidad y el deber social del Estado” en materia sani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ación de “Consejo General de la Beneficencia” para coordinar esfuerz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924 creación del Ministerio de Higiene, Asistencia, Trabajo y Previs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F322-295A-43C2-B710-DCC78035E3D2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derechos sociales comenzaron a ser reconocidos en varias naciones tras la Primera Guerra Mund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onocimiento constitucional del D° a la Salud en la Constitución de 1925 (art. 10 N° 4 y14), tras quiebre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onocimiento “incidental” a propósito de la protección al trabajo (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eparación de la fuerza de trabajo industrial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29C1-F774-4186-8687-6483770B8C48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A21F-E260-4C1D-BCB4-F8FBFC3F7A11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inguna clase de trabajo o industria puede ser prohibida, a menos que se oponga a las buenas costumbres, a la seguridad o a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la salubridad públic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o que lo exija el interés nacional y una ley lo declare así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protección al trabajo, a la industria, y a las obras de previsión social, especialmente en cuanto se refieren a la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habitación san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 a las condiciones económicas de la vida, en forma de proporcionar a cada habitante un mínimo de bienestar, adecuado a la satisfacción de sus necesidades personales y a las de su famili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925-38) creación de instituciones sanitarias y seguros de salud (obligatorios) para obreros por enfermedades e invalid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938) Ley de Medicina Preventiva: énfasis en recuperación del “hombre trabajad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942) Servicio Médico Nacional de Empleados (SERMENA) empleados públicos y priv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952) crea del Servicio Nacional de Salud (SNS) fusiono varias dependencias dedicadas a la salud pública en un autoridad sanitaria única (población de menores recur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813F-DF87-4728-8634-3016DA2C0A42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isión Ortúzar: punto de partida en el “principio de subsidiaridad” (Ortúzar &amp; Guzmá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ans y Silva Bascuñan, defensa del sistema tradicional (Estado: rol preponderante; ac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rogantes: ¿todos los avances de la técnica en forma gratuita? ¿Depende de la capacidad econó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inión general: sistema mixto con predominio esta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5893-4BCE-47BD-A72D-1F04A092C8AD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vedad de redacción del art. 19 N° 9 CPR: Libre elección protegido por acción de protección (¿competencia o cooperación inter-sistema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nicipalización de la salud (consultorios); subsidiaridad; descent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ación de las Instituciones de Salud Previsional y FONASA, financiados por cotizaciones obligatori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D00A-A59A-4CB7-859F-23D5616D4F70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obiernos de Aylwin y Frei: esfuerzos en refinanciar el sistema público (construcción de hospitales y consulto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ulación del cheque en gar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ey de urgenc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an AUGE (Acceso Universal de Garantías Explíci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77EB-64BF-403E-9819-0DFBC2895A25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Beatriz Errazuriz</cp:lastModifiedBy>
  <dcterms:modified xsi:type="dcterms:W3CDTF">2010-04-20T05:01:53Z</dcterms:modified>
  <cp:revision>82</cp:revision>
  <dc:subject/>
  <dc:title>Derecho Constitucional Económico</dc:title>
</cp:coreProperties>
</file>