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0B9B-998A-4112-A0DC-A2C28A95F79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062C-6361-4EA3-93B6-08ED62FFBBF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D5DD5-7A51-4E42-8B9E-CEAA0833D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1729B-D69A-4B70-B2CB-EBD3CE524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14820-33BD-49C1-B9C7-346B42152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479D6-45E4-453E-9C69-1867070D8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BA97C-D478-4946-92DC-E3DADC14F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270C7-264E-4FB7-B1A3-DA0B367E0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24755-CD30-4F12-A029-592639045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E1425-7D6B-40A8-B3C4-E94DDB0EC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A79F3-5D2A-4233-BC6C-965B60054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9AFB2-863D-45A3-ADC3-425A87F89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7FD32-7B5A-4620-81FD-B06E85790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0B1D5-42A0-4F3C-B9AC-8264631E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14B96-1057-4B2B-9039-0AF02A4D4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B84DB-CE8F-480D-8D43-9C0D1666D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5F997-C37D-4E4C-8E07-2A93DFE3A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C60F0-E420-4414-99E3-7C58A7004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4AD94-4F06-4EB4-9351-AA1EA19EC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B4503-94B3-4851-BCA8-412D2826E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1AC93-1178-4D56-BED3-B00103A5C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3CDB9-C2CE-44DA-9FDB-471CAEE0A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6FFA-F71B-48CB-9136-52851256B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6159C-1B05-414A-86AB-66A81AB07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33DFF-4369-4CF6-9AC7-8248F9373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9D21C-6E8F-4E6B-9571-62B851DC8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48A5-1C87-44E4-922D-A8865147416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4E5F-2B11-4CF4-95B9-7D94667D77E1}"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9: 22 de abril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xternal effects </a:t>
            </a:r>
            <a:r>
              <a:rPr b="0" lang="es-CL" sz="1800" spc="-1" strike="noStrike">
                <a:solidFill>
                  <a:srgbClr val="000000"/>
                </a:solidFill>
                <a:latin typeface="Arial"/>
              </a:rPr>
              <a:t>associated </a:t>
            </a:r>
            <a:r>
              <a:rPr b="0" lang="en-US" sz="1800" spc="-1" strike="noStrike">
                <a:solidFill>
                  <a:srgbClr val="000000"/>
                </a:solidFill>
                <a:latin typeface="Arial"/>
              </a:rPr>
              <a:t>with the consumption of health care and the health of individuals:. An individual may be concerned about others’ health for selfish reasons, as in the case of infectious diseases, because another person’s ill health or failure to consume health care pose risks to him or her-</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re generally </a:t>
            </a:r>
            <a:r>
              <a:rPr b="0" lang="en-US" sz="1800" spc="-1" strike="noStrike" u="sng">
                <a:solidFill>
                  <a:srgbClr val="000000"/>
                </a:solidFill>
                <a:uFillTx/>
                <a:latin typeface="Arial"/>
              </a:rPr>
              <a:t>poorly informed </a:t>
            </a:r>
            <a:r>
              <a:rPr b="0" lang="en-US" sz="1800" spc="-1" strike="noStrike">
                <a:solidFill>
                  <a:srgbClr val="000000"/>
                </a:solidFill>
                <a:latin typeface="Arial"/>
              </a:rPr>
              <a:t>about their need for specific health services and unable to evaluate in advance what the services will do for them. For this they require and consult health care providers, </a:t>
            </a:r>
            <a:r>
              <a:rPr b="0" lang="en-US" sz="1800" spc="-1" strike="noStrike" u="sng">
                <a:solidFill>
                  <a:srgbClr val="000000"/>
                </a:solidFill>
                <a:uFillTx/>
                <a:latin typeface="Arial"/>
              </a:rPr>
              <a:t>who act as their agents </a:t>
            </a:r>
            <a:r>
              <a:rPr b="0" lang="en-US" sz="1800" spc="-1" strike="noStrike">
                <a:solidFill>
                  <a:srgbClr val="000000"/>
                </a:solidFill>
                <a:latin typeface="Arial"/>
              </a:rPr>
              <a:t>in deciding what they need to consume (</a:t>
            </a:r>
            <a:r>
              <a:rPr b="0" lang="es-CL" sz="1800" spc="-1" strike="noStrike">
                <a:solidFill>
                  <a:srgbClr val="000000"/>
                </a:solidFill>
                <a:latin typeface="Arial"/>
              </a:rPr>
              <a:t>asymmetric possession of knowledge).</a:t>
            </a:r>
            <a:endParaRPr b="0" lang="en-US" sz="18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2357-DD08-4A0C-BF09-9B47C8E5538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umplen los supuestos de una competencia efectiva para que el “bien salud” transado sólo en el mercado tienda a “óptimos social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mandantes del “bien salud” actúan como </a:t>
            </a:r>
            <a:r>
              <a:rPr b="0" i="1" lang="es-CL" sz="2400" spc="-1" strike="noStrike">
                <a:solidFill>
                  <a:srgbClr val="000000"/>
                </a:solidFill>
                <a:latin typeface="Arial"/>
              </a:rPr>
              <a:t>homo oeconomicu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180A-DA6A-4D44-A361-99695DC99B26}"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os problemas intrínsecos: efectos secundarios, indicaciones y contraindicaciones de medica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metrías de información: </a:t>
            </a:r>
            <a:r>
              <a:rPr b="0" i="1" lang="es-CL" sz="2400" spc="-1" strike="noStrike">
                <a:solidFill>
                  <a:srgbClr val="000000"/>
                </a:solidFill>
                <a:latin typeface="Arial"/>
              </a:rPr>
              <a:t>Principal-Agent Problem</a:t>
            </a:r>
            <a:r>
              <a:rPr b="0" lang="es-CL" sz="2400" spc="-1" strike="noStrike">
                <a:solidFill>
                  <a:srgbClr val="000000"/>
                </a:solidFill>
                <a:latin typeface="Arial"/>
              </a:rPr>
              <a:t> (incentivos desalinead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sume que </a:t>
            </a:r>
            <a:r>
              <a:rPr b="0" lang="es-CL" sz="2400" spc="-1" strike="noStrike" u="sng">
                <a:solidFill>
                  <a:srgbClr val="000000"/>
                </a:solidFill>
                <a:uFillTx/>
                <a:latin typeface="Arial"/>
              </a:rPr>
              <a:t>lo caro es bueno </a:t>
            </a:r>
            <a:r>
              <a:rPr b="0" i="1"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elasticidad de la demanda: ante una alza en el costo no hay una disminución de la demanda en una proporción similar, sino que </a:t>
            </a:r>
            <a:r>
              <a:rPr b="0" lang="es-CL" sz="2400" spc="-1" strike="noStrike" u="sng">
                <a:solidFill>
                  <a:srgbClr val="000000"/>
                </a:solidFill>
                <a:uFillTx/>
                <a:latin typeface="Arial"/>
              </a:rPr>
              <a:t>tiende a ser inferior</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4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7829-5684-4E85-81FB-B9B19A0B7943}"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4"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sensibilidad a los costos es “terreno fértil” para la creación de “posiciones domina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l “riesgo moral” (</a:t>
            </a:r>
            <a:r>
              <a:rPr b="0" i="1" lang="es-CL" sz="2400" spc="-1" strike="noStrike">
                <a:solidFill>
                  <a:srgbClr val="000000"/>
                </a:solidFill>
                <a:latin typeface="Arial"/>
              </a:rPr>
              <a:t>moral hazard</a:t>
            </a:r>
            <a:r>
              <a:rPr b="0" lang="es-CL" sz="2400" spc="-1" strike="noStrike">
                <a:solidFill>
                  <a:srgbClr val="000000"/>
                </a:solidFill>
                <a:latin typeface="Arial"/>
              </a:rPr>
              <a:t>) derivado de la existencia de seguros (actitudes riesgos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veedor del “bien salud” tampoco tiene incentivo a un uso eficiente “doble riesgo moral” (exceso de exámenes; hospitalizaciones innecesarias): el consumidor tiene escasos incentivos para reclamar (importancia del co-pago).</a:t>
            </a:r>
            <a:endParaRPr b="0" lang="en-US" sz="2400" spc="-1" strike="noStrike">
              <a:solidFill>
                <a:srgbClr val="000000"/>
              </a:solidFill>
              <a:latin typeface="Arial"/>
            </a:endParaRPr>
          </a:p>
        </p:txBody>
      </p:sp>
      <p:sp>
        <p:nvSpPr>
          <p:cNvPr id="14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4A28-01BE-4675-9BF0-97988CE8927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novaciones, especialmente farmacéuticas puedes ser fácilmente “copiadas” mediante “ingeniería inversa”:</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ternalidad positiva</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racterística de “bien público”: “no rival no excluyente”:</a:t>
            </a:r>
            <a:endParaRPr b="0" lang="en-US" sz="22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rival: su uso no perjudica al uso simultánea de otros</a:t>
            </a:r>
            <a:endParaRPr b="0" lang="en-US" sz="18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cluyente: no puede excluirse a terceros</a:t>
            </a:r>
            <a:endParaRPr b="0" lang="en-US" sz="18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llas de mercado (asimetrías; baja elasticidad; riesgos moral; innovación como bien público) lleva a:</a:t>
            </a:r>
            <a:endParaRPr b="0" lang="en-US" sz="2400" spc="-1" strike="noStrike">
              <a:solidFill>
                <a:srgbClr val="000000"/>
              </a:solidFill>
              <a:latin typeface="Arial"/>
            </a:endParaRPr>
          </a:p>
        </p:txBody>
      </p:sp>
      <p:sp>
        <p:nvSpPr>
          <p:cNvPr id="14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1A36-7A17-4275-B7A0-BA940D7C55A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5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s supra-competitiv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yor escas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nor cal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s no controlados para la salud públic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eso limitad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ta de innovación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4"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62A3-7E79-4A61-9ABE-5D0223A74205}"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3915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Justificación de Regulación?</a:t>
            </a:r>
            <a:endParaRPr b="0" lang="en-US" sz="4200" spc="-1" strike="noStrike">
              <a:solidFill>
                <a:srgbClr val="000000"/>
              </a:solidFill>
              <a:latin typeface="Arial"/>
            </a:endParaRPr>
          </a:p>
        </p:txBody>
      </p:sp>
      <p:sp>
        <p:nvSpPr>
          <p:cNvPr id="15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 autorizaciones de regulador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ros obligatorios (sigue “riesgo mor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bsidios = acce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de patentes para incentivar la innovación (generan rentas monopólicas ¿acceso?)</a:t>
            </a:r>
            <a:endParaRPr b="0" lang="en-US" sz="2400" spc="-1" strike="noStrike">
              <a:solidFill>
                <a:srgbClr val="000000"/>
              </a:solidFill>
              <a:latin typeface="Arial"/>
            </a:endParaRPr>
          </a:p>
        </p:txBody>
      </p:sp>
      <p:sp>
        <p:nvSpPr>
          <p:cNvPr id="15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AA32-1207-416B-9F0E-F53CBE7849D5}"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fectos …</a:t>
            </a:r>
            <a:endParaRPr b="0" lang="en-US" sz="4200" spc="-1" strike="noStrike">
              <a:solidFill>
                <a:srgbClr val="000000"/>
              </a:solidFill>
              <a:latin typeface="Arial"/>
            </a:endParaRPr>
          </a:p>
        </p:txBody>
      </p:sp>
      <p:sp>
        <p:nvSpPr>
          <p:cNvPr id="16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antídoto” en contra de l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inductor” de nuev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y difícil balance!</a:t>
            </a:r>
            <a:endParaRPr b="0" lang="en-US" sz="3000" spc="-1" strike="noStrike">
              <a:solidFill>
                <a:srgbClr val="000000"/>
              </a:solidFill>
              <a:latin typeface="Arial"/>
            </a:endParaRPr>
          </a:p>
        </p:txBody>
      </p:sp>
      <p:sp>
        <p:nvSpPr>
          <p:cNvPr id="16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B854-7552-4F2F-B582-907DAE0A5FB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6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si no bastara con las fallas intrínsecas e inducidas por la regulación (afectación de resultados óptimos) se adiciona la “dinámica constitucion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sultado de todo ésto?</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50C6-0B37-4C7D-AED3-BD679A5908E4}"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68"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Estable dentro de su gravedad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Pronóstico reservado …”</a:t>
            </a:r>
            <a:endParaRPr b="0" lang="en-US" sz="3000" spc="-1" strike="noStrike">
              <a:solidFill>
                <a:srgbClr val="000000"/>
              </a:solidFill>
              <a:latin typeface="Arial"/>
            </a:endParaRPr>
          </a:p>
        </p:txBody>
      </p:sp>
      <p:sp>
        <p:nvSpPr>
          <p:cNvPr id="16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1DDA-5E37-44C5-BF18-FD4357DE02DF}"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3B98-CDF9-4EA1-8005-DA6D06134B0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520" y="190440"/>
            <a:ext cx="71629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ud: “Es el estado de completo bienestar físico, mental y social, y no solamente la ausencia de infecciones o enfermedades” (OMS, 194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the health of a nation – defined broadly as its physical, mental and social functioning and ability to cope with life’s daily challenges – is one important determinant of national economic performance. Unhealthy societies do not prosper economically and often fail to achieve their economic potential, with adverse consequences for their citizens, including both present and future generations”. (WHO,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iteratura recomendada</a:t>
            </a:r>
            <a:endParaRPr b="0" lang="en-US" sz="4200" spc="-1" strike="noStrike">
              <a:solidFill>
                <a:srgbClr val="000000"/>
              </a:solidFill>
              <a:latin typeface="Arial"/>
            </a:endParaRPr>
          </a:p>
        </p:txBody>
      </p:sp>
      <p:sp>
        <p:nvSpPr>
          <p:cNvPr id="17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 Zöllner, et al (2003): Learning to live with Health Economics, disponible 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t>
            </a:r>
            <a:r>
              <a:rPr b="0" lang="es-CL" sz="2400" spc="-1" strike="noStrike">
                <a:solidFill>
                  <a:srgbClr val="000000"/>
                </a:solidFill>
                <a:latin typeface="Arial"/>
              </a:rPr>
              <a:t>http://www.euro.who.int/document/E88172.pdf</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4"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8A1B-3685-415B-90D8-D87FAEEBCC53}"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4"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a nation’s health influence the performance of its economy, including (i) the performance of private sector enterprises; (ii) overall economic performance as measured by common economic indicators such as GDP growth, unemployment, inflation or income distribution; and (iii) the level of public expenditure required for social programmes, including health care? economic indicators such as GDP growth, unemployment, inflation or income distribution; and (iii) the level of public expenditure on social programmes including health </a:t>
            </a:r>
            <a:r>
              <a:rPr b="0" lang="es-CL" sz="2000" spc="-1" strike="noStrike">
                <a:solidFill>
                  <a:srgbClr val="000000"/>
                </a:solidFill>
                <a:latin typeface="Arial"/>
              </a:rPr>
              <a:t>care?</a:t>
            </a:r>
            <a:endParaRPr b="0" lang="en-US" sz="20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4806-FFFC-43C8-A3D6-4D32F1C9450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8"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provision of effective health care services improve the functioning of an economy and the health of a population? In what specific ways might the level and types of expenditure on health care services affect the economy?</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health of citizens and the need for health care be affected by the functioning of an economy, including (i) the performance of private sector enterprises; (ii) overall economic performance as measured by common economic indicators such as GDP growth, unemployment, inflation or income distribution;  and (iii) the level of public expenditure on social programmes including health care?</a:t>
            </a:r>
            <a:endParaRPr b="0" lang="en-US" sz="2000" spc="-1" strike="noStrike">
              <a:solidFill>
                <a:srgbClr val="000000"/>
              </a:solidFill>
              <a:latin typeface="Arial"/>
            </a:endParaRPr>
          </a:p>
        </p:txBody>
      </p:sp>
      <p:sp>
        <p:nvSpPr>
          <p:cNvPr id="10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EA89-C7C9-4958-B58C-F411882F723F}"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1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3"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19F4-7960-4FB0-99F6-9400CB7D95F8}"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
        <p:nvSpPr>
          <p:cNvPr id="114" name=""/>
          <p:cNvSpPr txBox="1"/>
          <p:nvPr/>
        </p:nvSpPr>
        <p:spPr>
          <a:xfrm>
            <a:off x="1523880" y="1904760"/>
            <a:ext cx="7010640" cy="4190760"/>
          </a:xfrm>
          <a:prstGeom prst="rect">
            <a:avLst/>
          </a:prstGeom>
          <a:noFill/>
          <a:ln w="0">
            <a:noFill/>
          </a:ln>
        </p:spPr>
        <p:txBody>
          <a:bodyPr anchor="t">
            <a:normAutofit fontScale="98000"/>
          </a:bodyPr>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extent that a population’s health improves and all other factors remain constant, the need for health care in future </a:t>
            </a:r>
            <a:r>
              <a:rPr b="0" lang="es-CL" sz="2000" spc="-1" strike="noStrike">
                <a:solidFill>
                  <a:srgbClr val="000000"/>
                </a:solidFill>
                <a:latin typeface="Arial"/>
              </a:rPr>
              <a:t>should in theory decrease.</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a:t>
            </a:r>
            <a:r>
              <a:rPr b="0" lang="en-US" sz="2000" spc="-1" strike="noStrike">
                <a:solidFill>
                  <a:srgbClr val="000000"/>
                </a:solidFill>
                <a:latin typeface="Arial"/>
              </a:rPr>
              <a:t>appropriate primary care services are established, or if life expectancy increases, the need for highly specialized acute, chronic or rehabilitative services will almost certainly be accentuated.</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ier populations are more productive populations in general.</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health may also have a feedback effect for individuals and families through higher incomes, which in turn permit higher standards of living and healthier </a:t>
            </a:r>
            <a:r>
              <a:rPr b="0" lang="es-CL" sz="2000" spc="-1" strike="noStrike">
                <a:solidFill>
                  <a:srgbClr val="000000"/>
                </a:solidFill>
                <a:latin typeface="Arial"/>
              </a:rPr>
              <a:t>lifesty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16" name=""/>
          <p:cNvSpPr txBox="1"/>
          <p:nvPr/>
        </p:nvSpPr>
        <p:spPr>
          <a:xfrm>
            <a:off x="1523880" y="1676160"/>
            <a:ext cx="7010640" cy="47242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in health that involve longer life expectancy as well as, or instead of, improved quality of life will affect the sociodemographic profile of populations in ways that will have implications for public expenditure, on pensions for exampl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for individuals and societies, prosperity is consistently associated with better health through both material and psychosocial pathways, some of which are only recently beginning to be understoo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tment of resources to health care may also have direct effects on the economy which depend on the alternative uses to which those resources would </a:t>
            </a:r>
            <a:r>
              <a:rPr b="0" lang="es-CL" sz="2000" spc="-1" strike="noStrike">
                <a:solidFill>
                  <a:srgbClr val="000000"/>
                </a:solidFill>
                <a:latin typeface="Arial"/>
              </a:rPr>
              <a:t>have been put.</a:t>
            </a:r>
            <a:endParaRPr b="0" lang="en-US" sz="20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3DAB-BAF9-4A4B-B338-48F403F94650}"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No sólo hospitales &amp; medicamentos …</a:t>
            </a:r>
            <a:endParaRPr b="0" lang="en-US" sz="4200" spc="-1" strike="noStrike">
              <a:solidFill>
                <a:srgbClr val="000000"/>
              </a:solidFill>
              <a:latin typeface="Arial"/>
            </a:endParaRPr>
          </a:p>
        </p:txBody>
      </p:sp>
      <p:sp>
        <p:nvSpPr>
          <p:cNvPr id="120" name=""/>
          <p:cNvSpPr txBox="1"/>
          <p:nvPr/>
        </p:nvSpPr>
        <p:spPr>
          <a:xfrm>
            <a:off x="1295280" y="182880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there are </a:t>
            </a:r>
            <a:r>
              <a:rPr b="0" lang="en-US" sz="2000" spc="-1" strike="noStrike">
                <a:solidFill>
                  <a:srgbClr val="000000"/>
                </a:solidFill>
                <a:latin typeface="Arial"/>
              </a:rPr>
              <a:t>many activities outside the health sector which, although they do not have health objectives, have very </a:t>
            </a:r>
            <a:r>
              <a:rPr b="0" lang="es-CL" sz="2000" spc="-1" strike="noStrike">
                <a:solidFill>
                  <a:srgbClr val="000000"/>
                </a:solidFill>
                <a:latin typeface="Arial"/>
              </a:rPr>
              <a:t>important health </a:t>
            </a:r>
            <a:r>
              <a:rPr b="0" i="1" lang="es-CL" sz="2000" spc="-1" strike="noStrike">
                <a:solidFill>
                  <a:srgbClr val="000000"/>
                </a:solidFill>
                <a:latin typeface="Arial"/>
              </a:rPr>
              <a:t>consequence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ycling and reuse of solid was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insecurity is associated with serious emotional, social and physical health </a:t>
            </a:r>
            <a:r>
              <a:rPr b="0" lang="es-CL" sz="1800" spc="-1" strike="noStrike">
                <a:solidFill>
                  <a:srgbClr val="000000"/>
                </a:solidFill>
                <a:latin typeface="Arial"/>
              </a:rPr>
              <a:t>outcome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veruse of fertilizer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a:t>
            </a:r>
            <a:endParaRPr b="0" lang="en-US" sz="18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6EC0-3A93-4735-97D7-3201CB8B176A}"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roblemas estructurales …</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determinants of health (e.g. level of income, working conditions, social infrastructure) lie </a:t>
            </a:r>
            <a:r>
              <a:rPr b="0" lang="en-US" sz="2000" spc="-1" strike="noStrike" u="sng">
                <a:solidFill>
                  <a:srgbClr val="000000"/>
                </a:solidFill>
                <a:uFillTx/>
                <a:latin typeface="Arial"/>
              </a:rPr>
              <a:t>outside the scope of health ministries</a:t>
            </a:r>
            <a:r>
              <a:rPr b="0" lang="en-US" sz="2000" spc="-1" strike="noStrike">
                <a:solidFill>
                  <a:srgbClr val="000000"/>
                </a:solidFill>
                <a:latin typeface="Arial"/>
              </a:rPr>
              <a:t>. Coordination of policies and cooperation with other ministries, particularly economic ministries, are critical to improving health through investments </a:t>
            </a:r>
            <a:r>
              <a:rPr b="0" lang="es-CL" sz="2000" spc="-1" strike="noStrike">
                <a:solidFill>
                  <a:srgbClr val="000000"/>
                </a:solidFill>
                <a:latin typeface="Arial"/>
              </a:rPr>
              <a:t>beyond health care.</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has special characteristics which have led the governments of most industrialized countries to </a:t>
            </a:r>
            <a:r>
              <a:rPr b="0" lang="en-US" sz="2000" spc="-1" strike="noStrike" u="sng">
                <a:solidFill>
                  <a:srgbClr val="000000"/>
                </a:solidFill>
                <a:uFillTx/>
                <a:latin typeface="Arial"/>
              </a:rPr>
              <a:t>remove essential health services from private market allocation</a:t>
            </a:r>
            <a:r>
              <a:rPr b="0" lang="en-US" sz="2000" spc="-1" strike="noStrike">
                <a:solidFill>
                  <a:srgbClr val="000000"/>
                </a:solidFill>
                <a:latin typeface="Arial"/>
              </a:rPr>
              <a:t>, for the most part. Economic tools cannot, therefore, be used uncritically with the health care industry in the way that they are used in other industries and sectors.</a:t>
            </a:r>
            <a:endParaRPr b="0" lang="en-US" sz="20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FA02-69D8-4481-B81E-F42EAA1C7EB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most goods and services, health </a:t>
            </a:r>
            <a:r>
              <a:rPr b="0" lang="en-US" sz="2000" spc="-1" strike="noStrike" u="sng">
                <a:solidFill>
                  <a:srgbClr val="000000"/>
                </a:solidFill>
                <a:uFillTx/>
                <a:latin typeface="Arial"/>
              </a:rPr>
              <a:t>care is not consumed for its own sake</a:t>
            </a:r>
            <a:r>
              <a:rPr b="0" lang="en-US" sz="2000" spc="-1" strike="noStrike">
                <a:solidFill>
                  <a:srgbClr val="000000"/>
                </a:solidFill>
                <a:latin typeface="Arial"/>
              </a:rPr>
              <a:t> but for the expected positive contribution it will make to an individual’s health.</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though </a:t>
            </a:r>
            <a:r>
              <a:rPr b="0" lang="en-US" sz="2000" spc="-1" strike="noStrike">
                <a:solidFill>
                  <a:srgbClr val="000000"/>
                </a:solidFill>
                <a:latin typeface="Arial"/>
              </a:rPr>
              <a:t>the need for some health care such as preventive services may be foreseen, for the most part need is </a:t>
            </a:r>
            <a:r>
              <a:rPr b="0" lang="en-US" sz="2000" spc="-1" strike="noStrike" u="sng">
                <a:solidFill>
                  <a:srgbClr val="000000"/>
                </a:solidFill>
                <a:uFillTx/>
                <a:latin typeface="Arial"/>
              </a:rPr>
              <a:t>unpredictable</a:t>
            </a:r>
            <a:r>
              <a:rPr b="0" lang="en-US" sz="2000" spc="-1" strike="noStrike">
                <a:solidFill>
                  <a:srgbClr val="000000"/>
                </a:solidFill>
                <a:latin typeface="Arial"/>
              </a:rPr>
              <a:t> because the incidence of illness or injury for an individual is itself unpredictable. Therefore </a:t>
            </a:r>
            <a:r>
              <a:rPr b="0" lang="en-US" sz="2000" spc="-1" strike="noStrike" u="sng">
                <a:solidFill>
                  <a:srgbClr val="000000"/>
                </a:solidFill>
                <a:uFillTx/>
                <a:latin typeface="Arial"/>
              </a:rPr>
              <a:t>some forms of insurance can be effective and efficient economic </a:t>
            </a:r>
            <a:r>
              <a:rPr b="0" lang="en-US" sz="2000" spc="-1" strike="noStrike">
                <a:solidFill>
                  <a:srgbClr val="000000"/>
                </a:solidFill>
                <a:latin typeface="Arial"/>
              </a:rPr>
              <a:t>mechanisms for seeing that individuals in need receive service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1F22-97E9-46C4-9B81-3A8699F07DB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Beatriz Errazuriz</cp:lastModifiedBy>
  <dcterms:modified xsi:type="dcterms:W3CDTF">2010-04-22T03:29:54Z</dcterms:modified>
  <cp:revision>112</cp:revision>
  <dc:subject/>
  <dc:title>Derecho Constitucional Económico</dc:title>
</cp:coreProperties>
</file>