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20FE-02E4-44DA-8BF8-A658C7CB0C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3A89-F77F-4DC7-B230-6ABAD19CEDA7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137-7C53-4439-BF51-EB2A5B3D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F88-DB6C-4171-8E27-76877C47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9F6-3FB4-45DE-A808-3E2F5029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307-2CB5-4366-8C21-8761D879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00C6-0693-4E66-84B5-65F1FEE6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D8E3-28CA-4301-B71E-BD20B1AB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B8A4-18CA-4D82-ACC6-CAB9E18F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4C84-FFEC-42A4-9CDB-380249AB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3120-4624-43B7-9B6E-D7BC6A62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207B-B3B4-48DF-B216-EDDC3D8E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7F2B-1340-4115-B556-11EA3AD6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7A7-F350-488E-B138-F3BBE3D3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D80D-B923-4D64-B560-95D48802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7222-B858-470D-9A4E-D89832CD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A7AF-E2D9-47F3-8379-C1637BFD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1CC3-3099-4890-AF50-AFC00EBF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2F37-B6D7-45CB-A122-D742F054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01D-F8F8-4A55-A6AA-FB6AB52C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257-03F6-4DE9-8D6B-1903A258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E22-79DD-47BD-ADE4-38259329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AB5-04A8-4520-8F20-06B4BB4E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8E6-B93D-4DC7-A359-C659E516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CC1-CF1E-40F3-8446-934AE5A4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659F-AA28-4945-80B9-786C5F2E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49DB-8C3E-447A-AD99-438558AFF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E327-64F7-405A-B976-FB36587EB922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10: 27 de abril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roveedores públicos o privad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Atención primaria o de especi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relevancia tiene el modelo? ¿concesi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ntivos para reducir costos vs.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Regulación de precios? (baja elastic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eguramiento de la calidad (asimetrías de inform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financiamiento y el sistema de seguros (riesgo 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6AF3-F37C-40EB-A444-7155971696C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 y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ir aquellos bienes o servicios que solucione un problema de salud dado al menor costo (razón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sto-efectiv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89EF-61A3-4A9C-962C-78613F55D7C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12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asignativa y problema de pri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A quién asignar? ¿A quién le produce mayor val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Bajo qué crite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FB66-08D1-4926-9452-66227439BE5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actores determin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enfermedades más relevantes desde el punto de vista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tidad y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que generan la may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ga de 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ra las que se cuenten con medida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tervención de efectiv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bada;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salud que no matan, per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minuyen la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personas, generando discapacidad, dolor y angus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7C72-C744-4C51-9647-400B2B98D5E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rramientas epidemiológ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científica que estudia la distribución, frecuencia, determinantes, relaciones, predicciones y control de los factores relacionados con la salud y enfermedad en poblacion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s de mortalidad/mor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alencia, propor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idencia, rapidez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Hanl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los criterios que usa son amplitud del problema(A), severidad del problema(B), eficacia de la solución(C), factibilidad de la intervención(D).  El puntaje esta dado por la fórmula (A+B)C x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OPS-CEND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criterios de priorización son magnitud del problema, trascendencia, vulnerabilidad, relación costo efecto y t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ndice 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sidera en su cálculo, para cada enfermedad, la tasa de mortalidad ajustada por edad y sexo, respecto de la tasa de mortalidad estandarizada por edad y sexo para una población de referencia; la tasa bruta de mortalidad por 100.000 habitantes; los años de vida perdidos por muerte prematura; los días de hospitalización y el número de consultas externas, por cada 100.000 habitantes. Este índice tiene las ventajas de utilizar información generalmente disponible en las estadísticas tradicionales y la de agreg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t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bi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una unidad de med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étodo AVI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sidera un componente cuantit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muerte prem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la discapacidad derivada de la enfermedad y sus secu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social de las muertes o de la 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un componente cualitativo derivado de la opinión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métodos tienen ciertos componentes su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28C0-975F-450B-AD1D-7BCD0A245E6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difíciles de llevar a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mentos discutibles (estimación de problemas, determinación de eficacia de intervenciones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incorporar múltiples dimensiones: política, ética, val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C1CB-57DE-492E-B882-CB9F01176AE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7C09-F7EF-4976-A7C6-C38C50DE1E4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1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mos en la clase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lación (¿causalidad?) entre niveles de salud pública y desarrollo económ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niveles de salud pública y el gasto en salud (problema del uso alternativo de los recurs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scusión sobre el nivel (cualitativo y cuantitativo) de salud a garantiz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las del “mercado de la salu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lemas intrínse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 (Problema Principal-Agen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a elasticidad de l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oble) Riesgo Mo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ovación como “Bien Públ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odría ser “atacado” constitucionalmente un método/resultados de un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construir el arg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s deseable desde el punto del bienestar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F790-C257-4223-85DC-12D908D0585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sólo una respuesta respecto del efecto de la dinámica constitucional sobre los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l resultado del diseño de políticas públicas en salud es “per se” mejor que el de la “dinámica constituci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alguna forma de “profilaxis constitucional” de las políticas públicas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A4EF-35F7-49B1-A10B-F456983FCE3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arentemente es parte del “medio ambiente” donde ocurr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lítica pública en salud = resultado neto entre (política original) +/- (dinámica constituc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8716-3210-4DA5-B5B1-D54B15376C1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de mercado llev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gar el mecanismo “sólo mercado”, como medio para lograr ciertos óptimos sociales/económ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la intervención estatal vía regulación y prestaciones directas … eventuales “nuevas” f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siciones monopólicas ¿regulación de precios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orsiones en la formación de precios (prestadores privados vs públicos; diferenciación no basada en pr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entuales distorsiones adicionales por “dinámica constitucional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9BDD-6CD5-4D5A-869C-EDA97FA15C1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l contexto señalado debe el Estado articular políticas y modelos para responder las clásicas preguntas económicas frente a “necesidades de salud infinit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“Bien Salud” como “Bien Privado”? = no por fallas de mercado y severos problemas de ac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Debe ser tratado el “Bien Salud” como un “bien público” en términos económicos? (no rival; no excluyente): ¿Acceso ilimitado y sin costo? ¿qué problemas gen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AC20-86CB-4238-90D6-950D1FD9AFA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23F0-5B8A-4F68-8C1E-32408E965FD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38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ntemente, como bien “cuasi-público” ¿uso más racional de los recursos? ¿cierto nivel de redistrib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balance entre eficiencia y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l “Bien Salud” debe ser distribuido en forma distinta a otros bienes? ¿por qué? ¿sentido económico o sólo valór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tiene importancia quién recibe el “Bien Salud”? ¿puede beneficiarse algunos más que otr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xiste algún parámetro ún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Justificación de redistribución entre? ¿jóvenes-viejos? ¿población rural-urbana? ¿ricos-pobr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legar a un piso mínimo del “Bien Salud” sobre el cual construir parámetros d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iso mínimo” es cambiante: a mayor desarrollo económico mayor “piso mínimo”; mayor presión sobr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productiva: producir el “Bien Salud” al menor cos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s posible reorganizar o producir de una manera tal que alguien esté mejor sin que alguien salga perd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3E61-F851-4237-9294-57F1493D308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tisfacción o utilidad de una persona puede ser incrementada únicamente mediante la reducción de la utilidad de otr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to en forma agregada, un mercado competitivo es eficiente en la medida en que los costos sociales y beneficios sociales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ien es atribuido a quien más lo valora. En ausencia de fallas de mercado y costos de transacción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R. Coa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, éste debiese concretarlo: NO ocurren en el “mercado de la sal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E817-F7BE-468A-814A-B5904F70C8F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Cuál eficiencia en el “mercado de la salud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e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no puede encontrarse una utilización alternativa del “Bien Salud” que ponga a una persona en mejores circunstancias sin empeorar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Kaldor-Hick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si los beneficios para algunos de una utilización alternativa del “Bien Salud” compensa los costos en dicho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A0A9-A90B-4725-96CE-B7CEACE72D1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most goods and services, heal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e is not consumed for its own s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for the expected positive contribution it will make to an individual’s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ome health care such as preventive services may be foreseen, for the most part need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predic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incidence of illness or injury for an individual is itself unpredictable.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forms of insurance can be effective and efficient econo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seeing that individuals in need rece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A89E-D4CF-4BCA-B908-821EAE7216A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jlcarden</cp:lastModifiedBy>
  <dcterms:modified xsi:type="dcterms:W3CDTF">2010-04-27T14:38:27Z</dcterms:modified>
  <cp:revision>114</cp:revision>
  <dc:subject/>
  <dc:title>Derecho Constitucional Económico</dc:title>
</cp:coreProperties>
</file>