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17C0-D2CE-4967-A71A-F24B48EC39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47D2-5C97-4875-B64B-37BF4FD61B7C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96D-1D03-4091-9942-BAD2B5FA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B45-1A6E-47CB-947E-7D904822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C41-E79F-4A3B-8BD4-0C5A8F8F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F23-86AA-4480-891D-D0DBADD8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2B1E-9F3C-4608-A7C1-1D2ED981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0A90-0ED1-477C-835E-32F6BC42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C709-6E72-41E7-9811-2552F97A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3139-4C59-4729-B461-98723032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C1D7-2FDE-44B9-AABF-B1DC0B28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E65E-E3E3-421A-8311-01501004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460B-7EF9-4A85-A3E0-BC8A093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017-F02F-4C18-823F-7A842EE5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CF31-61CE-4722-BFCC-9FC31A9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10BE-C4C9-439A-9ED6-9C845D9F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524D-3098-4BCF-AED1-750975CC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3AC7-CF6E-4A57-ABC5-831D958F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7204-5C30-44FA-BD7F-BF6B93C7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F76-0F99-4C2A-A175-17BB241E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658-F4FF-47CC-AB28-8FABF2AC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592-DDFD-4AF3-A508-4EC367C0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357-DE10-467D-9521-D91CEC44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A77-A743-48B3-BD38-96247068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CDC-AA36-460A-99D7-A6F8B43D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FAE-C42F-4012-9663-FE4FCB9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9CC6-4A65-4685-8E94-204676DA9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3439-E212-4490-844E-C762D9FCD7F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0: 27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0EA4-D1A8-4443-B0D9-13CF823B249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5375-4E80-4769-B407-04791102194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3C72-6203-4DEA-A52A-5E9BE0AD6CB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8450-ACF4-4BC6-8EB1-2EA3B9297CB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8B15-6B17-451E-A97A-5C598DF8A6B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8834-A5B8-40B2-BE5F-63D461C3C7C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774C-9BA8-494D-B52C-F0FDDCFA870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5898-B5EE-4AE5-8271-0F1DA7603CC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0330-D8D7-44BE-8D4D-6A2BC10A146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5E1F-7EE5-4D0E-981F-1940985CAE9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366E-6879-4BC4-9A4E-38AA9F0B70E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C0FF-1606-4E09-AACF-FB5DE656207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4D0B-26DA-4406-BAC8-3E05FA5180B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219D-E54A-4431-B0A3-7BAC3194381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7BF9-CAE6-4999-BAA6-274971F5FBD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2733-B14E-4AE4-A76E-2C0F629158E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92DC-5169-4EF9-93CD-4BAD1E2D400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lcarden</cp:lastModifiedBy>
  <dcterms:modified xsi:type="dcterms:W3CDTF">2010-04-27T14:38:27Z</dcterms:modified>
  <cp:revision>114</cp:revision>
  <dc:subject/>
  <dc:title>Derecho Constitucional Económico</dc:title>
</cp:coreProperties>
</file>