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37E2-E48F-4A1C-B4FD-2A7EBB3577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D50F-E66C-412F-9070-C1699EC77E6F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2F09-55AD-48CD-AE3E-70C9D1BB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6B3-697F-4D9B-A191-1375846A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ABB6-C5D0-46CF-81D2-E1104EA9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87CF-CAC9-42DF-8C6F-9DF0B68C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B3F1-6B99-4EEC-9237-A84A01B7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24CD-AFD6-4AF2-A7A9-55BDBE53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56DD-248F-4A33-BD31-374A9672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1200-D321-4F66-8EB9-2E721FD3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277D-DC18-4BEE-A9C7-FFD639E7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E103-BC9E-45A0-875A-28EA8D99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8591-2E01-4884-A969-6B39330B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2FA-824F-4DBC-A5F3-1B5B5BC3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9E03-1ABD-4E9D-9F9D-1B6067AB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7FEC-2C64-4176-B791-DE347561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EFBF-612E-4825-B000-22E71C1F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597F-B6B9-48FD-A185-281058EB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3619-49F8-4617-865B-73CC0E04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ABAB-4A49-4171-99E7-324BCD38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FD2-17D0-472D-A568-65011A20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53F-2D3B-42F8-AFA1-60C7CB72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9A2-424D-4015-941C-50082DB4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8DBA-3C47-49A2-9C88-BEFA3A92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A7A3-CB4C-423E-9012-C73282EE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6FAD-78A2-4899-A74C-2BAD1962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770D-5FE5-4AEE-9D40-2BF1C131B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8416-6460-4B33-BB7E-F61C9A30E4C2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10: 27 de abril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Proveedores públicos o privad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Atención primaria o de especia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é relevancia tiene el modelo? ¿concesion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entivos para reducir costos vs.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Regulación de precios? (baja elastic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eguramiento de la calidad (asimetrías de inform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financiamiento y el sistema de seguros (riesgo mo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46F8-EE2D-4CEF-BDFC-C4F5E8660060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 y ef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ducir aquellos bienes o servicios que solucione un problema de salud dado al menor costo (razón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costo-efectivida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BB79-DC5D-4E20-BEB1-94A96734F38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6127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asignativa y problema de prior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A quién asignar? ¿A quién le produce mayor val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Bajo qué criterio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BAA3-41EE-4D99-91C3-B800B9CE6D8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ite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ar lo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actores determin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enfermedades más relevantes desde el punto de vista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ntidad y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fermedades que generan la mayor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ga de mort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para las que se cuenten con medidas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tervención de efectiv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bada;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salud que no matan, pero qu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isminuyen la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personas, generando discapacidad, dolor y angust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1268-6D6B-4131-A412-BD8A789474D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erramientas epidemiológ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iplina científica que estudia la distribución, frecuencia, determinantes, relaciones, predicciones y control de los factores relacionados con la salud y enfermedad en poblaciones huma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s de mortalidad/morbi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valencia, proporción afec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idencia, rapidez de propa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de Hanl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 los criterios que usa son amplitud del problema(A), severidad del problema(B), eficacia de la solución(C), factibilidad de la intervención(D).  El puntaje esta dado por la fórmula (A+B)C x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OPS-CEND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os criterios de priorización son magnitud del problema, trascendencia, vulnerabilidad, relación costo efecto y tend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Indice Q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onsidera en su cálculo, para cada enfermedad, la tasa de mortalidad ajustada por edad y sexo, respecto de la tasa de mortalidad estandarizada por edad y sexo para una población de referencia; la tasa bruta de mortalidad por 100.000 habitantes; los años de vida perdidos por muerte prematura; los días de hospitalización y el número de consultas externas, por cada 100.000 habitantes. Este índice tiene las ventajas de utilizar información generalmente disponible en las estadísticas tradicionales y la de agregar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ta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bi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una unidad de medida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étodo AVI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nsidera un componente cuantita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muerte prem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la discapacidad derivada de la enfermedad y sus secu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lor social de las muertes o de la discapa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un componente cualitativo derivado de la opinión de la 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los métodos tienen ciertos componentes sub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7AA2-F3DC-40CC-8096-296D72D3011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de prioriz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difíciles de llevar a la pr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ndamentos discutibles (estimación de problemas, determinación de eficacia de intervenciones,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n incorporar múltiples dimensiones: política, ética, val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4634-CBA4-4798-91BF-29330C09CC5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04D5-DCA5-44B9-84EE-543A7C18F62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1629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mos en la clase an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correlación (¿causalidad?) entre niveles de salud pública y desarrollo económ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niveles de salud pública y el gasto en salud (problema del uso alternativo de los recurso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discusión sobre el nivel (cualitativo y cuantitativo) de salud a garantiz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llas del “mercado de la salud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lemas intrínse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imetrías de información (Problema Principal-Agen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a elasticidad de la deman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Doble) Riesgo Mor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ternalidades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ovación como “Bien Públic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odría ser “atacado” constitucionalmente un método/resultados de un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construir el argu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s deseable desde el punto del bienestar so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6281-D739-43E4-94D9-983F1599ADF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sólo una respuesta respecto del efecto de la dinámica constitucional sobre los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l resultado del diseño de políticas públicas en salud es “per se” mejor que el de la “dinámica constitucional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alguna forma de “profilaxis constitucional” de las políticas públicas en salu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492C-B049-4689-B085-8E96F5EB702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arentemente es parte del “medio ambiente” donde ocurr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lítica pública en salud = resultado neto entre (política original) +/- (dinámica constitucion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0164-39DC-4C60-B9DF-57AF55FCCC0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de mercado lleva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egar el mecanismo “sólo mercado”, como medio para lograr ciertos óptimos sociales/económico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stificar la intervención estatal vía regulación y prestaciones directas … eventuales “nuevas” fa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siciones monopólicas ¿regulación de precios?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orsiones en la formación de precios (prestadores privados vs públicos; diferenciación no basada en pre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ventuales distorsiones adicionales por “dinámica constitucional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447E-BB49-4AE7-9CAC-3DDAF111F8D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tro del contexto señalado debe el Estado articular políticas y modelos para responder las clásicas preguntas económicas frente a “necesidades de salud infinita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“Bien Salud” como “Bien Privado”? = no por fallas de mercado y severos problemas de ac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Debe ser tratado el “Bien Salud” como un “bien público” en términos económicos? (no rival; no excluyente): ¿Acceso ilimitado y sin costo? ¿qué problemas gene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7BDE-2454-4730-AFBB-A708FA678AD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852B-28EC-4411-86C8-E7737B2D623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23880" y="1904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arentemente, como bien “cuasi-público” ¿uso más racional de los recursos? ¿cierto nivel de redistribu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balance entre eficiencia y equ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l “Bien Salud” debe ser distribuido en forma distinta a otros bienes? ¿por qué? ¿sentido económico o sólo valór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tiene importancia quién recibe el “Bien Salud”? ¿puede beneficiarse algunos más que otro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xiste algún parámetro ún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3880" y="167616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Justificación de redistribución entre? ¿jóvenes-viejos? ¿población rural-urbana? ¿ricos-pobre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Llegar a un piso mínimo del “Bien Salud” sobre el cual construir parámetros d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iso mínimo” es cambiante: a mayor desarrollo económico mayor “piso mínimo”; mayor presión sobr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productiva: producir el “Bien Salud” al menor cos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s posible reorganizar o producir de una manera tal que alguien esté mejor sin que alguien salga perdie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B043-9DB7-4247-9B9C-BCAD90EC9EA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952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tisfacción o utilidad de una persona puede ser incrementada únicamente mediante la reducción de la utilidad de otra pers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sto en forma agregada, un mercado competitivo es eficiente en la medida en que los costos sociales y beneficios sociales coinc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ien es atribuido a quien más lo valora. En ausencia de fallas de mercado y costos de transacción (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R. Coas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, éste debiese concretarlo: NO ocurren en el “mercado de la salu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A932-75DD-4FE9-9727-01F06A725DF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Cuál eficiencia en el “mercado de la salud”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aret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no puede encontrarse una utilización alternativa del “Bien Salud” que ponga a una persona en mejores circunstancias sin empeorar a o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Kaldor-Hick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si los beneficios para algunos de una utilización alternativa del “Bien Salud” compensa los costos en dicho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692D-EED8-41C5-86F0-75B9D1DB0AA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most goods and services, heal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e is not consumed for its own sa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 for the expected positive contribution it will make to an individual’s heal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houg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some health care such as preventive services may be foreseen, for the most part need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predic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ause the incidence of illness or injury for an individual is itself unpredictable. Therefo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me forms of insurance can be effective and efficient econo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s for seeing that individuals in need receive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D7DB-57F9-4AEC-889F-477435B18A48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jlcarden</cp:lastModifiedBy>
  <dcterms:modified xsi:type="dcterms:W3CDTF">2010-04-27T14:38:27Z</dcterms:modified>
  <cp:revision>114</cp:revision>
  <dc:subject/>
  <dc:title>Derecho Constitucional Económico</dc:title>
</cp:coreProperties>
</file>