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C13C-1105-4B63-A97A-EAADA98E07D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CDC6-8AB3-4EEF-A4A3-25FC81143DE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45D48-FA6A-4F0F-868D-A53D38C8A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36D5A-1FCD-45E7-AAE6-C26254458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79813-4B50-4E43-B6A9-0226ECD56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21867-C714-42B7-ACA6-AA6E906C6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644CB-EC2D-45C7-8533-CDD45F42B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5976B-7F75-4B72-A7E6-C4CDE202E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3E4A2-2858-4B09-93EE-179A6128A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FD2C1-A9C9-4F0B-8EB0-70899B8E6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0F034-505D-4A6D-9051-16D3B8A0C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04209-90C1-4055-8BA6-5C4FC5D10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06DFB-AE8A-42BF-9A95-27B7C654F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2B1E9-7224-4FDF-A7DF-940719E19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9D8AA-5F4D-48AE-83E1-692BDD19A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F6A6B-32D1-4EA8-BF98-498859789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6D384-D576-43B1-B7EE-D9480E3BF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2DEBC-7BE2-4DFD-9B8E-8886F190D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BAD01-8EDE-4A2D-82C5-CB8BDA70C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25A54-A0BF-4C79-A28B-1582D8999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810E5-8AD0-4EE5-91C6-C0F9A83C3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FF09A-4DB9-45CF-8655-AB0C928AB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86A66-4372-4AD0-B923-B9A34B04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9088F-E4AD-4E82-B676-4047EB677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74B6-CC3D-4424-B95A-99EAC9705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B1FBB-385A-48CD-8403-C4D5F92B7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1E97-EA56-408D-931C-88F8996EF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5556-1166-4BBA-9A6A-B85F4535BDC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6: 8 de abril d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32"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es posible señalar que para limitar de forma constitucionalmente admisible un derecho fundamental sin impedir su libre ejercicio, tales limitaciones deben, primeramente, encontrarse </a:t>
            </a:r>
            <a:r>
              <a:rPr b="1" lang="es-CL" sz="2000" spc="-1" strike="noStrike" u="sng">
                <a:solidFill>
                  <a:srgbClr val="000000"/>
                </a:solidFill>
                <a:uFillTx/>
                <a:latin typeface="Arial"/>
              </a:rPr>
              <a:t>señaladas de forma precisa </a:t>
            </a:r>
            <a:r>
              <a:rPr b="0" lang="es-CL" sz="2000" spc="-1" strike="noStrike">
                <a:solidFill>
                  <a:srgbClr val="000000"/>
                </a:solidFill>
                <a:latin typeface="Arial"/>
              </a:rPr>
              <a:t>por la Carta Fundamental; en seguida, debe respetarse el </a:t>
            </a:r>
            <a:r>
              <a:rPr b="1" lang="es-CL" sz="2000" spc="-1" strike="noStrike" u="sng">
                <a:solidFill>
                  <a:srgbClr val="000000"/>
                </a:solidFill>
                <a:uFillTx/>
                <a:latin typeface="Arial"/>
              </a:rPr>
              <a:t>principio de igualdad</a:t>
            </a:r>
            <a:r>
              <a:rPr b="0" lang="es-CL" sz="2000" spc="-1" strike="noStrike">
                <a:solidFill>
                  <a:srgbClr val="000000"/>
                </a:solidFill>
                <a:latin typeface="Arial"/>
              </a:rPr>
              <a:t>, esto es, deben imponerse de manera igual para todos los afectados; además, deben establecerse con </a:t>
            </a:r>
            <a:r>
              <a:rPr b="1" lang="es-CL" sz="2000" spc="-1" strike="noStrike" u="sng">
                <a:solidFill>
                  <a:srgbClr val="000000"/>
                </a:solidFill>
                <a:uFillTx/>
                <a:latin typeface="Arial"/>
              </a:rPr>
              <a:t>indudable determinación</a:t>
            </a:r>
            <a:r>
              <a:rPr b="0" lang="es-CL" sz="2000" spc="-1" strike="noStrike">
                <a:solidFill>
                  <a:srgbClr val="000000"/>
                </a:solidFill>
                <a:latin typeface="Arial"/>
              </a:rPr>
              <a:t>, tanto en el momento en que nacen, como en el que cesan y, finalmente, deben estar establecidas con parámetros incuestionables, esto es, </a:t>
            </a:r>
            <a:r>
              <a:rPr b="1" lang="es-CL" sz="2000" spc="-1" strike="noStrike" u="sng">
                <a:solidFill>
                  <a:srgbClr val="000000"/>
                </a:solidFill>
                <a:uFillTx/>
                <a:latin typeface="Arial"/>
              </a:rPr>
              <a:t>razonables y justificadas</a:t>
            </a:r>
            <a:r>
              <a:rPr b="0" lang="es-CL" sz="2000" spc="-1" strike="noStrike">
                <a:solidFill>
                  <a:srgbClr val="000000"/>
                </a:solidFill>
                <a:latin typeface="Arial"/>
              </a:rPr>
              <a:t>” </a:t>
            </a:r>
            <a:endParaRPr b="0" lang="en-US" sz="2000" spc="-1" strike="noStrike">
              <a:solidFill>
                <a:srgbClr val="000000"/>
              </a:solidFill>
              <a:latin typeface="Arial"/>
            </a:endParaRPr>
          </a:p>
        </p:txBody>
      </p:sp>
      <p:sp>
        <p:nvSpPr>
          <p:cNvPr id="13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BDE5-182E-4A6B-96A1-7E9EB8EF786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36"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La exigencia de consignar un porcentaje de la multa impuesta […] para reclamar de ella ante un órgano jurisdiccional no puede, en este caso, estimarse atentatoria de la garantía constitucional del acceso a la justicia […] por cuanto ella resulta perfectamente conciliable con la regulación de un procedimiento racional y justo para su logr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ómo se concilia …?</a:t>
            </a:r>
            <a:endParaRPr b="0" lang="en-US" sz="2000" spc="-1" strike="noStrike">
              <a:solidFill>
                <a:srgbClr val="000000"/>
              </a:solidFill>
              <a:latin typeface="Arial"/>
            </a:endParaRPr>
          </a:p>
        </p:txBody>
      </p:sp>
      <p:sp>
        <p:nvSpPr>
          <p:cNvPr id="13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71B6-D932-40CE-AB95-23FF15AC768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40" name=""/>
          <p:cNvSpPr txBox="1"/>
          <p:nvPr/>
        </p:nvSpPr>
        <p:spPr>
          <a:xfrm>
            <a:off x="1447560" y="1905120"/>
            <a:ext cx="701028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no puede calificarse como una limitación irracional o arbitraria al ejercicio del derecho del requirente a recurrir ante la justicia ordinaria para que revise el acto impugnado, </a:t>
            </a:r>
            <a:r>
              <a:rPr b="1" lang="es-CL" sz="2000" spc="-1" strike="noStrike" u="sng">
                <a:solidFill>
                  <a:srgbClr val="000000"/>
                </a:solidFill>
                <a:uFillTx/>
                <a:latin typeface="Arial"/>
              </a:rPr>
              <a:t>toda vez que el mismo tiene una justificación clara en el propósito de evitar que la determinación sancionatoria</a:t>
            </a:r>
            <a:r>
              <a:rPr b="1" lang="es-CL" sz="2000" spc="-1" strike="noStrike">
                <a:solidFill>
                  <a:srgbClr val="000000"/>
                </a:solidFill>
                <a:latin typeface="Arial"/>
              </a:rPr>
              <a:t> </a:t>
            </a:r>
            <a:r>
              <a:rPr b="0" lang="es-CL" sz="2000" spc="-1" strike="noStrike">
                <a:solidFill>
                  <a:srgbClr val="000000"/>
                </a:solidFill>
                <a:latin typeface="Arial"/>
              </a:rPr>
              <a:t>[…] sea </a:t>
            </a:r>
            <a:r>
              <a:rPr b="1" lang="es-CL" sz="2000" spc="-1" strike="noStrike" u="sng">
                <a:solidFill>
                  <a:srgbClr val="000000"/>
                </a:solidFill>
                <a:uFillTx/>
                <a:latin typeface="Arial"/>
              </a:rPr>
              <a:t>dilatada sistemáticamente en su ejecución por el expediente de recurrirla ante el tribunal competente, aun sin basamento plausible</a:t>
            </a:r>
            <a:r>
              <a:rPr b="0" lang="es-CL" sz="2000" spc="-1" strike="noStrike">
                <a:solidFill>
                  <a:srgbClr val="000000"/>
                </a:solidFill>
                <a:latin typeface="Arial"/>
              </a:rPr>
              <a:t>. Por lo demás, en el caso de prosperar la reclamación del afectado ante el órgano jurisdiccional, el monto de lo consignado se le </a:t>
            </a:r>
            <a:r>
              <a:rPr b="1" lang="es-CL" sz="2000" spc="-1" strike="noStrike" u="sng">
                <a:solidFill>
                  <a:srgbClr val="000000"/>
                </a:solidFill>
                <a:uFillTx/>
                <a:latin typeface="Arial"/>
              </a:rPr>
              <a:t>restituirá con la correspondiente actualización monetaria</a:t>
            </a:r>
            <a:endParaRPr b="0" lang="en-US" sz="2000" spc="-1" strike="noStrike">
              <a:solidFill>
                <a:srgbClr val="000000"/>
              </a:solidFill>
              <a:latin typeface="Arial"/>
            </a:endParaRPr>
          </a:p>
        </p:txBody>
      </p:sp>
      <p:sp>
        <p:nvSpPr>
          <p:cNvPr id="14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BF15-8D6D-4ECE-A1F6-C7B9893ED8F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mp; Ventajas</a:t>
            </a:r>
            <a:endParaRPr b="0" lang="en-US" sz="4200" spc="-1" strike="noStrike">
              <a:solidFill>
                <a:srgbClr val="000000"/>
              </a:solidFill>
              <a:latin typeface="Arial"/>
            </a:endParaRPr>
          </a:p>
        </p:txBody>
      </p:sp>
      <p:sp>
        <p:nvSpPr>
          <p:cNvPr id="14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ualdad de votos = 25% consignació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de consignación inconstitucional pero con pocos argumen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aja: </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gnación del 100%, no es una proporción de la multa = desproporcionad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ercibimiento de arrest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as de carácter personal</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9FFD-337D-40B2-B6D8-F882CC357CC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rategia</a:t>
            </a:r>
            <a:endParaRPr b="0" lang="en-US" sz="4200" spc="-1" strike="noStrike">
              <a:solidFill>
                <a:srgbClr val="000000"/>
              </a:solidFill>
              <a:latin typeface="Arial"/>
            </a:endParaRPr>
          </a:p>
        </p:txBody>
      </p:sp>
      <p:sp>
        <p:nvSpPr>
          <p:cNvPr id="14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r marco teórico con los elementos considerados en cada uno de los votos</a:t>
            </a:r>
            <a:endParaRPr b="0" lang="en-US" sz="2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ntexto General  En El Que Está Inserto El Precepto Legal Impugnado Y Su Ubicación Dentro De La Sistemática Constitucional</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CL" sz="1400" spc="-1" strike="noStrike">
                <a:solidFill>
                  <a:srgbClr val="000000"/>
                </a:solidFill>
                <a:latin typeface="Arial"/>
              </a:rPr>
              <a:t>La Finalidad Perseguida Por El Legislador</a:t>
            </a:r>
            <a:r>
              <a:rPr b="1" lang="es-ES"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nstitucionalidad De La Limitación</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rlo de los casos anteriores</a:t>
            </a:r>
            <a:endParaRPr b="0" lang="en-US" sz="2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rción</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abilidad personal</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emio</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3527-4726-4348-BCA7-DD40B39A212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 Primera Sentencia:</a:t>
            </a:r>
            <a:br>
              <a:rPr sz="4200"/>
            </a:br>
            <a:r>
              <a:rPr b="0" lang="en-US" sz="4200" spc="-1" strike="noStrike">
                <a:solidFill>
                  <a:srgbClr val="000000"/>
                </a:solidFill>
                <a:latin typeface="Arial"/>
              </a:rPr>
              <a:t>Rol 792</a:t>
            </a:r>
            <a:endParaRPr b="0" lang="en-US" sz="4200" spc="-1" strike="noStrike">
              <a:solidFill>
                <a:srgbClr val="000000"/>
              </a:solidFill>
              <a:latin typeface="Arial"/>
            </a:endParaRPr>
          </a:p>
        </p:txBody>
      </p:sp>
      <p:sp>
        <p:nvSpPr>
          <p:cNvPr id="15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de razonabilidad de limitación:</a:t>
            </a:r>
            <a:endParaRPr b="0" lang="en-US" sz="2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La identificación entre objeto reclamado y </a:t>
            </a:r>
            <a:r>
              <a:rPr b="0" i="1" lang="es-CL" sz="2000" spc="-1" strike="noStrike">
                <a:solidFill>
                  <a:srgbClr val="000000"/>
                </a:solidFill>
                <a:latin typeface="Arial"/>
              </a:rPr>
              <a:t>condictio sine qua non</a:t>
            </a:r>
            <a:r>
              <a:rPr b="0" lang="es-CL" sz="2000" spc="-1" strike="noStrike">
                <a:solidFill>
                  <a:srgbClr val="000000"/>
                </a:solidFill>
                <a:latin typeface="Arial"/>
              </a:rPr>
              <a:t> para la admisibilidad del reclamo, lleva, en los hechos, a que el acto administrativo por el cual se cursa la multa sea inimpugnable, en términos que </a:t>
            </a:r>
            <a:r>
              <a:rPr b="1" lang="es-CL" sz="2000" spc="-1" strike="noStrike" u="sng">
                <a:solidFill>
                  <a:srgbClr val="000000"/>
                </a:solidFill>
                <a:uFillTx/>
                <a:latin typeface="Arial"/>
              </a:rPr>
              <a:t>no obstante poder formalmente reclamarse en contra del mismo, éste produce todos sus efectos</a:t>
            </a:r>
            <a:r>
              <a:rPr b="0" lang="es-CL" sz="2000" spc="-1" strike="noStrike">
                <a:solidFill>
                  <a:srgbClr val="000000"/>
                </a:solidFill>
                <a:latin typeface="Arial"/>
              </a:rPr>
              <a:t>, y aún en el caso de una ilegalidad flagrante, evidente y manifiesta, el administrado debe soportarla sin que la ley establezca mecanismo alguno que suspenda el cumplimiento de la sanción y a la vez habilite a reclamar de la misma.”</a:t>
            </a:r>
            <a:endParaRPr b="0" lang="en-US" sz="2000" spc="-1" strike="noStrike">
              <a:solidFill>
                <a:srgbClr val="000000"/>
              </a:solidFill>
              <a:latin typeface="Arial"/>
            </a:endParaRPr>
          </a:p>
        </p:txBody>
      </p:sp>
      <p:sp>
        <p:nvSpPr>
          <p:cNvPr id="15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37CF-560E-4018-AE99-C172F1C02A1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 Primera Sentencia:</a:t>
            </a:r>
            <a:br>
              <a:rPr sz="4200"/>
            </a:br>
            <a:r>
              <a:rPr b="0" lang="en-US" sz="4200" spc="-1" strike="noStrike">
                <a:solidFill>
                  <a:srgbClr val="000000"/>
                </a:solidFill>
                <a:latin typeface="Arial"/>
              </a:rPr>
              <a:t>Rol 792</a:t>
            </a:r>
            <a:endParaRPr b="0" lang="en-US" sz="4200" spc="-1" strike="noStrike">
              <a:solidFill>
                <a:srgbClr val="000000"/>
              </a:solidFill>
              <a:latin typeface="Arial"/>
            </a:endParaRPr>
          </a:p>
        </p:txBody>
      </p:sp>
      <p:sp>
        <p:nvSpPr>
          <p:cNvPr id="15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de razonabilidad de limitación:</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vitar reclamos dilatorios: igual a temerarios y a no temer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ción significativa y no idóne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disuade ¿contradictori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ejores mecanismos: admisibilidad y cost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7"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8"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8289-C57B-42E4-BA63-9F1F67B601D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erogación:</a:t>
            </a:r>
            <a:br>
              <a:rPr sz="4200"/>
            </a:br>
            <a:r>
              <a:rPr b="0" lang="es-CL" sz="4200" spc="-1" strike="noStrike">
                <a:solidFill>
                  <a:srgbClr val="000000"/>
                </a:solidFill>
                <a:latin typeface="Arial"/>
              </a:rPr>
              <a:t>Sentencia Rol 1345</a:t>
            </a:r>
            <a:endParaRPr b="0" lang="en-US" sz="4200" spc="-1" strike="noStrike">
              <a:solidFill>
                <a:srgbClr val="000000"/>
              </a:solidFill>
              <a:latin typeface="Arial"/>
            </a:endParaRPr>
          </a:p>
        </p:txBody>
      </p:sp>
      <p:sp>
        <p:nvSpPr>
          <p:cNvPr id="16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pués de 6 requerimientos acogidos fue derogad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steriormente 3 requerimientos ¿…?</a:t>
            </a:r>
            <a:endParaRPr b="0" lang="en-US" sz="2400" spc="-1" strike="noStrike">
              <a:solidFill>
                <a:srgbClr val="000000"/>
              </a:solidFill>
              <a:latin typeface="Arial"/>
            </a:endParaRPr>
          </a:p>
        </p:txBody>
      </p:sp>
      <p:sp>
        <p:nvSpPr>
          <p:cNvPr id="16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4332-D7ED-465B-8086-866BDAE3726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hora los arrestos …</a:t>
            </a:r>
            <a:endParaRPr b="0" lang="en-US" sz="4200" spc="-1" strike="noStrike">
              <a:solidFill>
                <a:srgbClr val="000000"/>
              </a:solidFill>
              <a:latin typeface="Arial"/>
            </a:endParaRPr>
          </a:p>
        </p:txBody>
      </p:sp>
      <p:sp>
        <p:nvSpPr>
          <p:cNvPr id="16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mparo preven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uevo requerimiento en contra del artículo 169 del Código Sanitario (19 N°7, libertad pers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ueva estrategia …</a:t>
            </a:r>
            <a:endParaRPr b="0" lang="en-US" sz="2400" spc="-1" strike="noStrike">
              <a:solidFill>
                <a:srgbClr val="000000"/>
              </a:solidFill>
              <a:latin typeface="Arial"/>
            </a:endParaRPr>
          </a:p>
        </p:txBody>
      </p:sp>
      <p:sp>
        <p:nvSpPr>
          <p:cNvPr id="165"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6"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3303-AF1B-4832-8CEA-5B84B2151F3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s Constitucional Económico?</a:t>
            </a:r>
            <a:endParaRPr b="0" lang="en-US" sz="4200" spc="-1" strike="noStrike">
              <a:solidFill>
                <a:srgbClr val="000000"/>
              </a:solidFill>
              <a:latin typeface="Arial"/>
            </a:endParaRPr>
          </a:p>
        </p:txBody>
      </p:sp>
      <p:sp>
        <p:nvSpPr>
          <p:cNvPr id="16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lve et repete: ¿Vulneración del P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érdidas de bienestar por acción desproporcionada?</a:t>
            </a:r>
            <a:endParaRPr b="0" lang="en-US" sz="2400" spc="-1" strike="noStrike">
              <a:solidFill>
                <a:srgbClr val="000000"/>
              </a:solidFill>
              <a:latin typeface="Arial"/>
            </a:endParaRPr>
          </a:p>
        </p:txBody>
      </p:sp>
      <p:sp>
        <p:nvSpPr>
          <p:cNvPr id="16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7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F9AC-646B-4A29-B3CE-A056F973887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D831-E2C0-44E3-95C9-7742F343694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Contexto</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SP regulador de la industria farmacéutic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marios sanitarios (D.S. 1876/95 Minsal)</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ponsabilidad objetiva, sin base normativ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ión de reclamación judicial previa consignación del 100% de la multa (art. 171 C. Sanitario)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ultas a beneficio del ISP: hasta UTM 1000</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premio: 1 día de arresto por UTM 1/10 (art. 169 C. Sanitario)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ancionados: Rep. Legal; D.T.; Jefe Control C.</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Primero Indicio</a:t>
            </a:r>
            <a:endParaRPr b="0" lang="en-US" sz="4200" spc="-1" strike="noStrike">
              <a:solidFill>
                <a:srgbClr val="000000"/>
              </a:solidFill>
              <a:latin typeface="Arial"/>
            </a:endParaRPr>
          </a:p>
        </p:txBody>
      </p:sp>
      <p:sp>
        <p:nvSpPr>
          <p:cNvPr id="104" name=""/>
          <p:cNvSpPr txBox="1"/>
          <p:nvPr/>
        </p:nvSpPr>
        <p:spPr>
          <a:xfrm>
            <a:off x="1523880" y="1904760"/>
            <a:ext cx="7010640" cy="4267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tencia Rol 536 (agosto 2006)</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 preventivo de constitucionalidad de normas de “Ley de Subcontratación” (orgánica constitucional)</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ión de reclamación judicial en contra de multas laborales “previa consignación de la </a:t>
            </a:r>
            <a:r>
              <a:rPr b="1" lang="es-CL" sz="2200" spc="-1" strike="noStrike" u="sng">
                <a:solidFill>
                  <a:srgbClr val="000000"/>
                </a:solidFill>
                <a:uFillTx/>
                <a:latin typeface="Arial"/>
              </a:rPr>
              <a:t>tercera</a:t>
            </a:r>
            <a:r>
              <a:rPr b="0" lang="es-CL" sz="2200" spc="-1" strike="noStrike">
                <a:solidFill>
                  <a:srgbClr val="000000"/>
                </a:solidFill>
                <a:latin typeface="Arial"/>
              </a:rPr>
              <a:t> parte de la multa aplicada, en caso que correspondier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declarada inconstitucional</a:t>
            </a:r>
            <a:endParaRPr b="0" lang="en-US" sz="22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C9EC-CF5D-497E-B5AA-2DDA45FE468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Primero Indicio</a:t>
            </a:r>
            <a:endParaRPr b="0" lang="en-US" sz="4200" spc="-1" strike="noStrike">
              <a:solidFill>
                <a:srgbClr val="000000"/>
              </a:solidFill>
              <a:latin typeface="Arial"/>
            </a:endParaRPr>
          </a:p>
        </p:txBody>
      </p:sp>
      <p:sp>
        <p:nvSpPr>
          <p:cNvPr id="108"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Que la aludida exigencia de una consignación previa resulta así de carácter indeterminado, carente de un límite, pudiendo, en consecuencia, llegar a cantidades cuya cuantía, en la práctica, </a:t>
            </a:r>
            <a:r>
              <a:rPr b="1" lang="es-CL" sz="1800" spc="-1" strike="noStrike" u="sng">
                <a:solidFill>
                  <a:srgbClr val="000000"/>
                </a:solidFill>
                <a:uFillTx/>
                <a:latin typeface="Arial"/>
              </a:rPr>
              <a:t>entraben más allá de lo razonable el derecho de acceso a la justicia, al restringir tan severamente la posibilidad de reclamar ante un tribunal de la multa impuesta por la autoridad administrativa</a:t>
            </a:r>
            <a:r>
              <a:rPr b="0" lang="es-CL" sz="1800" spc="-1" strike="noStrike">
                <a:solidFill>
                  <a:srgbClr val="000000"/>
                </a:solidFill>
                <a:latin typeface="Arial"/>
              </a:rPr>
              <a:t>. Ello resulta contrario a los derechos que asegura el artículo </a:t>
            </a:r>
            <a:r>
              <a:rPr b="1" lang="es-CL" sz="1800" spc="-1" strike="noStrike" u="sng">
                <a:solidFill>
                  <a:srgbClr val="000000"/>
                </a:solidFill>
                <a:uFillTx/>
                <a:latin typeface="Arial"/>
              </a:rPr>
              <a:t>19, Nº 3</a:t>
            </a:r>
            <a:r>
              <a:rPr b="0" lang="es-CL" sz="1800" spc="-1" strike="noStrike">
                <a:solidFill>
                  <a:srgbClr val="000000"/>
                </a:solidFill>
                <a:latin typeface="Arial"/>
              </a:rPr>
              <a:t>, de la Carta Fundamental, en sus incisos primero y segundo, a </a:t>
            </a:r>
            <a:r>
              <a:rPr b="1" lang="es-CL" sz="1800" spc="-1" strike="noStrike" u="sng">
                <a:solidFill>
                  <a:srgbClr val="000000"/>
                </a:solidFill>
                <a:uFillTx/>
                <a:latin typeface="Arial"/>
              </a:rPr>
              <a:t>“la igual protección de la ley en el ejercicio de sus derechos”</a:t>
            </a:r>
            <a:r>
              <a:rPr b="0" lang="es-CL" sz="1800" spc="-1" strike="noStrike">
                <a:solidFill>
                  <a:srgbClr val="000000"/>
                </a:solidFill>
                <a:latin typeface="Arial"/>
              </a:rPr>
              <a:t>, y a la </a:t>
            </a:r>
            <a:r>
              <a:rPr b="1" lang="es-CL" sz="1800" spc="-1" strike="noStrike" u="sng">
                <a:solidFill>
                  <a:srgbClr val="000000"/>
                </a:solidFill>
                <a:uFillTx/>
                <a:latin typeface="Arial"/>
              </a:rPr>
              <a:t>“defensa jurídica”</a:t>
            </a:r>
            <a:r>
              <a:rPr b="0" lang="es-CL" sz="1800" spc="-1" strike="noStrike">
                <a:solidFill>
                  <a:srgbClr val="000000"/>
                </a:solidFill>
                <a:latin typeface="Arial"/>
              </a:rPr>
              <a:t> pudiendo, por esta vía, sustraerse, en este caso, del control jurisdiccional actos de la Administración, dejando a las personas a merced de la discrecionalidad de la misma, razones por las cuales se declarará su inconstitucionalidad</a:t>
            </a:r>
            <a:endParaRPr b="0" lang="en-US" sz="1800" spc="-1" strike="noStrike">
              <a:solidFill>
                <a:srgbClr val="000000"/>
              </a:solidFill>
              <a:latin typeface="Arial"/>
            </a:endParaRPr>
          </a:p>
        </p:txBody>
      </p:sp>
      <p:sp>
        <p:nvSpPr>
          <p:cNvPr id="10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72B2-B0FD-4605-9840-ABBCD93E39A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12"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3"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3537-7D12-43E9-A3AD-28BFFE4CFF3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tencia Rol 546 (noviembre 2006)</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erimiento de inaplicabilidad contra art. 30 inciso 2° DL N° 3538 (crea SVS)</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ción de reclamación judicial previa consignación de 25% de la multa (requisito de admisibilidad).</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8 millones de consignación</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Solve et Repet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pate = rechazo por voto Presidente </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gualdad ante la ley “cuidadanos comunes y millonarios”: rechazada “multa a todo infractor”</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Con todo, el hecho que la aplicación de una norma general de carácter sancionatorio produzca efectos distintos según la situación patrimonial del obligado, no puede considerarse que discrimine arbitrariamente entre los posibles afectados” (resultados absurdos)</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visa (de oficio) posible “privilegio procesal” a favor de la SVS y lo rechaza</a:t>
            </a:r>
            <a:endParaRPr b="0" lang="en-US" sz="22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41F1-664D-46E7-8A66-24C0DFE7C4E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iste D° acceso a la justicia?</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í, parte de debido proceso</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álisis “in concreto” de la limitación</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incipio de legalidad; suficiente determinación y especificidad?;</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citud, razonabilidad y proporcionalidad?</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citud de fines perseguidos = sometimiento a la ley</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liga a infractores y a los que serán absuelto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ón administrativa: presunción de legalidad, imperio y exigibilidad </a:t>
            </a:r>
            <a:endParaRPr b="0" lang="en-US" sz="18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FA54-55CF-4307-8337-781A484C13E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álisis “in concreto” de la limitación</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ón administrativa: presunción de legalidad, imperio y exigibilidad ? Es excepcional, no convincente</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ratado como infractor antes de sentencia definitiva</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itar reclamos dilatorios: igual a temerarios y a no temerario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ón significativa y no idónea</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disuade ¿contradictorio?</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es mecanismos: admisibilidad y costa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hay normas de excepción ¿muy gravoso?</a:t>
            </a:r>
            <a:endParaRPr b="0" lang="en-US" sz="18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64BB-42FC-44CE-8E85-43698CCEEFE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de rechazo</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t>
            </a:r>
            <a:r>
              <a:rPr b="0" lang="es-CL" sz="2200" spc="-1" strike="noStrike">
                <a:solidFill>
                  <a:srgbClr val="000000"/>
                </a:solidFill>
                <a:latin typeface="Arial"/>
              </a:rPr>
              <a:t>examinar tanto el contexto general en el que está inserta la norma impugnada, como su ubicación dentro de la sistemática constitucional y la finalidad perseguida por el legislador al establecerla”</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Contexto = Orden Público Económico</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Finalidad = historia de la ley: necesidades de la SV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Regulación y 19 N° 21</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Quiénes son los actores?</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de razonabilidad de la limitación</a:t>
            </a:r>
            <a:endParaRPr b="0" lang="en-US" sz="22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176E-B4F8-4BF1-87F6-A9FFF4DF7AD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lcarden</cp:lastModifiedBy>
  <dcterms:modified xsi:type="dcterms:W3CDTF">2010-04-08T14:29:05Z</dcterms:modified>
  <cp:revision>72</cp:revision>
  <dc:subject/>
  <dc:title>Derecho Constitucional Económico</dc:title>
</cp:coreProperties>
</file>