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944B-F01A-4675-9CA0-7A13587C0A5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405A-4ABA-4AAF-9D05-A4D69379CFB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1152B-113C-46E2-A8E2-E82F13607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66A8-1366-4775-BE07-63DCC08B7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52A88-4C52-4CEB-9100-7EF526FB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10494-A87A-44E7-83B4-D2A3F1D63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3BF8D-6EEC-48B2-B0CE-2F6703452A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90CB7-02CA-4F97-8359-4CB90D8BB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34CAE-E3DF-4CC9-BE06-0042020EA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5A025-D0C1-4953-A0F9-6A76FB324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C3AF3-9A1C-42F3-BE7C-D7BA63D49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C9096-B561-476A-896D-F68C3BEA0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70B1B-7E14-41A7-9612-DFFB1CA52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76917-B93A-4F14-8493-1AE909392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A311B-42D9-4E0B-951C-7C3F6032A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0C586-D129-4B86-ABF9-B37FCD8EC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B280E-1E22-4F56-BA8F-935565D09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51FD2-AF83-4F08-8E4B-648B3376B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D4D45-B8BF-489A-B205-D3B5F875E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E196A-4B7B-4A90-A74D-9B2DB805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8835-7F7A-4928-AA53-632B1CF05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02236-B996-4930-B843-01287443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2BE05-FCC5-461D-83B9-6FDF54A5B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EAA4-2A6B-4764-B7C4-D1346068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24C8B-ADDA-4936-B2A7-8968E0BA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BC62-109B-4B67-A692-564F7CC65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12E4-B0A3-4CDA-932B-F0324DBE3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4B7E-0916-471A-9377-F9E76EF4604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ntiago Montt O. / 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8 de abril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2"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es posible señalar que para limitar de forma constitucionalmente admisible un derecho fundamental sin impedir su libre ejercicio, tales limitaciones deben, primeramente, encontrarse </a:t>
            </a:r>
            <a:r>
              <a:rPr b="1" lang="es-CL" sz="2000" spc="-1" strike="noStrike" u="sng">
                <a:solidFill>
                  <a:srgbClr val="000000"/>
                </a:solidFill>
                <a:uFillTx/>
                <a:latin typeface="Arial"/>
              </a:rPr>
              <a:t>señaladas de forma precisa </a:t>
            </a:r>
            <a:r>
              <a:rPr b="0" lang="es-CL" sz="2000" spc="-1" strike="noStrike">
                <a:solidFill>
                  <a:srgbClr val="000000"/>
                </a:solidFill>
                <a:latin typeface="Arial"/>
              </a:rPr>
              <a:t>por la Carta Fundamental; en seguida, debe respetarse el </a:t>
            </a:r>
            <a:r>
              <a:rPr b="1" lang="es-CL" sz="2000" spc="-1" strike="noStrike" u="sng">
                <a:solidFill>
                  <a:srgbClr val="000000"/>
                </a:solidFill>
                <a:uFillTx/>
                <a:latin typeface="Arial"/>
              </a:rPr>
              <a:t>principio de igualdad</a:t>
            </a:r>
            <a:r>
              <a:rPr b="0" lang="es-CL" sz="2000" spc="-1" strike="noStrike">
                <a:solidFill>
                  <a:srgbClr val="000000"/>
                </a:solidFill>
                <a:latin typeface="Arial"/>
              </a:rPr>
              <a:t>, esto es, deben imponerse de manera igual para todos los afectados; además, deben establecerse con </a:t>
            </a:r>
            <a:r>
              <a:rPr b="1" lang="es-CL" sz="2000" spc="-1" strike="noStrike" u="sng">
                <a:solidFill>
                  <a:srgbClr val="000000"/>
                </a:solidFill>
                <a:uFillTx/>
                <a:latin typeface="Arial"/>
              </a:rPr>
              <a:t>indudable determinación</a:t>
            </a:r>
            <a:r>
              <a:rPr b="0" lang="es-CL" sz="2000" spc="-1" strike="noStrike">
                <a:solidFill>
                  <a:srgbClr val="000000"/>
                </a:solidFill>
                <a:latin typeface="Arial"/>
              </a:rPr>
              <a:t>, tanto en el momento en que nacen, como en el que cesan y, finalmente, deben estar establecidas con parámetros incuestionables, esto es, </a:t>
            </a:r>
            <a:r>
              <a:rPr b="1" lang="es-CL" sz="2000" spc="-1" strike="noStrike" u="sng">
                <a:solidFill>
                  <a:srgbClr val="000000"/>
                </a:solidFill>
                <a:uFillTx/>
                <a:latin typeface="Arial"/>
              </a:rPr>
              <a:t>razonables y justificadas</a:t>
            </a:r>
            <a:r>
              <a:rPr b="0" lang="es-CL" sz="2000" spc="-1" strike="noStrike">
                <a:solidFill>
                  <a:srgbClr val="000000"/>
                </a:solidFill>
                <a:latin typeface="Arial"/>
              </a:rPr>
              <a:t>” </a:t>
            </a:r>
            <a:endParaRPr b="0" lang="en-US" sz="2000" spc="-1" strike="noStrike">
              <a:solidFill>
                <a:srgbClr val="000000"/>
              </a:solidFill>
              <a:latin typeface="Arial"/>
            </a:endParaRPr>
          </a:p>
        </p:txBody>
      </p:sp>
      <p:sp>
        <p:nvSpPr>
          <p:cNvPr id="13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4522-B509-4285-9CB4-C94AF48E52B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36"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exigencia de consignar un porcentaje de la multa impuesta […] para reclamar de ella ante un órgano jurisdiccional no puede, en este caso, estimarse atentatoria de la garantía constitucional del acceso a la justicia […] por cuanto ella resulta perfectamente conciliable con la regulación de un procedimiento racional y justo para su logro”</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ómo se concilia …?</a:t>
            </a:r>
            <a:endParaRPr b="0" lang="en-US" sz="2000" spc="-1" strike="noStrike">
              <a:solidFill>
                <a:srgbClr val="000000"/>
              </a:solidFill>
              <a:latin typeface="Arial"/>
            </a:endParaRPr>
          </a:p>
        </p:txBody>
      </p:sp>
      <p:sp>
        <p:nvSpPr>
          <p:cNvPr id="13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D1F4-7CD9-441A-BC32-C08EB9F61F5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40" name=""/>
          <p:cNvSpPr txBox="1"/>
          <p:nvPr/>
        </p:nvSpPr>
        <p:spPr>
          <a:xfrm>
            <a:off x="1447560" y="1905120"/>
            <a:ext cx="701028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no puede calificarse como una limitación irracional o arbitraria al ejercicio del derecho del requirente a recurrir ante la justicia ordinaria para que revise el acto impugnado, </a:t>
            </a:r>
            <a:r>
              <a:rPr b="1" lang="es-CL" sz="2000" spc="-1" strike="noStrike" u="sng">
                <a:solidFill>
                  <a:srgbClr val="000000"/>
                </a:solidFill>
                <a:uFillTx/>
                <a:latin typeface="Arial"/>
              </a:rPr>
              <a:t>toda vez que el mismo tiene una justificación clara en el propósito de evitar que la determinación sancionatoria</a:t>
            </a:r>
            <a:r>
              <a:rPr b="1" lang="es-CL" sz="2000" spc="-1" strike="noStrike">
                <a:solidFill>
                  <a:srgbClr val="000000"/>
                </a:solidFill>
                <a:latin typeface="Arial"/>
              </a:rPr>
              <a:t> </a:t>
            </a:r>
            <a:r>
              <a:rPr b="0" lang="es-CL" sz="2000" spc="-1" strike="noStrike">
                <a:solidFill>
                  <a:srgbClr val="000000"/>
                </a:solidFill>
                <a:latin typeface="Arial"/>
              </a:rPr>
              <a:t>[…] sea </a:t>
            </a:r>
            <a:r>
              <a:rPr b="1" lang="es-CL" sz="2000" spc="-1" strike="noStrike" u="sng">
                <a:solidFill>
                  <a:srgbClr val="000000"/>
                </a:solidFill>
                <a:uFillTx/>
                <a:latin typeface="Arial"/>
              </a:rPr>
              <a:t>dilatada sistemáticamente en su ejecución por el expediente de recurrirla ante el tribunal competente, aun sin basamento plausible</a:t>
            </a:r>
            <a:r>
              <a:rPr b="0" lang="es-CL" sz="2000" spc="-1" strike="noStrike">
                <a:solidFill>
                  <a:srgbClr val="000000"/>
                </a:solidFill>
                <a:latin typeface="Arial"/>
              </a:rPr>
              <a:t>. Por lo demás, en el caso de prosperar la reclamación del afectado ante el órgano jurisdiccional, el monto de lo consignado se le </a:t>
            </a:r>
            <a:r>
              <a:rPr b="1" lang="es-CL" sz="2000" spc="-1" strike="noStrike" u="sng">
                <a:solidFill>
                  <a:srgbClr val="000000"/>
                </a:solidFill>
                <a:uFillTx/>
                <a:latin typeface="Arial"/>
              </a:rPr>
              <a:t>restituirá con la correspondiente actualización monetaria</a:t>
            </a:r>
            <a:endParaRPr b="0" lang="en-US" sz="2000" spc="-1" strike="noStrike">
              <a:solidFill>
                <a:srgbClr val="000000"/>
              </a:solidFill>
              <a:latin typeface="Arial"/>
            </a:endParaRPr>
          </a:p>
        </p:txBody>
      </p:sp>
      <p:sp>
        <p:nvSpPr>
          <p:cNvPr id="14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D0A5-27F4-400B-AF67-F073DC3D1EA6}"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oblemas &amp; Ventajas</a:t>
            </a:r>
            <a:endParaRPr b="0" lang="en-US" sz="4200" spc="-1" strike="noStrike">
              <a:solidFill>
                <a:srgbClr val="000000"/>
              </a:solidFill>
              <a:latin typeface="Arial"/>
            </a:endParaRPr>
          </a:p>
        </p:txBody>
      </p:sp>
      <p:sp>
        <p:nvSpPr>
          <p:cNvPr id="14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ualdad de votos = 25% consign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de consignación inconstitucional pero con pocos argument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aja: </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gnación del 100%, no es una proporción de la multa = desproporcionad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ercibimiento de arrest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as de carácter personal</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4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EBB3-0B71-4310-99D0-A8465E5EBE8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trategia</a:t>
            </a:r>
            <a:endParaRPr b="0" lang="en-US" sz="4200" spc="-1" strike="noStrike">
              <a:solidFill>
                <a:srgbClr val="000000"/>
              </a:solidFill>
              <a:latin typeface="Arial"/>
            </a:endParaRPr>
          </a:p>
        </p:txBody>
      </p:sp>
      <p:sp>
        <p:nvSpPr>
          <p:cNvPr id="14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r marco teórico con los elementos considerados en cada uno de los voto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texto General  En El Que Está Inserto El Precepto Legal Impugnado Y Su Ubicación Dentro De La Sistemática Constituci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CL" sz="1400" spc="-1" strike="noStrike">
                <a:solidFill>
                  <a:srgbClr val="000000"/>
                </a:solidFill>
                <a:latin typeface="Arial"/>
              </a:rPr>
              <a:t>La Finalidad Perseguida Por El Legislador</a:t>
            </a:r>
            <a:r>
              <a:rPr b="1" lang="es-ES" sz="1400" spc="-1" strike="noStrike">
                <a:solidFill>
                  <a:srgbClr val="000000"/>
                </a:solidFill>
                <a:latin typeface="Arial"/>
              </a:rPr>
              <a:t> </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nstitucionalidad De La Limitación</a:t>
            </a:r>
            <a:r>
              <a:rPr b="0" lang="es-E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rlo de los casos anteriores</a:t>
            </a:r>
            <a:endParaRPr b="0" lang="en-US" sz="2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rción</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ponsabilidad personal</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emio</a:t>
            </a: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38E1-55AD-40BF-9017-442F6A38790B}"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2"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La identificación entre objeto reclamado y </a:t>
            </a:r>
            <a:r>
              <a:rPr b="0" i="1" lang="es-CL" sz="2000" spc="-1" strike="noStrike">
                <a:solidFill>
                  <a:srgbClr val="000000"/>
                </a:solidFill>
                <a:latin typeface="Arial"/>
              </a:rPr>
              <a:t>condictio sine qua non</a:t>
            </a:r>
            <a:r>
              <a:rPr b="0" lang="es-CL" sz="2000" spc="-1" strike="noStrike">
                <a:solidFill>
                  <a:srgbClr val="000000"/>
                </a:solidFill>
                <a:latin typeface="Arial"/>
              </a:rPr>
              <a:t> para la admisibilidad del reclamo, lleva, en los hechos, a que el acto administrativo por el cual se cursa la multa sea inimpugnable, en términos que </a:t>
            </a:r>
            <a:r>
              <a:rPr b="1" lang="es-CL" sz="2000" spc="-1" strike="noStrike" u="sng">
                <a:solidFill>
                  <a:srgbClr val="000000"/>
                </a:solidFill>
                <a:uFillTx/>
                <a:latin typeface="Arial"/>
              </a:rPr>
              <a:t>no obstante poder formalmente reclamarse en contra del mismo, éste produce todos sus efectos</a:t>
            </a:r>
            <a:r>
              <a:rPr b="0" lang="es-CL" sz="2000" spc="-1" strike="noStrike">
                <a:solidFill>
                  <a:srgbClr val="000000"/>
                </a:solidFill>
                <a:latin typeface="Arial"/>
              </a:rPr>
              <a:t>, y aún en el caso de una ilegalidad flagrante, evidente y manifiesta, el administrado debe soportarla sin que la ley establezca mecanismo alguno que suspenda el cumplimiento de la sanción y a la vez habilite a reclamar de la misma.”</a:t>
            </a:r>
            <a:endParaRPr b="0" lang="en-US" sz="2000" spc="-1" strike="noStrike">
              <a:solidFill>
                <a:srgbClr val="000000"/>
              </a:solidFill>
              <a:latin typeface="Arial"/>
            </a:endParaRPr>
          </a:p>
        </p:txBody>
      </p:sp>
      <p:sp>
        <p:nvSpPr>
          <p:cNvPr id="153"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EA24-8499-4FD6-8791-662DD8B77DB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La Primera Sentencia:</a:t>
            </a:r>
            <a:br>
              <a:rPr sz="4200"/>
            </a:br>
            <a:r>
              <a:rPr b="0" lang="en-US" sz="4200" spc="-1" strike="noStrike">
                <a:solidFill>
                  <a:srgbClr val="000000"/>
                </a:solidFill>
                <a:latin typeface="Arial"/>
              </a:rPr>
              <a:t>Rol 792</a:t>
            </a:r>
            <a:endParaRPr b="0" lang="en-US" sz="4200" spc="-1" strike="noStrike">
              <a:solidFill>
                <a:srgbClr val="000000"/>
              </a:solidFill>
              <a:latin typeface="Arial"/>
            </a:endParaRPr>
          </a:p>
        </p:txBody>
      </p:sp>
      <p:sp>
        <p:nvSpPr>
          <p:cNvPr id="15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de razonabilidad de limitación:</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vitar reclamos dilatorios: igual a temerarios y a no temer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ción significativa y no idónea</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disuade ¿contradictori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jores mecanismos: admisibilidad y cost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58"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6877-6312-413E-B0F0-FECC2FF7863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erogación:</a:t>
            </a:r>
            <a:br>
              <a:rPr sz="4200"/>
            </a:br>
            <a:r>
              <a:rPr b="0" lang="es-CL" sz="4200" spc="-1" strike="noStrike">
                <a:solidFill>
                  <a:srgbClr val="000000"/>
                </a:solidFill>
                <a:latin typeface="Arial"/>
              </a:rPr>
              <a:t>Sentencia Rol 1345</a:t>
            </a:r>
            <a:endParaRPr b="0" lang="en-US" sz="4200" spc="-1" strike="noStrike">
              <a:solidFill>
                <a:srgbClr val="000000"/>
              </a:solidFill>
              <a:latin typeface="Arial"/>
            </a:endParaRPr>
          </a:p>
        </p:txBody>
      </p:sp>
      <p:sp>
        <p:nvSpPr>
          <p:cNvPr id="16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pués de 6 requerimientos acogidos fue deroga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teriormente 3 requerimientos ¿…?</a:t>
            </a:r>
            <a:endParaRPr b="0" lang="en-US" sz="2400" spc="-1" strike="noStrike">
              <a:solidFill>
                <a:srgbClr val="000000"/>
              </a:solidFill>
              <a:latin typeface="Arial"/>
            </a:endParaRPr>
          </a:p>
        </p:txBody>
      </p:sp>
      <p:sp>
        <p:nvSpPr>
          <p:cNvPr id="16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3595-6C51-44A2-825D-E1E2BA71264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hora los arrestos …</a:t>
            </a:r>
            <a:endParaRPr b="0" lang="en-US" sz="4200" spc="-1" strike="noStrike">
              <a:solidFill>
                <a:srgbClr val="000000"/>
              </a:solidFill>
              <a:latin typeface="Arial"/>
            </a:endParaRPr>
          </a:p>
        </p:txBody>
      </p:sp>
      <p:sp>
        <p:nvSpPr>
          <p:cNvPr id="16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mparo preventiv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o requerimiento en contra del artículo 169 del Código Sanitario (19 N°7, libertad persona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ueva estrategia …</a:t>
            </a:r>
            <a:endParaRPr b="0" lang="en-US" sz="2400" spc="-1" strike="noStrike">
              <a:solidFill>
                <a:srgbClr val="000000"/>
              </a:solidFill>
              <a:latin typeface="Arial"/>
            </a:endParaRPr>
          </a:p>
        </p:txBody>
      </p:sp>
      <p:sp>
        <p:nvSpPr>
          <p:cNvPr id="165"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66"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3198-B052-442C-A5A2-F142F36FBD2F}"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 Constitucional Económico?</a:t>
            </a:r>
            <a:endParaRPr b="0" lang="en-US" sz="4200" spc="-1" strike="noStrike">
              <a:solidFill>
                <a:srgbClr val="000000"/>
              </a:solidFill>
              <a:latin typeface="Arial"/>
            </a:endParaRPr>
          </a:p>
        </p:txBody>
      </p:sp>
      <p:sp>
        <p:nvSpPr>
          <p:cNvPr id="16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olve et repete: ¿Vulneración del Ppio de Subsidiaridad?</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érdidas de bienestar por acción desproporcionada?</a:t>
            </a:r>
            <a:endParaRPr b="0" lang="en-US" sz="2400" spc="-1" strike="noStrike">
              <a:solidFill>
                <a:srgbClr val="000000"/>
              </a:solidFill>
              <a:latin typeface="Arial"/>
            </a:endParaRPr>
          </a:p>
        </p:txBody>
      </p:sp>
      <p:sp>
        <p:nvSpPr>
          <p:cNvPr id="169"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70"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6D4B-8AD2-4A13-BF7B-209A6C7F4E9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0"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DAE3-BC27-4B22-9D5C-FC06CAC6CF8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Contexto</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SP regulador de la industria farmacéutica</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marios sanitarios (D.S. 1876/95 Mins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ponsabilidad objetiva, sin base normativa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previa consignación del 100% de la multa (art. 171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ultas a beneficio del ISP: hasta UTM 1000</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premio: 1 día de arresto por UTM 1/10 (art. 169 C. Sanitario)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ancionados: Rep. Legal; D.T.; Jefe Control C.</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4" name=""/>
          <p:cNvSpPr txBox="1"/>
          <p:nvPr/>
        </p:nvSpPr>
        <p:spPr>
          <a:xfrm>
            <a:off x="1523880" y="1904760"/>
            <a:ext cx="7010640" cy="42670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36 (agosto 2006)</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ol preventivo de constitucionalidad de normas de “Ley de Subcontratación” (orgánica constitucional)</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ión de reclamación judicial en contra de multas laborales “previa consignación de la </a:t>
            </a:r>
            <a:r>
              <a:rPr b="1" lang="es-CL" sz="2200" spc="-1" strike="noStrike" u="sng">
                <a:solidFill>
                  <a:srgbClr val="000000"/>
                </a:solidFill>
                <a:uFillTx/>
                <a:latin typeface="Arial"/>
              </a:rPr>
              <a:t>tercera</a:t>
            </a:r>
            <a:r>
              <a:rPr b="0" lang="es-CL" sz="2200" spc="-1" strike="noStrike">
                <a:solidFill>
                  <a:srgbClr val="000000"/>
                </a:solidFill>
                <a:latin typeface="Arial"/>
              </a:rPr>
              <a:t> parte de la multa aplicada, en caso que correspondiere”</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declarada inconstitucional</a:t>
            </a:r>
            <a:endParaRPr b="0" lang="en-US" sz="22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FAB1-B30D-4E6E-A5E8-33F926A6CAD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Primero Indicio</a:t>
            </a:r>
            <a:endParaRPr b="0" lang="en-US" sz="4200" spc="-1" strike="noStrike">
              <a:solidFill>
                <a:srgbClr val="000000"/>
              </a:solidFill>
              <a:latin typeface="Arial"/>
            </a:endParaRPr>
          </a:p>
        </p:txBody>
      </p:sp>
      <p:sp>
        <p:nvSpPr>
          <p:cNvPr id="108" name=""/>
          <p:cNvSpPr txBox="1"/>
          <p:nvPr/>
        </p:nvSpPr>
        <p:spPr>
          <a:xfrm>
            <a:off x="1523880" y="1905120"/>
            <a:ext cx="7010640" cy="4114800"/>
          </a:xfrm>
          <a:prstGeom prst="rect">
            <a:avLst/>
          </a:prstGeom>
          <a:noFill/>
          <a:ln w="0">
            <a:noFill/>
          </a:ln>
        </p:spPr>
        <p:txBody>
          <a:bodyPr anchor="t">
            <a:normAutofit fontScale="98000"/>
          </a:bodyPr>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Que la aludida exigencia de una consignación previa resulta así de carácter indeterminado, carente de un límite, pudiendo, en consecuencia, llegar a cantidades cuya cuantía, en la práctica, </a:t>
            </a:r>
            <a:r>
              <a:rPr b="1" lang="es-CL" sz="1800" spc="-1" strike="noStrike" u="sng">
                <a:solidFill>
                  <a:srgbClr val="000000"/>
                </a:solidFill>
                <a:uFillTx/>
                <a:latin typeface="Arial"/>
              </a:rPr>
              <a:t>entraben más allá de lo razonable el derecho de acceso a la justicia, al restringir tan severamente la posibilidad de reclamar ante un tribunal de la multa impuesta por la autoridad administrativa</a:t>
            </a:r>
            <a:r>
              <a:rPr b="0" lang="es-CL" sz="1800" spc="-1" strike="noStrike">
                <a:solidFill>
                  <a:srgbClr val="000000"/>
                </a:solidFill>
                <a:latin typeface="Arial"/>
              </a:rPr>
              <a:t>. Ello resulta contrario a los derechos que asegura el artículo </a:t>
            </a:r>
            <a:r>
              <a:rPr b="1" lang="es-CL" sz="1800" spc="-1" strike="noStrike" u="sng">
                <a:solidFill>
                  <a:srgbClr val="000000"/>
                </a:solidFill>
                <a:uFillTx/>
                <a:latin typeface="Arial"/>
              </a:rPr>
              <a:t>19, Nº 3</a:t>
            </a:r>
            <a:r>
              <a:rPr b="0" lang="es-CL" sz="1800" spc="-1" strike="noStrike">
                <a:solidFill>
                  <a:srgbClr val="000000"/>
                </a:solidFill>
                <a:latin typeface="Arial"/>
              </a:rPr>
              <a:t>, de la Carta Fundamental, en sus incisos primero y segundo, a </a:t>
            </a:r>
            <a:r>
              <a:rPr b="1" lang="es-CL" sz="1800" spc="-1" strike="noStrike" u="sng">
                <a:solidFill>
                  <a:srgbClr val="000000"/>
                </a:solidFill>
                <a:uFillTx/>
                <a:latin typeface="Arial"/>
              </a:rPr>
              <a:t>“la igual protección de la ley en el ejercicio de sus derechos”</a:t>
            </a:r>
            <a:r>
              <a:rPr b="0" lang="es-CL" sz="1800" spc="-1" strike="noStrike">
                <a:solidFill>
                  <a:srgbClr val="000000"/>
                </a:solidFill>
                <a:latin typeface="Arial"/>
              </a:rPr>
              <a:t>, y a la </a:t>
            </a:r>
            <a:r>
              <a:rPr b="1" lang="es-CL" sz="1800" spc="-1" strike="noStrike" u="sng">
                <a:solidFill>
                  <a:srgbClr val="000000"/>
                </a:solidFill>
                <a:uFillTx/>
                <a:latin typeface="Arial"/>
              </a:rPr>
              <a:t>“defensa jurídica”</a:t>
            </a:r>
            <a:r>
              <a:rPr b="0" lang="es-CL" sz="1800" spc="-1" strike="noStrike">
                <a:solidFill>
                  <a:srgbClr val="000000"/>
                </a:solidFill>
                <a:latin typeface="Arial"/>
              </a:rPr>
              <a:t> pudiendo, por esta vía, sustraerse, en este caso, del control jurisdiccional actos de la Administración, dejando a las personas a merced de la discrecionalidad de la misma, razones por las cuales se declarará su inconstitucionalidad</a:t>
            </a:r>
            <a:endParaRPr b="0" lang="en-US" sz="1800" spc="-1" strike="noStrike">
              <a:solidFill>
                <a:srgbClr val="000000"/>
              </a:solidFill>
              <a:latin typeface="Arial"/>
            </a:endParaRPr>
          </a:p>
        </p:txBody>
      </p:sp>
      <p:sp>
        <p:nvSpPr>
          <p:cNvPr id="10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F93B-97A2-4794-ABF0-1EEB265EC74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2"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3"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6E90-0D16-44FE-A2D1-75C11C9FD44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
        <p:nvSpPr>
          <p:cNvPr id="11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ntencia Rol 546 (noviembre 2006)</a:t>
            </a:r>
            <a:endParaRPr b="0" lang="en-US" sz="24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querimiento de inaplicabilidad contra art. 30 inciso 2° DL N° 3538 (crea SVS)</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cción de reclamación judicial previa consignación de 25% de la multa (requisito de admisibilidad).</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68 millones de consignación</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Solve et Repet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pate = rechazo por voto Presidente </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16"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gualdad ante la ley “cuidadanos comunes y millonarios”: rechazada “multa a todo infractor”</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Con todo, el hecho que la aplicación de una norma general de carácter sancionatorio produzca efectos distintos según la situación patrimonial del obligado, no puede considerarse que discrimine arbitrariamente entre los posibles afectados” (resultados absurdo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visa (de oficio) posible “privilegio procesal” a favor de la SVS y lo rechaza</a:t>
            </a:r>
            <a:endParaRPr b="0" lang="en-US" sz="2200" spc="-1" strike="noStrike">
              <a:solidFill>
                <a:srgbClr val="000000"/>
              </a:solidFill>
              <a:latin typeface="Arial"/>
            </a:endParaRPr>
          </a:p>
        </p:txBody>
      </p:sp>
      <p:sp>
        <p:nvSpPr>
          <p:cNvPr id="117"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1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8880-B4A6-40AF-A2D4-0FF2BCFE0F9E}"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iste D° acceso a la justici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í, parte de debido proceso</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incipio de legalidad; suficiente determinación y especific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razonabilidad y proporcionalidad?</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citud de fines perseguidos = sometimiento a la ley</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liga a infractores y a los que serán absuelt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a:t>
            </a:r>
            <a:endParaRPr b="0" lang="en-US" sz="1800" spc="-1" strike="noStrike">
              <a:solidFill>
                <a:srgbClr val="000000"/>
              </a:solidFill>
              <a:latin typeface="Arial"/>
            </a:endParaRPr>
          </a:p>
        </p:txBody>
      </p:sp>
      <p:sp>
        <p:nvSpPr>
          <p:cNvPr id="12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3CA6-0594-47BD-A3FF-4226BCB5AC6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4"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por acoger</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in concreto” de la limitación</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nción administrativa: presunción de legalidad, imperio y exigibilidad ? Es excepcional, no convincente</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tratado como infractor antes de sentencia definitiv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vitar reclamos dilatorios: igual a temerarios y a no temerario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mitación significativa y no idónea</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disuade ¿contradictori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es mecanismos: admisibilidad y costa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hay normas de excepción ¿muy gravoso?</a:t>
            </a:r>
            <a:endParaRPr b="0" lang="en-US" sz="1800" spc="-1" strike="noStrike">
              <a:solidFill>
                <a:srgbClr val="000000"/>
              </a:solidFill>
              <a:latin typeface="Arial"/>
            </a:endParaRPr>
          </a:p>
        </p:txBody>
      </p:sp>
      <p:sp>
        <p:nvSpPr>
          <p:cNvPr id="12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2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0784-2725-4A76-864C-0A75EB78D7C4}"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s multas del ISP: </a:t>
            </a:r>
            <a:br>
              <a:rPr sz="4200"/>
            </a:br>
            <a:r>
              <a:rPr b="0" lang="es-CL" sz="4200" spc="-1" strike="noStrike">
                <a:solidFill>
                  <a:srgbClr val="000000"/>
                </a:solidFill>
                <a:latin typeface="Arial"/>
              </a:rPr>
              <a:t>Segundo Indicio</a:t>
            </a:r>
            <a:endParaRPr b="0" lang="en-US" sz="4200" spc="-1" strike="noStrike">
              <a:solidFill>
                <a:srgbClr val="000000"/>
              </a:solidFill>
              <a:latin typeface="Arial"/>
            </a:endParaRPr>
          </a:p>
        </p:txBody>
      </p:sp>
      <p:sp>
        <p:nvSpPr>
          <p:cNvPr id="128"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gumentos voto de rechazo</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t>
            </a:r>
            <a:r>
              <a:rPr b="0" lang="es-CL" sz="2200" spc="-1" strike="noStrike">
                <a:solidFill>
                  <a:srgbClr val="000000"/>
                </a:solidFill>
                <a:latin typeface="Arial"/>
              </a:rPr>
              <a:t>examinar tanto el contexto general en el que está inserta la norma impugnada, como su ubicación dentro de la sistemática constitucional y la finalidad perseguida por el legislador al establecerla”</a:t>
            </a:r>
            <a:endParaRPr b="0" lang="en-US" sz="22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Contexto = Orden Público Económico</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Finalidad = historia de la ley: necesidades de la SVS</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Regulación y 19 N° 21</a:t>
            </a:r>
            <a:endParaRPr b="0" lang="en-US" sz="1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Quiénes son los actores?</a:t>
            </a:r>
            <a:endParaRPr b="0" lang="en-US" sz="18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st de razonabilidad de la limitación</a:t>
            </a:r>
            <a:endParaRPr b="0" lang="en-US" sz="2200" spc="-1" strike="noStrike">
              <a:solidFill>
                <a:srgbClr val="000000"/>
              </a:solidFill>
              <a:latin typeface="Arial"/>
            </a:endParaRPr>
          </a:p>
        </p:txBody>
      </p:sp>
      <p:sp>
        <p:nvSpPr>
          <p:cNvPr id="129"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 Constitucional Económico Montt &amp; Cárdenas </a:t>
            </a:r>
            <a:endParaRPr b="0" lang="en-US" sz="1000" spc="-1" strike="noStrike">
              <a:solidFill>
                <a:srgbClr val="336666"/>
              </a:solidFill>
              <a:latin typeface="Arial"/>
            </a:endParaRPr>
          </a:p>
        </p:txBody>
      </p:sp>
      <p:sp>
        <p:nvSpPr>
          <p:cNvPr id="13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70C0-4193-47AE-B331-36AB2184BBC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lcarden</cp:lastModifiedBy>
  <dcterms:modified xsi:type="dcterms:W3CDTF">2010-04-08T14:29:05Z</dcterms:modified>
  <cp:revision>72</cp:revision>
  <dc:subject/>
  <dc:title>Derecho Constitucional Económico</dc:title>
</cp:coreProperties>
</file>