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48DF-842D-4474-B723-B8E07AECC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43E8-303E-4B5B-A205-881DBC31A0D2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574-9158-4AEC-92F7-80DC2AA5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2C9-3203-4B55-98D8-61294365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4324-0CB0-4EE1-AAC8-C84EB63F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09C9-DE5F-44CB-B5A7-E3D58AFC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A3D0-FBD0-4266-BE9E-7F96AFB5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8842-CAAE-4544-A090-94D450CC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318B-D288-401A-88F8-9B904307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D490-A533-46C8-8464-8384D6C4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FA98-F1D6-4D0F-A8EE-58B47C7C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AD4B-398E-4A31-AFB9-A14F26D9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E80B-65CB-4A2F-B469-6DEFAAF1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C26-8CE8-4981-ABA9-DA772388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B9AF-CA9A-4269-B371-EC1E432E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0DFF-A99D-4686-BB37-7B4FA0E0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A1B5-01B5-4B54-85E6-5AD08031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EDE4-40D8-4B47-8187-836AA0DD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9DDB-C7CE-4F32-B8D4-6B2B7E9E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B7E1-A8D8-46AD-AD1D-F79185AB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47D4-31B0-4A89-ABAF-6BB249C6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3D1-F575-4AFF-B0C3-252BED25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2B5-88BA-4674-BCBD-493244F7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45C-81A5-4F91-A990-134AF5D1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74B-3770-41B6-A189-89F64ED4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D64C-1F40-40D7-B61C-313EB2F9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AC22-C5DE-4B80-9B33-8ECD9BD6C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FBF1-390F-4407-859C-2F5CDA6F6E94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mahealthconnector.org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rit.news.findlaw.com/dorf/20091021.html" TargetMode="External"/><Relationship Id="rId2" Type="http://schemas.openxmlformats.org/officeDocument/2006/relationships/hyperlink" Target="http://writ.news.findlaw.com/dorf/20091102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4 y 5: 1 y 6 de abril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sticia y protección al consumid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 de las pre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mediatamente para los niños y gradualmente para los adul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ción 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gh-risk p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ción para las compañías de seguro de renovar las pólizas, incluyendo el caso de enfermos gr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das anti-selección adversa (estabilización de pri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eg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uste del 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fathering: el que le gusta su póliza se la puede que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1B6F-B480-4C0C-9B03-4F5DAEEF959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sticia y protección al consumid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hibe los denominados “lifetime limits” y los límites anuales sobre los beneficios (definitivamente a partir de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ímites a l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t-of-pocket expen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pagos y deducibles, entre ot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icar aumento de precios de los planes de salud (para evitar que se eche a los más clientes más ca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5067-BAB3-4729-B154-B7EB2E5E35E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scriminación de preci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hibe la discriminación basada en género y sal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o a los seguros en bol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mite a la discriminación de precios por edad y consumo de tab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ad: no más de 3 veces de la prima bá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aco: no más de 1.5 ve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óvenes de hasta 26 años podrán ser carga de sus pad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02A1-CF79-4AE2-B805-5596C0ECB4A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dicaid y subsidi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mplía para los po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os quienes ganen menos de 133% del sueldo mínimo federal tendrán acceso a Medic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mplía el Premium Assistance Tax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2% al 9.5% del sueldo mínimo federal para quienes ganen entre 133 y 400% el sueldo mínim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ímites a los out-of-pocket expenses en esa misma categoría (entre 94% y 7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5E5A-1E90-46CB-BAB6-E0EFE95FB22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édito fiscal para empresas pequeñ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475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ción y acceso a bolsas de seguros (a nivel estatal) (empresas hasta 50 o 100 empleados, según Est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o de internet: ver </a:t>
            </a:r>
            <a:r>
              <a:rPr b="0" lang="en-US" sz="1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s://www.mahealthconnector.org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ción por precio: “one stop shopping that promotes competition and choic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a o dos bolsas: una para empresas (para la compra de seguro para sus empleados) y otra para emple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andardización de cobert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ularios únicas, única forma de presentar la inform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ige ciertas prestaciones básicas para calificar como “Qualified Health Plan” y poder ser ofertados en las bols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mita el costo out-of-pocket de los asegurados: US$7 mil por persona y US$12 mil por famil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stablece cuatro niveles de cobertura: bronce (60% de la cobertura), plata (70%), oro (80%) y platino (90%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añías están obligadas a tratar a todos los empleados como un po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rar la portabilidad de las póliz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s empresas entregan su aporte a la bol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s empleados deciden su seguro y pagan con plata pre-impues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9259-9472-44D1-ABA7-4AEBD25F3C9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ención de cost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a: “regla del 2.5%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lsa de seguros de sal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6182-13C8-4D4D-96A9-7FACC655F0A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dicare “Donut Hole”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cription Part 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 absurdo: No se paga hasta US$2.830 y no se paga desde US$4.550, pero sí se paga en la mit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5FD3-B324-4ADB-AA1A-3EBB93267A2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oblema constitucional del “individual mandate”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 dos artículos interesantes de Michael Dor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utación del argumento liber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writ.news.findlaw.com/dorf/2009102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utación del argumento de la falta de autoridad del Congreso y la “commerce clau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rit.news.findlaw.com/dorf/20091102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63EC-4F04-41D2-BEEE-93D57C7F11F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C0D5-CB01-4CBE-ABD9-B6CBFB32AF4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s-ES" sz="4200" spc="-1" strike="noStrike">
                <a:solidFill>
                  <a:srgbClr val="000000"/>
                </a:solidFill>
                <a:latin typeface="Arial"/>
              </a:rPr>
              <a:t>he Patient Protection and Affordable Care Ac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Reforma de Salud de Ob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problemas pen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cuestiones de constitucion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ún Paul Krugman, la reforma es conceptualmente sencil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las compañías de seguros para que no puedan hacer “cherry-picking” de manera de quedarse solamente con los s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picking es injusto e ineficiente (grupos grandes: costo del overhead es 7%; individuos: 30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idiar el sistema, de manera que todos los norteamericanos pueda tener acceso a seguro de salud (objetivo: llegar al 94% de cobertura de la pobl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rdar que en USA el seguro de salud hasta ahora no era obligatorio (ni para los ciudadanos ni para las empres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y cerca de 47 millones de norteamericanos sin seguro de salud (1 de cada 6 no tiene seguro) (18.000 americanos se fueren al año por no tener seg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6107-C217-460F-9669-68BE50BE79F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 americano: “employment-based” volu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insurance sticks to the job, not to the perso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gran mayoría de quienes no tienen empleo es porque están sin trabajo o cambiándose de trabajo. La mitad son menores de 3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hay portabilidad del seg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odos los empleadores están obligados a dar seg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ando el seguro lo paga el empleador, esa parte de la remuneración es tax-free (lo que es una política tributaria regresiv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o es en realidad un subsidio a las empresas que dan seguro. Destruye la posibilidad de portabil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recimiento de los costos de salud implica que los empleadores van progresivamente dejando de dar seguro o traspasando el costo a los emple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FF0E-B3B8-4CEF-86FA-26C1E663809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E158-2DE8-4023-BE00-D5F6E34D5E1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05120" y="1905120"/>
          <a:ext cx="5181480" cy="3962160"/>
        </p:xfrm>
        <a:graphic>
          <a:graphicData uri="http://schemas.openxmlformats.org/drawingml/2006/table">
            <a:tbl>
              <a:tblPr/>
              <a:tblGrid>
                <a:gridCol w="2743200"/>
                <a:gridCol w="1143000"/>
                <a:gridCol w="12952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GB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ón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no Unido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mani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3880" y="1905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blación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un persona trabaja para una gran compañía, la situación es buena (para al menos el 75% de ese grupo hum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 vez un poco caro, pero las cosas están 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 tiene la mejor medicina del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no trabaja para una gran compañía, la situación es más bien m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ay p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ersonas quedan sometidas a los problemas de pre-exist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e una enfermedad grave, pueden ser expulsados o pueden subirles la pr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336E-C7F8-469E-A8CA-5DF3078CD54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s “tres patas”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a al mercado de la salud: precios justos sin importar la condición 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 la preexis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r la discriminación: Edad conforme a un rango limitado y nada m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 de la pata 1 sola: selección ad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mand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os están obligados a partici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tar el desc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 de la pata 2: muy c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i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ssachussets lo logró primero el año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A9A9-7DD6-4D7B-A259-0B49D131CEC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 no es radic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mantiene el sistema actual, que corresponde a un seguro dado voluntariamente por los emple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mentado p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dica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 los pobres 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dicar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 la tercera 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tende que hasta 32 millones de personas que hoy no tienen seguro puedan llegar a adquirir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ualmente, USA seguirá lejos de la meta ideal de cobertura universal (ej. Inmigrantes ilegales no quedan cubier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ligaciones graduales: algunas entran de inmediato en efecto otras tomarán varios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crea un sistema de incentivos (impuestos) para que las empresas de más 50 empleados otorguen seguro de salud a los empleados (menos de 50 empleados quedan exclui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idio (empresas de hasta 25 emple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ing scale tax cred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3509-36A0-44FE-B865-2DA05854780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dividual mand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ómo se hace para que todos pagu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$695 por persona, con un tope de US$2.085 por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el seguro vale más del 8% de la remuneración anual, entonces no aplica el im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5670-D8F7-47B3-8DC0-3F2012FFC93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Santiago Montt</cp:lastModifiedBy>
  <dcterms:modified xsi:type="dcterms:W3CDTF">2010-04-06T01:19:09Z</dcterms:modified>
  <cp:revision>36</cp:revision>
  <dc:subject/>
  <dc:title>Derecho Constitucional Económico</dc:title>
</cp:coreProperties>
</file>