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563-FAB5-446E-844B-E318F2CE8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62B1-78C6-49B2-821D-10AEF32443E5}" type="slidenum">
              <a:rPr b="0" lang="en-U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A3F-95EE-4987-9BB0-0ED21960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FE2-550D-4CCE-AB0D-89591599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042-ED09-4A75-9D72-121705944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7B2-42A3-4F3F-993B-758F4CCB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F614-E949-4616-B8B3-9D997BD3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D5C1-9E2A-4B81-85EF-3AAC342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3CEC-044D-40FD-AF37-2F455EC9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5122-03B1-443C-970E-95BB0242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5889-FCA9-4506-B1E4-0D52F9D0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6BA6-92EE-45AC-838F-1E7B8A86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A9CF-9876-45FB-8355-6F76D9F4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9C4F-CE47-4769-8942-71CDC391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E502-2B20-4BE9-BC52-C7A7A30E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07BA-ED7B-4C6F-AA5A-F68C2B9E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0EF9-7804-48EB-8756-1CA0FD05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3063-3242-4BC9-B99C-1D1EE84FB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7D08-6BDA-4804-8804-857C52C7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3709-8E82-4DDA-8EA8-0F3B582F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DDC-5F00-4410-9BAD-C9408468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0E82-FCE3-4BE5-A3CD-0C0F2D2F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960-8648-4CF4-BDC6-B66F65B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3025-1792-46F9-9C0A-C4B04B3E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2F4-916C-4B3C-A310-E7510ADE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3CB4-CAC3-454A-BAC4-5078EA36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08C5-11CF-4421-BFAA-AABDFE842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BE98-4697-4C8F-BE87-6B97D59EC3B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mahealthconnector.org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rit.news.findlaw.com/dorf/20091021.html" TargetMode="External"/><Relationship Id="rId2" Type="http://schemas.openxmlformats.org/officeDocument/2006/relationships/hyperlink" Target="http://writ.news.findlaw.com/dorf/20091102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antiago Montt O. / 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4 y 5: 1 y 6 de abril d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 de las pre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mediatamente para los niños y gradualmente para los adu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ción 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-risk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ción para las compañías de seguro de renovar las pólizas, incluyendo el caso de enfermos gr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das anti-selección adversa (estabilización de prim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uste del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ndfathering: el que le gusta su póliza se la puede qued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E44C-2DAB-4F21-89CC-809261C2AC1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usticia y protección al consumid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hibe los denominados “lifetime limits” y los límites anuales sobre los beneficios (definitivamente a partir de 201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ímites a lo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of-pocket expens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pagos y deducibles, entre ot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icar aumento de precios de los planes de salud (para evitar que se eche a los más clientes más ca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CF6F-CB72-4676-A744-F20B0680F86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criminación de prec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ibe la discriminación basada en género y sal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o a los seguros en bol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mite a la discriminación de precios por edad y consumo de taba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ad: no más de 3 veces de la prima bá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aco: no más de 1.5 ve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óvenes de hasta 26 años podrán ser carga de sus pad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CEF3-3D16-4037-9426-A7379E21589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id y subsid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para los pob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quienes ganen menos de 133% del sueldo mínimo federal tendrán acceso a Medic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mplía el Premium Assistance Tax 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2% al 9.5% del sueldo mínimo federal para quienes ganen entre 133 y 400% el sueldo mínim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ímites a los out-of-pocket expenses en esa misma categoría (entre 94% y 7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C615-45EC-4D98-9EAB-4D3C1643D3D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rédito fiscal para empresas pequeñ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4475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ción y acceso a bolsas de seguros (a nivel estatal) (empresas hasta 50 o 100 empleados, según Es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de internet: ver </a:t>
            </a:r>
            <a:r>
              <a:rPr b="0" lang="en-US" sz="1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s://www.mahealthconnector.org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ción por precio: “one stop shopping that promotes competition and choic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a o dos bolsas: una para empresas (para la compra de seguro para sus empleados) y otra para emple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andardización de cober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ularios únicas, única forma de presentar la inform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ige ciertas prestaciones básicas para calificar como “Qualified Health Plan” y poder ser ofertados en las bolsa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mita el costo out-of-pocket de los asegurados: US$7 mil por persona y US$12 mil por famil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ablece cuatro niveles de cobertura: bronce (60% de la cobertura), plata (70%), oro (80%) y platino (90%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añías están obligadas a tratar a todos los empleados como un po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rar la portabilidad de las póliz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s empresas entregan su aporte a la bols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75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s empleados deciden su seguro y pagan con plata pre-impue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250D-F566-48E8-8967-5DA75ECCBE92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nción de cost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a: “regla del 2.5%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lsa de seguros de salu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FC98-19FF-4E98-9CCF-7A37AA9B5CB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dicare “Donut Hol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scription Part 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 absurdo: No se paga hasta US$2.830 y no se paga desde US$4.550, pero sí se paga en la mi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D291-4ABF-4F1B-A3D8-37D3B3C9F1DB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roblema constitucional del “individual mandate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 dos artículos interesantes de Michael Dor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liber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http://writ.news.findlaw.com/dorf/20091021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utación del argumento de la falta de autoridad del Congreso y la “commerce claus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http://writ.news.findlaw.com/dorf/20091102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4147-4532-47FB-B49F-E2F1C73BC45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02E9-0354-437F-849A-71B9FBFC765F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s-ES" sz="4200" spc="-1" strike="noStrike">
                <a:solidFill>
                  <a:srgbClr val="000000"/>
                </a:solidFill>
                <a:latin typeface="Arial"/>
              </a:rPr>
              <a:t>he Patient Protection and Affordable Care Ac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forma de Salud de Ob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roblemas pend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s cuestiones de constitucio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Paul Krugman, la reforma es conceptualmente sencil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r las compañías de seguros para que no puedan hacer “cherry-picking” de manera de quedarse solamente con los s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rry picking es injusto e ineficiente (grupos grandes: costo del overhead es 7%; individuos: 30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ar el sistema, de manera que todos los norteamericanos pueda tener acceso a seguro de salud (objetivo: llegar al 94% de cobertura de la poblac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ar que en USA el seguro de salud hasta ahora no era obligatorio (ni para los ciudadanos ni para las empres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y cerca de 47 millones de norteamericanos sin seguro de salud (1 de cada 6 no tiene seguro) (18.000 americanos se fueren al año por no tener segu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61E9-5929-45DC-976E-3FF5CF5F07B9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americano: “employment-based” volu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lth insurance sticks to the job, not to the person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gran mayoría de quienes no tienen empleo es porque están sin trabajo o cambiándose de trabajo. La mitad son menores de 3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hay portabilidad del segu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odos los empleadores están obligados a dar seg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ando el seguro lo paga el empleador, esa parte de la remuneración es tax-free (lo que es una política tributaria regresiv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o es en realidad un subsidio a las empresas que dan seguro. Destruye la posibilidad de porta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recimiento de los costos de salud implica que los empleadores van progresivamente dejando de dar seguro o traspasando el costo a los emple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A94A-D83C-47A2-959B-2FA5DADC4CC6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6F1D-BA8C-49FE-A73E-6F75BF040C93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5120" y="1905120"/>
          <a:ext cx="5181480" cy="396216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295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GB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ing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ón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o Unido 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man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0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3880" y="1905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bl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un persona trabaja para una gran compañía, la situación es buena (para al menos el 75% de ese grupo hum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l vez un poco caro, pero las cosas están b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 tiene la mejor medicina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no trabaja para una gran compañía, la situación es más bien m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ay poo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ersonas quedan sometidas a los problemas de pre-exist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e una enfermedad grave, pueden ser expulsados o pueden subirles la pr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70FC-31BE-4E8B-9C19-B6B14D11DA1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s “tres patas”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orma al mercado de la salud: precios justos sin importar la condición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 la preexist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r la discriminación: Edad conforme a un rango limitado y nada 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1 sola: selección ad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mand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s están obligados a particip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tar el desc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de la pata 2: muy ca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assachussets lo logró primero el año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FA55-BE2F-4493-9851-18B2D7A1AA61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a reforma no es radic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mantiene el sistema actual, que corresponde a un seguro dado voluntariamente por los emple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mentado p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 los pobres 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dicar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 la tercera 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tende que hasta 32 millones de personas que hoy no tienen seguro puedan llegar a adquirir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ualmente, USA seguirá lejos de la meta ideal de cobertura universal (ej. Inmigrantes ilegales no quedan cubier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ligaciones graduales: algunas entran de inmediato en efecto otras tomarán varios añ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crea un sistema de incentivos (impuestos) para que las empresas de más 50 empleados otorguen seguro de salud a los empleados (menos de 50 empleados quedan exclui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sidio (empresas de hasta 25 emple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ing scale tax cred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B554-C60D-4481-ADB2-B52D2240BCFC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ndividual man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¿Cómo se hace para que todos pagu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$695 por persona, con un tope de US$2.085 por fam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el seguro vale más del 8% de la remuneración anual, entonces no aplica el impu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4573-510F-40C8-A073-4C422289BC7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Santiago Montt</cp:lastModifiedBy>
  <dcterms:modified xsi:type="dcterms:W3CDTF">2010-04-06T01:19:09Z</dcterms:modified>
  <cp:revision>36</cp:revision>
  <dc:subject/>
  <dc:title>Derecho Constitucional Económico</dc:title>
</cp:coreProperties>
</file>