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3FDAC-8262-46DD-99AF-97686E79E6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FED16-9AEB-46F8-8E33-7575ABF27F7D}" type="slidenum">
              <a:rPr b="0" lang="en-U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3377-D16B-48A1-883E-C6AB94FAF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1224-6A87-4F03-95F2-198D3B476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D260-1547-4C88-B996-2F145E799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F75D-7424-4932-A92E-FEADBF287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427C5-7989-4566-837E-97BCD3B9F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52BC2-987A-435A-835F-244974A35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88B4A-2384-46FE-8C67-6D8D06434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997BA-D3CE-4D03-A739-A115F1E64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F3186-E26E-487B-9163-F670ED885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01730-BE03-425E-A0F2-1BAE8B9AA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566C3-6E9E-489F-BBD3-E4DEF81C5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7178-E28F-4015-9CC6-329CD7D29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1587E-E145-405D-B941-8A0A47032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98C68-43B5-49DA-85AA-DFF33A721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E6B89-AFDC-4861-BA2C-91F92D4F4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B17FD-1AA9-410E-B272-948EA2C69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63545-A9A4-4B2D-8F0C-FCB90E951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B700-CCD7-40CA-9102-5B3C74F00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3724-B5D7-4C96-8456-BA780D57A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B4AE-4379-42AD-8956-98E0E4C30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3C6D-8BF5-4CA4-9E1B-435144C38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FD79-000D-451E-9F80-8A0D1A43D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EA03-3B2A-4A1B-BD57-F0E201D03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F220-9978-46A1-B8C0-EF07B0272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° Constitucional Económico Montt &amp; Cárdena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67ADA-E67A-41FA-AEE1-F703E76576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D° Constitucional Económico Montt &amp; Cárdena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166E6-F43A-4F52-A17A-E2743318360A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www.mahealthconnector.org/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rit.news.findlaw.com/dorf/20091021.html" TargetMode="External"/><Relationship Id="rId2" Type="http://schemas.openxmlformats.org/officeDocument/2006/relationships/hyperlink" Target="http://writ.news.findlaw.com/dorf/20091102.html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00000"/>
                </a:solidFill>
                <a:latin typeface="Arial"/>
              </a:rPr>
              <a:t>Derecho Constitucional</a:t>
            </a:r>
            <a:br>
              <a:rPr sz="4800"/>
            </a:br>
            <a:r>
              <a:rPr b="0" lang="es-CL" sz="4800" spc="-1" strike="noStrike">
                <a:solidFill>
                  <a:srgbClr val="000000"/>
                </a:solidFill>
                <a:latin typeface="Arial"/>
              </a:rPr>
              <a:t>Económico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286000" y="4952520"/>
            <a:ext cx="6324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antiago Montt O. / José Luis Cárdenas 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lase 4 y 5: 1 y 6 de abril de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Justicia y protección al consumido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 de las preexist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mediatamente para los niños y gradualmente para los adul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ción d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igh-risk p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ligación para las compañías de seguro de renovar las pólizas, incluyendo el caso de enfermos gra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das anti-selección adversa (estabilización de prim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seg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juste del ries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ndfathering: el que le gusta su póliza se la puede qued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4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EC9CE-C17F-4F7E-B11A-9869F841D3D7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Justicia y protección al consumido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hibe los denominados “lifetime limits” y los límites anuales sobre los beneficios (definitivamente a partir de 201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ímites a lo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ut-of-pocket expens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opagos y deducibles, entre otr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stificar aumento de precios de los planes de salud (para evitar que se eche a los más clientes más car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8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3B4E5-95B2-4288-A92C-A19C9A9E6EEB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iscriminación de precio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prohibe la discriminación basada en género y sal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ecto a los seguros en bol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ímite a la discriminación de precios por edad y consumo de taba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ad: no más de 3 veces de la prima bás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baco: no más de 1.5 ve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óvenes de hasta 26 años podrán ser carga de sus pad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2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75FC7-52AC-4515-8E87-6E0A3AEA66A0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edicaid y subsidio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amplía para los pob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os quienes ganen menos de 133% del sueldo mínimo federal tendrán acceso a Medica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amplía el Premium Assistance Tax Cr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 2% al 9.5% del sueldo mínimo federal para quienes ganen entre 133 y 400% el sueldo mínimo fed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ímites a los out-of-pocket expenses en esa misma categoría (entre 94% y 70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6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84308-D1F7-4D81-AD58-3B48746554A5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rédito fiscal para empresas pequeña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447560" y="190512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ción y acceso a bolsas de seguros (a nivel estatal) (empresas hasta 50 o 100 empleados, según Estad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o de internet: ver </a:t>
            </a:r>
            <a:r>
              <a:rPr b="0" lang="en-US" sz="14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https://www.mahealthconnector.org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ación por precio: “one stop shopping that promotes competition and choic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a o dos bolsas: una para empresas (para la compra de seguro para sus empleados) y otra para emplea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tandardización de cobertu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275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rmularios únicas, única forma de presentar la informació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275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xige ciertas prestaciones básicas para calificar como “Qualified Health Plan” y poder ser ofertados en las bols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275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imita el costo out-of-pocket de los asegurados: US$7 mil por persona y US$12 mil por famili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275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stablece cuatro niveles de cobertura: bronce (60% de la cobertura), plata (70%), oro (80%) y platino (90%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275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mpañías están obligadas a tratar a todos los empleados como un poo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rar la portabilidad de las póliz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275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as empresas entregan su aporte a la bols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275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os empleados deciden su seguro y pagan con plata pre-impuest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0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3D45B-A501-4E69-A4CB-895539B56A55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ontención de costo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lema: “regla del 2.5%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olsa de seguros de salu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4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6FAEF-F1E6-4A78-9A5E-7F2F4314D093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edicare “Donut Hole”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scription Part 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stema absurdo: No se paga hasta US$2.830 y no se paga desde US$4.550, pero sí se paga en la mit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8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019EA-6EBA-4624-8FC9-3A5851CD3BB1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Problema constitucional del “individual mandate”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 dos artículos interesantes de Michael Dor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utación del argumento libert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http://writ.news.findlaw.com/dorf/20091021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utación del argumento de la falta de autoridad del Congreso y la “commerce claus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http://writ.news.findlaw.com/dorf/20091102.htm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2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1198A-07E0-44FB-ADD2-AAF4C1B9701C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62176-EE8D-4A80-9543-EA4074E27E6A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s-ES" sz="4200" spc="-1" strike="noStrike">
                <a:solidFill>
                  <a:srgbClr val="000000"/>
                </a:solidFill>
                <a:latin typeface="Arial"/>
              </a:rPr>
              <a:t>he Patient Protection and Affordable Care Ac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Reforma de Salud de Ob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os problemas pend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s cuestiones de constitucion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a Reform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523880" y="1904760"/>
            <a:ext cx="70106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gún Paul Krugman, la reforma es conceptualmente sencill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ular las compañías de seguros para que no puedan hacer “cherry-picking” de manera de quedarse solamente con los sa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rry picking es injusto e ineficiente (grupos grandes: costo del overhead es 7%; individuos: 30%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idiar el sistema, de manera que todos los norteamericanos pueda tener acceso a seguro de salud (objetivo: llegar al 94% de cobertura de la població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cordar que en USA el seguro de salud hasta ahora no era obligatorio (ni para los ciudadanos ni para las empres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y cerca de 47 millones de norteamericanos sin seguro de salud (1 de cada 6 no tiene seguro) (18.000 americanos se fueren al año por no tener segur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AE1ED-96D9-434B-B437-196864CD1B00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a Reform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stema americano: “employment-based” volunt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lth insurance sticks to the job, not to the person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 gran mayoría de quienes no tienen empleo es porque están sin trabajo o cambiándose de trabajo. La mitad son menores de 3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hay portabilidad del segu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todos los empleadores están obligados a dar seg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ando el seguro lo paga el empleador, esa parte de la remuneración es tax-free (lo que es una política tributaria regresiva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to es en realidad un subsidio a las empresas que dan seguro. Destruye la posibilidad de portabilida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crecimiento de los costos de salud implica que los empleadores van progresivamente dejando de dar seguro o traspasando el costo a los emple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84DC2-96ED-4560-AAE5-D0FC4E3FA32C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a Reforma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DE76B-D6CB-4D93-963C-F9B8021B458D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905120" y="1905120"/>
          <a:ext cx="5181480" cy="3962160"/>
        </p:xfrm>
        <a:graphic>
          <a:graphicData uri="http://schemas.openxmlformats.org/drawingml/2006/table">
            <a:tbl>
              <a:tblPr/>
              <a:tblGrid>
                <a:gridCol w="2743200"/>
                <a:gridCol w="1143000"/>
                <a:gridCol w="129528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ís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PGB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king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a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5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pón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0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ino Unido 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3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emania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9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ada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9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stralia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2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0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a Reform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523880" y="1905120"/>
            <a:ext cx="7010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blación ac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un persona trabaja para una gran compañía, la situación es buena (para al menos el 75% de ese grupo human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l vez un poco caro, pero las cosas están b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 tiene la mejor medicina del mu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no trabaja para una gran compañía, la situación es más bien ma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hay poo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 personas quedan sometidas a los problemas de pre-existenci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te una enfermedad grave, pueden ser expulsados o pueden subirles la pri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8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7A3B8-41A9-4BD6-83E9-E9C73F1F2110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as “tres patas”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orma al mercado de la salud: precios justos sin importar la condición de sal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a la preexiste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ar la discriminación: Edad conforme a un rango limitado y nada má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a de la pata 1 sola: selección adver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vidual mandat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dos están obligados a particip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itar el descr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a de la pata 2: muy ca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sid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Massachussets lo logró primero el año 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2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FC1D1-81C5-4AF8-BE57-CC3E5DAFA870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a reforma no es radica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 mantiene el sistema actual, que corresponde a un seguro dado voluntariamente por los emplea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lementado p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edica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 los pobres 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edicar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a la tercera e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tende que hasta 32 millones de personas que hoy no tienen seguro puedan llegar a adquirir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gualmente, USA seguirá lejos de la meta ideal de cobertura universal (ej. Inmigrantes ilegales no quedan cubiert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ligaciones graduales: algunas entran de inmediato en efecto otras tomarán varios añ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 crea un sistema de incentivos (impuestos) para que las empresas de más 50 empleados otorguen seguro de salud a los empleados (menos de 50 empleados quedan excluid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sidio (empresas de hasta 25 emplead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ing scale tax cred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6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CA839-4ECF-4AD5-BD2D-6B656A0D40E4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ndividual mandat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¿Cómo se hace para que todos pagu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ue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$695 por persona, con un tope de US$2.085 por fami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p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el seguro vale más del 8% de la remuneración anual, entonces no aplica el impue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0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A4D80-8036-498E-93C0-561DE3797D17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6T00:48:29Z</dcterms:created>
  <dc:creator>jlcarden</dc:creator>
  <dc:description/>
  <dc:language>en-US</dc:language>
  <cp:lastModifiedBy>Santiago Montt</cp:lastModifiedBy>
  <dcterms:modified xsi:type="dcterms:W3CDTF">2010-04-06T01:19:09Z</dcterms:modified>
  <cp:revision>36</cp:revision>
  <dc:subject/>
  <dc:title>Derecho Constitucional Económico</dc:title>
</cp:coreProperties>
</file>