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3D54-FDFF-4557-904D-32E564153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30F7-637E-47A5-946C-CB9B19A0FC3F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480C-1A68-4B05-8A9D-70432DDB2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49DF-F44D-4D39-BEC8-5AE42AB2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DF54-6961-467E-A51B-A07FE7D24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1367-6733-474A-B0EC-F05366E45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D5A8-89A2-4D34-970C-F6960C3C6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2A37-BDB9-408E-B042-DFCF07D7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1DB0-1F22-449D-8249-1677F0A9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F015-82C5-4144-ADE8-E3D19BFD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0AB4-3C99-4CCB-8A00-7D3DB416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60F5-0FC4-4F3E-A3A2-451877D2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80B6-3D95-4BC6-A3F7-226ABBAA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05A9-F190-4356-8218-4BA610B9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4CAA-6AB0-4B4F-9D70-312AF5BB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CF3F-5350-4DFD-8F3E-D906489E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903C-7CB2-4B21-903B-8EE25BD4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8649-F6A1-490F-90BD-4F43E709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0DF6-9D5D-45B5-BFCB-41599B02A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BCD2-82FB-4ECB-9128-584FF7EA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D2E9-C1EB-4B79-98FC-CFA5EA37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79A5-1811-4B1B-835E-FFA1A216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0BB9-6A0C-4655-A3D2-820409F6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40CD-6370-4AE0-98E8-A10BB673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F43C-4333-49FC-9B95-4E3E195E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84A0-B079-4970-925D-CC733715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116F-35E9-487F-B4D2-79ED9836F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DB3C-E989-4EC4-B6AC-B254C808B5D2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mahealthconnector.org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rit.news.findlaw.com/dorf/20091021.html" TargetMode="External"/><Relationship Id="rId2" Type="http://schemas.openxmlformats.org/officeDocument/2006/relationships/hyperlink" Target="http://writ.news.findlaw.com/dorf/20091102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antiago Montt O. / 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 4 y 5: 1 y 6 de abril d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Justicia y protección al consumido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 de las pre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mediatamente para los niños y gradualmente para los adul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ción d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igh-risk p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ción para las compañías de seguro de renovar las pólizas, incluyendo el caso de enfermos gr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das anti-selección adversa (estabilización de prim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eg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uste del ries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dfathering: el que le gusta su póliza se la puede qued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1A9F-95C1-4063-884D-96B8A51A06DD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Justicia y protección al consumido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hibe los denominados “lifetime limits” y los límites anuales sobre los beneficios (definitivamente a partir de 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ímites a lo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ut-of-pocket expens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pagos y deducibles, entre otr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ificar aumento de precios de los planes de salud (para evitar que se eche a los más clientes más car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49BE-3BA9-478B-8234-ACC02C7513A1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iscriminación de preci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rohibe la discriminación basada en género y sal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cto a los seguros en bol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ímite a la discriminación de precios por edad y consumo de taba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ad: no más de 3 veces de la prima bás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aco: no más de 1.5 ve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óvenes de hasta 26 años podrán ser carga de sus pad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070D-84EB-44AD-9A46-0A1C4F89BC59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edicaid y subsidi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amplía para los pob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os quienes ganen menos de 133% del sueldo mínimo federal tendrán acceso a Medic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amplía el Premium Assistance Tax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2% al 9.5% del sueldo mínimo federal para quienes ganen entre 133 y 400% el sueldo mínimo fed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ímites a los out-of-pocket expenses en esa misma categoría (entre 94% y 7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3CF3-C5FE-4EB1-9DDF-F0D559B86430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rédito fiscal para empresas pequeñ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447560" y="19051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ción y acceso a bolsas de seguros (a nivel estatal) (empresas hasta 50 o 100 empleados, según Esta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o de internet: ver </a:t>
            </a:r>
            <a:r>
              <a:rPr b="0" lang="en-US" sz="1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s://www.mahealthconnector.org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ación por precio: “one stop shopping that promotes competition and choic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a o dos bolsas: una para empresas (para la compra de seguro para sus empleados) y otra para emple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andardización de cobertu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mularios únicas, única forma de presentar la inform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xige ciertas prestaciones básicas para calificar como “Qualified Health Plan” y poder ser ofertados en las bols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mita el costo out-of-pocket de los asegurados: US$7 mil por persona y US$12 mil por famil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stablece cuatro niveles de cobertura: bronce (60% de la cobertura), plata (70%), oro (80%) y platino (90%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pañías están obligadas a tratar a todos los empleados como un po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rar la portabilidad de las póliz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s empresas entregan su aporte a la bols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s empleados deciden su seguro y pagan con plata pre-impues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E6C0-D3D3-4830-A52F-0ABA41B34CB3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tención de cost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a: “regla del 2.5%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lsa de seguros de salu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976B-6546-4FF6-8FEE-9CDB084194D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edicare “Donut Hole”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cription Part 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a absurdo: No se paga hasta US$2.830 y no se paga desde US$4.550, pero sí se paga en la mit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7D72-2EDC-4BA1-99CD-35C9E5678401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roblema constitucional del “individual mandate”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 dos artículos interesantes de Michael Dor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utación del argumento liber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writ.news.findlaw.com/dorf/20091021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utación del argumento de la falta de autoridad del Congreso y la “commerce claus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http://writ.news.findlaw.com/dorf/20091102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316E-A417-4F9D-8B93-DDEB7788FEC2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F41B-EDDA-408D-B059-E09370F2E181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s-ES" sz="4200" spc="-1" strike="noStrike">
                <a:solidFill>
                  <a:srgbClr val="000000"/>
                </a:solidFill>
                <a:latin typeface="Arial"/>
              </a:rPr>
              <a:t>he Patient Protection and Affordable Care Ac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Reforma de Salud de Ob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problemas pend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cuestiones de constitucion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 Reform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3880" y="190476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ún Paul Krugman, la reforma es conceptualmente sencil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las compañías de seguros para que no puedan hacer “cherry-picking” de manera de quedarse solamente con los s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rry picking es injusto e ineficiente (grupos grandes: costo del overhead es 7%; individuos: 30%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idiar el sistema, de manera que todos los norteamericanos pueda tener acceso a seguro de salud (objetivo: llegar al 94% de cobertura de la pobl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rdar que en USA el seguro de salud hasta ahora no era obligatorio (ni para los ciudadanos ni para las empres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y cerca de 47 millones de norteamericanos sin seguro de salud (1 de cada 6 no tiene seguro) (18.000 americanos se fueren al año por no tener segur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112E-43DB-4F23-A251-D796D8E2351A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 Reform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 americano: “employment-based” volun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insurance sticks to the job, not to the perso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gran mayoría de quienes no tienen empleo es porque están sin trabajo o cambiándose de trabajo. La mitad son menores de 3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hay portabilidad del segu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todos los empleadores están obligados a dar seg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ando el seguro lo paga el empleador, esa parte de la remuneración es tax-free (lo que es una política tributaria regresiv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o es en realidad un subsidio a las empresas que dan seguro. Destruye la posibilidad de portabil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crecimiento de los costos de salud implica que los empleadores van progresivamente dejando de dar seguro o traspasando el costo a los emple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1F8C-7649-460B-B79A-D67EBD28EFE0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 Reforma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7C3D-035C-427E-BDA2-27B17153354D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905120" y="1905120"/>
          <a:ext cx="5181480" cy="3962160"/>
        </p:xfrm>
        <a:graphic>
          <a:graphicData uri="http://schemas.openxmlformats.org/drawingml/2006/table">
            <a:tbl>
              <a:tblPr/>
              <a:tblGrid>
                <a:gridCol w="2743200"/>
                <a:gridCol w="1143000"/>
                <a:gridCol w="129528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í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GB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a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5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ón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ino Unido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3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mania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9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da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9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alia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0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 Reform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23880" y="1905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blación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un persona trabaja para una gran compañía, la situación es buena (para al menos el 75% de ese grupo hum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l vez un poco caro, pero las cosas están 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 tiene la mejor medicina del m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no trabaja para una gran compañía, la situación es más bien m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hay po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personas quedan sometidas a los problemas de pre-existenc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e una enfermedad grave, pueden ser expulsados o pueden subirles la pri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6732-E030-463C-8B59-5F713089A500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s “tres patas”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orma al mercado de la salud: precios justos sin importar la condición de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a la preexis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ar la discriminación: Edad conforme a un rango limitado y nada má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a de la pata 1 sola: selección adve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 manda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os están obligados a partici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tar el desc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a de la pata 2: muy ca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i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ssachussets lo logró primero el año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B4F6-540B-4982-9530-A03B4F070BA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 reforma no es radic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 mantiene el sistema actual, que corresponde a un seguro dado voluntariamente por los emple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mentado p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dica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 los pobres 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dicar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 la tercera e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tende que hasta 32 millones de personas que hoy no tienen seguro puedan llegar a adquirir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ualmente, USA seguirá lejos de la meta ideal de cobertura universal (ej. Inmigrantes ilegales no quedan cubier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ligaciones graduales: algunas entran de inmediato en efecto otras tomarán varios a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 crea un sistema de incentivos (impuestos) para que las empresas de más 50 empleados otorguen seguro de salud a los empleados (menos de 50 empleados quedan exclui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sidio (empresas de hasta 25 emplea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ing scale tax cred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98C3-9756-46D2-89EA-581BE0420BC7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ndividual manda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¿Cómo se hace para que todos pagu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u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$695 por persona, con un tope de US$2.085 por fami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el seguro vale más del 8% de la remuneración anual, entonces no aplica el impu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348D-C2D3-4A87-A4FB-FEE57752A81F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0:48:29Z</dcterms:created>
  <dc:creator>jlcarden</dc:creator>
  <dc:description/>
  <dc:language>en-US</dc:language>
  <cp:lastModifiedBy>Santiago Montt</cp:lastModifiedBy>
  <dcterms:modified xsi:type="dcterms:W3CDTF">2010-04-06T01:19:09Z</dcterms:modified>
  <cp:revision>36</cp:revision>
  <dc:subject/>
  <dc:title>Derecho Constitucional Económico</dc:title>
</cp:coreProperties>
</file>