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18E7-C21E-470B-B20F-6D3B0E254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1174-A32A-4FAF-8195-CADAAEF4479C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906-A3D1-4B58-A6FD-8C92BA19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9BD-ECDA-403F-B1CF-82CE4C42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32D-995A-47DA-BF35-B301A84A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AD7-9AA4-4294-872C-A8593946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2997-2B81-41E9-802B-187D99CA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7C55-79AA-43D5-A46F-EF34E2A8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D355-F6E2-494B-9CAE-DB583470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7484-C5FC-4087-8F3C-D7D43CC5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EB6A-92FA-4AEE-9B13-B61F889D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0409-03D5-419B-8952-526995FD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7EF7-EBD5-493D-8DF6-EDA20D03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3D8-1BA7-4A94-B38B-15DBB595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5E1C-BBAA-4189-A64E-B9E82831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5533-3163-496A-B8D9-A545DEEC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47AC-A543-4C97-BBA6-8CAE2A43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52C2-7604-426A-B601-3EE59B2A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A71A-A18C-46E0-8680-F855C18F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CC9-2097-4A6C-9BFA-7ADD5D4C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3DF-8190-4D79-820D-7C8AF357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D8B-C010-4292-9548-FD3BB472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E064-D47C-4FD5-A8A1-10F2B235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904-F666-43C7-AB94-4347AF6C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B97-A9E1-4870-A514-3A1C91DD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FCE-BC49-4308-B3C9-A3E343ED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44DD-0B69-4E60-80B0-2FF85A35B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29DA-204C-4330-A4C3-D6EC50B22FE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Apli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2: 25 de marzo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sis contrar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ns Carl Nipperdey: economía social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a persona tiene el derecho al libre desarrollo de su personalidad siempre que no viole los derechos de otra ni atente contra el orden constitucional o la ley moral” (art. 2 inc. 1° GG = Libertad de Ac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pública Federal de Alemania es un Estado federal democrático y social” (art. 20 inc. 1° GG = Principio de Estado Social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rnst Rudolf Huber: sistema mix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Balance entre derechos y libertad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olfgang Abendroth: economía planifi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ipio de Estado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ibunal Constitucional Alemán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Bundesverfassungsgerich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ntencia 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vestitionshilf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de 1954, habla del principio de “neutralidad político económica” = “el constituyen no se decidió en forma expresa por un sistema económico. Ello permite al legislador seguir la política económica que le parezca conveniente, en la que respete la Ley Fundament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ño: “Se entiende por ‘Constitución económica’ (o ‘modelo económico de la Constitución’) el conjunto de principios, criterios, valores y reglas fundamentales que presiden la vida económico-social de un país, según un orden que se encuentra reconocido en la Constitució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ño: “La Constitución Española resul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big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ya que contiene principios de ordenación económica un tanto opuestos [refiriéndose luego al “carácter abierto de la Constitución económica española, que deja al liderazgo político de cada momento la elección de variados modelos o formas de ordenar la vida económica, y el mayor o menor protagonismo del Estado”]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BB3A-0F38-4989-942E-CD672A08F5C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Aplica eso para Chile? ¿O nuestra Constitución es neolibera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Es el Principio de subsidiaridad compatible con sistema de planificación centra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Es compatible con otros sistemas económic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el principio de subsidiariedad se consagra en el artículo 1º de la Carta Fundamental y es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o de los principios rectores del orden so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STC rol 352/02). De acuerdo a éste,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Estado no le corresponde absorber aquellas actividades que son desarrolladas adecuadamente por los particulares, ya sea personalmente o agrupados en cuerpos intermed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Ello se entiende sin perjuicio, por cierto, de aquellas que, por su carácter, ha de asumir el Estado. Eso explica el reconocimiento y amparo que el artículo 1º, inciso tercero, de la Constitución presta a los grupos intermedios" (STC rol 352/02). Este principio ayuda a comprender el rol del Estado, pues implica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amente, en un sentido, que el Estado no tome a su cargo lo que puedan en buenas condiciones realizar las personas y los entes colectivos y, a la inversa, la obligación del Estado de proveer a la satisfacción de las necesidades colectivas, cuanto los particulares no estén en posibilidad de lograr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Silva Bascuñán, A.; ob. cit., págs. 51-5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e principio tiene dos dimensiones. En su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mensión negativ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el Estado "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 debe intervenir en las actividades de las sociedades intermedias cuando desarrollan su actividad y fines real y eficazmente dentro del bien comú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...". Por su parte, su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mensión positiv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"...implica una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tección de las sociedades o grupos intermedios menores frente a los mayores, como asimismo un derecho de intervenir del Estado, cuando las sociedades intermedias no sean capaces de realizar su actividad real o eficazmente o cuando ellas atenten contra el bien comú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En tal caso, el Estado debe suplir su tarea, removiendo los obstáculos y restableciendo, una vez superados estos últimos, la autonomía de las sociedades intermedias afectadas" (Verdugo, Mario; Pfeffer, Emilio, y Nogueira, Humberto; T. I; Editorial Jurídica; Santiago, 1994; pág. 112);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Rol N° 1295-200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neolib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mando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cía del hombre y el principio de autonomí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rincipio de subsidiariedad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ualdad y no discri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iedad pri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ón judicial (económ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a legal de la regul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 monetaria independiente y disciplina del gasto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4D5B-0629-4203-B45A-829012062FE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Neoliberalismo, o Capitalismo Regulato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bres vs. hom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Subsidiariedad económica? ¿Dó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iedad privada: limitaciones al dominio no indemniz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ón judicial: la verdadera pregunta es la del estándar de revisión. ¿Gobierno de los jue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a legal: ¿absoluta o relat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9975-737B-4AC3-B5D3-9A82E34936C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de principios y ex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excepciones quedan entregadas a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ún valor hay en la idea de principios (lo que Ariño llama 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alis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ción del principalismo: artículo 19 No.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final del día no vivimos en el neoliberalismo, sino en el Capitalismo regul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zclas de regulación/Estado y libertad/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iedad vs. intervención (títulos causales de interven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EF7E-FB2A-4BFE-9E0B-6C6CFA9A990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la prop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enes q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b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enecer a la nación toda y una ley lo declare as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echo de prop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Quién determina el contenido del derecho de propiedad? ¡El Congres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rampa positivista”: ¿límite al Congreso definido por el propio Congre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4736-ED99-4570-83AE-00BE8733114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575B-4212-4DB2-86C7-49667668E53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 Constitucional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iedad: 5 c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si-total vs. pa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se define cuasi-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blema del denomi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ocimiento de fines públicos preemi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dad de la revisión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oría de la auto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ridad compar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67B8-F94C-4C19-9048-8AF55BF6D43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stados Unid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caba de aprobar este martes la reforma a la salud más importante en déc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400 páginas tiene la le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er miércoles se presentó una demanda en contra de la ley por su supuesta inconstitucio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ismo: soberanía de los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r a adquirir un producto o servicio y definir su contenido: libertad de los ciudad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C193-C3A0-499C-A817-D92B90B1319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é Luis C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onjunto de principios y normas jurídicas que organizan la economía de un país y facultan a la autoridad para regularla en armonía con los valores de la sociedad nacional formulados en la Constitu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5C8A-1AE7-47BF-835D-40782DFAAC6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inalidad del orden nombrado es institucionalizar con rango de máxima jerarquía normativa, un sistema que asegure a todas las personas el respeto y promoción de los valores de libre iniciativa y apropiabilidad de los bienes, de isonomía o igualdad de oportunidades […] en general de la prioridad del sector privado, paralela a la subsidiariedad estatal, en el marco de la libre competencia en un mercado legalmente regulado” (José Luis 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gio Di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Orden Público Económico es el conjunto de normas marco o generales contenidas en la Constitución Política, que regulan los derechos y libertades de orden económico de las personas, la actividad económica del Estado y las relaciones de carácter económico entre ello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C08F-718D-43BE-8756-8F41B694752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Jaederl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trata el orden público económico, en definitiva, de un conjunto de normas y principios que reconocen, garantizan y protegen derechos individuales, en especial, en lo relativo a los valores económicos esenciales definidos como tales por la sociedad, en su Constitución Polític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mand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OPE es el adecuado modo de relación de todos los diversos elementos de naturaleza económica presentes en la sociedad, que permita a todos los agentes económicos, en la mayor medida posible y en un marco subsidiario, el disfrute de sus garantías constitucionales de naturaleza económica de forma tal de contribuir al bien común y a la plena realización de la persona human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A632-F8C0-4315-9FBE-D7D93E0C58E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güedad del 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l derecho civil, el orden público es una limitación a la autonomía de la volunt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tándose del OPE, ¿quién es el sujeto a quien se constriñe? ¿a los particulares o al Est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on los particulares, el OPE es un instrumento justificador de las intervenciones administr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es el Estado, el OPE es un concepto libertario que busca limitar la acción est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mite del absurdo: ¿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d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losófi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Verdades revela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D411-1750-4EAA-B634-120CC7AAC05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ns-Jürg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979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ey Fundamental no contiene determinación o modelo económico alguno, sino que encomienda el régimen económico al legislador, quien decidirá libremente dentro de los márgenes trazados por la Ley Fundamental”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Wirschaftspolitische Neutralitä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utralidad político económic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6784-F0B2-487E-A9A2-947F4DC391C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3:21:03Z</dcterms:created>
  <dc:creator>jlcarden</dc:creator>
  <dc:description/>
  <dc:language>en-US</dc:language>
  <cp:lastModifiedBy>Santiago Montt</cp:lastModifiedBy>
  <dcterms:modified xsi:type="dcterms:W3CDTF">2010-03-25T19:49:42Z</dcterms:modified>
  <cp:revision>19</cp:revision>
  <dc:subject/>
  <dc:title>Derecho Constitucional Económico</dc:title>
</cp:coreProperties>
</file>