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4FEB-CDA6-4B19-BC90-352EC7F0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1B50-DB9B-4A38-AC19-3E3D235400FE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B47-1C9B-4F88-B5AA-EDC7322A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A7D-C419-4149-8299-682FA55D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DF9-04AD-4F84-8812-22ABFCBE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4B8-082D-4BD9-91CC-B2DBFEC4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1C31-C3E4-4213-81C8-5C5346F5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E623-5AE2-47D4-98C7-43D22AD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EC47-663C-4CF5-BFE9-0AEF63E7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6360-4086-4ADD-8DA7-21A54931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DA37-84D9-4A88-904C-8BE9A388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E6A6-7470-49B1-855A-DDD53210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0EF6-9D14-47FF-87FF-2EB7932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B3A-61CC-42FD-AE95-7FF92CD8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1402-6556-4120-A6DA-EC795707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0305-0733-4B76-8A2E-5835392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ADF-E962-42D1-8557-A3A52AAC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8B93-B45C-4392-A201-7BD5915B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284C-88CF-42A4-AD53-50DB9489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C44-ED19-4B26-9756-D11A645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C96-D0B6-448B-BDF4-9E652654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4D4-159E-43CB-A8C8-6C1C08B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DD8-4A67-481C-B1D3-CE515191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781-FF7F-4BA9-B822-58A672A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CD1-12BC-4ABA-988A-FD22C9F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8E09-3A8A-406A-86D3-06A1B136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1B03-3F4B-4A40-B7A3-5DB0A37DC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DCB9-6618-4E9F-88BC-06071088DA0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2: 25 de marz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sis contrar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ns Carl Nipperdey: economía social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a persona tiene el derecho al libre desarrollo de su personalidad siempre que no viole los derechos de otra ni atente contra el orden constitucional o la ley moral” (art. 2 inc. 1° GG = Libertad de Ac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pública Federal de Alemania es un Estado federal democrático y social” (art. 20 inc. 1° GG = Principio de Estado Soci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rnst Rudolf Huber: sistema mix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Balance entre derechos y liberta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olfgang Abendroth: economía planific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ncipio de Estado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bunal Constitucional Alemán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Bundesverfassungsgerich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tencia 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vestitionshilf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de 1954, habla del principio de “neutralidad político económica” = “el constituyen no se decidió en forma expresa por un sistema económico. Ello permite al legislador seguir la política económica que le parezca conveniente, en la que respete la Ley Fundament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ño: “Se entiende por ‘Constitución económica’ (o ‘modelo económico de la Constitución’) el conjunto de principios, criterios, valores y reglas fundamentales que presiden la vida económico-social de un país, según un orden que se encuentra reconocido en la Constitu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ño: “La Constitución Española result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big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ya que contiene principios de ordenación económica un tanto opuestos [refiriéndose luego al “carácter abierto de la Constitución económica española, que deja al liderazgo político de cada momento la elección de variados modelos o formas de ordenar la vida económica, y el mayor o menor protagonismo del Estado”]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254-BB81-4B19-A7C2-10E5CCE864A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Aplica eso para Chile? ¿O nuestra Constitución es neoliber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Es el Principio de subsidiaridad compatible con sistema de planificación centra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¿Es compatible con otros sistemas económic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el principio de subsidiariedad se consagra en el artículo 1º de la Carta Fundamental y es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o de los principios rectores del orden so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STC rol 352/02). De acuerdo a éste,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 Estado no le corresponde absorber aquellas actividades que son desarrolladas adecuadamente por los particulares, ya sea personalmente o agrupados en cuerpos intermed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Ello se entiende sin perjuicio, por cierto, de aquellas que, por su carácter, ha de asumir el Estado. Eso explica el reconocimiento y amparo que el artículo 1º, inciso tercero, de la Constitución presta a los grupos intermedios" (STC rol 352/02). Este principio ayuda a comprender el rol del Estado, pues implica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amente, en un sentido, que el Estado no tome a su cargo lo que puedan en buenas condiciones realizar las personas y los entes colectivos y, a la inversa, la obligación del Estado de proveer a la satisfacción de las necesidades colectivas, cuanto los particulares no estén en posibilidad de lograr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Silva Bascuñán, A.; ob. cit., págs. 51-5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e principio tiene dos dimensiones. En su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mensión negativ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el Estado "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debe intervenir en las actividades de las sociedades intermedias cuando desarrollan su actividad y fines real y eficazmente dentro del bien comú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;...". Por su parte, su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mensión positiv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"...implica una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tección de las sociedades o grupos intermedios menores frente a los mayores, como asimismo un derecho de intervenir del Estado, cuando las sociedades intermedias no sean capaces de realizar su actividad real o eficazmente o cuando ellas atenten contra el bien comú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En tal caso, el Estado debe suplir su tarea, removiendo los obstáculos y restableciendo, una vez superados estos últimos, la autonomía de las sociedades intermedias afectadas" (Verdugo, Mario; Pfeffer, Emilio, y Nogueira, Humberto; T. I; Editorial Jurídica; Santiago, 1994; pág. 112);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Rol N° 1295-200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neolib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ando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cía del hombre y el principio de autonomía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incipio de subsidiariedad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ualdad y no discr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edad pri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ón judicial (económ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 legal de la regulación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monetaria independiente y disciplina del gasto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03F2-0EA5-4F3B-84CD-D623DC928F6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Neoliberalismo, o Capitalismo Regulato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bres vs. hom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Subsidiariedad económica? ¿Dó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iedad privada: limitaciones al dominio no indemniz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ón judicial: la verdadera pregunta es la del estándar de revisión. ¿Gobierno de los jue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rva legal: ¿absoluta o relat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8D84-9989-43CD-8686-9067B248FCD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de principios y ex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excepciones quedan entregadas a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ún valor hay en la idea de principios (lo que Ariño llama 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al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l principalismo: artículo 19 No.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final del día no vivimos en el neoliberalismo, sino en el Capitalismo regul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zclas de regulación/Estado y libertad/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edad vs. intervención (títulos causales de interven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91B2-703C-4BB6-B1E5-0CE2FEC59D8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la prop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enes 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b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necer a la nación toda y una ley lo declare a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echo de prop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Quién determina el contenido del derecho de propiedad? ¡El Congres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mpa positivista”: ¿límite al Congreso definido por el propio Congre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3915-F4A8-4686-8DE5-7783139D508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633A-5F43-4870-A4C1-39DD0EAFE42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 Constitucional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iedad: 5 c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si-total vs. pa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se define cuasi-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blema del denomi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ocimiento de fines públicos preemi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la revisión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ía de la auto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ridad com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3F24-68E9-41B3-ABA6-11881AE3D67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tados Unid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caba de aprobar este martes la reforma a la salud más importante en dé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00 páginas tiene la le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er miércoles se presentó una demanda en contra de la ley por su supuesta in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ismo: soberanía de los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r a adquirir un producto o servicio y definir su contenido: libertad de los ciudad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A98F-796E-4CFE-83B1-F79FCD03168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é Luis C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conjunto de principios y normas jurídicas que organizan la economía de un país y facultan a la autoridad para regularla en armonía con los valores de la sociedad nacional formulados en la Constitu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9091-7A9B-4E4D-86FA-A0A08E6F9CF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nalidad del orden nombrado es institucionalizar con rango de máxima jerarquía normativa, un sistema que asegure a todas las personas el respeto y promoción de los valores de libre iniciativa y apropiabilidad de los bienes, de isonomía o igualdad de oportunidades […] en general de la prioridad del sector privado, paralela a la subsidiariedad estatal, en el marco de la libre competencia en un mercado legalmente regulado” (José Luis C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gio Di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Orden Público Económico es el conjunto de normas marco o generales contenidas en la Constitución Política, que regulan los derechos y libertades de orden económico de las personas, la actividad económica del Estado y las relaciones de carácter económico entre ell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87B5-7707-4400-B65B-BC8EF545140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Jaederl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trata el orden público económico, en definitiva, de un conjunto de normas y principios que reconocen, garantizan y protegen derechos individuales, en especial, en lo relativo a los valores económicos esenciales definidos como tales por la sociedad, en su Constitución Políti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and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OPE es el adecuado modo de relación de todos los diversos elementos de naturaleza económica presentes en la sociedad, que permita a todos los agentes económicos, en la mayor medida posible y en un marco subsidiario, el disfrute de sus garantías constitucionales de naturaleza económica de forma tal de contribuir al bien común y a la plena realización de la persona human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0B5A-C968-429D-AF36-96293001911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den Público Económic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üedad del 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derecho civil, el orden público es una limitación a la autonomía de la volunt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ándose del OPE, ¿quién es el sujeto a quien se constriñe? ¿a los particulares o al Est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on los particulares, el OPE es un instrumento justificador de las intervenciones administ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es el Estado, el OPE es un concepto libertario que busca limitar la acción est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absurdo: ¿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d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losóf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Verdades revel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39D1-022E-4BD5-A212-12108BF94F7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stitución económic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ns-Jürg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79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ey Fundamental no contiene determinación o modelo económico alguno, sino que encomienda el régimen económico al legislador, quien decidirá libremente dentro de los márgenes trazados por la Ley Fundamental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irschaftspolitische Neutralitä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utralidad político económic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BF0F-67D5-468B-9872-765E8AA82B7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3:21:03Z</dcterms:created>
  <dc:creator>jlcarden</dc:creator>
  <dc:description/>
  <dc:language>en-US</dc:language>
  <cp:lastModifiedBy>Santiago Montt</cp:lastModifiedBy>
  <dcterms:modified xsi:type="dcterms:W3CDTF">2010-03-25T19:49:42Z</dcterms:modified>
  <cp:revision>19</cp:revision>
  <dc:subject/>
  <dc:title>Derecho Constitucional Económico</dc:title>
</cp:coreProperties>
</file>