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A854-E28C-4EA2-B1F2-370785D38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9393-C06D-46EE-8222-8D1D5724540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B67-5AF7-4D01-B8D6-A0179A48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00C-7571-4373-9C27-124EB5D6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DAA-E81D-491E-B512-E1FC8DCF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0DD-5901-4C1B-9A1E-986D4788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D9E2-4917-4A3A-BA39-DA9C081A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0CBD-EAEA-44AA-8ACF-A386D7A2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AF42-0486-4C87-9500-1731ADC3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7CF7-333C-42B0-BE99-6DD52D51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94B7-303C-4473-8514-D0001443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EE8C-12B4-4238-9F6A-0E29F868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4E35-E90E-44BC-8532-EB4D4BBD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9D4-3BDF-4A83-B341-FBEB406D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77D4-1D78-4D48-B312-898D58BA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3F33-1156-4FED-98F4-CBB471EE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0B3C-DE61-48C6-A723-C6D6AAD8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8979-EE4A-4B9D-A473-DE16C8F5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90FC-89A9-4DDA-BEDC-72EE6FA2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871-81CB-407C-A2D1-48727EDD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F5E-4F0A-4FA1-9D29-BA7F927F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577-40CC-43D5-90F1-0FEB4AD4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5B5-44A1-4652-866E-0323E759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149-A68D-4673-BA16-C03613EE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F88-8AF6-4DD9-B0CB-807241D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A0E-8C7D-4438-BDC8-EB5525E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8BC5-A3A1-4B3B-9327-CD477A05E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5D3C-D714-4513-9AA6-77A9F97F775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2: 25 de marzo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sis contrar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ns Carl Nipperdey: economía social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a persona tiene el derecho al libre desarrollo de su personalidad siempre que no viole los derechos de otra ni atente contra el orden constitucional o la ley moral” (art. 2 inc. 1° GG = Libertad de Ac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pública Federal de Alemania es un Estado federal democrático y social” (art. 20 inc. 1° GG = Principio de Estado Soci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rnst Rudolf Huber: sistema mix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Balance entre derechos y libertad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olfgang Abendroth: economía planif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ipio de Estad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bunal Constitucional Alemán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Bundesverfassungsgerich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tencia 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vestitionshilf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de 1954, habla del principio de “neutralidad político económica” = “el constituyen no se decidió en forma expresa por un sistema económico. Ello permite al legislador seguir la política económica que le parezca conveniente, en la que respete la Ley Fundament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ño: “Se entiende por ‘Constitución económica’ (o ‘modelo económico de la Constitución’) el conjunto de principios, criterios, valores y reglas fundamentales que presiden la vida económico-social de un país, según un orden que se encuentra reconocido en la Constitució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ño: “La Constitución Española resul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big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ya que contiene principios de ordenación económica un tanto opuestos [refiriéndose luego al “carácter abierto de la Constitución económica española, que deja al liderazgo político de cada momento la elección de variados modelos o formas de ordenar la vida económica, y el mayor o menor protagonismo del Estado”]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7E82-4493-4F4B-B09E-29902DEDB87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Aplica eso para Chile? ¿O nuestra Constitución es neoliber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Es el Principio de subsidiaridad compatible con sistema de planificación centr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Es compatible con otros sistemas económic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el principio de subsidiariedad se consagra en el artículo 1º de la Carta Fundamental y es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o de los principios rectores del orden so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STC rol 352/02). De acuerdo a éste,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Estado no le corresponde absorber aquellas actividades que son desarrolladas adecuadamente por los particulares, ya sea personalmente o agrupados en cuerpos intermed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llo se entiende sin perjuicio, por cierto, de aquellas que, por su carácter, ha de asumir el Estado. Eso explica el reconocimiento y amparo que el artículo 1º, inciso tercero, de la Constitución presta a los grupos intermedios" (STC rol 352/02). Este principio ayuda a comprender el rol del Estado, pues implica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amente, en un sentido, que el Estado no tome a su cargo lo que puedan en buenas condiciones realizar las personas y los entes colectivos y, a la inversa, la obligación del Estado de proveer a la satisfacción de las necesidades colectivas, cuanto los particulares no estén en posibilidad de lograr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Silva Bascuñán, A.; ob. cit., págs. 51-5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e principio tiene dos dimensiones. En su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mensión negativ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el Estado "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debe intervenir en las actividades de las sociedades intermedias cuando desarrollan su actividad y fines real y eficazmente dentro del bien comú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...". Por su parte, su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mensión positiv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"...implica una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tección de las sociedades o grupos intermedios menores frente a los mayores, como asimismo un derecho de intervenir del Estado, cuando las sociedades intermedias no sean capaces de realizar su actividad real o eficazmente o cuando ellas atenten contra el bien comú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En tal caso, el Estado debe suplir su tarea, removiendo los obstáculos y restableciendo, una vez superados estos últimos, la autonomía de las sociedades intermedias afectadas" (Verdugo, Mario; Pfeffer, Emilio, y Nogueira, Humberto; T. I; Editorial Jurídica; Santiago, 1994; pág. 112);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Rol N° 1295-200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neolib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mando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cía del hombre y el principio de autonomí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incipio de subsidiariedad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ualdad y no discr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iedad pri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ón judicial (económ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 legal de la regul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monetaria independiente y disciplina del gast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0F24-911C-4DA4-BBD3-9D3D224BB84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Neoliberalismo, o Capitalismo Regulato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bres vs. ho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Subsidiariedad económica? ¿Dó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iedad privada: limitaciones al dominio no indemniz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ón judicial: la verdadera pregunta es la del estándar de revisión. ¿Gobierno de los jue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a legal: ¿absoluta o rela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C425-3826-43CA-9404-B4859699AFE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de principios y ex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excepciones quedan entregadas a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ún valor hay en la idea de principios (lo que Ariño llama 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alis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ción del principalismo: artículo 19 No.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final del día no vivimos en el neoliberalismo, sino en el Capitalismo regul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zclas de regulación/Estado y libertad/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iedad vs. intervención (títulos causales de interven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2502-020A-40A3-9AB3-A6A10255C7B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la prop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enes 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b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enecer a la nación toda y una ley lo declare as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echo de prop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Quién determina el contenido del derecho de propiedad? ¡El Congres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mpa positivista”: ¿límite al Congreso definido por el propio Congr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D2D0-EB0D-4E55-99CE-DFE442B5AD7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B70-F20A-4DA0-909C-6B2206213BC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 Constitucional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iedad: 5 c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si-total vs. pa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se define cuasi-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blema del denomi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ocimiento de fines públicos preemi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de la revisión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ía de la auto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ridad compa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0E0D-98D7-4E3F-BBEA-5CE51EE9230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stados Unid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aba de aprobar este martes la reforma a la salud más importante en déc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00 páginas tiene la le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er miércoles se presentó una demanda en contra de la ley por su supuesta inconstitucio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ismo: soberanía de los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r a adquirir un producto o servicio y definir su contenido: libertad de los ciudad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6CC8-08DB-4AF9-B96D-D1B268D4109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é Luis C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njunto de principios y normas jurídicas que organizan la economía de un país y facultan a la autoridad para regularla en armonía con los valores de la sociedad nacional formulados en la Constitu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7F9E-1E68-4661-8A25-0759797EE62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nalidad del orden nombrado es institucionalizar con rango de máxima jerarquía normativa, un sistema que asegure a todas las personas el respeto y promoción de los valores de libre iniciativa y apropiabilidad de los bienes, de isonomía o igualdad de oportunidades […] en general de la prioridad del sector privado, paralela a la subsidiariedad estatal, en el marco de la libre competencia en un mercado legalmente regulado” (José Luis 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gio Di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Orden Público Económico es el conjunto de normas marco o generales contenidas en la Constitución Política, que regulan los derechos y libertades de orden económico de las personas, la actividad económica del Estado y las relaciones de carácter económico entre ello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EA94-71A1-4A33-903B-B8AF38191C5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Jaederl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trata el orden público económico, en definitiva, de un conjunto de normas y principios que reconocen, garantizan y protegen derechos individuales, en especial, en lo relativo a los valores económicos esenciales definidos como tales por la sociedad, en su Constitución Polític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mand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OPE es el adecuado modo de relación de todos los diversos elementos de naturaleza económica presentes en la sociedad, que permita a todos los agentes económicos, en la mayor medida posible y en un marco subsidiario, el disfrute de sus garantías constitucionales de naturaleza económica de forma tal de contribuir al bien común y a la plena realización de la persona human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9585-DAA8-41EC-9E01-AB2F7F65EFA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güedad del 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derecho civil, el orden público es una limitación a la autonomía de la volun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ándose del OPE, ¿quién es el sujeto a quien se constriñe? ¿a los particulares o al Est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on los particulares, el OPE es un instrumento justificador de las intervenciones administ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es el Estado, el OPE es un concepto libertario que busca limitar la acción est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del absurdo: ¿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d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osóf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Verdades revel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B7BC-B584-4B27-A929-D4393FABAF2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ns-Jürg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979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ey Fundamental no contiene determinación o modelo económico alguno, sino que encomienda el régimen económico al legislador, quien decidirá libremente dentro de los márgenes trazados por la Ley Fundamental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Wirschaftspolitische Neutralitä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utralidad político económic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2097-4E63-4319-8B81-3E1928D000A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3:21:03Z</dcterms:created>
  <dc:creator>jlcarden</dc:creator>
  <dc:description/>
  <dc:language>en-US</dc:language>
  <cp:lastModifiedBy>Santiago Montt</cp:lastModifiedBy>
  <dcterms:modified xsi:type="dcterms:W3CDTF">2010-03-25T19:49:42Z</dcterms:modified>
  <cp:revision>19</cp:revision>
  <dc:subject/>
  <dc:title>Derecho Constitucional Económico</dc:title>
</cp:coreProperties>
</file>