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28E3-D8BE-44C5-915E-8A8D6F14A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8B3-4A68-47EB-B7B4-0F577E2A1087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2BC-340A-448B-BD34-53C3AE1F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7BB-4847-45A0-86DA-DAF177F2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11D-93D6-454D-80F9-9E939B01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876-1A2B-4F93-916E-1A2E4BA8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E0DB-BA99-4A27-AC9B-85663DF3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4FED-76E2-4EB8-A8E7-A2361B10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3C73-E31D-4A31-A4D7-45E62583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C259-2B3B-4E8D-8C97-3449E3AF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1857-266C-4A5B-8536-BC8E681D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825F-6441-44B7-8F37-FA2DE0A1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F885-FBD2-4C47-98E5-D3A9EA1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F35-3EE1-4083-BABD-0429FC1D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235C-0D6C-4116-92C8-7D0FE49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E628-6C32-4B07-ADC6-1F4B06D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2153-B43A-4523-9CE5-3856C635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2C5E-6AE1-4C99-B1E9-BA00EDF8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5CD1-FBA0-446A-A9ED-48D73A26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800-DE53-47C0-82F4-5B3DCF34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AFD-CBB4-4749-9F60-05529405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934-F9BA-4EC3-AE49-06726A08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569-ADF6-4234-9E93-F63467E3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2A1-DEB4-47AD-92D8-86B3171C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59F-C08C-4E28-B029-6AEE49CB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6F0-6C20-4B7B-979A-6223346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346E-A2ED-420E-BB7B-695060704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981B-5E64-4743-9F9E-ABCEBC081E0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A70-CA5C-4605-AC18-A604E4E0420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64B9-F760-460B-A1E7-5E9267537F9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8AAF-B010-4495-97E8-A61ADC00F80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062D-AE10-4C2D-92CC-2C59B197A74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F67B-27DA-4ECC-8778-6A6F65243E5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34A6-BC38-49DE-B29A-10D3663ACE4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D155-236E-41D2-857A-2F1A27090E2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AA04-687E-47D2-A7D0-052144708C3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4918-5AD8-4717-99D9-ED08757650E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8D60-E945-45CC-9D7A-A12050E7F62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l de lectura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bajo de investigación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en final : 4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14 recursos presentados contra Isapres durante 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pres perdieron el 96% de es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8 durante el primer semestre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 3 mil millones de pesos pagados a abogados en c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aplicabilidad perdidas en el TC relativas a la tabla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esto no obstante una gran reforma a la salud del año 2005 (GES o AU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CC53-4C1A-40CA-9C42-B69AD5DF3B0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CDC0-DC5E-4C51-8E65-D2C3742FC6E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:http://web.derecho.uchile.cl/pregrado/2010_1/pro_d.php?recordID=8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l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1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 Internacional de Derechos Económicos, Sociales y Cultur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tículo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21, 22 y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DF2A-C2B4-4C23-A5DA-21D0BCE72B7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73FD-3200-4E67-AB4B-9AAA18F4740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8BCF-8011-43E8-8863-F399A9FE558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A255-4055-4E54-BB24-1682B9356F1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43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791320" y="449568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943600" y="4572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4876920" y="312372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AA7B-8DA8-4E21-8DDF-9FE623A1810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A0EB-AAB7-45AA-8B86-9A3ADA53EFE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31DF-96DC-49A2-AF08-BAC348F3822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4:35:34Z</dcterms:created>
  <dc:creator>jlcarden</dc:creator>
  <dc:description/>
  <dc:language>en-US</dc:language>
  <cp:lastModifiedBy>Santiago Montt</cp:lastModifiedBy>
  <dcterms:modified xsi:type="dcterms:W3CDTF">2010-03-23T22:27:01Z</dcterms:modified>
  <cp:revision>11</cp:revision>
  <dc:subject/>
  <dc:title>Derecho Constitucional Económico</dc:title>
</cp:coreProperties>
</file>