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AEC6-AD01-439C-B6E1-CBE4E80F7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4F74-1BBB-4E54-A49D-1273F2F096F9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BAE0-FDEE-48F4-A4E7-219A4634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A57-79A7-4431-8E29-5E65925A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8DA3-51E8-4FB5-8653-29A02256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09A-5F1A-48F4-9B04-322C183F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276A-A010-4974-87D2-4CAC6821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5E0F-05D2-4C50-94B5-1E9E0DE0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3D40-D043-4FF6-8497-57B26756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B109-4A20-4925-A6D9-A9F10119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32E1-1AF7-4B3E-95A7-3110FCCB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7D85-0D2E-46D9-AC95-3D86D912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950D-8510-4F79-91D9-E9E1FF47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A8C-ED5E-4ECA-AB40-A652C943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1AF8-1D48-41E3-92CA-BC2D6AEB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257E-A2F5-4BB2-B9D8-3EF0E141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4F48-A017-4BC5-8FC2-786D7853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69F7-DD31-4E85-8061-E517D3B1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8C3B-E254-4509-B868-D0829FDC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7FB-88D5-4E39-80FA-AE2E118D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32D-4C35-440D-AA01-206F70E5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D336-7AC1-46CE-970B-F60B1FD8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99B-825E-42C3-B8CB-FCBB9154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0D6-855A-4C13-B311-EF002088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728-2306-42AC-A70B-D87DC251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C0A-85E3-47AA-8F5C-5802CFAA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EA4F-F9EB-470F-9BE9-9E319BAFA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BD3D-C44A-48BF-9668-D77ED04E844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Apli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ño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980C-56E3-438A-8979-EB7820ECD2D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3962520" y="2286000"/>
            <a:ext cx="2133360" cy="6094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267080" y="2506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828800" y="464832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98108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acient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5943600" y="457200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9436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Asegur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V="1">
            <a:off x="2971800" y="2971440"/>
            <a:ext cx="144792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 flipH="1" flipV="1">
            <a:off x="5714640" y="2971440"/>
            <a:ext cx="68580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3581280" y="5029200"/>
            <a:ext cx="205740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248520" y="3124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úblicos vs. Privado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 flipH="1">
            <a:off x="2743200" y="2971800"/>
            <a:ext cx="1371600" cy="1523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3657600" y="5562720"/>
            <a:ext cx="2133720" cy="3808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038480" y="5562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5791320" y="5334120"/>
            <a:ext cx="83808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 flipV="1">
            <a:off x="4724280" y="2971440"/>
            <a:ext cx="0" cy="2590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59B9-5080-4232-A523-8FCF717DC32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uede ser maximizado el “bien salud” teniendo como base la “dinámica constitucional” y un mercado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visión del precio base; inciso 3° del art. 197 del D.F.L. N° 1 de 2005 (19 N° 24 CPR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bla de factores”; art. 199 del D.F.L. N° 1 de 2005 (19 N°s 9 y 24 CP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A0B4-CCCD-4E5D-8E2D-373BB806619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lerosis Múltiple”; art. 19 N°s 1 y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ncer de Mamas”; art. 19 N°1 + tratad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os en las relaciones de intercambio del “bien salud”. ¿Quién paga el costo f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24D1-05F1-45D7-87DD-F53F301F08B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protección de la salud y a la seguridad social son d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turaleza prestacional o de la segunda generació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involucrando conductas activas de lo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órganos estatal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de lo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icular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ara materializarlos en la práctica, habida consideración de que la satisfacción de tales exigencias representa un rasgo distintivo de la legitimidad sustantiva del Estado Social en la democracia constitucional contemporán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TC – Rol N° 1287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32EA-4049-4B50-8D49-2AC0F6255B8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Lleva la “dinámica constitucional” necesariamente a maximizar el “bien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afecta al “mercado de la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elementos juegan en contra y cuáles a fav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D1AD-D9E2-412D-A651-975EDFFC497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procesos son “forzados” por esta diná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encuentran los incentivos bien pues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realiza “políticas públicas” a través de los fallos en materias constituciona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3BAF-3643-47EC-9533-A92725D007E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nder qué fenómenos desencadena la “dinámica constitucional” en los mer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se desencadenan dichos fenóm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0897-ABF8-4F45-8BB0-6423972AA60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ar una “mirada crítica” a estos fenómenos, desde el punto de vista de la “economía del bienestar” 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welfare economic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: Eficiencia productiva y efectos (re)distributivo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06B4-E246-446D-80F7-259736627E0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es expositivas funda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 lecturas y estudios de casos conocidos en la práctica por nuestros tribunales de justicia. Se efectuarán discusiones en torno a los mismos y trabajos en grupos de alum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ementos interdisciplinarios: participación de no abogados para ciertas mate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cia del ing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C068-B671-460D-93E9-E3625558868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sistencia será obligatoria en un 70% y será controlada en forma efectiv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 se efectuará de la siguiente form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trol de lectura : 3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abajo de investigación : 3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amen final : 4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14 recursos presentados contra Isapres durante 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apres perdieron el 96% de esos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58 durante el primer semestre de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de 3 mil millones de pesos pagados a abogados en co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inaplicabilidad perdidas en el TC relativas a la tabla de f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 esto no obstante una gran reforma a la salud del año 2005 (GES o AU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2973-ADE9-4843-864C-AFC0EF438DB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1C7F-8BE3-4BCB-9749-3CC5A9D512A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:http://web.derecho.uchile.cl/pregrado/2010_1/pro_d.php?recordID=8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il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9 No. 1,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cto Internacional de Derechos Económicos, Sociales y Cultur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tículo 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a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9 No. 21, 22 y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3AC2-1B08-4791-8AAC-FB651557E22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6FC6-DC52-4F61-B8BF-E8DE63258F3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ciente importancia del derecho constitucional en la estructuración de las relaciones econó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l catalizador de las nuevas facultadas del TC, tras reforma de 2005 (Ley N° 20.0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erimientos de inaplicabilidad por inconstitucionalidad + declaraciones de inconstitucionalidad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E5C3-2CBD-4092-8DB8-24792720F0D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ecto relativo vs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rga o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de Protección (art. 20 CP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n parte de los conflictos de connotación pública terminan directa o indirectamente en el 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30A9-0A12-450A-8414-F3768CE68BA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laciones Bi-direccion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114800" y="2286000"/>
            <a:ext cx="1600200" cy="685800"/>
          </a:xfrm>
          <a:prstGeom prst="flowChart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3434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209680" y="4495680"/>
            <a:ext cx="175284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5791320" y="4495680"/>
            <a:ext cx="167616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4382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943600" y="4572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V="1">
            <a:off x="3048120" y="3124080"/>
            <a:ext cx="160020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 flipH="1" flipV="1">
            <a:off x="5105160" y="3124080"/>
            <a:ext cx="152388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 flipH="1">
            <a:off x="2819160" y="3048120"/>
            <a:ext cx="1523880" cy="129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5410080" y="3124080"/>
            <a:ext cx="1371600" cy="12193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962520" y="4724280"/>
            <a:ext cx="17524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 flipH="1">
            <a:off x="3962520" y="4876920"/>
            <a:ext cx="16761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3048120" y="29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2286000" y="3429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cion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3657600" y="3962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Acc. Const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3886200" y="51055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Intereses C° relevant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 flipV="1">
            <a:off x="4876920" y="3123720"/>
            <a:ext cx="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7010280" y="4114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6019920" y="297180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seudo-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osición dominant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D240-9F96-4BD7-A083-53E28BC9DDA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fectos (Re-)Estructuran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ntes: Control preventivo de constitucionalidad art. 93 N°s 1 y 3 C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estructurantes: Control correctivo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dinámica con influencia en oferta, demanda, bienes y serv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4985-69CD-41C5-B671-2948D877918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Libertades, D°s &amp; Garantí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iamente Económicos: Art. 19 N° 2, 20, 21, 22, 23, 24 y 25 (influyen y sustentan directamente producción, intercambio, distribución y consu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 “potencialidades” económicas: pueden implicar costos o beneficios. Art. 19 N°s 1, 8, 9, 11, 15, 16, 18, 19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epto de Orden Públic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004A-C12B-41B5-AA47-A1A50276CAB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a connot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rcado 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 (presenta numerosas “fall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vención regulatoria correctiva ¿nuevas fal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4:35:34Z</dcterms:created>
  <dc:creator>jlcarden</dc:creator>
  <dc:description/>
  <dc:language>en-US</dc:language>
  <cp:lastModifiedBy>Santiago Montt</cp:lastModifiedBy>
  <dcterms:modified xsi:type="dcterms:W3CDTF">2010-03-23T22:27:01Z</dcterms:modified>
  <cp:revision>11</cp:revision>
  <dc:subject/>
  <dc:title>Derecho Constitucional Económico</dc:title>
</cp:coreProperties>
</file>