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2FFC-8FB0-4FA3-8E74-C2ABB470F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CC14-41F6-4D40-9F56-971D19F58B5C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7A1-020A-49F7-9948-3F601240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32C-DE4B-4ABD-959A-D1CAFD67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BE9-76B6-42E8-9625-9BED4CD8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B89A-3429-40B1-8926-D0838A66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58A6-CC9F-439E-BEAF-09111745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1C64-9E84-4764-BFFB-E0647C69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8C5B-7C13-45B9-B0D8-57C13415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2F99-6D7A-4FF5-BFDA-B64AA78A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55B7-0551-4F06-958F-B90D2409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71B7-C364-4BB5-8F09-FA658053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E0CB-3E23-4004-8A8C-DAB962B8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4AF-177B-463F-8E2A-1C6D6BF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FAC7-CC60-4C7A-91DB-06D5D17A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6FA3-66EF-4F8A-B48C-51DE6A77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7F43-D434-4D8E-9B2E-E2C2E51B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B0B2-AFD3-4B2E-B7B8-DBCDFD22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AA04-A01E-4D83-9C0E-01CA7BD2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B52-9875-45F5-870E-B90502EF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63E-CEBF-4FA0-A9B7-1FC4856F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32C-A19D-4FC9-9DA5-9B85999A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8FA-9D22-4BFF-A032-C0598ED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6C1F-249F-4856-99B0-620B08D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D54-EBAD-4FA1-81EA-D1B05744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8BF-C34E-4128-A61F-D27D1CCF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9A4B-534F-4358-B75E-72E3CA494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CA4A-9ECF-4416-A109-E153522DA57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Apli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ño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88FB-9407-4182-9031-C7AB1371002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4161-6EAE-4DED-9436-4F21F2471D9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2AAD-E15F-4B82-83F5-BF713B53E55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B74E-5D18-4F24-BB9C-E690CC71784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35D3-ED68-48E1-84D4-E7F1ACFE3CF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CE79-D2FC-45C0-8ACB-771A1C558D4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F4BD-B4DF-49A0-B00E-EE2A593CC83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4C10-05C2-4579-B016-FB679604B56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9D22-CD5C-4F9B-83BC-762B09F1D62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BCB0-8AE0-4F00-8A9E-566485208DC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ontrol de lectura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abajo de investigación : 3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amen final : 40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14 recursos presentados contra Isapres durante e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pres perdieron el 96% de esos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8 durante el primer semestre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 3 mil millones de pesos pagados a abogados en c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inaplicabilidad perdidas en el TC relativas a la tabla de f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esto no obstante una gran reforma a la salud del año 2005 (GES o AU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10FD-435A-45A6-9E1A-547EAF2818F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E0CD-2D0D-4FF0-96C7-937085F3F4B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:http://web.derecho.uchile.cl/pregrado/2010_1/pro_d.php?recordID=8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il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1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cto Internacional de Derechos Económicos, Sociales y Cultur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rtículo 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p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. 19 No. 21, 22 y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ECAD-0FD8-42E3-95ED-7C8CB040B03A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0917-3A01-439B-9ED8-5BE61E7542F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9234-5BDB-49BF-A8CD-49EE341CF9F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54FC-4CC5-40BB-A1FC-32534216778D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34340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5791320" y="449568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943600" y="4572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4876920" y="3123720"/>
            <a:ext cx="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E55A-D209-41FB-9408-F1E1250D8A5E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D13F-EFAD-4A35-AF28-B6B9587CBD9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80D8-3264-4C63-A1E7-AC8200693DC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4:35:34Z</dcterms:created>
  <dc:creator>jlcarden</dc:creator>
  <dc:description/>
  <dc:language>en-US</dc:language>
  <cp:lastModifiedBy>Santiago Montt</cp:lastModifiedBy>
  <dcterms:modified xsi:type="dcterms:W3CDTF">2010-03-23T22:27:01Z</dcterms:modified>
  <cp:revision>11</cp:revision>
  <dc:subject/>
  <dc:title>Derecho Constitucional Económico</dc:title>
</cp:coreProperties>
</file>